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240-CD51-434A-BC40-85EA96F7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58C-FF3A-4185-B38A-0C68A70D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371-892C-4899-8817-A526688B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E6A-9C39-45B2-BC2F-02C29734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2528-A323-4662-84C1-E2CF71C7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9C6A-DE16-483E-96E3-6688148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57E4-A620-44A8-8495-C9A8BE9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AA75-335E-43C0-852E-47912B22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9386-7132-4DEE-AD32-213E7280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E928-2F2B-490C-A2F6-E503F71D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ADAC-27D6-44D0-BD28-154F80ED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BE9-3035-42AC-8F2A-E707CA6D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EE20-8BA9-4610-8C9D-76A5DF2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F055-CBF4-43F1-AF23-87978393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F00E-ED36-4248-A613-404002B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ECB2-6CB5-4C3E-8711-5485F48B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8951-8F86-4438-916C-37813E03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BD3D5-E172-4C80-A364-20CBE45B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69069-C759-445B-935B-4F6C6923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F1CB7-8A58-488A-999F-99277692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FC083-30FE-43CC-A0E9-C0115F1F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58CC0-220D-40EC-926D-59E8BE1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E26-7053-4D3B-9FCC-4D23DE44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744F6-0FF5-4AEA-B918-9E36E092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05AF1-201B-4514-8410-FE8103D9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CCC51-4898-4D63-82B7-AD04D2BF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4E6B4-0AB5-4D94-87AD-7BBBED79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A2043-8E1C-4529-BF18-A1A74E74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E3BC9-DA50-483D-BB6A-A684EBDB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2B7F2-3A64-4842-AF49-503011AC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CBEB-AC37-4757-881A-664D2F2E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8CD1-C68A-461D-8882-60C44F71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33DD-24CE-4DD4-AF29-4E61A04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2B7-DD54-4ECC-A286-A08BF2D9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6C717-0D3F-4CE2-87A2-D93F7F6C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285C-08CE-4C34-BCB1-888AA4F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26CA-CC6A-4DA3-97A1-622CF25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400B-7A63-4AF6-8D58-3ED7409C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9407-3A09-4F65-9803-41147C5F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5704-F119-41E7-A1BC-B067C3B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68002-BB1D-47CE-9E12-9C5DF5D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33FF-6A25-4398-9822-1B1EBA73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3938-12F3-4BB3-A289-2CAE0603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0F649-40C9-43A8-9892-0D20418F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A93-EEFA-43DB-93C5-C85BECAD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CFCA3-3E9A-4C35-9599-DEA6BE3C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537C3-E895-45B9-9AB3-C33F9A1D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4225F-54C2-4CC6-AE9A-DBCC22C3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24889-2FB1-46B0-9996-52694F6B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9B0DC-AF4C-4D07-92EA-F9F74891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4BF42-0AAD-43FC-8EEB-B91E4A1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47835-B669-496E-BB10-853FB76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6F741-A514-4328-AB7D-D30E52AD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74217-F249-4A67-9B36-6F8DF892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08077-27E6-44AA-A705-9235BC22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E7B-4C5F-4E46-B0E7-A37EAB2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C3B2E-8D2B-49E3-8AA7-CDA655C9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21079-BE07-4F7F-8991-C823866F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DA845-69D2-4D34-915E-781E4E52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96107-450D-420A-A648-00110A37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40398-7FA1-4924-871A-81B82C06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8DE72-52AA-4084-B611-287A9DD9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E27A1-6258-4099-811A-79A2B12C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2D6DC-0922-450C-9AF4-CFB710AF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F1937-890F-4EE4-AA70-98F31E6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438E5-43B2-4ED3-8372-770DC4E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073-F74F-49CC-AE02-C2E07E5A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8FA4B2-101E-4115-8954-5E87C29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E79EC-7459-4D04-85F6-540E8E5E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9B31A-6FCD-44AB-ADF1-DF685CA9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55DBC-69D0-47F7-86DE-BA98244C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75F59-2D4D-4E9C-BC4C-796221EA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E1A79-38DD-4827-A54C-DD34FA5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DBE08-8539-4951-8AAB-8F8C76AE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3D1CF-8EBA-47F5-8F36-0304913D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61BAD-995F-4586-90AD-D3F4CA9B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55822-C608-4808-A9FD-E750BC5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C7C-FBC3-41F8-8882-96C494C1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3CCF1-E5A1-402D-B4D0-D56EAF6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F9316-1043-457B-BCC3-CB6F171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D0569-8D63-4587-8F36-AF32B35A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02D55-BF70-49AD-B60E-54CA5F03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83E22-F832-402E-A046-A6E689F6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957-38D4-47F3-9ECD-D4FA39A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F306-11EE-4BB8-B894-F9800D6F25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5FB-F42F-4C37-9F75-55EB4C624E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BF0E-E47C-43C9-8417-CC07984FCD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68F-9BEE-4E69-A8C7-C295469548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EA1-9B61-4E15-8078-5420CD2AA5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473F-D14C-41D6-92A9-4FCD30E0BC6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6F50-275E-47ED-A5AC-62C68D5C77B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http://fantik47.rusedu.net/gallery/3117/fon_s_solovem.jpg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2920" y="178596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92400"/>
                </a:solidFill>
                <a:latin typeface="BelZAGZ"/>
              </a:rPr>
              <a:t>«КЕШЕ 5С Н9М9Г9 ТАБЫНЫР1А ТЕЙЕШ:  ИЛЕНЕ4 У21АНЫНА, УНЫ4 Б5Г5НГ585Н9 89М АУЫР КИЛ9С9ГЕН9.</a:t>
            </a:r>
            <a:br>
              <a:rPr sz="3000"/>
            </a:br>
            <a:r>
              <a:rPr b="1" i="1" lang="ru-RU" sz="3000" spc="-1" strike="noStrike">
                <a:solidFill>
                  <a:srgbClr val="292400"/>
                </a:solidFill>
                <a:latin typeface="BelZAGZ"/>
              </a:rPr>
              <a:t>(79ЛГЕ МЕН9Н КИЛ9С9К – КЕШЕЛЕКТЕ4 ИКЕ </a:t>
            </a:r>
            <a:r>
              <a:rPr b="1" i="1" lang="en-US" sz="3000" spc="-1" strike="noStrike">
                <a:solidFill>
                  <a:srgbClr val="292400"/>
                </a:solidFill>
                <a:latin typeface="BelZAGZ"/>
              </a:rPr>
              <a:t>3</a:t>
            </a:r>
            <a:r>
              <a:rPr b="1" i="1" lang="ru-RU" sz="3000" spc="-1" strike="noStrike">
                <a:solidFill>
                  <a:srgbClr val="292400"/>
                </a:solidFill>
                <a:latin typeface="BelZAGZ"/>
              </a:rPr>
              <a:t>АНАТЫ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http://ic.pics.livejournal.com/shpilenok/17995238/575216/575216_original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100dorog.ru/upload/contents/422/url/04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http://img1.liveinternet.ru/images/attach/c/5/86/918/86918003_file92F.jpg"/>
          <p:cNvPicPr/>
          <p:nvPr/>
        </p:nvPicPr>
        <p:blipFill>
          <a:blip r:embed="rId3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inler.ru/images/photos/medium/dd6aad7fbffd474df40883927bf0b475.jpg"/>
          <p:cNvPicPr/>
          <p:nvPr/>
        </p:nvPicPr>
        <p:blipFill>
          <a:blip r:embed="rId4"/>
          <a:stretch/>
        </p:blipFill>
        <p:spPr>
          <a:xfrm>
            <a:off x="4643280" y="3362400"/>
            <a:ext cx="4676760" cy="3495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marshruty.ru/PhotoFiles/c/9/2/b/c92b2f3b7a3545b98197c8ce03957ada/large/%D0%98%D0%B7%D0%BE%D0%B1%D1%80%D0%B0%D0%B6%D0%B5%D0%BD%D0%B8%D0%B5%20122.jpg"/>
          <p:cNvPicPr/>
          <p:nvPr/>
        </p:nvPicPr>
        <p:blipFill>
          <a:blip r:embed="rId5"/>
          <a:srcRect l="23395" t="0" r="0" b="11981"/>
          <a:stretch/>
        </p:blipFill>
        <p:spPr>
          <a:xfrm>
            <a:off x="2786040" y="2428920"/>
            <a:ext cx="3571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4674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ИКЕНСЕ Т5РК5М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Проблема: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 Поэмала1ы к7т9релг9н экологик проблемалар2ы асы3лау. А1и2ел, Ш7лг9н, Ишту1ан, Торатау2ы4, Ст9рле, Белорет  3алаларыны4 экологик 89л9к9тт9рен э2м9 -э2лекле бирелешен 87р9тл9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BelZAGZ"/>
              </a:rPr>
              <a:t>Икенсе  ту3талыш  «Т9би19т тауыш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ttp://www.bashtribuna.ru/images/other/1066/1066_ekologiya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214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www.profi-forex.org/system/news/1371059880_sbros_dnepr.jpg"/>
          <p:cNvPicPr/>
          <p:nvPr/>
        </p:nvPicPr>
        <p:blipFill>
          <a:blip r:embed="rId2"/>
          <a:stretch/>
        </p:blipFill>
        <p:spPr>
          <a:xfrm>
            <a:off x="0" y="0"/>
            <a:ext cx="4714920" cy="3330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http://s019.radikal.ru/i610/1203/65/ec4b48e83439.jpg"/>
          <p:cNvPicPr/>
          <p:nvPr/>
        </p:nvPicPr>
        <p:blipFill>
          <a:blip r:embed="rId3"/>
          <a:stretch/>
        </p:blipFill>
        <p:spPr>
          <a:xfrm>
            <a:off x="4357800" y="3143160"/>
            <a:ext cx="4786200" cy="3714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http://www.bnkomi.ru/content/news/images/123/rybadohnet1.jpg"/>
          <p:cNvPicPr/>
          <p:nvPr/>
        </p:nvPicPr>
        <p:blipFill>
          <a:blip r:embed="rId4"/>
          <a:stretch/>
        </p:blipFill>
        <p:spPr>
          <a:xfrm>
            <a:off x="0" y="3071880"/>
            <a:ext cx="4714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4674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%С5НС5 Т5РК5М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Проблема: 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Поэмала  гражданлы3 бурысын ю1ары тот3ан ша1ир образын асы3лау. Рауил Бикбаевты4 поэма юлдары аша  й9ш быуын1а, кешел9рг9 м5р9ж919тен 87р9тл97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BelZAGZ"/>
              </a:rPr>
              <a:t> </a:t>
            </a:r>
            <a:r>
              <a:rPr b="1" lang="ru-RU" sz="2400" spc="-1" strike="noStrike">
                <a:solidFill>
                  <a:srgbClr val="5a160b"/>
                </a:solidFill>
                <a:latin typeface="BelZAGZ"/>
              </a:rPr>
              <a:t>%с5нс5 ту3талыш «Республикабы22ы4 кил9с9ге 72ебе22е4 3улд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http://img3.proshkolu.ru/content/media/pic/std/1000000/958000/957218-b0a2c85c3a5624a9.jpg"/>
          <p:cNvPicPr/>
          <p:nvPr/>
        </p:nvPicPr>
        <p:blipFill>
          <a:blip r:embed="rId1"/>
          <a:srcRect l="2948" t="0" r="24602" b="0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5435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ЙОМ1А3ЛА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786120" y="785880"/>
            <a:ext cx="5214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-*е2 ошо проблемалар2ан 3отолоу юлын нисек к7р98еге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Автор ошо аф9тт9р29н 3отолоу юлын нисек к7р9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Бе2 3арап 7тк9н экологик проблемалар баш3орт хал3ына 1ына хас проблемаларм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Д9РЕС – КОНФЕРЕНЦИЯНЫ4 РЕЗОЛЮЦИЯ8ЫН 3АБУЛ  ИТЕ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2560" y="1999800"/>
            <a:ext cx="864396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–се  кластар 5с5н Рауил Бикбаев ижадына ба1ышлан1ан  монтаж 92ерл9рг9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Газета 89м журналдар2ан ша1ир тура8ында сы33ан материалдар2ы туплап папка  я8ау, альбом сы1арыу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Ошо поэма1а 3арашы1ы2 тура8ында  Рауил Бикбаев3а хат я2ы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4200" y="1785600"/>
            <a:ext cx="87868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2400"/>
                </a:solidFill>
                <a:latin typeface="BelZAGZ"/>
              </a:rPr>
              <a:t>РАУИЛ БИКБАЕВТЫ4 </a:t>
            </a:r>
            <a:br>
              <a:rPr sz="3600"/>
            </a:br>
            <a:r>
              <a:rPr b="1" lang="ru-RU" sz="3600" spc="-1" strike="noStrike">
                <a:solidFill>
                  <a:srgbClr val="292400"/>
                </a:solidFill>
                <a:latin typeface="BelZAGZ"/>
              </a:rPr>
              <a:t>«*ЫУ8АНЫМ 8ЫУ2АР БИРЕГЕ2» ПОЭМА8Ы БУЙЫНСА </a:t>
            </a:r>
            <a:br>
              <a:rPr sz="3600"/>
            </a:br>
            <a:r>
              <a:rPr b="1" lang="ru-RU" sz="3600" spc="-1" strike="noStrike">
                <a:solidFill>
                  <a:srgbClr val="292400"/>
                </a:solidFill>
                <a:latin typeface="BelZAGZ"/>
              </a:rPr>
              <a:t>Д9РЕС-КОНФЕРЕНЦИЯ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28760" y="1142640"/>
            <a:ext cx="40006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92400"/>
                </a:solidFill>
                <a:latin typeface="Century Schoolbook"/>
              </a:rPr>
              <a:t>РАУИЛ </a:t>
            </a:r>
            <a:br>
              <a:rPr sz="3000"/>
            </a:br>
            <a:r>
              <a:rPr b="1" i="1" lang="ru-RU" sz="4000" spc="-1" strike="noStrike">
                <a:solidFill>
                  <a:srgbClr val="292400"/>
                </a:solidFill>
                <a:latin typeface="BelZAGZ"/>
              </a:rPr>
              <a:t>Т5ХФ9Т </a:t>
            </a:r>
            <a:r>
              <a:rPr b="1" i="1" lang="ru-RU" sz="3000" spc="-1" strike="noStrike">
                <a:solidFill>
                  <a:srgbClr val="292400"/>
                </a:solidFill>
                <a:latin typeface="BelZAGZ"/>
              </a:rPr>
              <a:t>  </a:t>
            </a:r>
            <a:r>
              <a:rPr b="1" i="1" lang="ru-RU" sz="3000" spc="-1" strike="noStrike">
                <a:solidFill>
                  <a:srgbClr val="292400"/>
                </a:solidFill>
                <a:latin typeface="Century Schoolbook"/>
              </a:rPr>
              <a:t>УЛЫ</a:t>
            </a:r>
            <a:br>
              <a:rPr sz="3000"/>
            </a:br>
            <a:r>
              <a:rPr b="1" i="1" lang="ru-RU" sz="3000" spc="-1" strike="noStrike">
                <a:solidFill>
                  <a:srgbClr val="292400"/>
                </a:solidFill>
                <a:latin typeface="Century Schoolbook"/>
              </a:rPr>
              <a:t>БИКБАЕ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4" descr="http://www.ashkadarfm.ru/sites/default/files/bikbaev.jpg"/>
          <p:cNvPicPr/>
          <p:nvPr/>
        </p:nvPicPr>
        <p:blipFill>
          <a:blip r:embed="rId2"/>
          <a:stretch/>
        </p:blipFill>
        <p:spPr>
          <a:xfrm>
            <a:off x="642960" y="571680"/>
            <a:ext cx="428616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213840" y="714240"/>
            <a:ext cx="49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1али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филология ф9нд9ре докторы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Баш3ортостанды4 я2ыусылар союзы идара8ы р9йесе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республикабы22ы4 Салауат Юлаев 89м !9лимов С9л9м исеменд9ге премиялары лауреаты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elZAGZ"/>
              </a:rPr>
              <a:t>Баш3ортостанды4 халы3 ша1ир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&amp;Fcy;&amp;acy;&amp;jcy;&amp;lcy;:&amp;Rcy;&amp;acy;&amp;khcy;&amp;icy;&amp;mcy;&amp;ocy;&amp;vcy; &amp;icy; &amp;Bcy;&amp;icy;&amp;kcy;&amp;bcy;&amp;acy;&amp;iecy;&amp;vcy;.JPG"/>
          <p:cNvPicPr/>
          <p:nvPr/>
        </p:nvPicPr>
        <p:blipFill>
          <a:blip r:embed="rId2"/>
          <a:srcRect l="0" t="10728" r="0" b="0"/>
          <a:stretch/>
        </p:blipFill>
        <p:spPr>
          <a:xfrm>
            <a:off x="5643720" y="4143240"/>
            <a:ext cx="3176280" cy="2376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&amp;Bcy;&amp;icy;&amp;kcy;&amp;bcy;&amp;acy;&amp;iecy;&amp;vcy; &amp;Rcy;&amp;acy;&amp;vcy;&amp;icy;&amp;lcy;&amp;softcy; &amp;Tcy;&amp;ucy;&amp;khcy;&amp;vcy;&amp;acy;&amp;tcy;&amp;ocy;&amp;vcy;&amp;icy;&amp;chcy;"/>
          <p:cNvPicPr/>
          <p:nvPr/>
        </p:nvPicPr>
        <p:blipFill>
          <a:blip r:embed="rId3"/>
          <a:stretch/>
        </p:blipFill>
        <p:spPr>
          <a:xfrm>
            <a:off x="6072120" y="714240"/>
            <a:ext cx="2362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899640" y="1428840"/>
            <a:ext cx="774396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BelZAGZ"/>
              </a:rPr>
              <a:t>Ирт9р9к т9 т7гел, 8у4ыра3 т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BelZAGZ"/>
              </a:rPr>
              <a:t>Тыу2ыр1ан бит заман 8ине белеп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BelZAGZ"/>
              </a:rPr>
              <a:t>*ине4 хис 89м а3ыл 3ушыл1ан1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BelZAGZ"/>
              </a:rPr>
              <a:t>*ин й9ш9г9н заман 72е б5й5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"/>
          <p:cNvGrpSpPr/>
          <p:nvPr/>
        </p:nvGrpSpPr>
        <p:grpSpPr>
          <a:xfrm>
            <a:off x="3724560" y="1247760"/>
            <a:ext cx="5424120" cy="4486320"/>
            <a:chOff x="3724560" y="1247760"/>
            <a:chExt cx="5424120" cy="4486320"/>
          </a:xfrm>
        </p:grpSpPr>
        <p:pic>
          <p:nvPicPr>
            <p:cNvPr id="366" name="Объект 3" descr=""/>
            <p:cNvPicPr/>
            <p:nvPr/>
          </p:nvPicPr>
          <p:blipFill>
            <a:blip r:embed="rId2"/>
            <a:srcRect l="5322" t="50831" r="8241" b="9287"/>
            <a:stretch/>
          </p:blipFill>
          <p:spPr>
            <a:xfrm rot="4398000">
              <a:off x="3393720" y="2174040"/>
              <a:ext cx="3182040" cy="167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Рисунок 5" descr=""/>
            <p:cNvPicPr/>
            <p:nvPr/>
          </p:nvPicPr>
          <p:blipFill>
            <a:blip r:embed="rId3"/>
            <a:srcRect l="4658" t="0" r="0" b="58406"/>
            <a:stretch/>
          </p:blipFill>
          <p:spPr>
            <a:xfrm rot="5794800">
              <a:off x="6477840" y="2160720"/>
              <a:ext cx="3306240" cy="166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Рисунок 4" descr=""/>
            <p:cNvPicPr/>
            <p:nvPr/>
          </p:nvPicPr>
          <p:blipFill>
            <a:blip r:embed="rId4"/>
            <a:srcRect l="54201" t="9048" r="3796" b="1730"/>
            <a:stretch/>
          </p:blipFill>
          <p:spPr>
            <a:xfrm>
              <a:off x="5600520" y="2406600"/>
              <a:ext cx="1811520" cy="332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Дала офо3тары» - т97ге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 китабы 1964йылд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«#ош юлы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 (1967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Автобиография»(1969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Лирика» (1971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«!7мер урта8ы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 (1976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«*5й5нс5» 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(1979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Ерем 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бал3ышы»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 (1982),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Бура2налар»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 (1985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Я2мышым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 (1988),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*ыу8аным – 8ыу2ар биреге2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!» (1991) 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Ай 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к7рг9нд9й, 3ояш ал1андай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 (1998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1717db"/>
                </a:solidFill>
                <a:latin typeface="BelZAGZ"/>
              </a:rPr>
              <a:t>Я41ы2 3ошто4 осоп бар1аны</a:t>
            </a:r>
            <a:r>
              <a:rPr b="1" lang="ru-RU" sz="2400" spc="-1" strike="noStrike">
                <a:solidFill>
                  <a:srgbClr val="1717db"/>
                </a:solidFill>
                <a:latin typeface="Century Schoolbook"/>
              </a:rPr>
              <a:t>»(2003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img-fotki.yandex.ru/get/4714/133804993.13/0_909cc_2bcc6d0c_XL"/>
          <p:cNvPicPr/>
          <p:nvPr/>
        </p:nvPicPr>
        <p:blipFill>
          <a:blip r:embed="rId2"/>
          <a:stretch/>
        </p:blipFill>
        <p:spPr>
          <a:xfrm>
            <a:off x="1428840" y="0"/>
            <a:ext cx="63579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www.tour102.ru/foto/n5.jpg"/>
          <p:cNvPicPr/>
          <p:nvPr/>
        </p:nvPicPr>
        <p:blipFill>
          <a:blip r:embed="rId1"/>
          <a:srcRect l="3986" t="0" r="1108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3071520" y="0"/>
            <a:ext cx="6072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А3 с9ф9рг9 9й29, А1и2ел</a:t>
            </a:r>
            <a:r>
              <a:rPr b="1" lang="ru-RU" sz="2800" spc="-1" strike="noStrike">
                <a:solidFill>
                  <a:srgbClr val="ffe636"/>
                </a:solidFill>
                <a:latin typeface="Century Schoolboo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Урал3айым</a:t>
            </a:r>
            <a:r>
              <a:rPr b="1" lang="ru-RU" sz="2800" spc="-1" strike="noStrike">
                <a:solidFill>
                  <a:srgbClr val="ffe636"/>
                </a:solidFill>
                <a:latin typeface="Century Schoolbook"/>
              </a:rPr>
              <a:t>! </a:t>
            </a: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&amp;2е49 т5ш9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Я4ы 8ырттары4а ашы1а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Ирт9г9г9 ба1ам Ир9м9лд9н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636"/>
                </a:solidFill>
                <a:latin typeface="BelZAGZ"/>
              </a:rPr>
              <a:t>Ил бай3айым И2ел башынан</a:t>
            </a:r>
            <a:r>
              <a:rPr b="1" lang="ru-RU" sz="2800" spc="-1" strike="noStrike">
                <a:solidFill>
                  <a:srgbClr val="ffe636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900igr.net/datas/literatura/Gabdulla-Tukaj/0015-015-Gabdulla-Tukaj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7467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elZAGZ"/>
              </a:rPr>
              <a:t>БЕРЕНСЕ Т5РК5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00040" y="1856880"/>
            <a:ext cx="814392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BelZAGZ"/>
              </a:rPr>
              <a:t>Проблема: </a:t>
            </a:r>
            <a:r>
              <a:rPr b="0" lang="ru-RU" sz="2400" spc="-1" strike="noStrike">
                <a:solidFill>
                  <a:srgbClr val="000000"/>
                </a:solidFill>
                <a:latin typeface="BelZAGZ"/>
              </a:rPr>
              <a:t>Баш3ортостанды4 матурлы3тарын, к7ренекле урындарын к7р89те7. У3ыусылар2а тыу1ан илг9 3арата 8о3ланыу, 1орурланыу той1олары уяты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BelZAGZ"/>
              </a:rPr>
              <a:t>Ту3талыш «Баш3ортостан – Р9с9й2е4 ынйы8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7:09:06Z</dcterms:created>
  <dc:creator>Admin</dc:creator>
  <dc:description/>
  <dc:language>en-US</dc:language>
  <cp:lastModifiedBy>Администратор</cp:lastModifiedBy>
  <dcterms:modified xsi:type="dcterms:W3CDTF">2015-02-05T17:30:50Z</dcterms:modified>
  <cp:revision>18</cp:revision>
  <dc:subject/>
  <dc:title>«Кеше 5с н9м9г9 табыныр1а тейеш,:  илене4 у21анына, уны4 б5г5нг585н9 89м ауыр кил9с9ген9. (79лге мен9н кил9с9к – кешелекте4 ике 3анаты». </dc:title>
</cp:coreProperties>
</file>