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985-85EF-4A85-8C5D-34173485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7C3-6F74-42DA-8EFE-AE2F10DA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ED5-82AE-409B-8AE9-46229CED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A28-EB2F-4E07-9BBB-DCC85FEE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DAB9-5123-474C-9C89-5D68CD37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4A1B-57B1-4566-83E4-9244482F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4276-FF1A-405B-8362-E35AB023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EFB4-439C-4132-A4C5-C1B1F49F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8D40-EB73-4C2A-AB12-3D2053DE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6B9B-08F1-40B2-A526-92B62F66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401C-E10E-40D6-9937-7D6E4F2C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C2F-4B4E-46FB-A9D5-B9BE3791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3AF9-E844-46F1-8F67-5CFCAB1D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3A57-E3DB-4749-AE80-52DD59E6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1E0A-7952-4D60-8B55-1E59B3D5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E90C-7067-40A7-A7AD-D1C5CDE2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40AC-D906-45D6-AF49-619A79FA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FD28B-EE82-426B-BC81-38D98202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6EBA6-2B2A-4D80-BF7E-6F3A0E7C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D7E8A-3FA4-4E04-A690-C2F3C848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8E16A-8AFD-419B-8286-CA3B1ED6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CB3CE-42CF-479B-981A-5574850B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723-D09B-469C-BF50-15D86ACA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67C79-2530-4742-AFB3-E5ECAA78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90C8B-54CC-48CE-9F77-1FC4EDC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0C4A6-F3DA-4B3F-B59F-2DBB1CD6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A08C2-FA13-4F3B-A5AC-50E73B34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4CBFF-B124-437F-80CC-DB699A6B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9E688-143B-46C8-8146-1847BB89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DD21C-E555-4FD8-A12C-BF65F2F8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5E92D-BCF3-4066-A08C-C2B563C2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4A5A2-6C65-45D2-A2B4-52B0E9CB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36420-AD4D-4731-8893-7C7D48B3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F23-6B49-48AE-A351-050B9C7F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30E98-9421-4127-B971-EAB0387D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B2EB-4739-42A8-BDF6-F13FA488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C6E90-FA22-4EBE-8E21-FA61E074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30FC-D83C-4172-8418-99F85993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33DA-A6DA-4A5B-823A-1FFDDA3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B3C7-8F04-442E-8638-900049C4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0E54C-AC28-40BF-8AFB-DEB85D03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53E13-7CE3-4C67-B68B-6466A2F2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E0657-7054-4268-97E3-A46F3950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77F86-BE1E-409F-B2EF-0762FE99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844-D88A-408B-99FD-5CFD0499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A3F7B-C3A7-4743-A4C2-280D53CC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3B6CD-C602-476B-9079-78E98C44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C7166-CC05-4BCB-8A3A-791D8DF3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BA2C6-7975-45D2-A3BC-EB4AD81B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68953-1D34-4978-8F52-D4D973FF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6BF24-BC94-4F4E-92AB-EC204C87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C57C3-B5E5-4AEA-BEF1-AD76807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1F121-43DD-4615-B791-B5F064C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3759C-D140-4A72-A8E9-55B236A9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B53F0-DD8C-447D-8BFE-6F1F6A86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A6F-0C9B-427D-9C4B-06C322E5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79CD8-3037-40D9-90A9-1C975891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86BE4-1B7B-413C-80A8-F3F88D5D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EB99B-7256-47D1-A402-6C9E2C61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3FC4D-14C1-441A-AB60-E0377AC7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562EF-1E57-49A1-9293-9D49CCBD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6BAB0-60D0-43FD-99CE-E97F4CF0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FD916-E967-46EC-A1D7-07E6E8BA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D95E1-454E-44B4-91F9-5E4F0C41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19BB3-8882-4CBF-ABF7-38A59907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C23C6-FF6D-47EF-9950-07F38EB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611-06B5-4A3D-9D33-9659E57D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A8028-0011-4173-AE9D-68F69482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508A6-76CA-40B4-A5E2-D8E1F1BF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690C4-1E45-443F-9C63-7D1CF8F1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EBE274-4D2E-437C-8AE2-045CF5CC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326D4-2728-4C9C-88AA-D5301555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C810E-13DD-4FA3-848B-586D6425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48670-4E17-45A1-9D0C-A8516928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D9B87-3F09-4307-9104-8EE20DE9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F043A-1766-44F6-9AB3-4351E6C9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F36EC-6A30-4D7A-97E8-E69A3933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300-B6EB-4BE4-B740-6DC4F36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BD117-554C-4A2C-8564-FC2CDD7F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A2D2E-BD09-4611-8E88-1898C7A4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A5501-C9E2-45A9-BBF7-B9CA3BBB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D3455-BD86-4119-B145-FB7BF970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77860-57A0-4F2C-9C30-CF3F5B24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247-E350-4756-8E91-D30667AD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B159-2FF1-483A-8591-1F6FE6057D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5B20-B03F-4825-ABA4-13D9E24776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DEE4-6F4E-4A00-9CBB-368860CC52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0CA8-4020-4D38-A0BE-8C7A3AB138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719C-287A-4169-8F71-26A586E5F6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34C7-B72E-4D22-8814-BAA0169C8C3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F456-5A31-4B47-99C2-50A7191C536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http://fantik47.rusedu.net/gallery/3117/fon_s_solovem.jpg"/>
          <p:cNvPicPr/>
          <p:nvPr/>
        </p:nvPicPr>
        <p:blipFill>
          <a:blip r:embed="rId1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2920" y="178596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92400"/>
                </a:solidFill>
                <a:latin typeface="BelZAGZ"/>
              </a:rPr>
              <a:t>«КЕШЕ 5С Н9М9Г9 ТАБЫНЫР1А ТЕЙЕШ:  ИЛЕНЕ4 У21АНЫНА, УНЫ4 Б5Г5НГ585Н9 89М АУЫР КИЛ9С9ГЕН9.</a:t>
            </a:r>
            <a:br>
              <a:rPr sz="3000"/>
            </a:br>
            <a:r>
              <a:rPr b="1" i="1" lang="ru-RU" sz="3000" spc="-1" strike="noStrike">
                <a:solidFill>
                  <a:srgbClr val="292400"/>
                </a:solidFill>
                <a:latin typeface="BelZAGZ"/>
              </a:rPr>
              <a:t>(79ЛГЕ МЕН9Н КИЛ9С9К – КЕШЕЛЕКТЕ4 ИКЕ </a:t>
            </a:r>
            <a:r>
              <a:rPr b="1" i="1" lang="en-US" sz="3000" spc="-1" strike="noStrike">
                <a:solidFill>
                  <a:srgbClr val="292400"/>
                </a:solidFill>
                <a:latin typeface="BelZAGZ"/>
              </a:rPr>
              <a:t>3</a:t>
            </a:r>
            <a:r>
              <a:rPr b="1" i="1" lang="ru-RU" sz="3000" spc="-1" strike="noStrike">
                <a:solidFill>
                  <a:srgbClr val="292400"/>
                </a:solidFill>
                <a:latin typeface="BelZAGZ"/>
              </a:rPr>
              <a:t>АНАТЫ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http://ic.pics.livejournal.com/shpilenok/17995238/575216/575216_original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100dorog.ru/upload/contents/422/url/04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http://img1.liveinternet.ru/images/attach/c/5/86/918/86918003_file92F.jpg"/>
          <p:cNvPicPr/>
          <p:nvPr/>
        </p:nvPicPr>
        <p:blipFill>
          <a:blip r:embed="rId3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inler.ru/images/photos/medium/dd6aad7fbffd474df40883927bf0b475.jpg"/>
          <p:cNvPicPr/>
          <p:nvPr/>
        </p:nvPicPr>
        <p:blipFill>
          <a:blip r:embed="rId4"/>
          <a:stretch/>
        </p:blipFill>
        <p:spPr>
          <a:xfrm>
            <a:off x="4643280" y="3362400"/>
            <a:ext cx="4676760" cy="3495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marshruty.ru/PhotoFiles/c/9/2/b/c92b2f3b7a3545b98197c8ce03957ada/large/%D0%98%D0%B7%D0%BE%D0%B1%D1%80%D0%B0%D0%B6%D0%B5%D0%BD%D0%B8%D0%B5%20122.jpg"/>
          <p:cNvPicPr/>
          <p:nvPr/>
        </p:nvPicPr>
        <p:blipFill>
          <a:blip r:embed="rId5"/>
          <a:srcRect l="23395" t="0" r="0" b="11981"/>
          <a:stretch/>
        </p:blipFill>
        <p:spPr>
          <a:xfrm>
            <a:off x="2786040" y="2428920"/>
            <a:ext cx="3571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74674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elZAGZ"/>
              </a:rPr>
              <a:t>ИКЕНСЕ Т5РК5М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Проблема: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 Поэмала1ы к7т9релг9н экологик проблемалар2ы асы3лау. А1и2ел, Ш7лг9н, Ишту1ан, Торатау2ы4, Ст9рле, Белорет  3алаларыны4 экологик 89л9к9тт9рен э2м9 -э2лекле бирелешен 87р9тл9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BelZAGZ"/>
              </a:rPr>
              <a:t>Икенсе  ту3талыш  «Т9би19т тауыш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http://www.bashtribuna.ru/images/other/1066/1066_ekologiya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214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www.profi-forex.org/system/news/1371059880_sbros_dnepr.jpg"/>
          <p:cNvPicPr/>
          <p:nvPr/>
        </p:nvPicPr>
        <p:blipFill>
          <a:blip r:embed="rId2"/>
          <a:stretch/>
        </p:blipFill>
        <p:spPr>
          <a:xfrm>
            <a:off x="0" y="0"/>
            <a:ext cx="4714920" cy="3330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http://s019.radikal.ru/i610/1203/65/ec4b48e83439.jpg"/>
          <p:cNvPicPr/>
          <p:nvPr/>
        </p:nvPicPr>
        <p:blipFill>
          <a:blip r:embed="rId3"/>
          <a:stretch/>
        </p:blipFill>
        <p:spPr>
          <a:xfrm>
            <a:off x="4357800" y="3143160"/>
            <a:ext cx="4786200" cy="3714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http://www.bnkomi.ru/content/news/images/123/rybadohnet1.jpg"/>
          <p:cNvPicPr/>
          <p:nvPr/>
        </p:nvPicPr>
        <p:blipFill>
          <a:blip r:embed="rId4"/>
          <a:stretch/>
        </p:blipFill>
        <p:spPr>
          <a:xfrm>
            <a:off x="0" y="3071880"/>
            <a:ext cx="4714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4674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BelZAGZ"/>
              </a:rPr>
              <a:t>%С5НС5 Т5РК5М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Проблема: 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Поэмала  гражданлы3 бурысын ю1ары тот3ан ша1ир образын асы3лау. Рауил Бикбаевты4 поэма юлдары аша  й9ш быуын1а, кешел9рг9 м5р9ж919тен 87р9тл97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BelZAGZ"/>
              </a:rPr>
              <a:t> </a:t>
            </a:r>
            <a:r>
              <a:rPr b="1" lang="ru-RU" sz="2400" spc="-1" strike="noStrike">
                <a:solidFill>
                  <a:srgbClr val="5a160b"/>
                </a:solidFill>
                <a:latin typeface="BelZAGZ"/>
              </a:rPr>
              <a:t>%с5нс5 ту3талыш «Республикабы22ы4 кил9с9ге 72ебе22е4 3улда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http://img3.proshkolu.ru/content/media/pic/std/1000000/958000/957218-b0a2c85c3a5624a9.jpg"/>
          <p:cNvPicPr/>
          <p:nvPr/>
        </p:nvPicPr>
        <p:blipFill>
          <a:blip r:embed="rId1"/>
          <a:srcRect l="2948" t="0" r="24602" b="0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54356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elZAGZ"/>
              </a:rPr>
              <a:t>ЙОМ1А3ЛА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786120" y="785880"/>
            <a:ext cx="5214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-*е2 ошо проблемалар2ан 3отолоу юлын нисек к7р98еге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Автор ошо аф9тт9р29н 3отолоу юлын нисек к7р9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Бе2 3арап 7тк9н экологик проблемалар баш3орт хал3ына 1ына хас проблемалармы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3581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elZAGZ"/>
              </a:rPr>
              <a:t>Д9РЕС – КОНФЕРЕНЦИЯНЫ4 РЕЗОЛЮЦИЯ8ЫН 3АБУЛ  ИТЕ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2560" y="1999800"/>
            <a:ext cx="864396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–се  кластар 5с5н Рауил Бикбаев ижадына ба1ышлан1ан  монтаж 92ерл9рг9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Газета 89м журналдар2ан ша1ир тура8ында сы33ан материалдар2ы туплап папка  я8ау, альбом сы1арыу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Ошо поэма1а 3арашы1ы2 тура8ында  Рауил Бикбаев3а хат я2ы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4200" y="1785600"/>
            <a:ext cx="87868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2400"/>
                </a:solidFill>
                <a:latin typeface="BelZAGZ"/>
              </a:rPr>
              <a:t>РАУИЛ БИКБАЕВТЫ4 </a:t>
            </a:r>
            <a:br>
              <a:rPr sz="3600"/>
            </a:br>
            <a:r>
              <a:rPr b="1" lang="ru-RU" sz="3600" spc="-1" strike="noStrike">
                <a:solidFill>
                  <a:srgbClr val="292400"/>
                </a:solidFill>
                <a:latin typeface="BelZAGZ"/>
              </a:rPr>
              <a:t>«*ЫУ8АНЫМ 8ЫУ2АР БИРЕГЕ2» ПОЭМА8Ы БУЙЫНСА </a:t>
            </a:r>
            <a:br>
              <a:rPr sz="3600"/>
            </a:br>
            <a:r>
              <a:rPr b="1" lang="ru-RU" sz="3600" spc="-1" strike="noStrike">
                <a:solidFill>
                  <a:srgbClr val="292400"/>
                </a:solidFill>
                <a:latin typeface="BelZAGZ"/>
              </a:rPr>
              <a:t>Д9РЕС-КОНФЕРЕНЦИЯ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28760" y="1142640"/>
            <a:ext cx="40006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92400"/>
                </a:solidFill>
                <a:latin typeface="Century Schoolbook"/>
              </a:rPr>
              <a:t>РАУИЛ </a:t>
            </a:r>
            <a:br>
              <a:rPr sz="3000"/>
            </a:br>
            <a:r>
              <a:rPr b="1" i="1" lang="ru-RU" sz="4000" spc="-1" strike="noStrike">
                <a:solidFill>
                  <a:srgbClr val="292400"/>
                </a:solidFill>
                <a:latin typeface="BelZAGZ"/>
              </a:rPr>
              <a:t>Т5ХФ9Т </a:t>
            </a:r>
            <a:r>
              <a:rPr b="1" i="1" lang="ru-RU" sz="3000" spc="-1" strike="noStrike">
                <a:solidFill>
                  <a:srgbClr val="292400"/>
                </a:solidFill>
                <a:latin typeface="BelZAGZ"/>
              </a:rPr>
              <a:t>  </a:t>
            </a:r>
            <a:r>
              <a:rPr b="1" i="1" lang="ru-RU" sz="3000" spc="-1" strike="noStrike">
                <a:solidFill>
                  <a:srgbClr val="292400"/>
                </a:solidFill>
                <a:latin typeface="Century Schoolbook"/>
              </a:rPr>
              <a:t>УЛЫ</a:t>
            </a:r>
            <a:br>
              <a:rPr sz="3000"/>
            </a:br>
            <a:r>
              <a:rPr b="1" i="1" lang="ru-RU" sz="3000" spc="-1" strike="noStrike">
                <a:solidFill>
                  <a:srgbClr val="292400"/>
                </a:solidFill>
                <a:latin typeface="Century Schoolbook"/>
              </a:rPr>
              <a:t>БИКБАЕ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Picture 4" descr="http://www.ashkadarfm.ru/sites/default/files/bikbaev.jpg"/>
          <p:cNvPicPr/>
          <p:nvPr/>
        </p:nvPicPr>
        <p:blipFill>
          <a:blip r:embed="rId2"/>
          <a:stretch/>
        </p:blipFill>
        <p:spPr>
          <a:xfrm>
            <a:off x="642960" y="571680"/>
            <a:ext cx="428616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213840" y="714240"/>
            <a:ext cx="49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lZAGZ"/>
              </a:rPr>
              <a:t>1алим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lZAGZ"/>
              </a:rPr>
              <a:t>филология ф9нд9ре докторы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lZAGZ"/>
              </a:rPr>
              <a:t>Баш3ортостанды4 я2ыусылар союзы идара8ы р9йесе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lZAGZ"/>
              </a:rPr>
              <a:t>республикабы22ы4 Салауат Юлаев 89м !9лимов С9л9м исеменд9ге премиялары лауреаты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lZAGZ"/>
              </a:rPr>
              <a:t>Баш3ортостанды4 халы3 ша1ир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&amp;Fcy;&amp;acy;&amp;jcy;&amp;lcy;:&amp;Rcy;&amp;acy;&amp;khcy;&amp;icy;&amp;mcy;&amp;ocy;&amp;vcy; &amp;icy; &amp;Bcy;&amp;icy;&amp;kcy;&amp;bcy;&amp;acy;&amp;iecy;&amp;vcy;.JPG"/>
          <p:cNvPicPr/>
          <p:nvPr/>
        </p:nvPicPr>
        <p:blipFill>
          <a:blip r:embed="rId2"/>
          <a:srcRect l="0" t="10728" r="0" b="0"/>
          <a:stretch/>
        </p:blipFill>
        <p:spPr>
          <a:xfrm>
            <a:off x="5643720" y="4143240"/>
            <a:ext cx="3176280" cy="2376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&amp;Bcy;&amp;icy;&amp;kcy;&amp;bcy;&amp;acy;&amp;iecy;&amp;vcy; &amp;Rcy;&amp;acy;&amp;vcy;&amp;icy;&amp;lcy;&amp;softcy; &amp;Tcy;&amp;ucy;&amp;khcy;&amp;vcy;&amp;acy;&amp;tcy;&amp;ocy;&amp;vcy;&amp;icy;&amp;chcy;"/>
          <p:cNvPicPr/>
          <p:nvPr/>
        </p:nvPicPr>
        <p:blipFill>
          <a:blip r:embed="rId3"/>
          <a:stretch/>
        </p:blipFill>
        <p:spPr>
          <a:xfrm>
            <a:off x="6072120" y="714240"/>
            <a:ext cx="2362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899640" y="1428840"/>
            <a:ext cx="774396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BelZAGZ"/>
              </a:rPr>
              <a:t>Ирт9р9к т9 т7гел, 8у4ыра3 т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BelZAGZ"/>
              </a:rPr>
              <a:t>Тыу2ыр1ан бит заман 8ине белеп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BelZAGZ"/>
              </a:rPr>
              <a:t>*ине4 хис 89м а3ыл 3ушыл1ан1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BelZAGZ"/>
              </a:rPr>
              <a:t>*ин й9ш9г9н заман 72е б5й5к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65" name="Группа 1"/>
          <p:cNvGrpSpPr/>
          <p:nvPr/>
        </p:nvGrpSpPr>
        <p:grpSpPr>
          <a:xfrm>
            <a:off x="3724560" y="1247760"/>
            <a:ext cx="5424120" cy="4486320"/>
            <a:chOff x="3724560" y="1247760"/>
            <a:chExt cx="5424120" cy="4486320"/>
          </a:xfrm>
        </p:grpSpPr>
        <p:pic>
          <p:nvPicPr>
            <p:cNvPr id="366" name="Объект 3" descr=""/>
            <p:cNvPicPr/>
            <p:nvPr/>
          </p:nvPicPr>
          <p:blipFill>
            <a:blip r:embed="rId2"/>
            <a:srcRect l="5322" t="50831" r="8241" b="9287"/>
            <a:stretch/>
          </p:blipFill>
          <p:spPr>
            <a:xfrm rot="4398000">
              <a:off x="3393720" y="2174040"/>
              <a:ext cx="3182040" cy="167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Рисунок 5" descr=""/>
            <p:cNvPicPr/>
            <p:nvPr/>
          </p:nvPicPr>
          <p:blipFill>
            <a:blip r:embed="rId3"/>
            <a:srcRect l="4658" t="0" r="0" b="58406"/>
            <a:stretch/>
          </p:blipFill>
          <p:spPr>
            <a:xfrm rot="5794800">
              <a:off x="6477840" y="2160720"/>
              <a:ext cx="3306240" cy="166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Рисунок 4" descr=""/>
            <p:cNvPicPr/>
            <p:nvPr/>
          </p:nvPicPr>
          <p:blipFill>
            <a:blip r:embed="rId4"/>
            <a:srcRect l="54201" t="9048" r="3796" b="1730"/>
            <a:stretch/>
          </p:blipFill>
          <p:spPr>
            <a:xfrm>
              <a:off x="5600520" y="2406600"/>
              <a:ext cx="1811520" cy="332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Дала офо3тары» - т97ге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 китабы 1964йылд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«#ош юлы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» (1967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Автобиография»(1969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Лирика» (1971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«!7мер урта8ы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» (1976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«*5й5нс5» 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(1979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Ерем 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бал3ышы»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 (1982),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Бура2налар»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 (1985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Я2мышым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» (1988),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*ыу8аным – 8ыу2ар биреге2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!» (1991) 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Ай 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к7рг9нд9й, 3ояш ал1андай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» (1998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Я41ы2 3ошто4 осоп бар1аны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»(2003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img-fotki.yandex.ru/get/4714/133804993.13/0_909cc_2bcc6d0c_XL"/>
          <p:cNvPicPr/>
          <p:nvPr/>
        </p:nvPicPr>
        <p:blipFill>
          <a:blip r:embed="rId2"/>
          <a:stretch/>
        </p:blipFill>
        <p:spPr>
          <a:xfrm>
            <a:off x="1428840" y="0"/>
            <a:ext cx="63579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://www.tour102.ru/foto/n5.jpg"/>
          <p:cNvPicPr/>
          <p:nvPr/>
        </p:nvPicPr>
        <p:blipFill>
          <a:blip r:embed="rId1"/>
          <a:srcRect l="3986" t="0" r="1108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3071520" y="0"/>
            <a:ext cx="6072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А3 с9ф9рг9 9й29, А1и2ел</a:t>
            </a:r>
            <a:r>
              <a:rPr b="1" lang="ru-RU" sz="2800" spc="-1" strike="noStrike">
                <a:solidFill>
                  <a:srgbClr val="ffe636"/>
                </a:solidFill>
                <a:latin typeface="Century Schoolbook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Урал3айым</a:t>
            </a:r>
            <a:r>
              <a:rPr b="1" lang="ru-RU" sz="2800" spc="-1" strike="noStrike">
                <a:solidFill>
                  <a:srgbClr val="ffe636"/>
                </a:solidFill>
                <a:latin typeface="Century Schoolbook"/>
              </a:rPr>
              <a:t>! </a:t>
            </a: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&amp;2е49 т5ш9м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Я4ы 8ырттары4а ашы1а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Ирт9г9г9 ба1ам Ир9м9лд9н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Ил бай3айым И2ел башынан</a:t>
            </a:r>
            <a:r>
              <a:rPr b="1" lang="ru-RU" sz="2800" spc="-1" strike="noStrike">
                <a:solidFill>
                  <a:srgbClr val="ffe636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7467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elZAGZ"/>
              </a:rPr>
              <a:t>БЕРЕНСЕ Т5РК5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00040" y="1856880"/>
            <a:ext cx="814392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Проблема: 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Баш3ортостанды4 матурлы3тарын, к7ренекле урындарын к7р89те7. У3ыусылар2а тыу1ан илг9 3арата 8о3ланыу, 1орурланыу той1олары уяты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BelZAGZ"/>
              </a:rPr>
              <a:t>Ту3талыш «Баш3ортостан – Р9с9й2е4 ынйы8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7:09:06Z</dcterms:created>
  <dc:creator>Admin</dc:creator>
  <dc:description/>
  <dc:language>en-US</dc:language>
  <cp:lastModifiedBy>Администратор</cp:lastModifiedBy>
  <dcterms:modified xsi:type="dcterms:W3CDTF">2015-02-05T17:30:50Z</dcterms:modified>
  <cp:revision>18</cp:revision>
  <dc:subject/>
  <dc:title>«Кеше 5с н9м9г9 табыныр1а тейеш,:  илене4 у21анына, уны4 б5г5нг585н9 89м ауыр кил9с9ген9. (79лге мен9н кил9с9к – кешелекте4 ике 3анаты». </dc:title>
</cp:coreProperties>
</file>