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971-EB2C-47CC-8E99-5E8523E787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B41F-2295-4F00-8DA9-B20FBE9E85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ECA-7A65-450B-8EA1-464F61F5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FD3-4F89-4AE2-AB63-4AFB0A5C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2F5-7DDC-4596-B001-B876CA07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895-CDFF-493C-A02F-8D9E8E44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0ED-610B-4EA4-8B60-3250E29D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AED-D34D-4EB0-8F89-56E9598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5E7C-4C4D-4D38-8DA7-7D4A9E33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4CE-E353-42D1-AF67-C56F59F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BD7-19AF-424F-88DD-136D3AC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EBAE-5A6D-4722-9BDF-9FC3EC0F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22A7-9922-4E46-BB24-D4B936B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CB6-9B61-4EE9-A0B2-30567DB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C84F-838B-4FEC-9A7C-F3DBB87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6A7-EB0B-41D4-8983-AD4732C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0FAC-23D7-48A7-B712-763021EA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E49E-BA81-44E8-A6B2-B8EC9999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7A8-3194-4BA1-9297-0250B647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A37-05DF-4F7D-B841-838E124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A6E-6A45-4912-A697-ECC86032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1F9-B6E0-4E22-8C09-EE2175F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CBA-958C-4A21-99F7-7865CAED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ED2-662D-42B6-862A-8E752A9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52D-16C9-48BF-9C33-C3A609D0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1A5-D6B4-49DA-9B16-F45D8FF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CBA-E3AE-4CF8-9F01-A24C0178E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6BB-D968-4E0A-A572-92547169F6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«Размышлялки» - разминки к факультативу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j0195812"/>
          <p:cNvPicPr/>
          <p:nvPr/>
        </p:nvPicPr>
        <p:blipFill>
          <a:blip r:embed="rId1"/>
          <a:stretch/>
        </p:blipFill>
        <p:spPr>
          <a:xfrm>
            <a:off x="7162920" y="4800600"/>
            <a:ext cx="1773000" cy="182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9125"/>
          <p:cNvPicPr/>
          <p:nvPr/>
        </p:nvPicPr>
        <p:blipFill>
          <a:blip r:embed="rId2"/>
          <a:stretch/>
        </p:blipFill>
        <p:spPr>
          <a:xfrm>
            <a:off x="380880" y="3808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CA74-2830-44BB-9A40-0EFF555BBE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Нижний колонтитул 6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6169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  Слова « СТОЛ» и «ПОСТЕЛЬ» исторически являются родствен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жите э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лово «ВРАЧ» исторически восходит к слову «ВРАТЬ», что в переводе означает « говорить, наговаривать, колдова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раньше эти смыслы были родственны, а сейчас – разош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157995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76176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3639-D911-4B49-8773-DD77A23493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вращение с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 О  Л  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   .    .  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   .    . 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   .    З 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   О  З 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стати, это задание придум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ьюис Кэррол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image4"/>
          <p:cNvPicPr/>
          <p:nvPr/>
        </p:nvPicPr>
        <p:blipFill>
          <a:blip r:embed="rId1"/>
          <a:stretch/>
        </p:blipFill>
        <p:spPr>
          <a:xfrm>
            <a:off x="7162920" y="480060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351F-7F95-40AD-A62E-F3C10154C1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1781-E957-4B74-B3B8-FF9F99A02A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Спрятанные»  сло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тем перестановки бук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жите, что в 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бозревате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рыто» не менее  40 нарицательных существительных.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j0251301"/>
          <p:cNvPicPr/>
          <p:nvPr/>
        </p:nvPicPr>
        <p:blipFill>
          <a:blip r:embed="rId1"/>
          <a:stretch/>
        </p:blipFill>
        <p:spPr>
          <a:xfrm>
            <a:off x="762120" y="5105520"/>
            <a:ext cx="912600" cy="769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j0285750"/>
          <p:cNvPicPr/>
          <p:nvPr/>
        </p:nvPicPr>
        <p:blipFill>
          <a:blip r:embed="rId2"/>
          <a:stretch/>
        </p:blipFill>
        <p:spPr>
          <a:xfrm>
            <a:off x="6705720" y="1143000"/>
            <a:ext cx="1823760" cy="112068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B818-EFCE-48B6-98C7-4816D88E15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нгвистический экспери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дберите слова – глаголы к тек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 нашими головами … небольшое грозовое облако прямо к туче, которая … ежеминутно и … уже полнеба с правой стороны. Там уже … дождевой ливень; глухой, какой-то зловещий шум и свежая влажность … оттуда. Скоро … нас туча. …   змеистые, ослепительные молнии, и мгновенно вслед за ними … оглушительные громовые удары. Вокруг … буря,  …. дождь         в белую, водяную пы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 Admin</cp:lastModifiedBy>
  <dcterms:modified xsi:type="dcterms:W3CDTF">2005-12-31T18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