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jpeg" ContentType="image/jpeg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move the slid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3B24A-DB26-440C-BF4B-18D19EFC4E9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B58D6-6E86-4F1B-B9C2-DA3E1656E3E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AFC4D-85EE-4B41-A260-5814ECE17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E5EAA-CCE9-4F54-BA9F-941899356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26BE8-6DF7-4B43-B929-EFD6F246E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4ECC9-B919-4D7F-BD3F-345DE3C2D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2D5DD-A000-4497-A045-F3308C01D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96682-8DA7-43F1-B7C3-F2C6E8419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412B2-D11B-4CF2-B477-ABCEDA964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60F7E-5829-494F-87F2-7E67B5E92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5F18E-3CE4-4928-B681-D529F7D97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C2702-DB34-4AC9-9AAD-48657EB0E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B0B13-5D42-46DA-A096-4486903A8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0AE03-EED9-465D-A805-C19FCDE81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7E982-D035-4A53-BFA1-7C4E17574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3BB4E-A18B-480C-B10E-8D66274BA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06856-3D81-44F8-9D77-D7FB048B5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31A0C-F26B-40F2-8147-58F15610C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92B80-BFFA-4AC3-8F19-C982DB6BB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3C32E-B83A-4E63-9F9C-0DAD92CD0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5D3E4-B1D5-41F8-B46E-F8055BAE1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9ED2C-5872-488E-A8AA-450D4FB74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49FDD-AC55-4E2A-ABF0-C8EC0520B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61B19-ADAE-4F36-8969-06E577927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BF1E3-A453-40F3-96B8-72B0732E3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6A06E-64C7-43C3-AFFB-87FCD3104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икитина Е. В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B7B10-34E2-4BEC-8D76-1F56BB9053B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Никитина Е. В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8037A-FA42-481B-9276-FDFB2A427BFF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5909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b7"/>
                </a:solidFill>
                <a:latin typeface="Arial Black"/>
              </a:rPr>
              <a:t>«Размышлялки» - разминки к факультативу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Picture 4" descr="j0195812"/>
          <p:cNvPicPr/>
          <p:nvPr/>
        </p:nvPicPr>
        <p:blipFill>
          <a:blip r:embed="rId1"/>
          <a:stretch/>
        </p:blipFill>
        <p:spPr>
          <a:xfrm>
            <a:off x="7162920" y="4800600"/>
            <a:ext cx="1773000" cy="18241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5" descr="j0299125"/>
          <p:cNvPicPr/>
          <p:nvPr/>
        </p:nvPicPr>
        <p:blipFill>
          <a:blip r:embed="rId2"/>
          <a:stretch/>
        </p:blipFill>
        <p:spPr>
          <a:xfrm>
            <a:off x="380880" y="380880"/>
            <a:ext cx="1100160" cy="1805040"/>
          </a:xfrm>
          <a:prstGeom prst="rect">
            <a:avLst/>
          </a:prstGeom>
          <a:ln w="0">
            <a:noFill/>
          </a:ln>
        </p:spPr>
      </p:pic>
      <p:sp>
        <p:nvSpPr>
          <p:cNvPr id="109" name="Номер слайда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D0DFA-97A0-4E42-82DD-D2C6C47EDF42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Нижний колонтитул 6"/>
          <p:cNvSpPr/>
          <p:nvPr/>
        </p:nvSpPr>
        <p:spPr>
          <a:xfrm>
            <a:off x="346860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Никитина Е. В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228240"/>
            <a:ext cx="861696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.   Слова « СТОЛ» и «ПОСТЕЛЬ» исторически являются родственникам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окажите это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. Слово «ВРАЧ» исторически восходит к слову «ВРАТЬ», что в переводе означает « говорить, наговаривать, колдовать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чему раньше эти смыслы были родственны, а сейчас – разошлись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4" descr="j0157995"/>
          <p:cNvPicPr/>
          <p:nvPr/>
        </p:nvPicPr>
        <p:blipFill>
          <a:blip r:embed="rId1"/>
          <a:stretch/>
        </p:blipFill>
        <p:spPr>
          <a:xfrm>
            <a:off x="304920" y="2133720"/>
            <a:ext cx="8534160" cy="761760"/>
          </a:xfrm>
          <a:prstGeom prst="rect">
            <a:avLst/>
          </a:prstGeom>
          <a:ln w="0">
            <a:noFill/>
          </a:ln>
        </p:spPr>
      </p:pic>
      <p:sp>
        <p:nvSpPr>
          <p:cNvPr id="114" name="Номер слайда 4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12C3E-5D23-4CEB-83F1-27369321D652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Нижний колонтитул 5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Никитина Е. В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82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    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Превращение слов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169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В  О  Л  К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                   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П   .    .   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                    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.    .    .  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                    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.    .    З  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                    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К   О  З  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Кстати, это задание придумал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Льюис Кэрролл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Picture 4" descr="image4"/>
          <p:cNvPicPr/>
          <p:nvPr/>
        </p:nvPicPr>
        <p:blipFill>
          <a:blip r:embed="rId1"/>
          <a:stretch/>
        </p:blipFill>
        <p:spPr>
          <a:xfrm>
            <a:off x="7162920" y="4800600"/>
            <a:ext cx="1523880" cy="1752480"/>
          </a:xfrm>
          <a:prstGeom prst="rect">
            <a:avLst/>
          </a:prstGeom>
          <a:ln w="0">
            <a:noFill/>
          </a:ln>
        </p:spPr>
      </p:pic>
      <p:sp>
        <p:nvSpPr>
          <p:cNvPr id="119" name="Номер слайда 4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20E12-59CE-4D7F-B388-352C79863230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Нижний колонтитул 5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Никитина Е. В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Номер слайда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DA2F3-6163-405A-B17A-ECBE09A2E888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«Спрятанные»  слова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утем перестановки букв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окажите, что в слов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«обозреватель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«скрыто» не менее  40 нарицательных существительных.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Picture 4" descr="j0251301"/>
          <p:cNvPicPr/>
          <p:nvPr/>
        </p:nvPicPr>
        <p:blipFill>
          <a:blip r:embed="rId1"/>
          <a:stretch/>
        </p:blipFill>
        <p:spPr>
          <a:xfrm>
            <a:off x="762120" y="5105520"/>
            <a:ext cx="912600" cy="7696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5" descr="j0285750"/>
          <p:cNvPicPr/>
          <p:nvPr/>
        </p:nvPicPr>
        <p:blipFill>
          <a:blip r:embed="rId2"/>
          <a:stretch/>
        </p:blipFill>
        <p:spPr>
          <a:xfrm>
            <a:off x="6705720" y="1143000"/>
            <a:ext cx="1823760" cy="1120680"/>
          </a:xfrm>
          <a:prstGeom prst="rect">
            <a:avLst/>
          </a:prstGeom>
          <a:ln w="0">
            <a:noFill/>
          </a:ln>
        </p:spPr>
      </p:pic>
      <p:sp>
        <p:nvSpPr>
          <p:cNvPr id="126" name="Нижний колонтитул 7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Никитина Е. В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Номер слайда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1E6A8-A93C-4949-B8AB-20066E650E68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   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Лингвистический эксперимен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0" i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Подберите слова – глаголы к текст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д нашими головами … небольшое грозовое облако прямо к туче, которая … ежеминутно и … уже полнеба с правой стороны. Там уже … дождевой ливень; глухой, какой-то зловещий шум и свежая влажность … оттуда. Скоро … нас туча. …   змеистые, ослепительные молнии, и мгновенно вслед за ними … оглушительные громовые удары. Вокруг … буря,  …. дождь         в белую, водяную пыль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Нижний колонтитул 5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Никитина Е. В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ream Admin</cp:lastModifiedBy>
  <dcterms:modified xsi:type="dcterms:W3CDTF">2005-12-31T18:55:41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