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C65C-B02C-4C2D-B102-5D767537A5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C84C1-144E-41F4-95A4-C2EE1B2E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BEACF-E02F-44FF-B497-E389E6A1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F0878-0D89-4559-9DA3-29ED17B767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9CEAA-EAF1-4A72-BC32-18E6377910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02047-0D89-4498-BD59-A59709C0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D3851-7070-4E39-93F0-3E98E17B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2A205-AA7B-4B1D-AA33-0D89270D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7DD04-05E0-4B77-BFC1-115E5D6F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668BF-0169-46F3-B979-797D0B7A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A4168-155C-45BD-ACB9-7BD1B85D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9C928-0E80-4E14-A0C9-93A2FA67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9E381-2B4D-4934-A461-8E7A4B64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FC11C-5024-4D40-B3F6-132B9FD0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728DA-63E1-49CC-B31A-1E842638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E36C9-1EBF-4313-AC5C-7F6DACBE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C0FCD-F133-4378-ADF5-93623EE7B4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9CE70-569E-4EEF-BA50-3268739A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FB0A2-5A6F-4CC0-98D3-3141FB59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44620-8911-472D-8BE7-49BC4710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72A19-6D7E-4479-8816-EE28C722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0541C-1438-4E89-B076-43A853CC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4F0AB-CAD9-4A66-8E08-7982E1E5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A6D04-8546-464D-AB92-FD8FE93D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F6320E-AFCF-4C95-9B70-0C86C284FC4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9D7ECB-13F1-41D2-B1AB-EA517361DC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762120" y="1692360"/>
            <a:ext cx="77724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Урок русского язык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        в 3 класс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1447920" y="3352680"/>
            <a:ext cx="701028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ль личных местоимений в речи. Р/р. Обучающее сочинение «О себе».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речи. Р/р. Обучающее сочинение «О себе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1"/>
          <p:cNvSpPr txBox="1"/>
          <p:nvPr/>
        </p:nvSpPr>
        <p:spPr>
          <a:xfrm>
            <a:off x="1143000" y="2286000"/>
            <a:ext cx="67816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1852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. 71 упр.4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машнее задание:</a:t>
            </a:r>
            <a:br>
              <a:rPr sz="3800"/>
            </a:b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Сообщение на тему: «Что я знаю о местоимении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KOLOKOL.JPG"/>
          <p:cNvPicPr/>
          <p:nvPr/>
        </p:nvPicPr>
        <p:blipFill>
          <a:blip r:embed="rId1"/>
          <a:stretch/>
        </p:blipFill>
        <p:spPr>
          <a:xfrm rot="20478600">
            <a:off x="1364760" y="975960"/>
            <a:ext cx="5116680" cy="4903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761760" y="1828800"/>
            <a:ext cx="8057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Verdana"/>
              </a:rPr>
              <a:t>Весёлый прозвенел звонок,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Verdana"/>
              </a:rPr>
              <a:t>Мы начинаем наш урок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Язык может передавать самые глубокие, самые сложные мысли понятно и точно. А ещё он может нарисовать словами любую картину, человека или событие»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428640" y="4785840"/>
            <a:ext cx="507204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Лев Успенск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пр.301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99680" y="164304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я зовут Надя. Мама зовет меня Надюшей, а папа Надеждой. Мне девять лет. Я учусь в третьем классе. Я люблю сказки и весёлые стихи, люблю петь, танцевать и играть на компьютере. По характеру я весёла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меня есть собака Джек, порода-колли, а ещё рыбки и черепаха. Джек любит гулять и играть со мной. Мне нравится, когда в доме много животны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Минус 6"/>
          <p:cNvSpPr/>
          <p:nvPr/>
        </p:nvSpPr>
        <p:spPr>
          <a:xfrm flipV="1">
            <a:off x="6286680" y="2928240"/>
            <a:ext cx="428400" cy="1429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Минус 7"/>
          <p:cNvSpPr/>
          <p:nvPr/>
        </p:nvSpPr>
        <p:spPr>
          <a:xfrm flipV="1">
            <a:off x="1214280" y="4714200"/>
            <a:ext cx="1000440" cy="1429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Минус 8"/>
          <p:cNvSpPr/>
          <p:nvPr/>
        </p:nvSpPr>
        <p:spPr>
          <a:xfrm flipV="1">
            <a:off x="2500200" y="4214160"/>
            <a:ext cx="428760" cy="1429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Минус 9"/>
          <p:cNvSpPr/>
          <p:nvPr/>
        </p:nvSpPr>
        <p:spPr>
          <a:xfrm flipV="1">
            <a:off x="1357200" y="2928240"/>
            <a:ext cx="428760" cy="1429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Минус 10"/>
          <p:cNvSpPr/>
          <p:nvPr/>
        </p:nvSpPr>
        <p:spPr>
          <a:xfrm flipV="1">
            <a:off x="5357880" y="5571360"/>
            <a:ext cx="1071360" cy="1429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Минус 11"/>
          <p:cNvSpPr/>
          <p:nvPr/>
        </p:nvSpPr>
        <p:spPr>
          <a:xfrm flipV="1">
            <a:off x="1000080" y="2071080"/>
            <a:ext cx="928800" cy="1429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Минус 12"/>
          <p:cNvSpPr/>
          <p:nvPr/>
        </p:nvSpPr>
        <p:spPr>
          <a:xfrm flipV="1">
            <a:off x="6000840" y="2499480"/>
            <a:ext cx="785880" cy="1429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Минус 13"/>
          <p:cNvSpPr/>
          <p:nvPr/>
        </p:nvSpPr>
        <p:spPr>
          <a:xfrm flipV="1">
            <a:off x="6572160" y="2071080"/>
            <a:ext cx="928800" cy="1429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Минус 15"/>
          <p:cNvSpPr/>
          <p:nvPr/>
        </p:nvSpPr>
        <p:spPr>
          <a:xfrm flipV="1">
            <a:off x="6429240" y="5571360"/>
            <a:ext cx="928800" cy="1429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ядок разбора местоимения как части реч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тавлю слово в начальную форму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станавливаю, что это местоиме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казываю, что оно лично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яю его признаки: лицо, число, род(у местоимений 3-го лица ед.ч.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Verdana"/>
              </a:rPr>
              <a:t>Меня – н.ф. я, мест., личное, 1 л., ед.ч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лан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меня зовут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колько мне лет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то я люблю дела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(ая) я по характеру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ие животные есть у мен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571680" y="214200"/>
            <a:ext cx="8001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Упр.302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143000" y="1600200"/>
            <a:ext cx="708660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6560">
              <a:spcBef>
                <a:spcPts val="751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6560">
              <a:spcBef>
                <a:spcPts val="751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ие местоимения вы будете использовать в сочинении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6560">
              <a:spcBef>
                <a:spcPts val="751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6560">
              <a:spcBef>
                <a:spcPts val="751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ва тема сочинения?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6560">
              <a:spcBef>
                <a:spcPts val="751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пишем её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6560">
              <a:spcBef>
                <a:spcPts val="751"/>
              </a:spcBef>
              <a:tabLst>
                <a:tab algn="l" pos="0"/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6560"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6560"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6560"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46980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536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6383160" y="3571920"/>
            <a:ext cx="2332080" cy="24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амостоятельная запись сочинения по план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меня зовут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колько мне лет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то я люблю дела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(ая) я по характеру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ие животные есть у мен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714240" y="492912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черкните в своём тексте местоимения.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речи. Р/р. Обучающее сочинение «О себе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7286760" y="4857840"/>
            <a:ext cx="12859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4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5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тог урока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чему в тексте сочинения часто встречается местоимение 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авдано ли это повторе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5-02-05T09:00:47Z</dcterms:modified>
  <cp:revision>1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