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4E02-FE05-4A5F-B36B-D17152ABB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BB14-71F7-4227-B385-E6BA2909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C8A5-CC56-4687-9352-8C62FD5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AD8D-B889-4940-8B47-65FE7281F4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43BF7-9889-4BAC-BE3F-B5B9E6B48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9571E-FEC7-4ED8-9476-EBE1B2A6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A67D4-3C8D-45B7-8D00-37ED0C83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004C0-F794-4695-8BE1-749975E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120B3-B7DD-4C81-B989-EB85B708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FE8DA-7486-4FA2-BE4B-0D51735D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636AC-6EE1-4A24-82E5-E179781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7834-BAD7-4B52-81F0-81EA0B8A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9B3B-EF3C-40AE-8307-47E7536A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21B62-C083-4150-B373-8FAED55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B128E-0F8D-4C8C-B84B-30FE2A4C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E7E8E-2DF7-4366-94FB-0D839112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07D31-CB23-4F9E-B848-69B32F4A1A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F07F-A069-4EB4-8FC8-EFABE1FC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FAB8-B460-4769-9763-CCAE284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521F-FDB2-47B8-9384-6B905B8F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6B85-6A86-4326-B688-964A4A2A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1858-F2C2-4D10-A200-F79B144C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AFB7-BC47-4423-A560-074D88B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FBC4-907B-4C21-94B4-B68E56E9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D7D3E9-717F-45FD-AD17-25B253446FD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CD5892-3FC5-499F-8D33-44C1B0261A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762120" y="169236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        в 3 класс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1447920" y="3352680"/>
            <a:ext cx="70102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ль личных местоимений в речи. Р/р. Обучающее сочинение «О себе»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ечи. Р/р. Обучающее сочинение «О себ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1"/>
          <p:cNvSpPr txBox="1"/>
          <p:nvPr/>
        </p:nvSpPr>
        <p:spPr>
          <a:xfrm>
            <a:off x="1143000" y="228600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85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. 71 упр.4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br>
              <a:rPr sz="3800"/>
            </a:b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Сообщение на тему: «Что я знаю о местоимении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KOLOKOL.JPG"/>
          <p:cNvPicPr/>
          <p:nvPr/>
        </p:nvPicPr>
        <p:blipFill>
          <a:blip r:embed="rId1"/>
          <a:stretch/>
        </p:blipFill>
        <p:spPr>
          <a:xfrm rot="20478600">
            <a:off x="1364760" y="975960"/>
            <a:ext cx="5116680" cy="4903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1760" y="18288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Весёлый прозвенел звонок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Мы начинаем наш урок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Язык может передавать самые глубокие, самые сложные мысли понятно и точно. А ещё он может нарисовать словами любую картину, человека или событие»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8640" y="4785840"/>
            <a:ext cx="507204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ев Успен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пр.301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9680" y="16430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я зовут Надя. Мама зовет меня Надюшей, а папа Надеждой. Мне девять лет. Я учусь в третьем классе. Я люблю сказки и весёлые стихи, люблю петь, танцевать и играть на компьютере. По характеру я весёл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меня есть собака Джек, порода-колли, а ещё рыбки и черепаха. Джек любит гулять и играть со мной. Мне нравится, когда в доме много живот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инус 6"/>
          <p:cNvSpPr/>
          <p:nvPr/>
        </p:nvSpPr>
        <p:spPr>
          <a:xfrm flipV="1">
            <a:off x="6286680" y="2928240"/>
            <a:ext cx="4284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Минус 7"/>
          <p:cNvSpPr/>
          <p:nvPr/>
        </p:nvSpPr>
        <p:spPr>
          <a:xfrm flipV="1">
            <a:off x="1214280" y="4714200"/>
            <a:ext cx="100044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Минус 8"/>
          <p:cNvSpPr/>
          <p:nvPr/>
        </p:nvSpPr>
        <p:spPr>
          <a:xfrm flipV="1">
            <a:off x="2500200" y="4214160"/>
            <a:ext cx="42876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Минус 9"/>
          <p:cNvSpPr/>
          <p:nvPr/>
        </p:nvSpPr>
        <p:spPr>
          <a:xfrm flipV="1">
            <a:off x="1357200" y="2928240"/>
            <a:ext cx="42876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Минус 10"/>
          <p:cNvSpPr/>
          <p:nvPr/>
        </p:nvSpPr>
        <p:spPr>
          <a:xfrm flipV="1">
            <a:off x="5357880" y="5571360"/>
            <a:ext cx="107136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инус 11"/>
          <p:cNvSpPr/>
          <p:nvPr/>
        </p:nvSpPr>
        <p:spPr>
          <a:xfrm flipV="1">
            <a:off x="1000080" y="2071080"/>
            <a:ext cx="9288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инус 12"/>
          <p:cNvSpPr/>
          <p:nvPr/>
        </p:nvSpPr>
        <p:spPr>
          <a:xfrm flipV="1">
            <a:off x="6000840" y="2499480"/>
            <a:ext cx="78588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Минус 13"/>
          <p:cNvSpPr/>
          <p:nvPr/>
        </p:nvSpPr>
        <p:spPr>
          <a:xfrm flipV="1">
            <a:off x="6572160" y="2071080"/>
            <a:ext cx="9288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Минус 15"/>
          <p:cNvSpPr/>
          <p:nvPr/>
        </p:nvSpPr>
        <p:spPr>
          <a:xfrm flipV="1">
            <a:off x="6429240" y="5571360"/>
            <a:ext cx="9288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ядок разбора местоимения как части ре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авлю слово в начальную форм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авливаю, что это местоим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казываю, что оно лично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яю его признаки: лицо, число, род(у местоимений 3-го лица ед.ч.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Verdana"/>
              </a:rPr>
              <a:t>Меня – н.ф. я, мест., личное, 1 л., ед.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меня зову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мне ле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я люблю дела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(ая) я по характер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животные есть у мен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71680" y="214200"/>
            <a:ext cx="8001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пр.302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143000" y="1600200"/>
            <a:ext cx="708660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местоимения вы будете использовать в сочинени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а тема сочинения?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пишем её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383160" y="3571920"/>
            <a:ext cx="2332080" cy="24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амостоятельная запись сочинения по план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меня зову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мне ле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я люблю дела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(ая) я по характер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животные есть у мен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14240" y="4929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черкните в своём тексте местоимения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ечи. Р/р. Обучающее сочинение «О себ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7286760" y="4857840"/>
            <a:ext cx="1285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тог урок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ему в тексте сочинения часто встречается местоимение 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авдано ли это повто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5-02-05T09:00:47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