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3E6-5373-4DA2-B7AC-B362D3D1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DB9-C475-44EF-A926-5DE7CCE0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05B58-38C0-40B6-805A-EA56C88E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13D1D-89C4-45DD-B8B5-A6900695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F161C-40D7-4DDF-A308-9B233D9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A308E-1A92-45D2-9CC8-7CE950D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B9EDC-C133-4D71-A4E9-47BFB87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6F282-3254-426D-84BD-76D7EEC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6AA4-184A-400A-8EAD-00E6FA05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367DA-CFC5-4958-9955-17B4123F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E4080-0B03-4957-AC61-7AEB9086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4AFCB-4E33-4B27-A4D0-9764BED1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12D-AB7D-46E7-8C85-ED93C3AB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4AF96-461F-45E0-B4B6-AB640448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14B73-DFE7-4989-BC7B-9A7FA8C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1EFCF-52A1-498C-B6E9-431BFFC1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44C45-54C5-4775-AFD7-C259046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9683E-C260-43DC-AEC7-62AC0BE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88BB2-AFA9-4DC1-87F1-D258A34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A630-7061-42AD-B7A6-4B3E087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C0D06-D623-4BDC-AF89-83C739F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AC310-C9ED-4488-978C-B61EE5CC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B4B61-02C0-402C-B0B4-91D83485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A26-B75D-4DDD-844D-EBE51931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132C9-3FC0-4322-A559-11D74192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FD5A-1468-4CF9-AC62-2E07DFED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96C9-D913-439A-BCAF-3451622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8BFD-D363-4E42-8740-20EA5AB0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1354-E000-4139-AADE-7821329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F525-FCEC-49D5-AB4E-40B2C6E9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F7D9-DD74-4E00-80E2-1753F01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1FC-0196-4FF5-B5E2-F92C71E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227-60BF-40D4-ACBA-4FA5596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A5A8-B768-4179-95AB-AD59A00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46F4-B59E-49F0-B4A5-26F7422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7FD-1CB3-412E-989D-9DACF43F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443-06D4-49E1-BC7F-354BB49F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7A2-2B9D-42BC-B927-2D93ECD5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DC63-5766-4670-832A-9D30D3CF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35C8-8CAE-411A-97D9-6F66F84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4548-96EE-44E3-AAA1-4AAC4B3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9834-1962-4C52-82B0-5C177D0D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6013-0CB3-4B2C-BBB0-8008D7F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19B-306F-4FF6-B79F-562A14C3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9BD7-2BD2-41F3-91E1-68E703D9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3BAB-40EB-4E86-AE02-CBE4AD4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D25C-69DE-4FBB-BE66-7025148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E8B8-A95D-47A3-8FCB-25AF6DA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07FE-B848-4DEC-B2B7-4B44EC8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DC64-B260-4511-B4B5-4177E519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DFA5-72E5-4844-A0CD-3A288E5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60DE-8196-4C36-A835-0C6E44C1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DBD0-68A5-4728-B759-F5486B2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EBF9F-1EA0-4C9E-B427-699598DF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33F-5819-4B6E-B84A-414FB70B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F3EE-9622-4022-A9D5-58A01B51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B7A7-607F-4B05-8754-77EBCF5E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A243-6E60-4097-AD8A-1001E35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C32A-D885-4CEE-BC51-94D6003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8D69-E992-434E-98BB-84C09733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9F61-A31D-4967-80BF-1B13299E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6386-A017-450F-97C8-32C9795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BDD1-2227-4DC5-9318-6F647C89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E838-0810-4FE7-892D-C705A5EA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DBC1-9DD1-409C-9ACB-8C666D08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5D0-5CC6-4D13-AD34-C2C6396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A615-3806-40C7-B7BD-06055632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254F-BF11-4F54-9B63-7337D81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1CC34-9A70-4625-A30B-B2497A1F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A963-FD15-4649-95A4-6912224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BB6D-1DEB-4B10-95D3-21F8BD8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179D-4658-4BAA-A756-627D8F5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11E9D-4DB3-4C69-BF74-52EE5C6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AAF5-0B0F-4CDB-8B38-B4E898A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CB29-6A7D-4D75-B2DD-FBFC5D64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B7EE-7A8D-4BAE-956D-DA96609C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38F-9372-4562-B0DB-EB4CE34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01EA-86FC-4479-A571-0D39F9E9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F6E1-F8B4-4014-BC59-3D8D2763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37D0B-D2FB-471A-903D-EF34FA1C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2038-3B34-4AD6-9BAA-EBED8E89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17D0A-7932-4D2D-B01E-BC9247E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8F58-C054-473C-BCC2-FAF3983B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D433-6890-4603-A067-31B9FFBA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C473-5959-4D07-BE74-A2917BF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B35C-24CA-4F88-B5F0-4479EC2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31B8C-C813-4D84-99AA-BAEC044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B61-B8CA-4346-93C5-10FC72D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8123E-E8FE-4F15-B5B4-2669242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8FB6-3C55-485D-96CE-FF6BBA72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DD87B-9FEE-4180-A8A6-43EBA9BB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6AE0E-7738-4531-8B65-78B198EF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97694-6C88-4090-A91D-9706155F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F54F-A578-4E6D-9283-166DEC4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2569-2028-479C-8396-78E57EF1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327C6-948E-4B3E-BF28-90D3D63F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95649-58DA-4B57-B897-CDF2332D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A4B2-18EE-44AB-B94D-9DA510C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659-FFF1-4088-AF1F-670E96E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DF13-3804-41FE-9B24-2FCA8F0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A95E-5EF9-4606-A75C-64F040A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465E-8B5F-437F-BD51-0330A925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6545-A2A2-4D95-90B8-CDEC4CE7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7BEE-9D4D-4063-A953-FFE36483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F1B6-DA93-4023-B12D-41A83EC5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AC00-5352-42A9-B2A8-FCB5172C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396A6-DBA6-43AF-8575-CF509319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7505-DC43-4360-B36E-CB83D5D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D221-31F4-4E47-998C-8E990C2E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6AB-95CA-44E2-A75B-0978CFD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6B6CD-7836-4C69-A726-6A082309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BAC2A-4E59-496D-8F1F-7F7E44D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984C6-3CCD-4095-8A61-3A075A4D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5EE8D-E60D-49AC-A0B7-E971FFA0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3322C-78C5-4A85-A24D-230ED18F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61A54-08A4-4300-BD91-947AEBB3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A8CAD-1B85-46F8-B224-D0663221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14C4A-6235-4875-ADB0-9AB32DF0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C58E-EBEC-4C3A-A5F5-C75B5B33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8AC5A-FEDF-46D3-85D3-18B8570C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B9D-0155-4A0D-A8D7-BE2CBCDBCB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0BD5-9564-43E3-82F7-2EF04FBF12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8EB-AF78-4737-A7BC-468533BD59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E7CD-0117-4861-9380-264CD3002D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D77E-73C0-4A01-8A9F-44EB797935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4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C3F-BE91-411C-9F1E-9CEAC4245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A2A-34BD-4D24-89C0-66F650E3E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4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4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9337-8FAF-4366-BCD1-87ED61032F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9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9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769-1890-4F88-981D-D33B255A9F4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1738-377C-4263-92F9-C1DB51AF18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600" y="151776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следовательская работа</a:t>
            </a: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Село и улицы названны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менем С К Кочетово»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ла ученицы 6 класса Оюн Ады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ель: Быянды Чодураа Владими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Штаб-квартира партизанского отряда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и дом Учредительного Хур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8" name="Picture 4" descr="100_0181"/>
          <p:cNvPicPr/>
          <p:nvPr/>
        </p:nvPicPr>
        <p:blipFill>
          <a:blip r:embed="rId1"/>
          <a:stretch/>
        </p:blipFill>
        <p:spPr>
          <a:xfrm>
            <a:off x="685800" y="1828800"/>
            <a:ext cx="691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лица Кочето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. Кочет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0" name="Picture 4" descr="100_0188"/>
          <p:cNvPicPr/>
          <p:nvPr/>
        </p:nvPicPr>
        <p:blipFill>
          <a:blip r:embed="rId1"/>
          <a:stretch/>
        </p:blipFill>
        <p:spPr>
          <a:xfrm>
            <a:off x="609480" y="18288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лица Красных партизан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. Кочето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52" name="Picture 3" descr="E:\Суг-Бажы\кр. партизан.jpg"/>
          <p:cNvPicPr/>
          <p:nvPr/>
        </p:nvPicPr>
        <p:blipFill>
          <a:blip r:embed="rId1"/>
          <a:stretch/>
        </p:blipFill>
        <p:spPr>
          <a:xfrm>
            <a:off x="762120" y="1905120"/>
            <a:ext cx="696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лица Сражения с. Кочето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енно отряд Кочетова разгромил войска белогвардейского генерала Бакича, которые по численности в четыре раза превосходили отряд красных партизан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361960"/>
            <a:ext cx="8510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Имя Сергея Кочетова звучит каждый день. Это село, которую все мы знаем, и человек, о котором мы не знаем ничего. </a:t>
            </a:r>
            <a:br>
              <a:rPr sz="2800"/>
            </a:b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  Только ведь и мы живы, пока помним…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304560"/>
            <a:ext cx="8540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роде Туране Бий-Хемского рай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же есть улица Кочетово, названный в честь С. К. Коч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забудем тех героев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лежат в земле сырой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Жизнь, отдав на поле бо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 народ- за нас с тоб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икогда мы не забуд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х геройские де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сть и слава этим людя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великая хвала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 выяснить происхождение и значение название села и улиц названные именам С К Кочето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533520"/>
            <a:ext cx="74768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3864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Изучить биографию С. К. Кочето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Выяснить какие исторические событие  повлияли на происхождение название  села и улиц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Проанализировать и обобщить полученные данн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едмет исследова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название села и ули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Picture 2" descr="E:\Суг-Бажы\музей кок.jpg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31244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Сергей Кузьмич Кочетов-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легендарная лич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тральная улица Кызыла была названа в честь С.К. Кочет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0" name="Picture 4" descr="C:\Users\ФГОС-Кочетово1\Desktop\россия тыва\кызыл.jpeg"/>
          <p:cNvPicPr/>
          <p:nvPr/>
        </p:nvPicPr>
        <p:blipFill>
          <a:blip r:embed="rId1"/>
          <a:stretch/>
        </p:blipFill>
        <p:spPr>
          <a:xfrm>
            <a:off x="533520" y="21337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мя Сергея Кузьмича звучит каждый день. Это село, которое мы знае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2" name="Picture 2" descr="E:\Суг-Бажы\кирип моорлаар.jpg"/>
          <p:cNvPicPr/>
          <p:nvPr/>
        </p:nvPicPr>
        <p:blipFill>
          <a:blip r:embed="rId1"/>
          <a:stretch/>
        </p:blipFill>
        <p:spPr>
          <a:xfrm>
            <a:off x="304920" y="182880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. К. Кочетов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командир партизанского отряда в Туве. Всю свою жизнь отдал служению народ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лицы с. Кочетов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н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расных партиза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ратьев Чассыгба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чето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алчак То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ханиза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лодежна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раж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луг-Хур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ито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0 лет ВЛКСМ или Куулар Биче-оо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0 лет Великой Побе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жб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2:08:31Z</dcterms:created>
  <dc:creator>связной</dc:creator>
  <dc:description/>
  <dc:language>en-US</dc:language>
  <cp:lastModifiedBy>связной</cp:lastModifiedBy>
  <dcterms:modified xsi:type="dcterms:W3CDTF">2015-02-05T15:08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