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2068-3E46-44AD-9518-853010E6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E4DB-8844-478F-9E19-FFCF305A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23D90-AF22-4E56-93CD-2E94014E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3AFDE-FBA8-4AD2-BE95-79456D13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F1392-56A0-448C-B10E-0A7BDF06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EA94D-61C8-4531-AA61-F70BFF96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2694C-ECD2-4EB8-B0AC-647AFEFE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4547D-E56A-4686-84F0-F6C2FBD0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546D8-F44B-4EDA-9041-52ED47D7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8969E-D72A-421F-B264-65075A38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3B67A-9F46-4C26-BACD-FFDB9001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93CB7-3D85-4371-B576-5366E551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EE0D-14A6-45E6-894E-1BD0FF84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19446-DD6C-421B-B176-ADDE5CAE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9B6D9-1B7F-461A-B8A5-5A2A5D96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F3209-F5F8-4A67-9222-E3E03D1E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CBD00-F248-44AD-B342-08E9295E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0566A-AC98-4B12-B33D-5EA6041C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F17BD-49A4-4DCA-8406-EA54F785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DDD05-7AFD-4C45-A73B-CACB53C3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B7445-B57E-4811-A75F-0FDFFC87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7E00F-6417-4B66-B110-7B68AF9F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53260-A45D-4BD1-93EB-4A0BF47D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8336-636F-46D3-A89D-297793D5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CEC1B-6D7E-43BD-9AF5-93142729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DF95-0615-486F-9221-8ACB03B1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50A7-209D-4E09-9883-F3A88C49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5EBF-2B33-44C4-A8E7-54850754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B0E4-8311-435F-B7F1-2C30BF6D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FF7E-A5FD-4D04-8FBB-8BBE9BA6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CE62-CC7D-4479-920D-6A0A52AA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4429-CADE-4847-ACAB-3F6B6616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659-5056-42E5-8CCA-9D453D98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986E-5345-49C1-B87A-E2DBD719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BB23-CA00-4E0A-B507-60C3A695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8657-86B3-4B27-9902-66A77B10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2722-7FB1-45CA-A70F-02E2721F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3945-AA9B-41F1-BA26-13021BBD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50F0A-28DD-4D4F-81F2-99A9660D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CF022-90F3-46C4-8149-85DE9B19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5160C-67E0-4055-8C2F-7EE90C50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B7E9E-BBA8-41D5-B59B-C6403D3C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1D283-A130-4667-8FB9-855A77D3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C5D9-314E-4BE9-9AC5-046CFF38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245CE-1612-4942-9FC5-7F46BC79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68C38-6998-489C-803A-D3DD17E7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BBF58-B0BF-4A2A-A7F0-57BD1369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D44FA-AE9C-4273-A1A0-95D3B732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60C50-0F47-4F78-9863-AE424196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FFD04-E0BB-4322-9D0E-452C4E74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A070C-3D5F-4574-A3F9-93ECB50B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6112D-E400-49F9-815B-20783494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DD471-D03E-4CF2-8CEB-4AFCB774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E1305-0906-40E4-9205-9B324F4F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BB7-3777-4C77-9D83-0560D692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87CEA-13DF-4C38-BED8-22E17F9B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C498A-2464-46E8-B120-B1FF4F09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92E1D-2907-4C68-BA1B-0538D2E9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662E0-B4B4-4CF4-AE92-56CDD952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3F8BD-E061-43D8-A34A-DB893774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1FAC2-0E11-49DE-8E62-8887580F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BF41B-BC52-4AC0-AF62-2B96C8C9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56AC6-52E6-4E89-BCCC-4B8A8BAB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49A35-59AC-4CDE-8773-9C3A306E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2F0EF-734D-4D6C-B3AE-AF297C0F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358A-AD41-448F-A537-98009D33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1D251-F686-4AF5-B656-F57A7503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3F34B-9B95-44D2-91FE-833B665C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9E153-F9B8-4FA7-BD29-70A1661C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4A9C5-FA1F-4A08-9864-BD0945DB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DCBE5-C684-4105-B100-B7748D53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84BB2-9AB7-4A2A-888D-0664A8EA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2EFA3-4DBD-485C-9561-854741A7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A7D48-489A-409D-8885-472998F9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0C3B8-E495-4BE0-98F9-51A8284D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508B4-9C80-4BB3-BEE3-FFEA6D98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EA8A-9B2C-41BE-ACBB-0598B717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A93C0-CA15-4F14-9D60-7D70F475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CBC09-D732-4E8A-874D-694CFE2D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2D7BE-8D6D-4241-99AC-7A3063F7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29D71-4488-4718-9F85-809EA4A7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BA287-6A14-477F-8360-FC1B6621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6E0D1-6E32-47FE-BA93-D4E0CEB7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C804A-3F45-42C3-A749-39B362A5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F6EFB-25B7-4577-8090-C4A9A1AF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7460A-89A9-4E7F-8EF4-F3E116A9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10DD9-7DE6-4DFA-9D25-3F91F0E6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AB40-05E6-4E68-876F-3DE4C65A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D4826-2DEA-41DD-83F8-78132D3B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30F5D-F782-4AC8-91D8-E04B6165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8C056-C3A8-4B15-96C3-514C8314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05989-E55F-450C-BF5E-189E745D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8D5AF-1AF2-41B7-8F0C-6CC155BE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F2D43-AE5D-4824-BE3C-A90A2018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2C6FF-938B-4319-B139-C4AE6B2F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C4E05-B2B0-4F7B-BC94-B6AECA6E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851DC-D0E5-4B3F-982E-AE5516F0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59C6C-9F06-4EFA-800D-0B35279B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6E2-6192-4AA1-862C-A8FF468D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CF189-7628-4A02-A219-27595A1B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DA2F4-18BA-4B47-88FF-C40C8BD5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19481-9C46-4C09-A4DB-86E5EAF2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54BDE-0896-4225-85A8-5E7E6B3A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4A8D2-8117-46F0-ABE2-E9472E1B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8AAC4-8CB2-4033-9961-5C805B31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9E0A5-80D7-479A-AC70-AA377CAF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F4D6E-4A93-442D-9325-2E6F3E4A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4C2CB-43FA-4E23-A6A0-9816E875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CDC8F-BDA0-41E2-9D95-532E96DB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9216-50B6-4D62-B680-9A2271DD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5316D-341A-46D4-A141-F4FEE3B9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67C83-CEB5-454D-96A0-48CFDCAA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011BA-4301-4DB9-B573-CADBD4E9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6D7BC-EFA1-4A86-B15F-8A4F0B50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0E9FB-0F0E-44EB-81C8-D083300A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38DA5-EDAF-4F49-BB63-D09410F6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4B2F4-9D1D-4CE9-BA5B-CF750B7E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99E8F-897D-4AAA-9A9E-B5596EC3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E754F-0D77-43B9-9EB5-8DB9221B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A5EAE-181F-4F65-8A4B-E0D5F2C3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27BE-AC3D-4434-97D2-007A72E1A41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E7B5-D99C-41F2-BAA4-4DC6D5F9E73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C360-980F-49BB-B2B7-DDFFA295715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5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5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7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9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BD7D-03FC-48EB-B8D0-334D80C121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4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6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7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9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A715-4830-455B-B154-71AB75AD42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4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E10E-4CC1-45BC-98DA-826C5E751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9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0DD2-9BF5-448B-B453-4DFA249D6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40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4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DF16-683E-4DD7-8C2D-1E620E3EF87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94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95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01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6046-8BB6-4D18-B27E-ED3C8167D97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6946-9D0B-4643-AFFA-27BE33148B7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71600" y="151776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Исследовательская работа</a:t>
            </a:r>
            <a:br>
              <a:rPr sz="2800"/>
            </a:b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«Село и улицы названные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менем С К Кочетово»</a:t>
            </a:r>
            <a:br>
              <a:rPr sz="3200"/>
            </a:b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523520" y="40381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полнила ученицы 6 класса Оюн Ады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уководитель: Быянды Чодураа Владимиро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mic Sans MS"/>
              </a:rPr>
              <a:t>Штаб-квартира партизанского отряда </a:t>
            </a:r>
            <a:br>
              <a:rPr sz="2400"/>
            </a:br>
            <a:r>
              <a:rPr b="0" lang="en-US" sz="2400" spc="-1" strike="noStrike">
                <a:solidFill>
                  <a:srgbClr val="002060"/>
                </a:solidFill>
                <a:latin typeface="Comic Sans MS"/>
              </a:rPr>
              <a:t>и дом Учредительного Хурал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8" name="Picture 4" descr="100_0181"/>
          <p:cNvPicPr/>
          <p:nvPr/>
        </p:nvPicPr>
        <p:blipFill>
          <a:blip r:embed="rId1"/>
          <a:stretch/>
        </p:blipFill>
        <p:spPr>
          <a:xfrm>
            <a:off x="685800" y="1828800"/>
            <a:ext cx="6912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лица Кочетов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. Кочето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0" name="Picture 4" descr="100_0188"/>
          <p:cNvPicPr/>
          <p:nvPr/>
        </p:nvPicPr>
        <p:blipFill>
          <a:blip r:embed="rId1"/>
          <a:stretch/>
        </p:blipFill>
        <p:spPr>
          <a:xfrm>
            <a:off x="609480" y="1828800"/>
            <a:ext cx="7391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Улица Красных партизан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. Кочето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652" name="Picture 3" descr="E:\Суг-Бажы\кр. партизан.jpg"/>
          <p:cNvPicPr/>
          <p:nvPr/>
        </p:nvPicPr>
        <p:blipFill>
          <a:blip r:embed="rId1"/>
          <a:stretch/>
        </p:blipFill>
        <p:spPr>
          <a:xfrm>
            <a:off x="762120" y="1905120"/>
            <a:ext cx="6967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Улица Сражения с. Кочето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енно отряд Кочетова разгромил войска белогвардейского генерала Бакича, которые по численности в четыре раза превосходили отряд красных партизан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680" y="2361960"/>
            <a:ext cx="8510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Имя Сергея Кочетова звучит каждый день. Это село, которую все мы знаем, и человек, о котором мы не знаем ничего. </a:t>
            </a:r>
            <a:br>
              <a:rPr sz="2800"/>
            </a:b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  Только ведь и мы живы, пока помним…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304560"/>
            <a:ext cx="8540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городе Туране Бий-Хемского рай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же есть улица Кочетово, названный в честь С. К. Коч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е забудем тех героев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то лежат в земле сырой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Жизнь, отдав на поле бо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а народ- за нас с тобо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икогда мы не забуде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х геройские дел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есть и слава этим людя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 великая хвала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Цель: выяснить происхождение и значение название села и улиц названные именам С К Кочетов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18880" y="533520"/>
            <a:ext cx="74768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38648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Изучить биографию С. К. Кочетов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Выяснить какие исторические событие  повлияли на происхождение название  села и улиц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Проанализировать и обобщить полученные данны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Предмет исследования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название села и улиц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5" name="Picture 2" descr="E:\Суг-Бажы\музей кок.jpg"/>
          <p:cNvPicPr/>
          <p:nvPr/>
        </p:nvPicPr>
        <p:blipFill>
          <a:blip r:embed="rId1"/>
          <a:stretch/>
        </p:blipFill>
        <p:spPr>
          <a:xfrm>
            <a:off x="5486400" y="3276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1981080" y="3200400"/>
            <a:ext cx="312444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Сергей Кузьмич Кочетов-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легендарная лич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6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Центральная улица Кызыла была названа в честь С.К. Кочето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0" name="Picture 4" descr="C:\Users\ФГОС-Кочетово1\Desktop\россия тыва\кызыл.jpeg"/>
          <p:cNvPicPr/>
          <p:nvPr/>
        </p:nvPicPr>
        <p:blipFill>
          <a:blip r:embed="rId1"/>
          <a:stretch/>
        </p:blipFill>
        <p:spPr>
          <a:xfrm>
            <a:off x="533520" y="2133720"/>
            <a:ext cx="670536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мя Сергея Кузьмича звучит каждый день. Это село, которое мы знаем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2" name="Picture 2" descr="E:\Суг-Бажы\кирип моорлаар.jpg"/>
          <p:cNvPicPr/>
          <p:nvPr/>
        </p:nvPicPr>
        <p:blipFill>
          <a:blip r:embed="rId1"/>
          <a:stretch/>
        </p:blipFill>
        <p:spPr>
          <a:xfrm>
            <a:off x="304920" y="1828800"/>
            <a:ext cx="799308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С. К. Кочетов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командир партизанского отряда в Туве. Всю свою жизнь отдал служению народ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лицы с. Кочетово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ени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Красных партиза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ратьев Чассыгба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Кочетов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алчак То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еханизац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лодежна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Сраж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луг-Хура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итов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0 лет ВЛКСМ или Куулар Биче-оо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0 лет Великой Побед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ружб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2T02:08:31Z</dcterms:created>
  <dc:creator>связной</dc:creator>
  <dc:description/>
  <dc:language>en-US</dc:language>
  <cp:lastModifiedBy>связной</cp:lastModifiedBy>
  <dcterms:modified xsi:type="dcterms:W3CDTF">2015-02-05T15:08:5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