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2E0-8449-4118-9597-BD0F2F5F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093A-D4E6-45C6-90DD-245EB924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DEFF7-9098-4981-ADF5-AC49B48B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75C1B-1A0F-4291-B404-27AECB16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AF238-D679-4CA9-B50A-9CE74690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BD792-D9ED-4149-A22D-02FC1E82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0EBF8-ABE8-44AC-8D9A-7A9A23A5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F7274-1FB5-458C-AE09-660A423C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E4577-1172-4BC2-873F-6E4989C7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6F15E-2212-40E9-8888-F59C69F1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25ED8-0C3B-4F46-9DC3-F77C9C7A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2EE2-CDF2-4A31-851C-7EBFEDB3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0C15-799F-4160-87DA-86FA5421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E229-1005-4100-803D-67C8395D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CD4B-6C96-4FAE-8D58-22755F19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2C65-FFA1-4BB6-9FA1-E69B194E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2443-1C4C-443E-973D-1C913A1E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7A10-9C6E-4162-B6B9-4F11C5D5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787D-21CB-4B78-AE40-D6B7E5BD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02AF-A310-4D68-9808-83EEC7E0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3568-0EDD-4078-ACFD-2EF8E26C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3EF2-A868-4846-B349-2804021E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497E-F055-43CD-86E4-F11BC146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1CBD-83BA-4ED2-B1B1-D45AC717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2383-9C5C-49C9-8AD9-8E5022EC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A58B-3FF4-4B6D-BFEC-3D5284AD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DE8EE-D790-4E13-9AC4-092486B7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3A25A-AB27-4668-AD99-65BB3E40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A6E01-15AB-44FE-8C25-6AEEF4B7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8AA9B-2FED-4A57-98D7-7AE4E8A6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09EBE-E1A7-4B2D-80F4-70D6C507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4832-6213-4502-8D36-E27398B8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1C309-E056-4715-9946-D1664F46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1541C-7573-43CA-9B42-CFE614F9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F4C03-556D-4477-AA7F-06B0BA6E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786FA-0C94-4042-B8E7-D24FBC68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3C8B8-3AD7-420A-8DD0-C08E3EC9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21C00-3530-466D-978D-610D3665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F9A5F-69CA-4938-A41B-3165B144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3DF72-31CF-4605-B6BE-BFD4B7D4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0C1CC-03E8-4A64-8E77-B7C5BEBF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04670-67E7-48FD-9F12-4C977151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8A6C-4230-4899-89DD-B5438305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1DA7C-4CF8-489F-8393-4F5F92F3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9ADFF-1BE9-4668-B8EA-8CF9956B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53C24-1102-4AE5-B142-C351C924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42E77-43FE-4DDC-B6C1-025ABD70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30F6D-22C6-41D5-86A3-A5B2FB77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A83F5-739C-4A14-A089-995739DB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41FBD-8E46-4181-915C-3B485301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8083F-84D8-40FC-AF85-2A867300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7FDC7-6A91-42E0-9B24-CF95079D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18D86-E5FE-4B22-968D-B3758C1E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D645-EC83-4BDB-BCF6-76B50F33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5153F-FA86-42B4-AEAF-678F6792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C3C11-E03C-4A66-BF2A-1F305A7F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5E7DE-1DB0-47BE-BBC5-A63F942C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C8A38-C387-4114-ADC2-DD55EE28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93F25-E3CF-4908-AAB3-5FE9FA3A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A4D68-EEAB-438F-B5BF-4D03C207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D179E-058C-4E71-90D3-8E992C5D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B53D6-02FC-4157-ABE2-FB8CEFA3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C1AF8-D76D-4A1C-A777-EF390D90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EDB25-8A21-42A1-885B-EABC584A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CD81-F3BF-418E-AF7F-BED3698C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2B2F6-B50D-4B3F-8542-71B6E3D4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9CFFC-4EA4-48F9-9A24-F7724513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2C502-6880-47F4-901A-CA730B15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8F411-205B-4209-9F04-B1E67D0E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9AEBF-0EAA-4BEE-8DC4-EAFF7595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BA6F4-57A4-4901-89C8-C9C48DD3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7FFA1-9986-45B3-8418-AC72269E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FAA7A-1921-4D82-B37D-70EEB336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1B477-82A8-4336-ABAA-35328322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63ACA-82F7-4D5E-B8AD-927BCCF8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E21-3DA5-425A-879A-8E80B145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7820E-8239-4989-AD3B-B1CF8611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6469C-B3D9-4D46-8BDC-C9C6A4E0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933CA-90E1-41A9-8F89-72F24709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7EB4B-9A26-414C-9CB0-0B6DE646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375C7-2560-417C-80F7-FCDCA176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902E2-470A-4C1F-95E2-35CDFE46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68CCE-50C2-44B2-820B-F7117F28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335A1-64A6-4568-ADA8-45EBFE12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F2B93-98B4-470D-853B-EDD30096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43BE7-F26B-49FC-A0BF-3F71CBCF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201C-8B5F-49E2-BC94-D75FAC9B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3A94A-548A-4D3F-B3DC-1E44C86B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7103C-3E49-4066-A7D5-6684A5B6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068FF-DF74-40D8-843D-38ADC833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D5987-92E7-4B8B-835B-B02F6A47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8DE39-2ACF-4BFC-A377-42A0D0D9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1D0AF-6C94-4638-A3E9-256CC2EE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7A643-35D3-4BE6-B449-0BDB380E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AF234-F1D5-441F-87EF-10C244A0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A40A9-8E7C-45A7-AEB7-FAB129BE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64976-02D7-4CE5-82E8-2EA27251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70BC-3A37-4FEC-9795-CC706363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E22ED-BFF1-4C94-98F8-D81083B3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F1E93-4E15-4D30-A23A-68ECB6AA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B370D-D330-4D84-BD5A-BD3CCA5E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50C98-5FB3-46CD-BC81-5C73F8B9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A9714-7C03-4EA7-9C56-5451D129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4594B-3D25-4F1F-9302-2A891709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B1958-71AD-40C6-909E-E7B44213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062E1-1886-4171-84F1-98B5C9AB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0E46F-C315-468F-AF20-1FF567C9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9BB6C-352C-4928-9B0B-50838230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E7B2-BA63-4D38-8BA1-41E3EDB225D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D5E7-2556-43D0-B2D2-CDFD2C14FAE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E218-A6E6-4572-84CA-0DB62C39B2F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7066-AA24-4F7F-AD1F-FA566B82815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9CC9-24C6-4287-80B4-C1FEF850E5A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FAF9-88DC-4224-9730-EE946F24703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E631-A3F4-4ABC-8434-95F61DD51C7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1F99-EDA7-4088-9843-9F7B87951D0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67D2-D217-4CF9-B3D1-67B4730BB18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3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7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4" descr=""/>
          <p:cNvPicPr/>
          <p:nvPr/>
        </p:nvPicPr>
        <p:blipFill>
          <a:blip r:embed="rId1"/>
          <a:stretch/>
        </p:blipFill>
        <p:spPr>
          <a:xfrm>
            <a:off x="480960" y="1957320"/>
            <a:ext cx="8974080" cy="18828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3329"/>
                </a:solidFill>
                <a:latin typeface="Calibri"/>
              </a:rPr>
              <a:t>Сельское хозяйство в экономически развитых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3329"/>
                </a:solidFill>
                <a:latin typeface="Calibri"/>
              </a:rPr>
              <a:t>и развивающихся странах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3329"/>
                </a:solidFill>
                <a:latin typeface="Calibri"/>
              </a:rPr>
              <a:t>Понятие об агропромышленном комплексе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3329"/>
                </a:solidFill>
                <a:latin typeface="Calibri"/>
              </a:rPr>
              <a:t>и «зеленой революции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6" descr="j0149887"/>
          <p:cNvPicPr/>
          <p:nvPr/>
        </p:nvPicPr>
        <p:blipFill>
          <a:blip r:embed="rId2"/>
          <a:stretch/>
        </p:blipFill>
        <p:spPr>
          <a:xfrm>
            <a:off x="324000" y="5516640"/>
            <a:ext cx="1268280" cy="1015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j0149627"/>
          <p:cNvPicPr/>
          <p:nvPr/>
        </p:nvPicPr>
        <p:blipFill>
          <a:blip r:embed="rId3"/>
          <a:stretch/>
        </p:blipFill>
        <p:spPr>
          <a:xfrm>
            <a:off x="7020000" y="333360"/>
            <a:ext cx="1944720" cy="1381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j0212661"/>
          <p:cNvPicPr/>
          <p:nvPr/>
        </p:nvPicPr>
        <p:blipFill>
          <a:blip r:embed="rId4"/>
          <a:stretch/>
        </p:blipFill>
        <p:spPr>
          <a:xfrm>
            <a:off x="7020000" y="4869000"/>
            <a:ext cx="1782720" cy="18111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j0233312"/>
          <p:cNvPicPr/>
          <p:nvPr/>
        </p:nvPicPr>
        <p:blipFill>
          <a:blip r:embed="rId5"/>
          <a:stretch/>
        </p:blipFill>
        <p:spPr>
          <a:xfrm>
            <a:off x="250920" y="260280"/>
            <a:ext cx="1473120" cy="15001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0" descr="j0297185"/>
          <p:cNvPicPr/>
          <p:nvPr/>
        </p:nvPicPr>
        <p:blipFill>
          <a:blip r:embed="rId6"/>
          <a:stretch/>
        </p:blipFill>
        <p:spPr>
          <a:xfrm>
            <a:off x="3635280" y="5157720"/>
            <a:ext cx="180972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Franklin Gothic Medium"/>
              </a:rPr>
              <a:t>ПОНЯТИЕ О «ЗЕЛЁНОЙ РЕВОЛЮЦИИ»</a:t>
            </a:r>
            <a:br>
              <a:rPr sz="3600"/>
            </a:b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0" y="981000"/>
            <a:ext cx="91440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 60—70-х гг.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XX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. в международный лекси­кон вошло новое понятие — </a:t>
            </a:r>
            <a:r>
              <a:rPr b="0" lang="ru-RU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«зеленая революция»,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относящееся в первую очередь к развивающимся страна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то комплексное, многокомпонентное понятие, которое в самом общем плане можно трактовать как                                           использование достижений генетики, селекции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Rectangle 4"/>
          <p:cNvSpPr/>
          <p:nvPr/>
        </p:nvSpPr>
        <p:spPr>
          <a:xfrm>
            <a:off x="1357200" y="2928960"/>
            <a:ext cx="6215040" cy="1084320"/>
          </a:xfrm>
          <a:prstGeom prst="rect">
            <a:avLst/>
          </a:prstGeom>
          <a:solidFill>
            <a:srgbClr val="00b050"/>
          </a:solidFill>
          <a:ln w="936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еленая революц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азвивающихся странах включает в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ри главных компон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500040" y="4173480"/>
            <a:ext cx="7920000" cy="8114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едение новых сортов сельскохозяйственных культу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500040" y="5038560"/>
            <a:ext cx="7920000" cy="81144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ой компонент «зеленой революции» -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рригац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500040" y="5857920"/>
            <a:ext cx="7897680" cy="81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етий компонент «зеленой революции» 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ственно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ндустриализация сельского хозяй­ств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255600" y="133200"/>
            <a:ext cx="8894880" cy="11527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2" action="ppaction://hlinksldjump"/>
              </a:rPr>
              <a:t>Сельское хозяйство – вторая ведущая отрасль материального производств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3" action="ppaction://hlinksldjump"/>
              </a:rPr>
              <a:t>Понятие о «зелёной революции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начение и состав отрасл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нятость населе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ипы сельского хозяйств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ельское хозяйство в развитых страна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ельское хозяйство в развивающихся страна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9" name="Прямоугольник 7" descr=""/>
          <p:cNvPicPr/>
          <p:nvPr/>
        </p:nvPicPr>
        <p:blipFill>
          <a:blip r:embed="rId1"/>
          <a:stretch/>
        </p:blipFill>
        <p:spPr>
          <a:xfrm>
            <a:off x="-12600" y="-92160"/>
            <a:ext cx="916920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255600" y="-128520"/>
            <a:ext cx="8894880" cy="11397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0" y="134136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ельское хозяйство – самая древняя и наиболее зависимая от природных условий отрасль экономик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ельское хозяйство – это образ эжизни большей части населения Мир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 уровню развития АПК и занятости в нём населения можно судить об уровне развития страны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днако по темпам роста мировое сельское хозяйство уступает большинству других крупных отраслей, причем именно в последнее время эти темпы еще более замедлились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AutoShape 4"/>
          <p:cNvSpPr/>
          <p:nvPr/>
        </p:nvSpPr>
        <p:spPr>
          <a:xfrm>
            <a:off x="7956720" y="6237360"/>
            <a:ext cx="792000" cy="431640"/>
          </a:xfrm>
          <a:prstGeom prst="rightArrow">
            <a:avLst>
              <a:gd name="adj1" fmla="val 50000"/>
              <a:gd name="adj2" fmla="val 45872"/>
            </a:avLst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420840" y="-165240"/>
            <a:ext cx="8242200" cy="1463760"/>
          </a:xfrm>
          <a:prstGeom prst="rect">
            <a:avLst/>
          </a:prstGeom>
          <a:ln w="0">
            <a:noFill/>
          </a:ln>
        </p:spPr>
      </p:pic>
      <p:grpSp>
        <p:nvGrpSpPr>
          <p:cNvPr id="414" name="Oval 3"/>
          <p:cNvGrpSpPr/>
          <p:nvPr/>
        </p:nvGrpSpPr>
        <p:grpSpPr>
          <a:xfrm>
            <a:off x="2755800" y="963720"/>
            <a:ext cx="3267000" cy="1614240"/>
            <a:chOff x="2755800" y="963720"/>
            <a:chExt cx="3267000" cy="1614240"/>
          </a:xfrm>
        </p:grpSpPr>
        <p:pic>
          <p:nvPicPr>
            <p:cNvPr id="415" name="Oval 3" descr=""/>
            <p:cNvPicPr/>
            <p:nvPr/>
          </p:nvPicPr>
          <p:blipFill>
            <a:blip r:embed="rId2"/>
            <a:stretch/>
          </p:blipFill>
          <p:spPr>
            <a:xfrm>
              <a:off x="2755800" y="963720"/>
              <a:ext cx="3267000" cy="16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Text Box 4"/>
            <p:cNvSpPr/>
            <p:nvPr/>
          </p:nvSpPr>
          <p:spPr>
            <a:xfrm>
              <a:off x="3246480" y="1212840"/>
              <a:ext cx="229068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alibri"/>
                </a:rPr>
                <a:t>Сельское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alibri"/>
                </a:rPr>
                <a:t>хозяйств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Oval 4"/>
          <p:cNvSpPr/>
          <p:nvPr/>
        </p:nvSpPr>
        <p:spPr>
          <a:xfrm>
            <a:off x="1857240" y="2492280"/>
            <a:ext cx="2427480" cy="936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Животновод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5"/>
          <p:cNvSpPr/>
          <p:nvPr/>
        </p:nvSpPr>
        <p:spPr>
          <a:xfrm>
            <a:off x="4356000" y="2492280"/>
            <a:ext cx="2376720" cy="865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тениевод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6"/>
          <p:cNvSpPr/>
          <p:nvPr/>
        </p:nvSpPr>
        <p:spPr>
          <a:xfrm>
            <a:off x="3203640" y="3429000"/>
            <a:ext cx="230508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 звено АП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7"/>
          <p:cNvSpPr/>
          <p:nvPr/>
        </p:nvSpPr>
        <p:spPr>
          <a:xfrm>
            <a:off x="0" y="3789360"/>
            <a:ext cx="3995640" cy="230364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изводство маши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орудов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добре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Ядохимика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мбикор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8"/>
          <p:cNvSpPr/>
          <p:nvPr/>
        </p:nvSpPr>
        <p:spPr>
          <a:xfrm>
            <a:off x="4859280" y="3789360"/>
            <a:ext cx="4032360" cy="237636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готов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ереработ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реализация прод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ёгкая и пищев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омышлен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ществен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9"/>
          <p:cNvSpPr/>
          <p:nvPr/>
        </p:nvSpPr>
        <p:spPr>
          <a:xfrm>
            <a:off x="900000" y="6237360"/>
            <a:ext cx="280836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 звено А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0"/>
          <p:cNvSpPr/>
          <p:nvPr/>
        </p:nvSpPr>
        <p:spPr>
          <a:xfrm>
            <a:off x="5364000" y="6237360"/>
            <a:ext cx="309564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 звено А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Line 11"/>
          <p:cNvGrpSpPr/>
          <p:nvPr/>
        </p:nvGrpSpPr>
        <p:grpSpPr>
          <a:xfrm>
            <a:off x="817560" y="1596960"/>
            <a:ext cx="2097000" cy="2432160"/>
            <a:chOff x="817560" y="1596960"/>
            <a:chExt cx="2097000" cy="2432160"/>
          </a:xfrm>
        </p:grpSpPr>
        <p:pic>
          <p:nvPicPr>
            <p:cNvPr id="425" name="Line 11" descr=""/>
            <p:cNvPicPr/>
            <p:nvPr/>
          </p:nvPicPr>
          <p:blipFill>
            <a:blip r:embed="rId3"/>
            <a:stretch/>
          </p:blipFill>
          <p:spPr>
            <a:xfrm>
              <a:off x="817560" y="1596960"/>
              <a:ext cx="2097000" cy="24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 rot="10800000">
              <a:off x="856800" y="4000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Line 12"/>
          <p:cNvGrpSpPr/>
          <p:nvPr/>
        </p:nvGrpSpPr>
        <p:grpSpPr>
          <a:xfrm>
            <a:off x="3975120" y="4419720"/>
            <a:ext cx="1066680" cy="371520"/>
            <a:chOff x="3975120" y="4419720"/>
            <a:chExt cx="1066680" cy="371520"/>
          </a:xfrm>
        </p:grpSpPr>
        <p:pic>
          <p:nvPicPr>
            <p:cNvPr id="428" name="Line 12" descr=""/>
            <p:cNvPicPr/>
            <p:nvPr/>
          </p:nvPicPr>
          <p:blipFill>
            <a:blip r:embed="rId4"/>
            <a:stretch/>
          </p:blipFill>
          <p:spPr>
            <a:xfrm>
              <a:off x="3975120" y="4419720"/>
              <a:ext cx="10666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3995640" y="4608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Line 13"/>
          <p:cNvGrpSpPr/>
          <p:nvPr/>
        </p:nvGrpSpPr>
        <p:grpSpPr>
          <a:xfrm>
            <a:off x="3657600" y="4780080"/>
            <a:ext cx="1212840" cy="371520"/>
            <a:chOff x="3657600" y="4780080"/>
            <a:chExt cx="1212840" cy="371520"/>
          </a:xfrm>
        </p:grpSpPr>
        <p:pic>
          <p:nvPicPr>
            <p:cNvPr id="431" name="Line 13" descr=""/>
            <p:cNvPicPr/>
            <p:nvPr/>
          </p:nvPicPr>
          <p:blipFill>
            <a:blip r:embed="rId5"/>
            <a:stretch/>
          </p:blipFill>
          <p:spPr>
            <a:xfrm>
              <a:off x="3657600" y="4780080"/>
              <a:ext cx="121284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4859280" y="4968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Line 14"/>
          <p:cNvGrpSpPr/>
          <p:nvPr/>
        </p:nvGrpSpPr>
        <p:grpSpPr>
          <a:xfrm>
            <a:off x="5973840" y="1951200"/>
            <a:ext cx="2457360" cy="2309760"/>
            <a:chOff x="5973840" y="1951200"/>
            <a:chExt cx="2457360" cy="2309760"/>
          </a:xfrm>
        </p:grpSpPr>
        <p:pic>
          <p:nvPicPr>
            <p:cNvPr id="434" name="Line 14" descr=""/>
            <p:cNvPicPr/>
            <p:nvPr/>
          </p:nvPicPr>
          <p:blipFill>
            <a:blip r:embed="rId6"/>
            <a:stretch/>
          </p:blipFill>
          <p:spPr>
            <a:xfrm>
              <a:off x="5973840" y="1951200"/>
              <a:ext cx="2457360" cy="23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6012000" y="1989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Picture 17" descr="j0149627"/>
          <p:cNvPicPr/>
          <p:nvPr/>
        </p:nvPicPr>
        <p:blipFill>
          <a:blip r:embed="rId7">
            <a:lum contrast="20000"/>
          </a:blip>
          <a:stretch/>
        </p:blipFill>
        <p:spPr>
          <a:xfrm>
            <a:off x="214200" y="928800"/>
            <a:ext cx="1484280" cy="105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7" name="Picture 18" descr="j0233312"/>
          <p:cNvPicPr/>
          <p:nvPr/>
        </p:nvPicPr>
        <p:blipFill>
          <a:blip r:embed="rId8"/>
          <a:stretch/>
        </p:blipFill>
        <p:spPr>
          <a:xfrm>
            <a:off x="7143840" y="785880"/>
            <a:ext cx="1641240" cy="1571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8" name="AutoShape 19"/>
          <p:cNvSpPr/>
          <p:nvPr/>
        </p:nvSpPr>
        <p:spPr>
          <a:xfrm>
            <a:off x="8675640" y="6308640"/>
            <a:ext cx="468360" cy="360360"/>
          </a:xfrm>
          <a:prstGeom prst="leftArrow">
            <a:avLst>
              <a:gd name="adj1" fmla="val 50000"/>
              <a:gd name="adj2" fmla="val 32493"/>
            </a:avLst>
          </a:prstGeom>
          <a:gradFill rotWithShape="0">
            <a:gsLst>
              <a:gs pos="0">
                <a:srgbClr val="f2d9d4"/>
              </a:gs>
              <a:gs pos="100000">
                <a:srgbClr val="d47962"/>
              </a:gs>
            </a:gsLst>
            <a:lin ang="5400000"/>
          </a:gradFill>
          <a:ln w="10080">
            <a:solidFill>
              <a:srgbClr val="a5644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255600" y="-133200"/>
            <a:ext cx="8437680" cy="11397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0" y="1356840"/>
            <a:ext cx="91440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alibri"/>
              </a:rPr>
              <a:t>По общей численности занятых (1,3 млрд)  с этой отраслью не может соперничать ни одна другая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alibri"/>
              </a:rPr>
              <a:t>Экономически развитые страны – 22 млн. чел.(США – 3 млн.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alibri"/>
              </a:rPr>
              <a:t>Бывший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ССР</a:t>
            </a:r>
            <a:r>
              <a:rPr b="0" lang="ru-RU" sz="3200" spc="-1" strike="noStrike">
                <a:solidFill>
                  <a:srgbClr val="4e3b30"/>
                </a:solidFill>
                <a:latin typeface="Calibri"/>
              </a:rPr>
              <a:t> – 20 млн. че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alibri"/>
              </a:rPr>
              <a:t>Восточная Европа – 12 млн. че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alibri"/>
              </a:rPr>
              <a:t>Развивающиеся страны - </a:t>
            </a: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&gt;</a:t>
            </a:r>
            <a:r>
              <a:rPr b="0" lang="ru-RU" sz="3200" spc="-1" strike="noStrike">
                <a:solidFill>
                  <a:srgbClr val="4e3b30"/>
                </a:solidFill>
                <a:latin typeface="Calibri"/>
              </a:rPr>
              <a:t> 1 млрд. че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1" name="Rectangle 4" descr=""/>
          <p:cNvPicPr/>
          <p:nvPr/>
        </p:nvPicPr>
        <p:blipFill>
          <a:blip r:embed="rId2"/>
          <a:stretch/>
        </p:blipFill>
        <p:spPr>
          <a:xfrm>
            <a:off x="-146160" y="5462640"/>
            <a:ext cx="94298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463680" y="146160"/>
            <a:ext cx="8242200" cy="1274760"/>
          </a:xfrm>
          <a:prstGeom prst="rect">
            <a:avLst/>
          </a:prstGeom>
          <a:ln w="0">
            <a:noFill/>
          </a:ln>
        </p:spPr>
      </p:pic>
      <p:sp>
        <p:nvSpPr>
          <p:cNvPr id="443" name="AutoShape 4"/>
          <p:cNvSpPr/>
          <p:nvPr/>
        </p:nvSpPr>
        <p:spPr>
          <a:xfrm>
            <a:off x="177840" y="1643040"/>
            <a:ext cx="42148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овар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5"/>
          <p:cNvSpPr/>
          <p:nvPr/>
        </p:nvSpPr>
        <p:spPr>
          <a:xfrm>
            <a:off x="4714920" y="1643040"/>
            <a:ext cx="42148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требительск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Line 8"/>
          <p:cNvGrpSpPr/>
          <p:nvPr/>
        </p:nvGrpSpPr>
        <p:grpSpPr>
          <a:xfrm>
            <a:off x="2073240" y="944640"/>
            <a:ext cx="2486160" cy="939600"/>
            <a:chOff x="2073240" y="944640"/>
            <a:chExt cx="2486160" cy="939600"/>
          </a:xfrm>
        </p:grpSpPr>
        <p:pic>
          <p:nvPicPr>
            <p:cNvPr id="446" name="Line 8" descr=""/>
            <p:cNvPicPr/>
            <p:nvPr/>
          </p:nvPicPr>
          <p:blipFill>
            <a:blip r:embed="rId2"/>
            <a:stretch/>
          </p:blipFill>
          <p:spPr>
            <a:xfrm>
              <a:off x="2073240" y="944640"/>
              <a:ext cx="248616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4535640" y="10000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Line 9"/>
          <p:cNvGrpSpPr/>
          <p:nvPr/>
        </p:nvGrpSpPr>
        <p:grpSpPr>
          <a:xfrm>
            <a:off x="5005440" y="944640"/>
            <a:ext cx="2346120" cy="871560"/>
            <a:chOff x="5005440" y="944640"/>
            <a:chExt cx="2346120" cy="871560"/>
          </a:xfrm>
        </p:grpSpPr>
        <p:pic>
          <p:nvPicPr>
            <p:cNvPr id="449" name="Line 9" descr=""/>
            <p:cNvPicPr/>
            <p:nvPr/>
          </p:nvPicPr>
          <p:blipFill>
            <a:blip r:embed="rId3"/>
            <a:stretch/>
          </p:blipFill>
          <p:spPr>
            <a:xfrm>
              <a:off x="5005440" y="944640"/>
              <a:ext cx="23461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5035680" y="10000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AutoShape 10"/>
          <p:cNvSpPr/>
          <p:nvPr/>
        </p:nvSpPr>
        <p:spPr>
          <a:xfrm>
            <a:off x="214200" y="2643120"/>
            <a:ext cx="421344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1)интенсивное животновод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 заготовкой корм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2) интенсивное земледел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 плодосменным севооборо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3) экстенсивное земледел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арового и залежного тип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4) садоводство, огородн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5) Пастбищное животновод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(ранч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1"/>
          <p:cNvSpPr/>
          <p:nvPr/>
        </p:nvSpPr>
        <p:spPr>
          <a:xfrm>
            <a:off x="4643280" y="2643120"/>
            <a:ext cx="435780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1)  собирательство, охо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рыболов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2) кочевое и полукочев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котовод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3)  пастбищное животновод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4)  мотыжное земледел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одсечное; неорошаемо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рошаем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5)  плужное  земледелие, мотыж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земледелие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285840" y="-92160"/>
            <a:ext cx="9150120" cy="11527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0" y="1197000"/>
            <a:ext cx="84297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Для сельского хозяйства </a:t>
            </a:r>
            <a:r>
              <a:rPr b="1" lang="ru-RU" sz="2000" spc="-1" strike="noStrike" u="sng">
                <a:solidFill>
                  <a:srgbClr val="4e3b30"/>
                </a:solidFill>
                <a:uFillTx/>
                <a:latin typeface="Franklin Gothic Book"/>
              </a:rPr>
              <a:t>экономически развитых стран Запада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характерны капиталистические производственные отношения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ctr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сновной производственной единицей в них давно уже стала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семейная ферм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редний размер ее зависит от местных исторических, социаль­ных, природных условий и специализации:                                                                    в</a:t>
            </a:r>
            <a:r>
              <a:rPr b="1" lang="ru-RU" sz="2000" spc="-1" strike="noStrike">
                <a:solidFill>
                  <a:srgbClr val="ff0066"/>
                </a:solidFill>
                <a:latin typeface="Franklin Gothic Book"/>
              </a:rPr>
              <a:t>Австралии</a:t>
            </a:r>
            <a:r>
              <a:rPr b="0" lang="ru-RU" sz="2000" spc="-1" strike="noStrike">
                <a:solidFill>
                  <a:srgbClr val="00ffff"/>
                </a:solidFill>
                <a:latin typeface="Franklin Gothic Book"/>
              </a:rPr>
              <a:t>,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например, он достигает 1,8 тыс. га,                                                  в </a:t>
            </a:r>
            <a:r>
              <a:rPr b="1" lang="ru-RU" sz="2000" spc="-1" strike="noStrike">
                <a:solidFill>
                  <a:srgbClr val="ff0066"/>
                </a:solidFill>
                <a:latin typeface="Franklin Gothic Book"/>
              </a:rPr>
              <a:t>США и Канаде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— около 200 га, тогда как                                                     в </a:t>
            </a:r>
            <a:r>
              <a:rPr b="1" lang="ru-RU" sz="2000" spc="-1" strike="noStrike">
                <a:solidFill>
                  <a:srgbClr val="ff0066"/>
                </a:solidFill>
                <a:latin typeface="Franklin Gothic Book"/>
              </a:rPr>
              <a:t>Западной Европе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он составляет 17 га,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r>
              <a:rPr b="0" lang="ru-RU" sz="2000" spc="-1" strike="noStrike">
                <a:solidFill>
                  <a:srgbClr val="ff0066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Franklin Gothic Book"/>
              </a:rPr>
              <a:t>Японии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— 2 га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0" y="692280"/>
            <a:ext cx="2664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нято 2-3% Э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AutoShape 7" descr=""/>
          <p:cNvPicPr/>
          <p:nvPr/>
        </p:nvPicPr>
        <p:blipFill>
          <a:blip r:embed="rId2"/>
          <a:stretch/>
        </p:blipFill>
        <p:spPr>
          <a:xfrm>
            <a:off x="-96840" y="3816360"/>
            <a:ext cx="93330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9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-146160" y="109440"/>
            <a:ext cx="9363240" cy="103680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4"/>
          <p:cNvSpPr/>
          <p:nvPr/>
        </p:nvSpPr>
        <p:spPr>
          <a:xfrm>
            <a:off x="428760" y="1197000"/>
            <a:ext cx="3429000" cy="5763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овар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4143240" y="1214280"/>
            <a:ext cx="428760" cy="446400"/>
          </a:xfrm>
          <a:prstGeom prst="plus">
            <a:avLst>
              <a:gd name="adj" fmla="val 39671"/>
            </a:avLst>
          </a:prstGeom>
          <a:solidFill>
            <a:srgbClr val="c87d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4821120" y="1197000"/>
            <a:ext cx="4108680" cy="576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требитель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468360" y="2133720"/>
            <a:ext cx="3456000" cy="4362840"/>
          </a:xfrm>
          <a:prstGeom prst="rect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редставлен этот сектор прежде всего крупными, хорошо организован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плантациями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которые  занимают лучшие зем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широко использу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емную рабочую сил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машины, удобр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искусственное орошение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Text Box 9"/>
          <p:cNvGrpSpPr/>
          <p:nvPr/>
        </p:nvGrpSpPr>
        <p:grpSpPr>
          <a:xfrm>
            <a:off x="4632480" y="2060640"/>
            <a:ext cx="4511520" cy="3663720"/>
            <a:chOff x="4632480" y="2060640"/>
            <a:chExt cx="4511520" cy="3663720"/>
          </a:xfrm>
        </p:grpSpPr>
        <p:pic>
          <p:nvPicPr>
            <p:cNvPr id="463" name="Text Box 9" descr=""/>
            <p:cNvPicPr/>
            <p:nvPr/>
          </p:nvPicPr>
          <p:blipFill>
            <a:blip r:embed="rId2"/>
            <a:stretch/>
          </p:blipFill>
          <p:spPr>
            <a:xfrm>
              <a:off x="4632480" y="2060640"/>
              <a:ext cx="4511520" cy="36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 Box 8"/>
            <p:cNvSpPr/>
            <p:nvPr/>
          </p:nvSpPr>
          <p:spPr>
            <a:xfrm>
              <a:off x="4788000" y="2133720"/>
              <a:ext cx="421308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Franklin Gothic Book"/>
                </a:rPr>
                <a:t>Преобладает потребительско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Franklin Gothic Book"/>
                </a:rPr>
                <a:t>малотоварное С/Х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Franklin Gothic Book"/>
                </a:rPr>
                <a:t>преимущественно растениеводство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Franklin Gothic Book"/>
                </a:rPr>
                <a:t>Представлено сотнями млн.мелких хозяйств, которые выращиваю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Franklin Gothic Book"/>
                </a:rPr>
                <a:t>зерновые, зернобобовые, клубнеплодные (батат, маниок, ямс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Franklin Gothic Book"/>
                </a:rPr>
                <a:t>Подсечно-огневое земледели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Rectangle 10"/>
          <p:cNvSpPr/>
          <p:nvPr/>
        </p:nvSpPr>
        <p:spPr>
          <a:xfrm>
            <a:off x="468360" y="5805360"/>
            <a:ext cx="3460680" cy="71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езульт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рожайность  40-50 ц/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2"/>
          <p:cNvSpPr/>
          <p:nvPr/>
        </p:nvSpPr>
        <p:spPr>
          <a:xfrm>
            <a:off x="4859280" y="5805360"/>
            <a:ext cx="4070520" cy="719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езульт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рожайность  15-20 ц/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9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9:46:03Z</dcterms:created>
  <dc:creator>Елена</dc:creator>
  <dc:description/>
  <dc:language>en-US</dc:language>
  <cp:lastModifiedBy>HP</cp:lastModifiedBy>
  <dcterms:modified xsi:type="dcterms:W3CDTF">2010-03-08T14:57:03Z</dcterms:modified>
  <cp:revision>10</cp:revision>
  <dc:subject/>
  <dc:title>География сельского хозяйства и рыболовств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