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8711-1DAC-4BFE-8AF5-C7DB6D6C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38FB-885F-41FC-A436-A20B0704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F967E-0A75-4D71-AF33-5BAB0451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FB093-4294-4F6B-9BBF-A6112DFC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BE532-0AA3-4DBC-ACF4-C32A5CF6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C4086-80BC-4994-B321-0C608EB8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53865-0C21-41E2-95D4-DB0E7C95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444D3-19C6-45E2-9A21-2BB71B65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9545B-5334-4637-AEF7-B0BB3EA4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C17EC-72DA-4A43-A19A-F4094B91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15170-25D4-46D7-8D01-36957183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997F-FE66-4B9D-8EB5-90B31422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433C-A675-4EFC-A777-49D45B23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BB17-442F-44D2-9A09-E2150376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7074-5AE9-48BD-8CDE-2C68FE53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6B60-0B0D-4B6C-865E-CE73F603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C614-FFAD-45EE-8281-1F217A4F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C97B-7798-41B0-BEBB-F446104D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A31F-A5F2-4E0A-8948-5EFE5241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17BC-1F24-4C91-9CB6-3CD3DCAF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3EB6-EAF7-4481-B854-C0D02091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9B09-B0ED-4B56-9F4A-C30508DF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023B-64B7-4301-BD4E-013928AE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715B-7DEB-43EE-AE71-6F34F206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C07F-344C-4A8E-A75F-369553C2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864A-BBF9-407D-A81E-A3F8054D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884BB-5019-4D0B-9D64-31847E52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F935B-F5AB-44BE-ABF5-419A13A9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5DF2F-D8E4-414C-AE64-B580D3D3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9A688-2FCC-4F23-A151-1F17B490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B69FF-1224-4EC5-8639-ADB78293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553D-6A4B-48DF-960B-B1B9D01F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72DD7-EA8C-4C11-BD70-1E78A25C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DAC78-00F8-45E9-8C45-78C25A07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4BD88-CE3D-49CC-8B25-8AEBDE57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9D0A2-FA60-402A-9BD7-36B9C39D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5596B-259C-4726-8255-A231608D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61D03-A8CD-46C8-AE99-AC630EF7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90C6E-0294-4A4D-B1D6-3FA14E42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CCDAF-DE22-423C-9F20-78D2F9E9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A3738-3A4F-4154-8768-5A8CD26F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F779F-6549-4911-95FD-6C2004BA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AE73-4681-42C1-9BAB-C0D32CE0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F41A2-5299-4535-ADE1-B886E6EC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5066D-C5F0-4412-BF3D-3B655E44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54E4F-213D-47DB-A15C-6B37D713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6DC19-DA95-45A4-B3E6-7F620E5A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71921-F29C-4B43-AC8D-606EE3F2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73A81-9D0F-487F-BCCC-75345F6A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B0972-C7F6-46B0-82E5-015719A3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F94CA-F7F5-481E-AD77-31062C68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273A8-9E44-46FA-BE95-7D61DA2E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807EF-6BDA-440B-A2F2-E0FABB8A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28A1-8B50-47F2-A73F-EA53F789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29A86-7940-4B28-B414-781DD80B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030EF-1F3B-4915-A72C-56D67FDD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2A966-79BD-447A-8F39-4C2555BC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66A59-0F37-430E-B7A2-4485565C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E5CBE-C167-438F-9670-4FA55485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1BC1B-D8CE-48B2-B9BC-B33931F9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87C85-2B91-4622-810D-C0ECC5A2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05F02-39E7-4D79-8E0D-828B22B1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97F8F-9C5E-4DA8-B114-64DC1BD3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722A2-D133-4D80-8D3D-F60B9E5F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677C-89D0-470B-9EF0-BC104AD1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BE496-11B7-4AC2-922A-DDE7952C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8CA3F-AC25-461F-8046-6E6EFA13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E87E9-9356-4193-AB3A-62CAB512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7B965-9343-4471-ADAE-532EBCF1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878F1-127E-48BF-B86F-042B73D3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E9755-3862-41AF-97E9-605689A0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386A1-D505-4654-850A-47BC6BBE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422FB-1E93-4337-8EEB-1DD5C2F5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7A3A2-7EFB-42CD-9552-60506282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ACBD3-045A-41FB-8500-BEE2FC19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55E3-09A4-47A7-9659-A93881FB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0605C-9DF4-474F-85D7-68315E7D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7B9FE-2CFC-4815-BE7A-D88A6895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4163D-C2D2-4D7B-AFD4-E6C2422C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4EC90-481A-4EA3-8842-9443E8FA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ED065-2812-4266-AD81-DD86514B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2364D-C045-47C4-A5E2-A910519C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045A0-9E5C-422D-B18C-90B5BAE0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FFF8C-9B8A-4999-8816-AD1B2EEE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FD007-DAA5-4937-8018-0A9A1ADC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2D43C-EE7C-4F13-8150-1B6B03D0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7C45-C9AB-49B7-9A76-8664DBEE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3407A-2AD7-460D-906C-4756D9DD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2B890-9EE5-4F62-96E2-02832AE9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3F52D-07B9-4C63-9A40-F0AF3769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78C51-D170-4CD3-9DCB-3A0EA389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5B115-05B8-4542-BEA7-9EFECC2C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3B0C0-C609-4BF1-8B6A-03B5AE14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E3E33-50E9-4725-A26C-27C576DA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BCAC3-F4BB-4362-A3D7-DE8F6CF3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B4A75-3290-4A7F-9F7B-8C9BA329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CEF4E-F794-41BB-9D16-70EED9C5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21C9-43FE-4E3F-A043-337BAFF9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047FA-14A4-4ADF-B2E0-0B136644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EB90D-2882-452A-B0AA-FED55278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FF424-2F62-4C6F-A09B-372BAB2E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434B1-509E-427E-8012-4EF81EAD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91EF1-05B4-4FE2-9A98-DF4A416D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5099A-1E8A-4C1E-A56B-FABFCF74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E952D-9D52-4089-B59C-0AF11EEC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B9013-76E9-45DF-B63C-E42BE9C2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087D5-5C42-433D-9785-BB067741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E0169-53CD-469D-B888-980C27DE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029F-DFA9-41D5-AD94-C16C504F566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D915-477E-490E-95E0-F2800DE96D3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7697-F8AD-4875-98CA-395018EF6A0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32EB-38CE-4919-B7DC-BBDA6521B89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F4FA-47F9-4866-96C0-89EF0E0A624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D019-67B6-443A-9163-A4B39AB23DE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9E37-6677-4AEF-B68A-460BB6129C7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019D-4689-4DBC-A96F-3E212382482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8013-C93D-4BBA-BE03-0009E17B30A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3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7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4" descr=""/>
          <p:cNvPicPr/>
          <p:nvPr/>
        </p:nvPicPr>
        <p:blipFill>
          <a:blip r:embed="rId1"/>
          <a:stretch/>
        </p:blipFill>
        <p:spPr>
          <a:xfrm>
            <a:off x="480960" y="1957320"/>
            <a:ext cx="8974080" cy="18828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3329"/>
                </a:solidFill>
                <a:latin typeface="Calibri"/>
              </a:rPr>
              <a:t>Сельское хозяйство в экономически развитых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3329"/>
                </a:solidFill>
                <a:latin typeface="Calibri"/>
              </a:rPr>
              <a:t>и развивающихся странах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3329"/>
                </a:solidFill>
                <a:latin typeface="Calibri"/>
              </a:rPr>
              <a:t>Понятие об агропромышленном комплексе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3329"/>
                </a:solidFill>
                <a:latin typeface="Calibri"/>
              </a:rPr>
              <a:t>и «зеленой революции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6" descr="j0149887"/>
          <p:cNvPicPr/>
          <p:nvPr/>
        </p:nvPicPr>
        <p:blipFill>
          <a:blip r:embed="rId2"/>
          <a:stretch/>
        </p:blipFill>
        <p:spPr>
          <a:xfrm>
            <a:off x="324000" y="5516640"/>
            <a:ext cx="1268280" cy="10159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j0149627"/>
          <p:cNvPicPr/>
          <p:nvPr/>
        </p:nvPicPr>
        <p:blipFill>
          <a:blip r:embed="rId3"/>
          <a:stretch/>
        </p:blipFill>
        <p:spPr>
          <a:xfrm>
            <a:off x="7020000" y="333360"/>
            <a:ext cx="1944720" cy="1381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j0212661"/>
          <p:cNvPicPr/>
          <p:nvPr/>
        </p:nvPicPr>
        <p:blipFill>
          <a:blip r:embed="rId4"/>
          <a:stretch/>
        </p:blipFill>
        <p:spPr>
          <a:xfrm>
            <a:off x="7020000" y="4869000"/>
            <a:ext cx="1782720" cy="18111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j0233312"/>
          <p:cNvPicPr/>
          <p:nvPr/>
        </p:nvPicPr>
        <p:blipFill>
          <a:blip r:embed="rId5"/>
          <a:stretch/>
        </p:blipFill>
        <p:spPr>
          <a:xfrm>
            <a:off x="250920" y="260280"/>
            <a:ext cx="1473120" cy="15001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0" descr="j0297185"/>
          <p:cNvPicPr/>
          <p:nvPr/>
        </p:nvPicPr>
        <p:blipFill>
          <a:blip r:embed="rId6"/>
          <a:stretch/>
        </p:blipFill>
        <p:spPr>
          <a:xfrm>
            <a:off x="3635280" y="5157720"/>
            <a:ext cx="180972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Franklin Gothic Medium"/>
              </a:rPr>
              <a:t>ПОНЯТИЕ О «ЗЕЛЁНОЙ РЕВОЛЮЦИИ»</a:t>
            </a:r>
            <a:br>
              <a:rPr sz="3600"/>
            </a:b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0" y="981000"/>
            <a:ext cx="91440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 60—70-х гг.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XX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. в международный лекси­кон вошло новое понятие — </a:t>
            </a:r>
            <a:r>
              <a:rPr b="0" lang="ru-RU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«зеленая революция»,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относящееся в первую очередь к развивающимся странам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Это комплексное, многокомпонентное понятие, которое в самом общем плане можно трактовать как                                           использование достижений генетики, селекции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Rectangle 4"/>
          <p:cNvSpPr/>
          <p:nvPr/>
        </p:nvSpPr>
        <p:spPr>
          <a:xfrm>
            <a:off x="1357200" y="2928960"/>
            <a:ext cx="6215040" cy="1084320"/>
          </a:xfrm>
          <a:prstGeom prst="rect">
            <a:avLst/>
          </a:prstGeom>
          <a:solidFill>
            <a:srgbClr val="00b050"/>
          </a:solidFill>
          <a:ln w="936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еленая революц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развивающихся странах включает в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ри главных компон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500040" y="4173480"/>
            <a:ext cx="7920000" cy="8114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ведение новых сортов сельскохозяйственных культу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500040" y="5038560"/>
            <a:ext cx="7920000" cy="81144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торой компонент «зеленой революции» -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рригац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500040" y="5857920"/>
            <a:ext cx="7897680" cy="81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етий компонент «зеленой революции» 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ственно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ндустриализация сельского хозяй­ств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255600" y="133200"/>
            <a:ext cx="8894880" cy="11527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2" action="ppaction://hlinksldjump"/>
              </a:rPr>
              <a:t>Сельское хозяйство – вторая ведущая отрасль материального производств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3" action="ppaction://hlinksldjump"/>
              </a:rPr>
              <a:t>Понятие о «зелёной революции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начение и состав отрасл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нятость населен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Типы сельского хозяйств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ельское хозяйство в развитых страна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ельское хозяйство в развивающихся страна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9" name="Прямоугольник 7" descr=""/>
          <p:cNvPicPr/>
          <p:nvPr/>
        </p:nvPicPr>
        <p:blipFill>
          <a:blip r:embed="rId1"/>
          <a:stretch/>
        </p:blipFill>
        <p:spPr>
          <a:xfrm>
            <a:off x="-12600" y="-92160"/>
            <a:ext cx="916920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255600" y="-128520"/>
            <a:ext cx="8894880" cy="11397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0" y="134136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ельское хозяйство – самая древняя и наиболее зависимая от природных условий отрасль экономик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ельское хозяйство – это образ эжизни большей части населения Мир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о уровню развития АПК и занятости в нём населения можно судить об уровне развития страны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днако по темпам роста мировое сельское хозяйство уступает большинству других крупных отраслей, причем именно в последнее время эти темпы еще более замедлились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AutoShape 4"/>
          <p:cNvSpPr/>
          <p:nvPr/>
        </p:nvSpPr>
        <p:spPr>
          <a:xfrm>
            <a:off x="7956720" y="6237360"/>
            <a:ext cx="792000" cy="431640"/>
          </a:xfrm>
          <a:prstGeom prst="rightArrow">
            <a:avLst>
              <a:gd name="adj1" fmla="val 50000"/>
              <a:gd name="adj2" fmla="val 45872"/>
            </a:avLst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420840" y="-165240"/>
            <a:ext cx="8242200" cy="1463760"/>
          </a:xfrm>
          <a:prstGeom prst="rect">
            <a:avLst/>
          </a:prstGeom>
          <a:ln w="0">
            <a:noFill/>
          </a:ln>
        </p:spPr>
      </p:pic>
      <p:grpSp>
        <p:nvGrpSpPr>
          <p:cNvPr id="414" name="Oval 3"/>
          <p:cNvGrpSpPr/>
          <p:nvPr/>
        </p:nvGrpSpPr>
        <p:grpSpPr>
          <a:xfrm>
            <a:off x="2755800" y="963720"/>
            <a:ext cx="3267000" cy="1614240"/>
            <a:chOff x="2755800" y="963720"/>
            <a:chExt cx="3267000" cy="1614240"/>
          </a:xfrm>
        </p:grpSpPr>
        <p:pic>
          <p:nvPicPr>
            <p:cNvPr id="415" name="Oval 3" descr=""/>
            <p:cNvPicPr/>
            <p:nvPr/>
          </p:nvPicPr>
          <p:blipFill>
            <a:blip r:embed="rId2"/>
            <a:stretch/>
          </p:blipFill>
          <p:spPr>
            <a:xfrm>
              <a:off x="2755800" y="963720"/>
              <a:ext cx="3267000" cy="16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Text Box 4"/>
            <p:cNvSpPr/>
            <p:nvPr/>
          </p:nvSpPr>
          <p:spPr>
            <a:xfrm>
              <a:off x="3246480" y="1212840"/>
              <a:ext cx="229068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alibri"/>
                </a:rPr>
                <a:t>Сельское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alibri"/>
                </a:rPr>
                <a:t>хозяйств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Oval 4"/>
          <p:cNvSpPr/>
          <p:nvPr/>
        </p:nvSpPr>
        <p:spPr>
          <a:xfrm>
            <a:off x="1857240" y="2492280"/>
            <a:ext cx="2427480" cy="936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Животновод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5"/>
          <p:cNvSpPr/>
          <p:nvPr/>
        </p:nvSpPr>
        <p:spPr>
          <a:xfrm>
            <a:off x="4356000" y="2492280"/>
            <a:ext cx="2376720" cy="865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стениевод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6"/>
          <p:cNvSpPr/>
          <p:nvPr/>
        </p:nvSpPr>
        <p:spPr>
          <a:xfrm>
            <a:off x="3203640" y="3429000"/>
            <a:ext cx="230508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 звено АП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7"/>
          <p:cNvSpPr/>
          <p:nvPr/>
        </p:nvSpPr>
        <p:spPr>
          <a:xfrm>
            <a:off x="0" y="3789360"/>
            <a:ext cx="3995640" cy="230364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оизводство маши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орудов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добре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Ядохимикат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мбикор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8"/>
          <p:cNvSpPr/>
          <p:nvPr/>
        </p:nvSpPr>
        <p:spPr>
          <a:xfrm>
            <a:off x="4859280" y="3789360"/>
            <a:ext cx="4032360" cy="237636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готов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ереработ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реализация прод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ёгкая и пищев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омышленн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бществен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и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9"/>
          <p:cNvSpPr/>
          <p:nvPr/>
        </p:nvSpPr>
        <p:spPr>
          <a:xfrm>
            <a:off x="900000" y="6237360"/>
            <a:ext cx="280836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 звено А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0"/>
          <p:cNvSpPr/>
          <p:nvPr/>
        </p:nvSpPr>
        <p:spPr>
          <a:xfrm>
            <a:off x="5364000" y="6237360"/>
            <a:ext cx="309564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 звено А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Line 11"/>
          <p:cNvGrpSpPr/>
          <p:nvPr/>
        </p:nvGrpSpPr>
        <p:grpSpPr>
          <a:xfrm>
            <a:off x="817560" y="1596960"/>
            <a:ext cx="2097000" cy="2432160"/>
            <a:chOff x="817560" y="1596960"/>
            <a:chExt cx="2097000" cy="2432160"/>
          </a:xfrm>
        </p:grpSpPr>
        <p:pic>
          <p:nvPicPr>
            <p:cNvPr id="425" name="Line 11" descr=""/>
            <p:cNvPicPr/>
            <p:nvPr/>
          </p:nvPicPr>
          <p:blipFill>
            <a:blip r:embed="rId3"/>
            <a:stretch/>
          </p:blipFill>
          <p:spPr>
            <a:xfrm>
              <a:off x="817560" y="1596960"/>
              <a:ext cx="2097000" cy="24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 rot="10800000">
              <a:off x="856800" y="4000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Line 12"/>
          <p:cNvGrpSpPr/>
          <p:nvPr/>
        </p:nvGrpSpPr>
        <p:grpSpPr>
          <a:xfrm>
            <a:off x="3975120" y="4419720"/>
            <a:ext cx="1066680" cy="371520"/>
            <a:chOff x="3975120" y="4419720"/>
            <a:chExt cx="1066680" cy="371520"/>
          </a:xfrm>
        </p:grpSpPr>
        <p:pic>
          <p:nvPicPr>
            <p:cNvPr id="428" name="Line 12" descr=""/>
            <p:cNvPicPr/>
            <p:nvPr/>
          </p:nvPicPr>
          <p:blipFill>
            <a:blip r:embed="rId4"/>
            <a:stretch/>
          </p:blipFill>
          <p:spPr>
            <a:xfrm>
              <a:off x="3975120" y="4419720"/>
              <a:ext cx="106668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3995640" y="4608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Line 13"/>
          <p:cNvGrpSpPr/>
          <p:nvPr/>
        </p:nvGrpSpPr>
        <p:grpSpPr>
          <a:xfrm>
            <a:off x="3657600" y="4780080"/>
            <a:ext cx="1212840" cy="371520"/>
            <a:chOff x="3657600" y="4780080"/>
            <a:chExt cx="1212840" cy="371520"/>
          </a:xfrm>
        </p:grpSpPr>
        <p:pic>
          <p:nvPicPr>
            <p:cNvPr id="431" name="Line 13" descr=""/>
            <p:cNvPicPr/>
            <p:nvPr/>
          </p:nvPicPr>
          <p:blipFill>
            <a:blip r:embed="rId5"/>
            <a:stretch/>
          </p:blipFill>
          <p:spPr>
            <a:xfrm>
              <a:off x="3657600" y="4780080"/>
              <a:ext cx="121284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4859280" y="49687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Line 14"/>
          <p:cNvGrpSpPr/>
          <p:nvPr/>
        </p:nvGrpSpPr>
        <p:grpSpPr>
          <a:xfrm>
            <a:off x="5973840" y="1951200"/>
            <a:ext cx="2457360" cy="2309760"/>
            <a:chOff x="5973840" y="1951200"/>
            <a:chExt cx="2457360" cy="2309760"/>
          </a:xfrm>
        </p:grpSpPr>
        <p:pic>
          <p:nvPicPr>
            <p:cNvPr id="434" name="Line 14" descr=""/>
            <p:cNvPicPr/>
            <p:nvPr/>
          </p:nvPicPr>
          <p:blipFill>
            <a:blip r:embed="rId6"/>
            <a:stretch/>
          </p:blipFill>
          <p:spPr>
            <a:xfrm>
              <a:off x="5973840" y="1951200"/>
              <a:ext cx="2457360" cy="23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6012000" y="1989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6" name="Picture 17" descr="j0149627"/>
          <p:cNvPicPr/>
          <p:nvPr/>
        </p:nvPicPr>
        <p:blipFill>
          <a:blip r:embed="rId7">
            <a:lum contrast="20000"/>
          </a:blip>
          <a:stretch/>
        </p:blipFill>
        <p:spPr>
          <a:xfrm>
            <a:off x="214200" y="928800"/>
            <a:ext cx="1484280" cy="105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7" name="Picture 18" descr="j0233312"/>
          <p:cNvPicPr/>
          <p:nvPr/>
        </p:nvPicPr>
        <p:blipFill>
          <a:blip r:embed="rId8"/>
          <a:stretch/>
        </p:blipFill>
        <p:spPr>
          <a:xfrm>
            <a:off x="7143840" y="785880"/>
            <a:ext cx="1641240" cy="1571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8" name="AutoShape 19"/>
          <p:cNvSpPr/>
          <p:nvPr/>
        </p:nvSpPr>
        <p:spPr>
          <a:xfrm>
            <a:off x="8675640" y="6308640"/>
            <a:ext cx="468360" cy="360360"/>
          </a:xfrm>
          <a:prstGeom prst="leftArrow">
            <a:avLst>
              <a:gd name="adj1" fmla="val 50000"/>
              <a:gd name="adj2" fmla="val 32493"/>
            </a:avLst>
          </a:prstGeom>
          <a:gradFill rotWithShape="0">
            <a:gsLst>
              <a:gs pos="0">
                <a:srgbClr val="f2d9d4"/>
              </a:gs>
              <a:gs pos="100000">
                <a:srgbClr val="d47962"/>
              </a:gs>
            </a:gsLst>
            <a:lin ang="5400000"/>
          </a:gradFill>
          <a:ln w="10080">
            <a:solidFill>
              <a:srgbClr val="a5644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255600" y="-133200"/>
            <a:ext cx="8437680" cy="11397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0" y="1356840"/>
            <a:ext cx="91440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alibri"/>
              </a:rPr>
              <a:t>По общей численности занятых (1,3 млрд)  с этой отраслью не может соперничать ни одна другая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alibri"/>
              </a:rPr>
              <a:t>Экономически развитые страны – 22 млн. чел.(США – 3 млн.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alibri"/>
              </a:rPr>
              <a:t>Бывший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ССР</a:t>
            </a:r>
            <a:r>
              <a:rPr b="0" lang="ru-RU" sz="3200" spc="-1" strike="noStrike">
                <a:solidFill>
                  <a:srgbClr val="4e3b30"/>
                </a:solidFill>
                <a:latin typeface="Calibri"/>
              </a:rPr>
              <a:t> – 20 млн. чел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alibri"/>
              </a:rPr>
              <a:t>Восточная Европа – 12 млн. чел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alibri"/>
              </a:rPr>
              <a:t>Развивающиеся страны - </a:t>
            </a: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&gt;</a:t>
            </a:r>
            <a:r>
              <a:rPr b="0" lang="ru-RU" sz="3200" spc="-1" strike="noStrike">
                <a:solidFill>
                  <a:srgbClr val="4e3b30"/>
                </a:solidFill>
                <a:latin typeface="Calibri"/>
              </a:rPr>
              <a:t> 1 млрд. чел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1" name="Rectangle 4" descr=""/>
          <p:cNvPicPr/>
          <p:nvPr/>
        </p:nvPicPr>
        <p:blipFill>
          <a:blip r:embed="rId2"/>
          <a:stretch/>
        </p:blipFill>
        <p:spPr>
          <a:xfrm>
            <a:off x="-146160" y="5462640"/>
            <a:ext cx="94298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463680" y="146160"/>
            <a:ext cx="8242200" cy="1274760"/>
          </a:xfrm>
          <a:prstGeom prst="rect">
            <a:avLst/>
          </a:prstGeom>
          <a:ln w="0">
            <a:noFill/>
          </a:ln>
        </p:spPr>
      </p:pic>
      <p:sp>
        <p:nvSpPr>
          <p:cNvPr id="443" name="AutoShape 4"/>
          <p:cNvSpPr/>
          <p:nvPr/>
        </p:nvSpPr>
        <p:spPr>
          <a:xfrm>
            <a:off x="177840" y="1643040"/>
            <a:ext cx="42148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овар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5"/>
          <p:cNvSpPr/>
          <p:nvPr/>
        </p:nvSpPr>
        <p:spPr>
          <a:xfrm>
            <a:off x="4714920" y="1643040"/>
            <a:ext cx="42148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требительск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Line 8"/>
          <p:cNvGrpSpPr/>
          <p:nvPr/>
        </p:nvGrpSpPr>
        <p:grpSpPr>
          <a:xfrm>
            <a:off x="2073240" y="944640"/>
            <a:ext cx="2486160" cy="939600"/>
            <a:chOff x="2073240" y="944640"/>
            <a:chExt cx="2486160" cy="939600"/>
          </a:xfrm>
        </p:grpSpPr>
        <p:pic>
          <p:nvPicPr>
            <p:cNvPr id="446" name="Line 8" descr=""/>
            <p:cNvPicPr/>
            <p:nvPr/>
          </p:nvPicPr>
          <p:blipFill>
            <a:blip r:embed="rId2"/>
            <a:stretch/>
          </p:blipFill>
          <p:spPr>
            <a:xfrm>
              <a:off x="2073240" y="944640"/>
              <a:ext cx="248616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4535640" y="10000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Line 9"/>
          <p:cNvGrpSpPr/>
          <p:nvPr/>
        </p:nvGrpSpPr>
        <p:grpSpPr>
          <a:xfrm>
            <a:off x="5005440" y="944640"/>
            <a:ext cx="2346120" cy="871560"/>
            <a:chOff x="5005440" y="944640"/>
            <a:chExt cx="2346120" cy="871560"/>
          </a:xfrm>
        </p:grpSpPr>
        <p:pic>
          <p:nvPicPr>
            <p:cNvPr id="449" name="Line 9" descr=""/>
            <p:cNvPicPr/>
            <p:nvPr/>
          </p:nvPicPr>
          <p:blipFill>
            <a:blip r:embed="rId3"/>
            <a:stretch/>
          </p:blipFill>
          <p:spPr>
            <a:xfrm>
              <a:off x="5005440" y="944640"/>
              <a:ext cx="23461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5035680" y="10000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AutoShape 10"/>
          <p:cNvSpPr/>
          <p:nvPr/>
        </p:nvSpPr>
        <p:spPr>
          <a:xfrm>
            <a:off x="214200" y="2643120"/>
            <a:ext cx="421344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1)интенсивное животновод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 заготовкой корм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2) интенсивное земледел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 плодосменным севооборо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3) экстенсивное земледел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арового и залежного тип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4) садоводство, огородн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5) Пастбищное животновод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(ранч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1"/>
          <p:cNvSpPr/>
          <p:nvPr/>
        </p:nvSpPr>
        <p:spPr>
          <a:xfrm>
            <a:off x="4643280" y="2643120"/>
            <a:ext cx="435780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1)  собирательство, охо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рыболов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2) кочевое и полукочев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котовод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3)  пастбищное животновод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4)  мотыжное земледел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одсечное; неорошаемо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орошаем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5)  плужное  земледелие, мотыж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земледелие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285840" y="-92160"/>
            <a:ext cx="9150120" cy="115272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0" y="1197000"/>
            <a:ext cx="84297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Для сельского хозяйства </a:t>
            </a:r>
            <a:r>
              <a:rPr b="1" lang="ru-RU" sz="2000" spc="-1" strike="noStrike" u="sng">
                <a:solidFill>
                  <a:srgbClr val="4e3b30"/>
                </a:solidFill>
                <a:uFillTx/>
                <a:latin typeface="Franklin Gothic Book"/>
              </a:rPr>
              <a:t>экономически развитых стран Запада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характерны капиталистические производственные отношения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ctr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сновной производственной единицей в них давно уже стала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семейная ферм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редний размер ее зависит от местных исторических, социаль­ных, природных условий и специализации:                                                                    в</a:t>
            </a:r>
            <a:r>
              <a:rPr b="1" lang="ru-RU" sz="2000" spc="-1" strike="noStrike">
                <a:solidFill>
                  <a:srgbClr val="ff0066"/>
                </a:solidFill>
                <a:latin typeface="Franklin Gothic Book"/>
              </a:rPr>
              <a:t>Австралии</a:t>
            </a:r>
            <a:r>
              <a:rPr b="0" lang="ru-RU" sz="2000" spc="-1" strike="noStrike">
                <a:solidFill>
                  <a:srgbClr val="00ffff"/>
                </a:solidFill>
                <a:latin typeface="Franklin Gothic Book"/>
              </a:rPr>
              <a:t>,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например, он достигает 1,8 тыс. га,                                                  в </a:t>
            </a:r>
            <a:r>
              <a:rPr b="1" lang="ru-RU" sz="2000" spc="-1" strike="noStrike">
                <a:solidFill>
                  <a:srgbClr val="ff0066"/>
                </a:solidFill>
                <a:latin typeface="Franklin Gothic Book"/>
              </a:rPr>
              <a:t>США и Канаде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— около 200 га, тогда как                                                     в </a:t>
            </a:r>
            <a:r>
              <a:rPr b="1" lang="ru-RU" sz="2000" spc="-1" strike="noStrike">
                <a:solidFill>
                  <a:srgbClr val="ff0066"/>
                </a:solidFill>
                <a:latin typeface="Franklin Gothic Book"/>
              </a:rPr>
              <a:t>Западной Европе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он составляет 17 га,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r>
              <a:rPr b="0" lang="ru-RU" sz="2000" spc="-1" strike="noStrike">
                <a:solidFill>
                  <a:srgbClr val="ff0066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ff0066"/>
                </a:solidFill>
                <a:latin typeface="Franklin Gothic Book"/>
              </a:rPr>
              <a:t>Японии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— 2 га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0" y="692280"/>
            <a:ext cx="2664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нято 2-3% Э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AutoShape 7" descr=""/>
          <p:cNvPicPr/>
          <p:nvPr/>
        </p:nvPicPr>
        <p:blipFill>
          <a:blip r:embed="rId2"/>
          <a:stretch/>
        </p:blipFill>
        <p:spPr>
          <a:xfrm>
            <a:off x="-96840" y="3816360"/>
            <a:ext cx="93330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9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Rectangle 2" descr=""/>
          <p:cNvPicPr/>
          <p:nvPr/>
        </p:nvPicPr>
        <p:blipFill>
          <a:blip r:embed="rId1"/>
          <a:stretch/>
        </p:blipFill>
        <p:spPr>
          <a:xfrm>
            <a:off x="-146160" y="109440"/>
            <a:ext cx="9363240" cy="103680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4"/>
          <p:cNvSpPr/>
          <p:nvPr/>
        </p:nvSpPr>
        <p:spPr>
          <a:xfrm>
            <a:off x="428760" y="1197000"/>
            <a:ext cx="3429000" cy="5763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овар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6"/>
          <p:cNvSpPr/>
          <p:nvPr/>
        </p:nvSpPr>
        <p:spPr>
          <a:xfrm>
            <a:off x="4143240" y="1214280"/>
            <a:ext cx="428760" cy="446400"/>
          </a:xfrm>
          <a:prstGeom prst="plus">
            <a:avLst>
              <a:gd name="adj" fmla="val 39671"/>
            </a:avLst>
          </a:prstGeom>
          <a:solidFill>
            <a:srgbClr val="c87d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4821120" y="1197000"/>
            <a:ext cx="4108680" cy="576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требитель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468360" y="2133720"/>
            <a:ext cx="3456000" cy="4362840"/>
          </a:xfrm>
          <a:prstGeom prst="rect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редставлен этот сектор прежде всего крупными, хорошо организован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плантациями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которые  занимают лучшие зем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широко использу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емную рабочую сил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машины, удобр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искусственное орошение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Text Box 9"/>
          <p:cNvGrpSpPr/>
          <p:nvPr/>
        </p:nvGrpSpPr>
        <p:grpSpPr>
          <a:xfrm>
            <a:off x="4632480" y="2060640"/>
            <a:ext cx="4511520" cy="3663720"/>
            <a:chOff x="4632480" y="2060640"/>
            <a:chExt cx="4511520" cy="3663720"/>
          </a:xfrm>
        </p:grpSpPr>
        <p:pic>
          <p:nvPicPr>
            <p:cNvPr id="463" name="Text Box 9" descr=""/>
            <p:cNvPicPr/>
            <p:nvPr/>
          </p:nvPicPr>
          <p:blipFill>
            <a:blip r:embed="rId2"/>
            <a:stretch/>
          </p:blipFill>
          <p:spPr>
            <a:xfrm>
              <a:off x="4632480" y="2060640"/>
              <a:ext cx="4511520" cy="36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Text Box 8"/>
            <p:cNvSpPr/>
            <p:nvPr/>
          </p:nvSpPr>
          <p:spPr>
            <a:xfrm>
              <a:off x="4788000" y="2133720"/>
              <a:ext cx="421308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Franklin Gothic Book"/>
                </a:rPr>
                <a:t>Преобладает потребительско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Franklin Gothic Book"/>
                </a:rPr>
                <a:t>малотоварное С/Х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Franklin Gothic Book"/>
                </a:rPr>
                <a:t>преимущественно растениеводство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Franklin Gothic Book"/>
                </a:rPr>
                <a:t>Представлено сотнями млн.мелких хозяйств, которые выращиваю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Franklin Gothic Book"/>
                </a:rPr>
                <a:t>зерновые, зернобобовые, клубнеплодные (батат, маниок, ямс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Franklin Gothic Book"/>
                </a:rPr>
                <a:t>Подсечно-огневое земледелие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Rectangle 10"/>
          <p:cNvSpPr/>
          <p:nvPr/>
        </p:nvSpPr>
        <p:spPr>
          <a:xfrm>
            <a:off x="468360" y="5805360"/>
            <a:ext cx="3460680" cy="719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езульт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рожайность  40-50 ц/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2"/>
          <p:cNvSpPr/>
          <p:nvPr/>
        </p:nvSpPr>
        <p:spPr>
          <a:xfrm>
            <a:off x="4859280" y="5805360"/>
            <a:ext cx="4070520" cy="719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езульт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рожайность  15-20 ц/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9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9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9:46:03Z</dcterms:created>
  <dc:creator>Елена</dc:creator>
  <dc:description/>
  <dc:language>en-US</dc:language>
  <cp:lastModifiedBy>HP</cp:lastModifiedBy>
  <dcterms:modified xsi:type="dcterms:W3CDTF">2010-03-08T14:57:03Z</dcterms:modified>
  <cp:revision>10</cp:revision>
  <dc:subject/>
  <dc:title>География сельского хозяйства и рыболовств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