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374D-9D6C-4823-A8CF-04B8ED9FD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15F1-088F-49A8-AB61-7F0CCA30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DEAC-A81C-4F95-993E-7C30D54F2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B996-CA53-4752-B9C1-44C9B20AD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C94F-ACBB-4F44-977D-9288BE8D3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2A90-EF8F-4971-9DE9-DCC1C859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29E3-880C-451B-943D-A182F49F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BFC6-3BC4-48B2-A3A0-16C0E562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1E4C-2D39-4B26-85AC-3D208AD3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CF31-32AC-4E5E-9B02-5A814B1F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42BD-44CA-4E61-AF99-8672C5DD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91B2-D698-497C-90DA-4C29CA10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ED47-00E0-44DA-8D35-71991774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FB7E-3EFE-4497-BDD8-9C410F43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407A-5A59-439D-87B3-1451D56B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58BE-A211-4D27-993A-C5D70B9EE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9E6C6-E791-4FD9-AB6B-72E4001F5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FE70-0E53-497B-8365-B8CF5B87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8967-52AC-4831-B020-079E1349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4C6C-5A71-46AE-96AD-A22FD3FC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8757-B68A-457D-8EE2-C895B6CD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9D07-5FC7-4160-832E-44E9C80C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4AAD-1BC2-4E0E-970C-736D2218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07A0-EC66-4546-B82E-A9705E2C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28600" y="334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6633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63D4-B652-4D27-9326-0ED5BBB05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1054080" y="165240"/>
            <a:ext cx="7696080" cy="685800"/>
            <a:chOff x="1054080" y="165240"/>
            <a:chExt cx="7696080" cy="685800"/>
          </a:xfrm>
        </p:grpSpPr>
        <p:sp>
          <p:nvSpPr>
            <p:cNvPr id="7" name=""/>
            <p:cNvSpPr/>
            <p:nvPr/>
          </p:nvSpPr>
          <p:spPr>
            <a:xfrm>
              <a:off x="1054080" y="165240"/>
              <a:ext cx="7696080" cy="685800"/>
            </a:xfrm>
            <a:custGeom>
              <a:avLst/>
              <a:gdLst/>
              <a:ahLst/>
              <a:rect l="l" t="t" r="r" b="b"/>
              <a:pathLst>
                <a:path w="4848" h="432">
                  <a:moveTo>
                    <a:pt x="4848" y="48"/>
                  </a:moveTo>
                  <a:lnTo>
                    <a:pt x="4848" y="432"/>
                  </a:lnTo>
                  <a:cubicBezTo>
                    <a:pt x="4848" y="432"/>
                    <a:pt x="2424" y="432"/>
                    <a:pt x="0" y="432"/>
                  </a:cubicBezTo>
                  <a:cubicBezTo>
                    <a:pt x="161" y="345"/>
                    <a:pt x="169" y="61"/>
                    <a:pt x="0" y="0"/>
                  </a:cubicBezTo>
                  <a:cubicBezTo>
                    <a:pt x="2424" y="0"/>
                    <a:pt x="4848" y="0"/>
                    <a:pt x="4848" y="0"/>
                  </a:cubicBezTo>
                  <a:lnTo>
                    <a:pt x="4848" y="48"/>
                  </a:lnTo>
                  <a:close/>
                </a:path>
              </a:pathLst>
            </a:custGeom>
            <a:solidFill>
              <a:srgbClr val="b6ab82"/>
            </a:solidFill>
            <a:ln w="9360">
              <a:solidFill>
                <a:srgbClr val="cec7a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" name=""/>
            <p:cNvGrpSpPr/>
            <p:nvPr/>
          </p:nvGrpSpPr>
          <p:grpSpPr>
            <a:xfrm>
              <a:off x="1897200" y="165240"/>
              <a:ext cx="6075360" cy="680400"/>
              <a:chOff x="1897200" y="165240"/>
              <a:chExt cx="6075360" cy="680400"/>
            </a:xfrm>
          </p:grpSpPr>
          <p:grpSp>
            <p:nvGrpSpPr>
              <p:cNvPr id="9" name=""/>
              <p:cNvGrpSpPr/>
              <p:nvPr/>
            </p:nvGrpSpPr>
            <p:grpSpPr>
              <a:xfrm>
                <a:off x="1897200" y="166680"/>
                <a:ext cx="3505320" cy="677160"/>
                <a:chOff x="1897200" y="166680"/>
                <a:chExt cx="3505320" cy="677160"/>
              </a:xfrm>
            </p:grpSpPr>
            <p:sp>
              <p:nvSpPr>
                <p:cNvPr id="10" name=""/>
                <p:cNvSpPr/>
                <p:nvPr/>
              </p:nvSpPr>
              <p:spPr>
                <a:xfrm>
                  <a:off x="3859560" y="788400"/>
                  <a:ext cx="11160" cy="1260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3978360" y="831240"/>
                  <a:ext cx="14400" cy="1260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3642120" y="761400"/>
                  <a:ext cx="20520" cy="2196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3399120" y="782280"/>
                  <a:ext cx="17280" cy="75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3326040" y="791640"/>
                  <a:ext cx="44640" cy="252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3279960" y="790200"/>
                  <a:ext cx="46080" cy="2484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3030840" y="651960"/>
                  <a:ext cx="239760" cy="14724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177000" y="642600"/>
                  <a:ext cx="106200" cy="10764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279960" y="691560"/>
                  <a:ext cx="74520" cy="205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276720" y="717120"/>
                  <a:ext cx="50760" cy="5364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3362760" y="686880"/>
                  <a:ext cx="25200" cy="3132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3368880" y="736200"/>
                  <a:ext cx="31680" cy="1548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3402360" y="712440"/>
                  <a:ext cx="41040" cy="2664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3413520" y="725040"/>
                  <a:ext cx="193680" cy="9648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3581640" y="734400"/>
                  <a:ext cx="52560" cy="4104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3692880" y="64728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3759480" y="710640"/>
                  <a:ext cx="17280" cy="1260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3545280" y="56772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3432600" y="63468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3308760" y="613800"/>
                  <a:ext cx="54000" cy="4248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291120" y="523440"/>
                  <a:ext cx="63360" cy="9180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306960" y="590040"/>
                  <a:ext cx="22320" cy="2664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3262680" y="596520"/>
                  <a:ext cx="29880" cy="2664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4927680" y="559800"/>
                  <a:ext cx="474840" cy="28404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4299120" y="167760"/>
                  <a:ext cx="666720" cy="4489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094280" y="489960"/>
                  <a:ext cx="24120" cy="2520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4075200" y="480600"/>
                  <a:ext cx="25560" cy="1872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4845240" y="428040"/>
                  <a:ext cx="115920" cy="5220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4967640" y="470880"/>
                  <a:ext cx="93600" cy="2376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918320" y="483840"/>
                  <a:ext cx="38160" cy="216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892760" y="415440"/>
                  <a:ext cx="25560" cy="2808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5094720" y="501120"/>
                  <a:ext cx="29880" cy="4248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4556520" y="175680"/>
                  <a:ext cx="325440" cy="6480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4268880" y="174240"/>
                  <a:ext cx="301680" cy="3132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603960" y="220320"/>
                  <a:ext cx="28440" cy="1548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2826000" y="174240"/>
                  <a:ext cx="692280" cy="24084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3519720" y="166680"/>
                  <a:ext cx="31680" cy="86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3500640" y="239400"/>
                  <a:ext cx="93600" cy="5364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3400560" y="290160"/>
                  <a:ext cx="127080" cy="1137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84800" y="32328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773440" y="401040"/>
                  <a:ext cx="551160" cy="29988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2870280" y="607680"/>
                  <a:ext cx="30240" cy="457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3292560" y="451800"/>
                  <a:ext cx="28800" cy="378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3373560" y="433080"/>
                  <a:ext cx="14400" cy="1548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1897200" y="282240"/>
                  <a:ext cx="687600" cy="56160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2163960" y="493200"/>
                  <a:ext cx="258840" cy="35064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2619720" y="753480"/>
                  <a:ext cx="11160" cy="1872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2605320" y="572760"/>
                  <a:ext cx="14400" cy="108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1978200" y="350280"/>
                  <a:ext cx="39600" cy="1548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457720" y="204480"/>
                  <a:ext cx="468360" cy="36936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2138760" y="175680"/>
                  <a:ext cx="938160" cy="15048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2329200" y="231480"/>
                  <a:ext cx="20520" cy="154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2305440" y="253440"/>
                  <a:ext cx="29880" cy="1728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2403720" y="318600"/>
                  <a:ext cx="50760" cy="93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2491200" y="317160"/>
                  <a:ext cx="28440" cy="2340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257560" y="252000"/>
                  <a:ext cx="22320" cy="154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6164640" y="165240"/>
                <a:ext cx="1807920" cy="680400"/>
                <a:chOff x="6164640" y="165240"/>
                <a:chExt cx="1807920" cy="68040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7909200" y="761760"/>
                  <a:ext cx="20520" cy="2196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7666200" y="782640"/>
                  <a:ext cx="17640" cy="75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593120" y="792000"/>
                  <a:ext cx="44640" cy="252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7547400" y="790560"/>
                  <a:ext cx="45720" cy="2484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297920" y="652320"/>
                  <a:ext cx="239760" cy="14724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444080" y="642960"/>
                  <a:ext cx="106200" cy="10764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7547400" y="691920"/>
                  <a:ext cx="74520" cy="205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7544160" y="717480"/>
                  <a:ext cx="50760" cy="5364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29840" y="687240"/>
                  <a:ext cx="25200" cy="3132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35960" y="736560"/>
                  <a:ext cx="32040" cy="1548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7669440" y="712800"/>
                  <a:ext cx="41400" cy="2664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7680600" y="725400"/>
                  <a:ext cx="193680" cy="9648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7848720" y="734760"/>
                  <a:ext cx="52560" cy="4104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7959960" y="64764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7812360" y="56808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7699680" y="63504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575840" y="614160"/>
                  <a:ext cx="54000" cy="4248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7558200" y="523800"/>
                  <a:ext cx="63720" cy="9180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7574040" y="590400"/>
                  <a:ext cx="22320" cy="2664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7529760" y="596880"/>
                  <a:ext cx="30240" cy="2664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871040" y="220680"/>
                  <a:ext cx="28440" cy="1548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7091640" y="174600"/>
                  <a:ext cx="695160" cy="240840"/>
                </a:xfrm>
                <a:custGeom>
                  <a:avLst/>
                  <a:gdLst/>
                  <a:ahLst/>
                  <a:rect l="l" t="t" r="r" b="b"/>
                  <a:pathLst>
                    <a:path w="438" h="152">
                      <a:moveTo>
                        <a:pt x="73" y="1"/>
                      </a:moveTo>
                      <a:lnTo>
                        <a:pt x="438" y="0"/>
                      </a:lnTo>
                      <a:cubicBezTo>
                        <a:pt x="432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7786800" y="165240"/>
                  <a:ext cx="32040" cy="8712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7767720" y="239760"/>
                  <a:ext cx="93960" cy="5364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7668000" y="290520"/>
                  <a:ext cx="126720" cy="1137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7751880" y="32364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7040880" y="401400"/>
                  <a:ext cx="550800" cy="29988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7137720" y="608040"/>
                  <a:ext cx="30240" cy="457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560000" y="452160"/>
                  <a:ext cx="28440" cy="378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7641000" y="433440"/>
                  <a:ext cx="14040" cy="1548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6164640" y="284040"/>
                  <a:ext cx="687240" cy="56160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431040" y="495360"/>
                  <a:ext cx="258840" cy="35028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6886800" y="753840"/>
                  <a:ext cx="11160" cy="1872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6872400" y="573120"/>
                  <a:ext cx="14400" cy="108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6245640" y="350640"/>
                  <a:ext cx="39600" cy="1548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6724800" y="204840"/>
                  <a:ext cx="468360" cy="36936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6405840" y="176040"/>
                  <a:ext cx="938160" cy="15048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6596280" y="231840"/>
                  <a:ext cx="20520" cy="154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6572520" y="253800"/>
                  <a:ext cx="30240" cy="1728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6670800" y="318960"/>
                  <a:ext cx="50760" cy="93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6758280" y="317520"/>
                  <a:ext cx="28440" cy="2340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525000" y="252360"/>
                  <a:ext cx="21960" cy="154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9" name=""/>
            <p:cNvGrpSpPr/>
            <p:nvPr/>
          </p:nvGrpSpPr>
          <p:grpSpPr>
            <a:xfrm>
              <a:off x="1266840" y="176040"/>
              <a:ext cx="7464240" cy="663840"/>
              <a:chOff x="1266840" y="176040"/>
              <a:chExt cx="7464240" cy="663840"/>
            </a:xfrm>
          </p:grpSpPr>
          <p:sp>
            <p:nvSpPr>
              <p:cNvPr id="110" name=""/>
              <p:cNvSpPr/>
              <p:nvPr/>
            </p:nvSpPr>
            <p:spPr>
              <a:xfrm>
                <a:off x="1266840" y="527040"/>
                <a:ext cx="7464240" cy="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62864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99080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35260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1476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7656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43836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80052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16232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52448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88628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24844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61024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97204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33420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69600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05816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41996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78176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14392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0572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1917720" y="173160"/>
              <a:ext cx="5864040" cy="671040"/>
              <a:chOff x="1917720" y="173160"/>
              <a:chExt cx="5864040" cy="671040"/>
            </a:xfrm>
          </p:grpSpPr>
          <p:sp>
            <p:nvSpPr>
              <p:cNvPr id="132" name=""/>
              <p:cNvSpPr/>
              <p:nvPr/>
            </p:nvSpPr>
            <p:spPr>
              <a:xfrm>
                <a:off x="4524120" y="174600"/>
                <a:ext cx="0" cy="2250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717800" y="527040"/>
                <a:ext cx="11124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886280" y="555480"/>
                <a:ext cx="0" cy="442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248080" y="714240"/>
                <a:ext cx="0" cy="12492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334200" y="352440"/>
                <a:ext cx="0" cy="28512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184800" y="527040"/>
                <a:ext cx="55260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696000" y="374400"/>
                <a:ext cx="0" cy="46656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6699240" y="177480"/>
                <a:ext cx="0" cy="7884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7057800" y="174240"/>
                <a:ext cx="0" cy="28836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7296120" y="527040"/>
                <a:ext cx="12384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7086240" y="527040"/>
                <a:ext cx="9828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7419960" y="174240"/>
                <a:ext cx="0" cy="42804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781760" y="745920"/>
                <a:ext cx="0" cy="5364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438360" y="180720"/>
                <a:ext cx="0" cy="982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076560" y="176040"/>
                <a:ext cx="0" cy="5346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3035160" y="527040"/>
                <a:ext cx="10800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822400" y="527040"/>
                <a:ext cx="9540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2504880" y="527040"/>
                <a:ext cx="13032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917720" y="527040"/>
                <a:ext cx="55224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349360" y="371520"/>
                <a:ext cx="0" cy="4726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990800" y="399960"/>
                <a:ext cx="0" cy="24732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2352600" y="173160"/>
                <a:ext cx="0" cy="424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714400" y="285480"/>
                <a:ext cx="0" cy="1522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714400" y="176040"/>
                <a:ext cx="0" cy="3456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777000" y="525240"/>
                <a:ext cx="12708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6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4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cec7aa"/>
                </a:gs>
                <a:gs pos="50000">
                  <a:srgbClr val="e9e6d9"/>
                </a:gs>
                <a:gs pos="100000">
                  <a:srgbClr val="cec7a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6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b6a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A611-6728-4100-B40A-01C21036C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511200" y="246060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Helvetic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6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Let’s Learn About Scotland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2819520" y="3581280"/>
            <a:ext cx="38559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What Scottish Kids Do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ottish kids enjoy many sports. They play football, soccer, rugby, squash and go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y like to bicycle, hike and fish in the summer. In the winter they ski and s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Scotland’s Important People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exander Graham Bell - inventor of the tele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drew Carnegie -came to the U.S. and made a fortune in the iron and steel business. He gave money to build many of our libra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an Connery - an actor who starred the in the first James Bond mov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r Arthur Conan Doyle - the author of Sherlock Holmes myste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eena Easton - famous pop si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ptain Kidd - a famous pi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ohn Muir -founded our U.S. National Park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bert Louis Stevenson - author of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Treasure Is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Scotland is famous for…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67816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ggis- a food made from the organs of sheep and oatme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ilts - traditional Scottish woolen cloth costume with a tartan or plaid pattern. This is a skirt that men we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gpipers - people who play the bagpipes, a traditional Scottish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4"/>
          <a:stretch/>
        </p:blipFill>
        <p:spPr>
          <a:xfrm>
            <a:off x="6095880" y="4800600"/>
            <a:ext cx="246564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Scottish Culture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31237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ots celebrate many holiday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4876920" y="990720"/>
            <a:ext cx="2590560" cy="211608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981440" cy="148608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762120" y="5808600"/>
            <a:ext cx="647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ottish families are called clans and each clan has a special plaid to show what their family is. These are the plaids on their ki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What Scots Like to Eat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685800" y="3124080"/>
            <a:ext cx="2868480" cy="307512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5181480" y="3048120"/>
            <a:ext cx="3200400" cy="31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Where is Scotland?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2362320" y="2743200"/>
            <a:ext cx="5029200" cy="37195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 flipV="1">
            <a:off x="1295280" y="4267080"/>
            <a:ext cx="31244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Map of Scotland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411804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A Few Facts About Scotland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apital of Scotland is Edinbur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oney used is called the pound ster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opulation of Scotland is 4,996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language spoken is Englis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otland is part of the United Kingd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Let’s Visit Some Important Cities in Scotland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520" y="2438280"/>
            <a:ext cx="2667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inbur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694600" y="571500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inburgh is the capital 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609480" y="3352680"/>
            <a:ext cx="2465640" cy="170352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3657600" y="2438280"/>
            <a:ext cx="2465280" cy="209736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6248520" y="1523880"/>
            <a:ext cx="2465280" cy="18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3276720" y="990720"/>
            <a:ext cx="2209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asg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3276360" cy="220212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5562720" y="1219320"/>
            <a:ext cx="3276360" cy="234144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5562720" y="3886200"/>
            <a:ext cx="3322440" cy="23734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5"/>
          <a:stretch/>
        </p:blipFill>
        <p:spPr>
          <a:xfrm>
            <a:off x="1066680" y="4191120"/>
            <a:ext cx="159408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Famous Sights in Scotland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2286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irling Cas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3338640" y="2527200"/>
            <a:ext cx="2465280" cy="18018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3048120" y="448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5181480"/>
            <a:ext cx="87710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irling Castle is from medieval times and is near Edinburg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is open to visi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685440" y="114264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mous Castles and Historic Ho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838080" y="320040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5943600" y="3200400"/>
            <a:ext cx="2332080" cy="289548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6019920" y="6324480"/>
            <a:ext cx="234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609480" y="1295280"/>
            <a:ext cx="79250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Ancient Stones of Scot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609480" y="3352680"/>
            <a:ext cx="3505320" cy="23400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27672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01T00:00:00Z</dcterms:created>
  <dc:creator/>
  <dc:description/>
  <dc:language>en-US</dc:language>
  <cp:lastModifiedBy>Elena</cp:lastModifiedBy>
  <cp:lastPrinted>1904-01-01T00:00:00Z</cp:lastPrinted>
  <dcterms:modified xsi:type="dcterms:W3CDTF">2009-08-26T11:03:11Z</dcterms:modified>
  <cp:revision>10</cp:revision>
  <dc:subject/>
  <dc:title>Let’s Learn About Scotland</dc:title>
</cp:coreProperties>
</file>