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13.jpeg" ContentType="image/jpeg"/>
  <Override PartName="/ppt/media/image4.png" ContentType="image/pn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EB55-BBF4-447B-ABBB-47E919243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A099-F0C2-4AA9-801A-A8FEA0A0A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9BA3-FA24-4093-B35F-CC4ECA4D6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F825-1455-4118-8174-D87F864C1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30A5B-898D-443F-A891-7498EEDD2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E5A3C-36A8-4F4A-9104-13A9159FA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5A850-0942-4D5B-88B0-69239DCAE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0B954-0559-411D-B04C-E0B005FE4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D3888-58E7-41D1-B698-9877F50C2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9FE8F-809B-47DE-ADFA-40B6B7EDE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FD49B-9B71-41B1-9FB8-52B7A13C2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1FC4-2633-4650-B958-AF0AE762E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13908-65FE-4709-8FEE-CCCE903D4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F3152-C668-4807-9084-6713881D8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A0518-AE84-4FD6-8B01-DF2862340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4F595-4A1E-426D-AC0C-FB722FE04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CE7B8-5586-4A03-A443-0ECE48221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A9EF-8D59-40CE-9E51-EA2608011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E021-3C39-4F79-9100-F3D75B064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54FF-B806-4538-991F-BA9FC8092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96C3-6534-43AF-A4D4-51C526C82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0771-F434-4430-BEF8-E9E0ED494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3761-515B-4849-BC89-E4A46D8F2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C863-1792-4859-AD03-CCE6D88AD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ec7aa"/>
            </a:gs>
            <a:gs pos="50000">
              <a:srgbClr val="e9e6d9"/>
            </a:gs>
            <a:gs pos="100000">
              <a:srgbClr val="cec7a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228600" y="3348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666633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44DBC-9F7F-4619-80C6-EC98E57CDC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1054080" y="165240"/>
            <a:ext cx="7696080" cy="685800"/>
            <a:chOff x="1054080" y="165240"/>
            <a:chExt cx="7696080" cy="685800"/>
          </a:xfrm>
        </p:grpSpPr>
        <p:sp>
          <p:nvSpPr>
            <p:cNvPr id="7" name=""/>
            <p:cNvSpPr/>
            <p:nvPr/>
          </p:nvSpPr>
          <p:spPr>
            <a:xfrm>
              <a:off x="1054080" y="165240"/>
              <a:ext cx="7696080" cy="685800"/>
            </a:xfrm>
            <a:custGeom>
              <a:avLst/>
              <a:gdLst/>
              <a:ahLst/>
              <a:rect l="l" t="t" r="r" b="b"/>
              <a:pathLst>
                <a:path w="4848" h="432">
                  <a:moveTo>
                    <a:pt x="4848" y="48"/>
                  </a:moveTo>
                  <a:lnTo>
                    <a:pt x="4848" y="432"/>
                  </a:lnTo>
                  <a:cubicBezTo>
                    <a:pt x="4848" y="432"/>
                    <a:pt x="2424" y="432"/>
                    <a:pt x="0" y="432"/>
                  </a:cubicBezTo>
                  <a:cubicBezTo>
                    <a:pt x="161" y="345"/>
                    <a:pt x="169" y="61"/>
                    <a:pt x="0" y="0"/>
                  </a:cubicBezTo>
                  <a:cubicBezTo>
                    <a:pt x="2424" y="0"/>
                    <a:pt x="4848" y="0"/>
                    <a:pt x="4848" y="0"/>
                  </a:cubicBezTo>
                  <a:lnTo>
                    <a:pt x="4848" y="48"/>
                  </a:lnTo>
                  <a:close/>
                </a:path>
              </a:pathLst>
            </a:custGeom>
            <a:solidFill>
              <a:srgbClr val="b6ab82"/>
            </a:solidFill>
            <a:ln w="9360">
              <a:solidFill>
                <a:srgbClr val="cec7a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" name=""/>
            <p:cNvGrpSpPr/>
            <p:nvPr/>
          </p:nvGrpSpPr>
          <p:grpSpPr>
            <a:xfrm>
              <a:off x="1897200" y="165240"/>
              <a:ext cx="6075360" cy="680400"/>
              <a:chOff x="1897200" y="165240"/>
              <a:chExt cx="6075360" cy="680400"/>
            </a:xfrm>
          </p:grpSpPr>
          <p:grpSp>
            <p:nvGrpSpPr>
              <p:cNvPr id="9" name=""/>
              <p:cNvGrpSpPr/>
              <p:nvPr/>
            </p:nvGrpSpPr>
            <p:grpSpPr>
              <a:xfrm>
                <a:off x="1897200" y="166680"/>
                <a:ext cx="3505320" cy="677160"/>
                <a:chOff x="1897200" y="166680"/>
                <a:chExt cx="3505320" cy="677160"/>
              </a:xfrm>
            </p:grpSpPr>
            <p:sp>
              <p:nvSpPr>
                <p:cNvPr id="10" name=""/>
                <p:cNvSpPr/>
                <p:nvPr/>
              </p:nvSpPr>
              <p:spPr>
                <a:xfrm>
                  <a:off x="3859560" y="788400"/>
                  <a:ext cx="11160" cy="1260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3978360" y="831240"/>
                  <a:ext cx="14400" cy="1260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3642120" y="761400"/>
                  <a:ext cx="20520" cy="2196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840" bIns="-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3399120" y="782280"/>
                  <a:ext cx="17280" cy="756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240" bIns="-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3326040" y="791640"/>
                  <a:ext cx="44640" cy="2520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3279960" y="790200"/>
                  <a:ext cx="46080" cy="2484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3030840" y="651960"/>
                  <a:ext cx="239760" cy="14724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3177000" y="642600"/>
                  <a:ext cx="106200" cy="10764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3279960" y="691560"/>
                  <a:ext cx="74520" cy="2052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3276720" y="717120"/>
                  <a:ext cx="50760" cy="5364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3362760" y="686880"/>
                  <a:ext cx="25200" cy="3132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3368880" y="736200"/>
                  <a:ext cx="31680" cy="1548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3402360" y="712440"/>
                  <a:ext cx="41040" cy="2664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3413520" y="725040"/>
                  <a:ext cx="193680" cy="9648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3581640" y="734400"/>
                  <a:ext cx="52560" cy="4104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" name=""/>
                <p:cNvSpPr/>
                <p:nvPr/>
              </p:nvSpPr>
              <p:spPr>
                <a:xfrm>
                  <a:off x="3692880" y="647280"/>
                  <a:ext cx="12600" cy="900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800" bIns="-37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" name=""/>
                <p:cNvSpPr/>
                <p:nvPr/>
              </p:nvSpPr>
              <p:spPr>
                <a:xfrm>
                  <a:off x="3759480" y="710640"/>
                  <a:ext cx="17280" cy="1260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3545280" y="567720"/>
                  <a:ext cx="12600" cy="756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240" bIns="-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3432600" y="634680"/>
                  <a:ext cx="12600" cy="756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240" bIns="-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3308760" y="613800"/>
                  <a:ext cx="54000" cy="4248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291120" y="523440"/>
                  <a:ext cx="63360" cy="9180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306960" y="590040"/>
                  <a:ext cx="22320" cy="2664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3262680" y="596520"/>
                  <a:ext cx="29880" cy="2664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4927680" y="559800"/>
                  <a:ext cx="474840" cy="28404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4299120" y="167760"/>
                  <a:ext cx="666720" cy="44892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094280" y="489960"/>
                  <a:ext cx="24120" cy="2520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4075200" y="480600"/>
                  <a:ext cx="25560" cy="1872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4845240" y="428040"/>
                  <a:ext cx="115920" cy="5220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4967640" y="470880"/>
                  <a:ext cx="93600" cy="2376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918320" y="483840"/>
                  <a:ext cx="38160" cy="2160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892760" y="415440"/>
                  <a:ext cx="25560" cy="2808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720" bIns="-18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5094720" y="501120"/>
                  <a:ext cx="29880" cy="4248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4556520" y="175680"/>
                  <a:ext cx="325440" cy="6480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000" bIns="18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4268880" y="174240"/>
                  <a:ext cx="301680" cy="3132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3603960" y="220320"/>
                  <a:ext cx="28440" cy="1548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2826000" y="174240"/>
                  <a:ext cx="692280" cy="24084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3519720" y="166680"/>
                  <a:ext cx="31680" cy="867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960" bIns="39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3500640" y="239400"/>
                  <a:ext cx="93600" cy="5364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3400560" y="290160"/>
                  <a:ext cx="127080" cy="11376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84800" y="323280"/>
                  <a:ext cx="9720" cy="612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680" bIns="-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773440" y="401040"/>
                  <a:ext cx="551160" cy="29988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2870280" y="607680"/>
                  <a:ext cx="30240" cy="4572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80" bIns="-1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3292560" y="451800"/>
                  <a:ext cx="28800" cy="3780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3373560" y="433080"/>
                  <a:ext cx="14400" cy="1548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1897200" y="282240"/>
                  <a:ext cx="687600" cy="56160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2163960" y="493200"/>
                  <a:ext cx="258840" cy="35064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2619720" y="753480"/>
                  <a:ext cx="11160" cy="1872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>
                  <a:off x="2605320" y="572760"/>
                  <a:ext cx="14400" cy="108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00" bIns="-36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1978200" y="350280"/>
                  <a:ext cx="39600" cy="1548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2457720" y="204480"/>
                  <a:ext cx="468360" cy="36936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2138760" y="175680"/>
                  <a:ext cx="938160" cy="15048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2329200" y="231480"/>
                  <a:ext cx="20520" cy="1548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2305440" y="253440"/>
                  <a:ext cx="29880" cy="1728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2403720" y="318600"/>
                  <a:ext cx="50760" cy="93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440" bIns="-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2491200" y="317160"/>
                  <a:ext cx="28440" cy="2340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2257560" y="252000"/>
                  <a:ext cx="22320" cy="1548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" name=""/>
              <p:cNvGrpSpPr/>
              <p:nvPr/>
            </p:nvGrpSpPr>
            <p:grpSpPr>
              <a:xfrm>
                <a:off x="6164640" y="165240"/>
                <a:ext cx="1807920" cy="680400"/>
                <a:chOff x="6164640" y="165240"/>
                <a:chExt cx="1807920" cy="680400"/>
              </a:xfrm>
            </p:grpSpPr>
            <p:sp>
              <p:nvSpPr>
                <p:cNvPr id="67" name=""/>
                <p:cNvSpPr/>
                <p:nvPr/>
              </p:nvSpPr>
              <p:spPr>
                <a:xfrm>
                  <a:off x="7909200" y="761760"/>
                  <a:ext cx="20520" cy="2196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840" bIns="-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7666200" y="782640"/>
                  <a:ext cx="17640" cy="756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240" bIns="-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7593120" y="792000"/>
                  <a:ext cx="44640" cy="2520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7547400" y="790560"/>
                  <a:ext cx="45720" cy="2484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7297920" y="652320"/>
                  <a:ext cx="239760" cy="14724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7444080" y="642960"/>
                  <a:ext cx="106200" cy="10764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7547400" y="691920"/>
                  <a:ext cx="74520" cy="2052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7544160" y="717480"/>
                  <a:ext cx="50760" cy="5364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7629840" y="687240"/>
                  <a:ext cx="25200" cy="3132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7635960" y="736560"/>
                  <a:ext cx="32040" cy="1548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7669440" y="712800"/>
                  <a:ext cx="41400" cy="2664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7680600" y="725400"/>
                  <a:ext cx="193680" cy="9648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7848720" y="734760"/>
                  <a:ext cx="52560" cy="4104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7959960" y="647640"/>
                  <a:ext cx="12600" cy="900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800" bIns="-37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7812360" y="568080"/>
                  <a:ext cx="12600" cy="756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240" bIns="-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7699680" y="635040"/>
                  <a:ext cx="12600" cy="756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240" bIns="-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7575840" y="614160"/>
                  <a:ext cx="54000" cy="4248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7558200" y="523800"/>
                  <a:ext cx="63720" cy="9180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7574040" y="590400"/>
                  <a:ext cx="22320" cy="2664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7529760" y="596880"/>
                  <a:ext cx="30240" cy="2664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7871040" y="220680"/>
                  <a:ext cx="28440" cy="1548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7091640" y="174600"/>
                  <a:ext cx="695160" cy="240840"/>
                </a:xfrm>
                <a:custGeom>
                  <a:avLst/>
                  <a:gdLst/>
                  <a:ahLst/>
                  <a:rect l="l" t="t" r="r" b="b"/>
                  <a:pathLst>
                    <a:path w="438" h="152">
                      <a:moveTo>
                        <a:pt x="73" y="1"/>
                      </a:moveTo>
                      <a:lnTo>
                        <a:pt x="438" y="0"/>
                      </a:lnTo>
                      <a:cubicBezTo>
                        <a:pt x="432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7786800" y="165240"/>
                  <a:ext cx="32040" cy="8712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7767720" y="239760"/>
                  <a:ext cx="93960" cy="5364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7668000" y="290520"/>
                  <a:ext cx="126720" cy="11376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7751880" y="323640"/>
                  <a:ext cx="9720" cy="612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680" bIns="-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7040880" y="401400"/>
                  <a:ext cx="550800" cy="29988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7137720" y="608040"/>
                  <a:ext cx="30240" cy="4572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80" bIns="-1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7560000" y="452160"/>
                  <a:ext cx="28440" cy="3780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7641000" y="433440"/>
                  <a:ext cx="14040" cy="1548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6164640" y="284040"/>
                  <a:ext cx="687240" cy="56160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6431040" y="495360"/>
                  <a:ext cx="258840" cy="35028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6886800" y="753840"/>
                  <a:ext cx="11160" cy="1872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6872400" y="573120"/>
                  <a:ext cx="14400" cy="108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00" bIns="-36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6245640" y="350640"/>
                  <a:ext cx="39600" cy="1548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6724800" y="204840"/>
                  <a:ext cx="468360" cy="36936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6405840" y="176040"/>
                  <a:ext cx="938160" cy="15048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6596280" y="231840"/>
                  <a:ext cx="20520" cy="1548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6572520" y="253800"/>
                  <a:ext cx="30240" cy="1728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6670800" y="318960"/>
                  <a:ext cx="50760" cy="93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440" bIns="-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6758280" y="317520"/>
                  <a:ext cx="28440" cy="2340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6525000" y="252360"/>
                  <a:ext cx="21960" cy="1548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9" name=""/>
            <p:cNvGrpSpPr/>
            <p:nvPr/>
          </p:nvGrpSpPr>
          <p:grpSpPr>
            <a:xfrm>
              <a:off x="1266840" y="176040"/>
              <a:ext cx="7464240" cy="663840"/>
              <a:chOff x="1266840" y="176040"/>
              <a:chExt cx="7464240" cy="663840"/>
            </a:xfrm>
          </p:grpSpPr>
          <p:sp>
            <p:nvSpPr>
              <p:cNvPr id="110" name=""/>
              <p:cNvSpPr/>
              <p:nvPr/>
            </p:nvSpPr>
            <p:spPr>
              <a:xfrm>
                <a:off x="1266840" y="527040"/>
                <a:ext cx="7464240" cy="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1628640" y="176040"/>
                <a:ext cx="0" cy="66384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1990800" y="176040"/>
                <a:ext cx="0" cy="66384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352600" y="176040"/>
                <a:ext cx="0" cy="66384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714760" y="176040"/>
                <a:ext cx="0" cy="66384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076560" y="176040"/>
                <a:ext cx="0" cy="66384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438360" y="176040"/>
                <a:ext cx="0" cy="66384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3800520" y="176040"/>
                <a:ext cx="0" cy="66384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4162320" y="176040"/>
                <a:ext cx="0" cy="66384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4524480" y="176040"/>
                <a:ext cx="0" cy="66384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886280" y="176040"/>
                <a:ext cx="0" cy="66384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248440" y="176040"/>
                <a:ext cx="0" cy="66384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610240" y="176040"/>
                <a:ext cx="0" cy="66384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5972040" y="176040"/>
                <a:ext cx="0" cy="66384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6334200" y="176040"/>
                <a:ext cx="0" cy="66384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6696000" y="176040"/>
                <a:ext cx="0" cy="66384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058160" y="176040"/>
                <a:ext cx="0" cy="66384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7419960" y="176040"/>
                <a:ext cx="0" cy="66384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7781760" y="176040"/>
                <a:ext cx="0" cy="66384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8143920" y="176040"/>
                <a:ext cx="0" cy="66384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05720" y="176040"/>
                <a:ext cx="0" cy="66384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1917720" y="173160"/>
              <a:ext cx="5864040" cy="671040"/>
              <a:chOff x="1917720" y="173160"/>
              <a:chExt cx="5864040" cy="671040"/>
            </a:xfrm>
          </p:grpSpPr>
          <p:sp>
            <p:nvSpPr>
              <p:cNvPr id="132" name=""/>
              <p:cNvSpPr/>
              <p:nvPr/>
            </p:nvSpPr>
            <p:spPr>
              <a:xfrm>
                <a:off x="4524120" y="174600"/>
                <a:ext cx="0" cy="22500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717800" y="527040"/>
                <a:ext cx="111240" cy="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886280" y="555480"/>
                <a:ext cx="0" cy="4428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5248080" y="714240"/>
                <a:ext cx="0" cy="12492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6334200" y="352440"/>
                <a:ext cx="0" cy="28512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6184800" y="527040"/>
                <a:ext cx="552600" cy="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6696000" y="374400"/>
                <a:ext cx="0" cy="46656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flipV="1">
                <a:off x="6699240" y="177480"/>
                <a:ext cx="0" cy="7884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flipV="1">
                <a:off x="7057800" y="174240"/>
                <a:ext cx="0" cy="28836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flipH="1">
                <a:off x="7296120" y="527040"/>
                <a:ext cx="123840" cy="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flipH="1">
                <a:off x="7086240" y="527040"/>
                <a:ext cx="98280" cy="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flipV="1">
                <a:off x="7419960" y="174240"/>
                <a:ext cx="0" cy="42804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781760" y="745920"/>
                <a:ext cx="0" cy="5364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3438360" y="180720"/>
                <a:ext cx="0" cy="9828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076560" y="176040"/>
                <a:ext cx="0" cy="53460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flipH="1">
                <a:off x="3035160" y="527040"/>
                <a:ext cx="108000" cy="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2822400" y="527040"/>
                <a:ext cx="95400" cy="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flipH="1">
                <a:off x="2504880" y="527040"/>
                <a:ext cx="130320" cy="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1917720" y="527040"/>
                <a:ext cx="552240" cy="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2349360" y="371520"/>
                <a:ext cx="0" cy="47268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1990800" y="399960"/>
                <a:ext cx="0" cy="24732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flipV="1">
                <a:off x="2352600" y="173160"/>
                <a:ext cx="0" cy="4248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2714400" y="285480"/>
                <a:ext cx="0" cy="15228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V="1">
                <a:off x="2714400" y="176040"/>
                <a:ext cx="0" cy="3456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777000" y="525240"/>
                <a:ext cx="127080" cy="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6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"/>
          <p:cNvGrpSpPr/>
          <p:nvPr/>
        </p:nvGrpSpPr>
        <p:grpSpPr>
          <a:xfrm>
            <a:off x="0" y="-19080"/>
            <a:ext cx="9144000" cy="6877080"/>
            <a:chOff x="0" y="-19080"/>
            <a:chExt cx="9144000" cy="6877080"/>
          </a:xfrm>
        </p:grpSpPr>
        <p:sp>
          <p:nvSpPr>
            <p:cNvPr id="194" name=""/>
            <p:cNvSpPr/>
            <p:nvPr/>
          </p:nvSpPr>
          <p:spPr>
            <a:xfrm>
              <a:off x="1752480" y="1600200"/>
              <a:ext cx="7391520" cy="5257800"/>
            </a:xfrm>
            <a:prstGeom prst="rect">
              <a:avLst/>
            </a:prstGeom>
            <a:gradFill rotWithShape="0">
              <a:gsLst>
                <a:gs pos="0">
                  <a:srgbClr val="cec7aa"/>
                </a:gs>
                <a:gs pos="50000">
                  <a:srgbClr val="e9e6d9"/>
                </a:gs>
                <a:gs pos="100000">
                  <a:srgbClr val="cec7a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5" name=""/>
            <p:cNvGrpSpPr/>
            <p:nvPr/>
          </p:nvGrpSpPr>
          <p:grpSpPr>
            <a:xfrm>
              <a:off x="0" y="-19080"/>
              <a:ext cx="9144000" cy="1658880"/>
              <a:chOff x="0" y="-19080"/>
              <a:chExt cx="9144000" cy="1658880"/>
            </a:xfrm>
          </p:grpSpPr>
          <p:sp>
            <p:nvSpPr>
              <p:cNvPr id="196" name=""/>
              <p:cNvSpPr/>
              <p:nvPr/>
            </p:nvSpPr>
            <p:spPr>
              <a:xfrm>
                <a:off x="0" y="1800"/>
                <a:ext cx="9144000" cy="16380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32"/>
                    </a:moveTo>
                    <a:lnTo>
                      <a:pt x="0" y="432"/>
                    </a:lnTo>
                    <a:lnTo>
                      <a:pt x="0" y="0"/>
                    </a:lnTo>
                    <a:lnTo>
                      <a:pt x="4848" y="0"/>
                    </a:lnTo>
                    <a:lnTo>
                      <a:pt x="4848" y="432"/>
                    </a:lnTo>
                    <a:close/>
                  </a:path>
                </a:pathLst>
              </a:custGeom>
              <a:solidFill>
                <a:srgbClr val="b6ab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7" name=""/>
              <p:cNvGrpSpPr/>
              <p:nvPr/>
            </p:nvGrpSpPr>
            <p:grpSpPr>
              <a:xfrm>
                <a:off x="528480" y="-19080"/>
                <a:ext cx="8217000" cy="1657440"/>
                <a:chOff x="528480" y="-19080"/>
                <a:chExt cx="8217000" cy="1657440"/>
              </a:xfrm>
            </p:grpSpPr>
            <p:sp>
              <p:nvSpPr>
                <p:cNvPr id="198" name=""/>
                <p:cNvSpPr/>
                <p:nvPr/>
              </p:nvSpPr>
              <p:spPr>
                <a:xfrm>
                  <a:off x="5127480" y="150192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5407200" y="1606680"/>
                  <a:ext cx="33120" cy="3168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4618080" y="1436760"/>
                  <a:ext cx="49320" cy="5400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4049640" y="1487520"/>
                  <a:ext cx="39600" cy="1908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3878280" y="1509840"/>
                  <a:ext cx="103320" cy="6192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3770280" y="1506600"/>
                  <a:ext cx="108000" cy="6192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186000" y="1168560"/>
                  <a:ext cx="561960" cy="36180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3527280" y="1144800"/>
                  <a:ext cx="249480" cy="26496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3770280" y="1265400"/>
                  <a:ext cx="174600" cy="5076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3762360" y="1327320"/>
                  <a:ext cx="119160" cy="13320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3963960" y="1254240"/>
                  <a:ext cx="58680" cy="7776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3978360" y="1374840"/>
                  <a:ext cx="74520" cy="3816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4056120" y="1316160"/>
                  <a:ext cx="96840" cy="6660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4083120" y="1347840"/>
                  <a:ext cx="453960" cy="23652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4476600" y="1370160"/>
                  <a:ext cx="123840" cy="10152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4737240" y="1157400"/>
                  <a:ext cx="29880" cy="2232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4894200" y="1312920"/>
                  <a:ext cx="41400" cy="3024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4390920" y="963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4127400" y="1125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3836880" y="1074960"/>
                  <a:ext cx="127080" cy="10476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3795840" y="854280"/>
                  <a:ext cx="149040" cy="22536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3833640" y="1017720"/>
                  <a:ext cx="51120" cy="6516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3728880" y="1033560"/>
                  <a:ext cx="71640" cy="6516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7632720" y="943200"/>
                  <a:ext cx="1112760" cy="69516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6159600" y="-15840"/>
                  <a:ext cx="1562040" cy="109872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5678640" y="773280"/>
                  <a:ext cx="56880" cy="6192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634000" y="749520"/>
                  <a:ext cx="60480" cy="4608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7439040" y="620640"/>
                  <a:ext cx="271440" cy="12888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7726320" y="725400"/>
                  <a:ext cx="219240" cy="5904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7610400" y="757440"/>
                  <a:ext cx="88920" cy="5400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551720" y="590760"/>
                  <a:ext cx="58680" cy="6984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8023320" y="800280"/>
                  <a:ext cx="71280" cy="10476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6762600" y="4680"/>
                  <a:ext cx="762120" cy="15876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6087960" y="0"/>
                  <a:ext cx="708120" cy="7776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4529160" y="112680"/>
                  <a:ext cx="66600" cy="3996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2705040" y="0"/>
                  <a:ext cx="1622520" cy="59076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4332240" y="-19080"/>
                  <a:ext cx="74520" cy="2127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4287960" y="158760"/>
                  <a:ext cx="218880" cy="13356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4052880" y="284400"/>
                  <a:ext cx="297000" cy="27936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4249800" y="365040"/>
                  <a:ext cx="22320" cy="1620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2583000" y="555840"/>
                  <a:ext cx="1290600" cy="73332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2809800" y="1060560"/>
                  <a:ext cx="71640" cy="11268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3800520" y="679680"/>
                  <a:ext cx="66600" cy="9360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3989520" y="633600"/>
                  <a:ext cx="33120" cy="3816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528480" y="263520"/>
                  <a:ext cx="1611360" cy="137484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1154160" y="781200"/>
                  <a:ext cx="606240" cy="85716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2222640" y="1417680"/>
                  <a:ext cx="25200" cy="4608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2189160" y="974880"/>
                  <a:ext cx="33480" cy="270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719280" y="432000"/>
                  <a:ext cx="91800" cy="3816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1843200" y="74520"/>
                  <a:ext cx="1096920" cy="90360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1093680" y="4680"/>
                  <a:ext cx="2200320" cy="36864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1541520" y="139680"/>
                  <a:ext cx="47520" cy="399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1484280" y="193680"/>
                  <a:ext cx="71640" cy="4284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1716120" y="354240"/>
                  <a:ext cx="119160" cy="219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840" bIns="-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1920960" y="349200"/>
                  <a:ext cx="66600" cy="5904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1373040" y="190440"/>
                  <a:ext cx="52560" cy="381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4" name=""/>
              <p:cNvGrpSpPr/>
              <p:nvPr/>
            </p:nvGrpSpPr>
            <p:grpSpPr>
              <a:xfrm>
                <a:off x="11160" y="4680"/>
                <a:ext cx="9109800" cy="1621800"/>
                <a:chOff x="11160" y="4680"/>
                <a:chExt cx="9109800" cy="1621800"/>
              </a:xfrm>
            </p:grpSpPr>
            <p:sp>
              <p:nvSpPr>
                <p:cNvPr id="255" name=""/>
                <p:cNvSpPr/>
                <p:nvPr/>
              </p:nvSpPr>
              <p:spPr>
                <a:xfrm>
                  <a:off x="11160" y="862200"/>
                  <a:ext cx="9109800" cy="0"/>
                </a:xfrm>
                <a:prstGeom prst="line">
                  <a:avLst/>
                </a:prstGeom>
                <a:ln w="9360">
                  <a:solidFill>
                    <a:srgbClr val="a092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7477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a092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15958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a092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24447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a092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32929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a092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41410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a092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49899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a092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58381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a092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6870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a092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75351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a092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83844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a092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6" name=""/>
              <p:cNvGrpSpPr/>
              <p:nvPr/>
            </p:nvGrpSpPr>
            <p:grpSpPr>
              <a:xfrm>
                <a:off x="576360" y="-3240"/>
                <a:ext cx="7808040" cy="1640520"/>
                <a:chOff x="576360" y="-3240"/>
                <a:chExt cx="7808040" cy="1640520"/>
              </a:xfrm>
            </p:grpSpPr>
            <p:sp>
              <p:nvSpPr>
                <p:cNvPr id="267" name=""/>
                <p:cNvSpPr/>
                <p:nvPr/>
              </p:nvSpPr>
              <p:spPr>
                <a:xfrm>
                  <a:off x="6687360" y="0"/>
                  <a:ext cx="0" cy="550800"/>
                </a:xfrm>
                <a:prstGeom prst="line">
                  <a:avLst/>
                </a:prstGeom>
                <a:ln w="9360">
                  <a:solidFill>
                    <a:srgbClr val="b6ab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7141320" y="861480"/>
                  <a:ext cx="259920" cy="0"/>
                </a:xfrm>
                <a:prstGeom prst="line">
                  <a:avLst/>
                </a:prstGeom>
                <a:ln w="9360">
                  <a:solidFill>
                    <a:srgbClr val="b6ab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7535520" y="930960"/>
                  <a:ext cx="0" cy="109080"/>
                </a:xfrm>
                <a:prstGeom prst="line">
                  <a:avLst/>
                </a:prstGeom>
                <a:ln w="9360">
                  <a:solidFill>
                    <a:srgbClr val="b6ab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8384400" y="1319040"/>
                  <a:ext cx="0" cy="307080"/>
                </a:xfrm>
                <a:prstGeom prst="line">
                  <a:avLst/>
                </a:prstGeom>
                <a:ln w="9360">
                  <a:solidFill>
                    <a:srgbClr val="b6ab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4141080" y="15840"/>
                  <a:ext cx="0" cy="240120"/>
                </a:xfrm>
                <a:prstGeom prst="line">
                  <a:avLst/>
                </a:prstGeom>
                <a:ln w="9360">
                  <a:solidFill>
                    <a:srgbClr val="b6ab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3292920" y="3600"/>
                  <a:ext cx="0" cy="1308240"/>
                </a:xfrm>
                <a:prstGeom prst="line">
                  <a:avLst/>
                </a:prstGeom>
                <a:ln w="9360">
                  <a:solidFill>
                    <a:srgbClr val="b6ab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 flipH="1">
                  <a:off x="3195360" y="861480"/>
                  <a:ext cx="253080" cy="0"/>
                </a:xfrm>
                <a:prstGeom prst="line">
                  <a:avLst/>
                </a:prstGeom>
                <a:ln w="9360">
                  <a:solidFill>
                    <a:srgbClr val="b6ab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2697120" y="861480"/>
                  <a:ext cx="223560" cy="0"/>
                </a:xfrm>
                <a:prstGeom prst="line">
                  <a:avLst/>
                </a:prstGeom>
                <a:ln w="9360">
                  <a:solidFill>
                    <a:srgbClr val="b6ab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 flipH="1">
                  <a:off x="1953360" y="861480"/>
                  <a:ext cx="304560" cy="0"/>
                </a:xfrm>
                <a:prstGeom prst="line">
                  <a:avLst/>
                </a:prstGeom>
                <a:ln w="9360">
                  <a:solidFill>
                    <a:srgbClr val="b6ab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576360" y="861480"/>
                  <a:ext cx="1295280" cy="0"/>
                </a:xfrm>
                <a:prstGeom prst="line">
                  <a:avLst/>
                </a:prstGeom>
                <a:ln w="9360">
                  <a:solidFill>
                    <a:srgbClr val="b6ab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1587960" y="481320"/>
                  <a:ext cx="0" cy="1155960"/>
                </a:xfrm>
                <a:prstGeom prst="line">
                  <a:avLst/>
                </a:prstGeom>
                <a:ln w="9360">
                  <a:solidFill>
                    <a:srgbClr val="b6ab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747360" y="550800"/>
                  <a:ext cx="0" cy="605160"/>
                </a:xfrm>
                <a:prstGeom prst="line">
                  <a:avLst/>
                </a:prstGeom>
                <a:ln w="9360">
                  <a:solidFill>
                    <a:srgbClr val="b6ab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 flipV="1">
                  <a:off x="1595520" y="-3240"/>
                  <a:ext cx="0" cy="104400"/>
                </a:xfrm>
                <a:prstGeom prst="line">
                  <a:avLst/>
                </a:prstGeom>
                <a:ln w="9360">
                  <a:solidFill>
                    <a:srgbClr val="b6ab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2444760" y="272160"/>
                  <a:ext cx="0" cy="371880"/>
                </a:xfrm>
                <a:prstGeom prst="line">
                  <a:avLst/>
                </a:prstGeom>
                <a:ln w="9360">
                  <a:solidFill>
                    <a:srgbClr val="b6ab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 flipV="1">
                  <a:off x="2444760" y="3240"/>
                  <a:ext cx="0" cy="85320"/>
                </a:xfrm>
                <a:prstGeom prst="line">
                  <a:avLst/>
                </a:prstGeom>
                <a:ln w="9360">
                  <a:solidFill>
                    <a:srgbClr val="b6ab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11924-3F86-4EE6-9F58-E3C37E851F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2"/>
          <a:stretch/>
        </p:blipFill>
        <p:spPr>
          <a:xfrm>
            <a:off x="511200" y="2460600"/>
            <a:ext cx="1066680" cy="1066680"/>
          </a:xfrm>
          <a:prstGeom prst="rect">
            <a:avLst/>
          </a:prstGeom>
          <a:ln w="0">
            <a:noFill/>
          </a:ln>
        </p:spPr>
      </p:pic>
      <p:sp>
        <p:nvSpPr>
          <p:cNvPr id="28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6633"/>
              </a:buClr>
              <a:buFont typeface="Helvetic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6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6633"/>
                </a:solidFill>
                <a:latin typeface="Times New Roman"/>
              </a:rPr>
              <a:t>Let’s Learn About Scotland</a:t>
            </a:r>
            <a:endParaRPr b="0" i="1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2819520" y="3581280"/>
            <a:ext cx="3855960" cy="23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ec7aa"/>
            </a:gs>
            <a:gs pos="50000">
              <a:srgbClr val="e9e6d9"/>
            </a:gs>
            <a:gs pos="100000">
              <a:srgbClr val="cec7a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6633"/>
                </a:solidFill>
                <a:latin typeface="Times New Roman"/>
              </a:rPr>
              <a:t>What Scottish Kids Do</a:t>
            </a:r>
            <a:endParaRPr b="0" i="1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cottish kids enjoy many sports. They play football, soccer, rugby, squash and gol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y like to bicycle, hike and fish in the summer. In the winter they ski and sl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ec7aa"/>
            </a:gs>
            <a:gs pos="50000">
              <a:srgbClr val="e9e6d9"/>
            </a:gs>
            <a:gs pos="100000">
              <a:srgbClr val="cec7a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6633"/>
                </a:solidFill>
                <a:latin typeface="Times New Roman"/>
              </a:rPr>
              <a:t>Scotland’s Important People</a:t>
            </a:r>
            <a:endParaRPr b="0" i="1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lexander Graham Bell - inventor of the teleph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ndrew Carnegie -came to the U.S. and made a fortune in the iron and steel business. He gave money to build many of our librar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an Connery - an actor who starred the in the first James Bond mov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r Arthur Conan Doyle - the author of Sherlock Holmes myster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heena Easton - famous pop sin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aptain Kidd - a famous pi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John Muir -founded our U.S. National Park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obert Louis Stevenson - author of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Treasure Is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ec7aa"/>
            </a:gs>
            <a:gs pos="50000">
              <a:srgbClr val="e9e6d9"/>
            </a:gs>
            <a:gs pos="100000">
              <a:srgbClr val="cec7a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6633"/>
                </a:solidFill>
                <a:latin typeface="Times New Roman"/>
              </a:rPr>
              <a:t>Scotland is famous for…</a:t>
            </a:r>
            <a:endParaRPr b="0" i="1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678168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aggis- a food made from the organs of sheep and oatme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Kilts - traditional Scottish woolen cloth costume with a tartan or plaid pattern. This is a skirt that men wea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agpipers - people who play the bagpipes, a traditional Scottish instr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4"/>
          <a:stretch/>
        </p:blipFill>
        <p:spPr>
          <a:xfrm>
            <a:off x="6095880" y="4800600"/>
            <a:ext cx="2465640" cy="16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ec7aa"/>
            </a:gs>
            <a:gs pos="50000">
              <a:srgbClr val="e9e6d9"/>
            </a:gs>
            <a:gs pos="100000">
              <a:srgbClr val="cec7a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6633"/>
                </a:solidFill>
                <a:latin typeface="Times New Roman"/>
              </a:rPr>
              <a:t>Scottish Culture</a:t>
            </a:r>
            <a:endParaRPr b="0" i="1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80880" y="312372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ots celebrate many holiday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2"/>
          <a:stretch/>
        </p:blipFill>
        <p:spPr>
          <a:xfrm>
            <a:off x="4876920" y="990720"/>
            <a:ext cx="2590560" cy="2116080"/>
          </a:xfrm>
          <a:prstGeom prst="rect">
            <a:avLst/>
          </a:prstGeom>
          <a:ln w="0">
            <a:noFill/>
          </a:ln>
        </p:spPr>
      </p:pic>
      <p:pic>
        <p:nvPicPr>
          <p:cNvPr id="366" name="" descr=""/>
          <p:cNvPicPr/>
          <p:nvPr/>
        </p:nvPicPr>
        <p:blipFill>
          <a:blip r:embed="rId3"/>
          <a:stretch/>
        </p:blipFill>
        <p:spPr>
          <a:xfrm>
            <a:off x="2666880" y="4114800"/>
            <a:ext cx="1981440" cy="148608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762120" y="5808600"/>
            <a:ext cx="6476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ottish families are called clans and each clan has a special plaid to show what their family is. These are the plaids on their kil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ec7aa"/>
            </a:gs>
            <a:gs pos="50000">
              <a:srgbClr val="e9e6d9"/>
            </a:gs>
            <a:gs pos="100000">
              <a:srgbClr val="cec7a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6633"/>
                </a:solidFill>
                <a:latin typeface="Times New Roman"/>
              </a:rPr>
              <a:t>What Scots Like to Eat</a:t>
            </a:r>
            <a:endParaRPr b="0" i="1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685800" y="3124080"/>
            <a:ext cx="2868480" cy="3075120"/>
          </a:xfrm>
          <a:prstGeom prst="rect">
            <a:avLst/>
          </a:prstGeom>
          <a:ln w="0">
            <a:noFill/>
          </a:ln>
        </p:spPr>
      </p:pic>
      <p:pic>
        <p:nvPicPr>
          <p:cNvPr id="370" name="" descr=""/>
          <p:cNvPicPr/>
          <p:nvPr/>
        </p:nvPicPr>
        <p:blipFill>
          <a:blip r:embed="rId2"/>
          <a:stretch/>
        </p:blipFill>
        <p:spPr>
          <a:xfrm>
            <a:off x="5181480" y="3048120"/>
            <a:ext cx="3200400" cy="31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ec7aa"/>
            </a:gs>
            <a:gs pos="50000">
              <a:srgbClr val="e9e6d9"/>
            </a:gs>
            <a:gs pos="100000">
              <a:srgbClr val="cec7a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6633"/>
                </a:solidFill>
                <a:latin typeface="Times New Roman"/>
              </a:rPr>
              <a:t>Where is Scotland?</a:t>
            </a:r>
            <a:endParaRPr b="0" i="1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2362320" y="2743200"/>
            <a:ext cx="5029200" cy="371952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/>
          <p:nvPr/>
        </p:nvSpPr>
        <p:spPr>
          <a:xfrm flipV="1">
            <a:off x="1295280" y="4267080"/>
            <a:ext cx="312444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ec7aa"/>
            </a:gs>
            <a:gs pos="50000">
              <a:srgbClr val="e9e6d9"/>
            </a:gs>
            <a:gs pos="100000">
              <a:srgbClr val="cec7a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6633"/>
                </a:solidFill>
                <a:latin typeface="Times New Roman"/>
              </a:rPr>
              <a:t>Map of Scotland</a:t>
            </a:r>
            <a:endParaRPr b="0" i="1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1"/>
          <a:stretch/>
        </p:blipFill>
        <p:spPr>
          <a:xfrm>
            <a:off x="2895480" y="1828800"/>
            <a:ext cx="4118040" cy="41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ec7aa"/>
            </a:gs>
            <a:gs pos="50000">
              <a:srgbClr val="e9e6d9"/>
            </a:gs>
            <a:gs pos="100000">
              <a:srgbClr val="cec7a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6633"/>
                </a:solidFill>
                <a:latin typeface="Times New Roman"/>
              </a:rPr>
              <a:t>A Few Facts About Scotland</a:t>
            </a:r>
            <a:endParaRPr b="0" i="1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capital of Scotland is Edinburg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money used is called the pound sterl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population of Scotland is 4,996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language spoken is Englis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cotland is part of the United Kingd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ec7aa"/>
            </a:gs>
            <a:gs pos="50000">
              <a:srgbClr val="e9e6d9"/>
            </a:gs>
            <a:gs pos="100000">
              <a:srgbClr val="cec7a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6633"/>
                </a:solidFill>
                <a:latin typeface="Times New Roman"/>
              </a:rPr>
              <a:t>Let’s Visit Some Important Cities in Scotland</a:t>
            </a:r>
            <a:endParaRPr b="0" i="1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80520" y="2438280"/>
            <a:ext cx="2667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dinbur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694600" y="5715000"/>
            <a:ext cx="421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dinburgh is the capital c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609480" y="3352680"/>
            <a:ext cx="2465640" cy="170352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3657600" y="2438280"/>
            <a:ext cx="2465280" cy="209736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3"/>
          <a:stretch/>
        </p:blipFill>
        <p:spPr>
          <a:xfrm>
            <a:off x="6248520" y="1523880"/>
            <a:ext cx="2465280" cy="18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ec7aa"/>
            </a:gs>
            <a:gs pos="50000">
              <a:srgbClr val="e9e6d9"/>
            </a:gs>
            <a:gs pos="100000">
              <a:srgbClr val="cec7a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/>
          </p:nvPr>
        </p:nvSpPr>
        <p:spPr>
          <a:xfrm>
            <a:off x="3276720" y="990720"/>
            <a:ext cx="2209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asg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2"/>
          <a:stretch/>
        </p:blipFill>
        <p:spPr>
          <a:xfrm>
            <a:off x="533520" y="1752480"/>
            <a:ext cx="3276360" cy="2202120"/>
          </a:xfrm>
          <a:prstGeom prst="rect">
            <a:avLst/>
          </a:prstGeom>
          <a:ln w="0">
            <a:noFill/>
          </a:ln>
        </p:spPr>
      </p:pic>
      <p:pic>
        <p:nvPicPr>
          <p:cNvPr id="341" name="" descr=""/>
          <p:cNvPicPr/>
          <p:nvPr/>
        </p:nvPicPr>
        <p:blipFill>
          <a:blip r:embed="rId3"/>
          <a:stretch/>
        </p:blipFill>
        <p:spPr>
          <a:xfrm>
            <a:off x="5562720" y="1219320"/>
            <a:ext cx="3276360" cy="234144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4"/>
          <a:stretch/>
        </p:blipFill>
        <p:spPr>
          <a:xfrm>
            <a:off x="5562720" y="3886200"/>
            <a:ext cx="3322440" cy="237348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/>
          <p:cNvPicPr/>
          <p:nvPr/>
        </p:nvPicPr>
        <p:blipFill>
          <a:blip r:embed="rId5"/>
          <a:stretch/>
        </p:blipFill>
        <p:spPr>
          <a:xfrm>
            <a:off x="1066680" y="4191120"/>
            <a:ext cx="1594080" cy="22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ec7aa"/>
            </a:gs>
            <a:gs pos="50000">
              <a:srgbClr val="e9e6d9"/>
            </a:gs>
            <a:gs pos="100000">
              <a:srgbClr val="cec7a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6633"/>
                </a:solidFill>
                <a:latin typeface="Times New Roman"/>
              </a:rPr>
              <a:t>Famous Sights in Scotland</a:t>
            </a:r>
            <a:endParaRPr b="0" i="1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2286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tirling Cas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2"/>
          <a:stretch/>
        </p:blipFill>
        <p:spPr>
          <a:xfrm>
            <a:off x="3338640" y="2527200"/>
            <a:ext cx="2465280" cy="180180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/>
          <p:nvPr/>
        </p:nvSpPr>
        <p:spPr>
          <a:xfrm>
            <a:off x="3048120" y="4487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0" y="5181480"/>
            <a:ext cx="87710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irling Castle is from medieval times and is near Edinburg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t is open to visit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ec7aa"/>
            </a:gs>
            <a:gs pos="50000">
              <a:srgbClr val="e9e6d9"/>
            </a:gs>
            <a:gs pos="100000">
              <a:srgbClr val="cec7a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/>
          </p:nvPr>
        </p:nvSpPr>
        <p:spPr>
          <a:xfrm>
            <a:off x="685440" y="1142640"/>
            <a:ext cx="7620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-24336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amous Castles and Historic Ho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2"/>
          <a:stretch/>
        </p:blipFill>
        <p:spPr>
          <a:xfrm>
            <a:off x="838080" y="3200400"/>
            <a:ext cx="3810240" cy="285768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3"/>
          <a:stretch/>
        </p:blipFill>
        <p:spPr>
          <a:xfrm>
            <a:off x="5943600" y="3200400"/>
            <a:ext cx="2332080" cy="289548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/>
          <p:nvPr/>
        </p:nvSpPr>
        <p:spPr>
          <a:xfrm>
            <a:off x="6019920" y="6324480"/>
            <a:ext cx="234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ec7aa"/>
            </a:gs>
            <a:gs pos="50000">
              <a:srgbClr val="e9e6d9"/>
            </a:gs>
            <a:gs pos="100000">
              <a:srgbClr val="cec7a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/>
          </p:nvPr>
        </p:nvSpPr>
        <p:spPr>
          <a:xfrm>
            <a:off x="609480" y="1295280"/>
            <a:ext cx="79250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Ancient Stones of Scot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2"/>
          <a:stretch/>
        </p:blipFill>
        <p:spPr>
          <a:xfrm>
            <a:off x="609480" y="3352680"/>
            <a:ext cx="3505320" cy="234000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3"/>
          <a:stretch/>
        </p:blipFill>
        <p:spPr>
          <a:xfrm>
            <a:off x="5029200" y="3429000"/>
            <a:ext cx="327672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04-01-01T00:00:00Z</dcterms:created>
  <dc:creator/>
  <dc:description/>
  <dc:language>en-US</dc:language>
  <cp:lastModifiedBy>Elena</cp:lastModifiedBy>
  <cp:lastPrinted>1904-01-01T00:00:00Z</cp:lastPrinted>
  <dcterms:modified xsi:type="dcterms:W3CDTF">2009-08-26T11:03:11Z</dcterms:modified>
  <cp:revision>10</cp:revision>
  <dc:subject/>
  <dc:title>Let’s Learn About Scotland</dc:title>
</cp:coreProperties>
</file>