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D059-4FBD-4C18-A9D6-144D0303B1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2115-DCD0-4F2B-8FA6-31C8A701741E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430-0238-4E59-8313-AB57A629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CB7-5A34-4D66-80E3-3186D8A9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839-667D-4CCD-85DC-930995FB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5ED-A1E4-450D-BB31-C3FEA87F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021C-EF51-4C4E-967E-3244E3AA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5E53-A68A-4DFA-8E86-60E9F1F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DEAA-DF08-4219-9FF0-5586FC9A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E4B0-E950-49A6-93BD-9366C2D3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2901-60BA-4305-B96D-440B1C3F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DFD4-F630-4691-B3AB-5C8752B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C409-F277-4B64-A9B2-3D94E7AC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CA3-F0E1-45E3-B440-6FB65CAC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1986-0B2E-445C-AACF-62EBEF86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034C-CBFF-460F-B1AF-4BD9E0C6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48A2-CC7A-4E32-A45F-273C54C6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D110-B7ED-4359-A867-FC868080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9022-CF99-4448-B218-3CFE5F8B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8E3-365F-42D1-B545-04615BB0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7D1-A6DF-44A9-BC9E-014AA790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5F4-99F5-4778-9A67-ACF3785D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345-3A9B-4CBF-8A49-6B411C1F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433-D572-4B6A-8D1B-27EC464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200-836D-426E-999F-6C4D5C8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BA9-78A9-47D4-8922-7DEC66F4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f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83620"/>
                </a:gs>
                <a:gs pos="50000">
                  <a:srgbClr val="787446"/>
                </a:gs>
                <a:gs pos="100000">
                  <a:srgbClr val="3836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8744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Никитина Е. 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4856-D7A1-4816-9CD2-41761DBA30A9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f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787446"/>
                </a:gs>
                <a:gs pos="50000">
                  <a:srgbClr val="383620"/>
                </a:gs>
                <a:gs pos="100000">
                  <a:srgbClr val="7874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8744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Никитина Е. 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3276-1DDA-4DB2-A7E7-1EEA9349674D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371600" y="533520"/>
            <a:ext cx="7315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нквейн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 другие интересные малые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ихотворные формы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20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62028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Час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ручные…Настенные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дут…Стоят…Опаздывают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есконечность временного пространства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ечность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Петрова Маша, 6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9000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748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им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нежная. Холодная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лится, морозит, вьюжит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Три месяца долгой стужи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лодейка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совместное тв-во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Утро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Ясное, морозно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Рассветает, радуется, «яснеет»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аждый день, неделю, год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Лучшее!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Гуменюк Коля, 6б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3000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605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Час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таринные, черны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пешат, идут, тикают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Успокоение души и мыслей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ечные!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Кузнецова Таня, 6б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Час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Скорые, быстры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Всё тикают, бегут, спешат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Каждый день за движением следят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Сторож времени!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          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Каменюк Даша, 6б              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0000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имерик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« нонсенс»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«нелепица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259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4" descr="Рисунок5"/>
          <p:cNvPicPr/>
          <p:nvPr/>
        </p:nvPicPr>
        <p:blipFill>
          <a:blip r:embed="rId1"/>
          <a:stretch/>
        </p:blipFill>
        <p:spPr>
          <a:xfrm>
            <a:off x="1619280" y="3789360"/>
            <a:ext cx="2808360" cy="287964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9000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748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СХЕМА ЛИМЕРИ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1 строка –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герой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 строка –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его характеристи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3, 4 строки –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действия геро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5 строка –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итоговая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      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характеристи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---------------------------------------------------------------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Можно использовать любые части речи в любом объеме!!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6000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59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Жил да был старик болотный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здорный дед и тягомотный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 колоде он сидел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ягушонку песни пел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ъедливый старик болотный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0000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Ast126"/>
              </a:rPr>
              <a:t>ЦЗАЦУ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74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комические (и не только!) изречения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китайских писателе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, перечень ситуаций, объединенных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одним названием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radley Hand ITC"/>
              </a:rPr>
              <a:t>Жалко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radley Hand ITC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Bradley Hand ITC"/>
              </a:rPr>
              <a:t>Когда засыхает цветок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radley Hand ITC"/>
              </a:rPr>
              <a:t>Когда тратишь время впустую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radley Hand ITC"/>
              </a:rPr>
              <a:t>Когда теряешь близкого друга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………………………………………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6000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ИНКВЕЙН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– малая стихотворная форма, используемая для фиксации эмоциональных оценок, описания своих текущих впечатлений, ощущений, ассоциаций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ИНКВЕЙН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– короткое литературное произведение, характеризующее предмет (тему), состоящее из пяти строк, которое пишется по определённому плану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3000">
    <p:pull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1 строка – одно слово – название стихотворения, обычно существительно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 строка – два слова (прилагательные). Описание тем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3 строка – три слова (глаголы). Действия, относящиеся к тем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4 строка – четыре слова – предложение. Фраза, которая показывает отношение автора к тем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5 строка – одно слово – ассоциация, которая повторяет суть темы, обычно существительно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1600200" y="68580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авила написания синквейна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Нижний колонтитул 6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32000">
    <p:pull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9524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роится и растё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Красивый, весёлый, старинн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Я люблю свой город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один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34099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16" descr="i?id=33502811"/>
          <p:cNvPicPr/>
          <p:nvPr/>
        </p:nvPicPr>
        <p:blipFill>
          <a:blip r:embed="rId1"/>
          <a:stretch/>
        </p:blipFill>
        <p:spPr>
          <a:xfrm>
            <a:off x="6705720" y="4495680"/>
            <a:ext cx="153180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7"/>
          <p:cNvSpPr/>
          <p:nvPr/>
        </p:nvSpPr>
        <p:spPr>
          <a:xfrm>
            <a:off x="-57312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-1440" y="2732040"/>
            <a:ext cx="9148680" cy="1387440"/>
            <a:chOff x="-1440" y="2732040"/>
            <a:chExt cx="9148680" cy="1387440"/>
          </a:xfrm>
        </p:grpSpPr>
        <p:sp>
          <p:nvSpPr>
            <p:cNvPr id="127" name="Rectangle 18"/>
            <p:cNvSpPr/>
            <p:nvPr/>
          </p:nvSpPr>
          <p:spPr>
            <a:xfrm>
              <a:off x="-1440" y="2732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-1440" y="2732040"/>
              <a:ext cx="914868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85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9" name="Picture 20" descr="7"/>
          <p:cNvPicPr/>
          <p:nvPr/>
        </p:nvPicPr>
        <p:blipFill>
          <a:blip r:embed="rId2"/>
          <a:stretch/>
        </p:blipFill>
        <p:spPr>
          <a:xfrm>
            <a:off x="1905120" y="5181480"/>
            <a:ext cx="3429000" cy="1349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2"/>
          <p:cNvSpPr/>
          <p:nvPr/>
        </p:nvSpPr>
        <p:spPr>
          <a:xfrm>
            <a:off x="327168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Picture 24" descr="i?id=17693189"/>
          <p:cNvPicPr/>
          <p:nvPr/>
        </p:nvPicPr>
        <p:blipFill>
          <a:blip r:embed="rId3"/>
          <a:stretch/>
        </p:blipFill>
        <p:spPr>
          <a:xfrm>
            <a:off x="7467480" y="762120"/>
            <a:ext cx="1121040" cy="115416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14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7000">
    <p:pull dir="l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Санкт-Петербур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552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ольшой, красив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оит, растёт, хорошее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ш город очень красив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арик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13372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6" name="Picture 7" descr="ph_l_281"/>
          <p:cNvPicPr/>
          <p:nvPr/>
        </p:nvPicPr>
        <p:blipFill>
          <a:blip r:embed="rId1"/>
          <a:stretch/>
        </p:blipFill>
        <p:spPr>
          <a:xfrm>
            <a:off x="6813720" y="1600200"/>
            <a:ext cx="2330280" cy="35053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5000">
    <p:pull dir="l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р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ранная, красива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адует, огорчает и удивляе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шу природу надо беречь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лшебниц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-571680" y="1828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0" y="1828800"/>
            <a:ext cx="9145440" cy="3110040"/>
            <a:chOff x="0" y="1828800"/>
            <a:chExt cx="9145440" cy="3110040"/>
          </a:xfrm>
        </p:grpSpPr>
        <p:sp>
          <p:nvSpPr>
            <p:cNvPr id="142" name="Rectangle 5"/>
            <p:cNvSpPr/>
            <p:nvPr/>
          </p:nvSpPr>
          <p:spPr>
            <a:xfrm>
              <a:off x="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0" y="1828800"/>
              <a:ext cx="914544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198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44" name="Picture 7" descr="Nt351"/>
          <p:cNvPicPr/>
          <p:nvPr/>
        </p:nvPicPr>
        <p:blipFill>
          <a:blip r:embed="rId1"/>
          <a:stretch/>
        </p:blipFill>
        <p:spPr>
          <a:xfrm>
            <a:off x="1676520" y="4800600"/>
            <a:ext cx="6933960" cy="190512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10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2000">
    <p:pull dir="l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3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3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3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3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3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Цве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Замечательный и красив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астёт, развивается, гибне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юбит, чтобы его поливал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о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-57312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228600" y="2057400"/>
            <a:ext cx="9147240" cy="2286000"/>
            <a:chOff x="228600" y="2057400"/>
            <a:chExt cx="9147240" cy="2286000"/>
          </a:xfrm>
        </p:grpSpPr>
        <p:sp>
          <p:nvSpPr>
            <p:cNvPr id="150" name="Rectangle 5"/>
            <p:cNvSpPr/>
            <p:nvPr/>
          </p:nvSpPr>
          <p:spPr>
            <a:xfrm>
              <a:off x="228600" y="2057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228600" y="2057400"/>
              <a:ext cx="91472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</a:t>
              </a:r>
              <a:r>
                <a:rPr b="0" lang="ru-RU" sz="1000" spc="-1" strike="noStrike">
                  <a:solidFill>
                    <a:srgbClr val="333333"/>
                  </a:solidFill>
                  <a:latin typeface="Times New Roman"/>
                </a:rPr>
                <a:t>             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52" name="Picture 7" descr="pic170"/>
          <p:cNvPicPr/>
          <p:nvPr/>
        </p:nvPicPr>
        <p:blipFill>
          <a:blip r:embed="rId1"/>
          <a:stretch/>
        </p:blipFill>
        <p:spPr>
          <a:xfrm>
            <a:off x="5410080" y="426708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5000">
    <p:pull dir="l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75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75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75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75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75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75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75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9933ff"/>
                </a:solidFill>
                <a:latin typeface="Arial"/>
              </a:rPr>
              <a:t>Вол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Жадный и хвастлив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ёт, лежит, ес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Зачем хозяин слушал волка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евец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571680" y="155412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0" y="1554120"/>
            <a:ext cx="9145440" cy="3643200"/>
            <a:chOff x="0" y="1554120"/>
            <a:chExt cx="9145440" cy="3643200"/>
          </a:xfrm>
        </p:grpSpPr>
        <p:sp>
          <p:nvSpPr>
            <p:cNvPr id="158" name="Rectangle 5"/>
            <p:cNvSpPr/>
            <p:nvPr/>
          </p:nvSpPr>
          <p:spPr>
            <a:xfrm>
              <a:off x="0" y="1554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0" y="1554120"/>
              <a:ext cx="9145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233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60" name="Picture 7" descr="volk"/>
          <p:cNvPicPr/>
          <p:nvPr/>
        </p:nvPicPr>
        <p:blipFill>
          <a:blip r:embed="rId1"/>
          <a:stretch/>
        </p:blipFill>
        <p:spPr>
          <a:xfrm>
            <a:off x="6553080" y="3657600"/>
            <a:ext cx="2362320" cy="29415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10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748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инквейны моих дет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748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Час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егут, звенят, будя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езжалостные, властные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икогда не пощадят никого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ластители!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рыксина Настя, 6а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0000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21:52:06Z</dcterms:created>
  <dc:creator>Разживина Елена Александровна</dc:creator>
  <dc:description/>
  <dc:language>en-US</dc:language>
  <cp:lastModifiedBy>1111</cp:lastModifiedBy>
  <dcterms:modified xsi:type="dcterms:W3CDTF">2015-02-05T08:55:16Z</dcterms:modified>
  <cp:revision>21</cp:revision>
  <dc:subject/>
  <dc:title>Презентация PowerPoint</dc:title>
</cp:coreProperties>
</file>