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3D4F-D7BA-4A77-9485-E7C1A1D2A0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3DC1-4A0E-45B9-AA26-BFB358A382E8}" type="slidenum">
              <a:rPr b="0" lang="ru-RU" sz="12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D62-778D-45A8-8A42-EC32247E1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6D2-B4E7-4CBA-B75E-34C880EC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0B76-0556-4761-93D3-56787F67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D6BF-33D5-48DE-A388-F032D601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E000-82D2-4AB9-A0D8-6F71564B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EF35-B065-4DAB-9BCD-563BF00E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49DF-A993-4A47-B753-9EADF55D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88A0-9D13-4E7C-8310-0B40396E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2234-606B-4C1B-ADAC-7D6C284F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0DE6-FEF2-47E0-BFFA-119CD5FF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E615-E540-42FA-B685-23514907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FB4-C85D-4CB3-A78D-D5C1CABD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7DA4-E9A3-472C-8E42-D335F341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CDB0-8AF2-4170-AF6E-A42E8BFF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E474-27EF-46F1-916C-FAC5928D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13EA-0B60-4B02-991E-5B0465FA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C97B-CD9A-4569-BEBB-1E1C417B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34C-1A41-456D-9DAE-19E7BB1E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442-B38A-44B3-B839-DDB3EB6E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9EA-8555-437C-801F-59AC5F8A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DA5-5596-4CE6-82D4-419D550F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EE7-E641-4D18-8559-15E526C1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A9E4-EA56-4ADE-8757-A3826387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759-979A-447F-A7B9-DAE7EEAC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cf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7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83620"/>
                </a:gs>
                <a:gs pos="50000">
                  <a:srgbClr val="787446"/>
                </a:gs>
                <a:gs pos="100000">
                  <a:srgbClr val="3836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78744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Никитина Е. 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1966-3A9D-4B4E-B300-3450EB09D847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8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cf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28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9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787446"/>
                </a:gs>
                <a:gs pos="50000">
                  <a:srgbClr val="383620"/>
                </a:gs>
                <a:gs pos="100000">
                  <a:srgbClr val="7874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10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11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14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26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78744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Никитина Е. 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4857-775B-4B18-B8FB-8CD83B833BD7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WordArt 4"/>
          <p:cNvSpPr txBox="1"/>
          <p:nvPr/>
        </p:nvSpPr>
        <p:spPr>
          <a:xfrm>
            <a:off x="1371600" y="533520"/>
            <a:ext cx="73152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нквейн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и другие интересные малые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ихотворные формы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700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20000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7480" y="299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7480" y="62028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Час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ручные…Настенные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Идут…Стоят…Опаздывают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есконечность временного пространства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ечность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                        </a:t>
            </a:r>
            <a:r>
              <a:rPr b="0" i="1" lang="ru-RU" sz="3200" spc="-1" strike="noStrike">
                <a:solidFill>
                  <a:srgbClr val="333333"/>
                </a:solidFill>
                <a:latin typeface="Arial"/>
              </a:rPr>
              <a:t>Петрова Маша, 6а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Нижний колонтитул 5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9000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748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Зим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нежная. Холодная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Злится, морозит, вьюжит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Три месяца долгой стужи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Злодейка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                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совместное тв-во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Утро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Ясное, морозно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Рассветает, радуется, «яснеет»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Каждый день, неделю, год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Лучшее!.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            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Гуменюк Коля, 6б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Нижний колонтитул 5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3000"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605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7480" y="333000"/>
            <a:ext cx="77724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 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Часы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таринные, черны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пешат, идут, тикают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Успокоение души и мыслей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Вечные!.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                 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Кузнецова Таня, 6б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               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Часы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Скорые, быстры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Всё тикают, бегут, спешат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Каждый день за движением следят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Сторож времени!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                                  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Каменюк Даша, 6б                 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Нижний колонтитул 5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0000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598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имерик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« нонсенс»,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   «нелепица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7480" y="259920"/>
            <a:ext cx="7772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Picture 4" descr="Рисунок5"/>
          <p:cNvPicPr/>
          <p:nvPr/>
        </p:nvPicPr>
        <p:blipFill>
          <a:blip r:embed="rId1"/>
          <a:stretch/>
        </p:blipFill>
        <p:spPr>
          <a:xfrm>
            <a:off x="1619280" y="3789360"/>
            <a:ext cx="2808360" cy="287964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6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9000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57480" y="33336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СХЕМА ЛИМЕРИК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1 строка –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герой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2 строка –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его характеристик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3, 4 строки –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действия героя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5 строка –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итоговая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                              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характеристика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---------------------------------------------------------------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Можно использовать любые части речи в любом объеме!!!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Нижний колонтитул 5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6000"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598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Жил да был старик болотный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здорный дед и тягомотный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 колоде он сидел,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Лягушонку песни пел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ъедливый старик болотный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Нижний колонтитул 5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0000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4400" spc="-1" strike="noStrike">
                <a:solidFill>
                  <a:srgbClr val="000000"/>
                </a:solidFill>
                <a:latin typeface="Ast126"/>
              </a:rPr>
              <a:t>ЦЗАЦУА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74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Это комические (и не только!) изречения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китайских писателей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, перечень ситуаций, объединенных </a:t>
            </a:r>
            <a:r>
              <a:rPr b="0" i="1" lang="ru-RU" sz="2800" spc="-1" strike="noStrike">
                <a:solidFill>
                  <a:srgbClr val="333333"/>
                </a:solidFill>
                <a:latin typeface="Arial"/>
              </a:rPr>
              <a:t>одним названием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          </a:t>
            </a:r>
            <a:r>
              <a:rPr b="0" lang="ru-RU" sz="2800" spc="-1" strike="noStrike" u="sng">
                <a:solidFill>
                  <a:srgbClr val="333333"/>
                </a:solidFill>
                <a:uFillTx/>
                <a:latin typeface="Bradley Hand ITC"/>
              </a:rPr>
              <a:t>Жалко,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Bradley Hand ITC"/>
              </a:rPr>
              <a:t>   </a:t>
            </a:r>
            <a:r>
              <a:rPr b="0" lang="ru-RU" sz="2800" spc="-1" strike="noStrike">
                <a:solidFill>
                  <a:srgbClr val="333333"/>
                </a:solidFill>
                <a:latin typeface="Bradley Hand ITC"/>
              </a:rPr>
              <a:t>Когда засыхает цветок,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Bradley Hand ITC"/>
              </a:rPr>
              <a:t>Когда тратишь время впустую,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Bradley Hand ITC"/>
              </a:rPr>
              <a:t>Когда теряешь близкого друга,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…………………………………………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Нижний колонтитул 5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6000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ИНКВЕЙН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– малая стихотворная форма, используемая для фиксации эмоциональных оценок, описания своих текущих впечатлений, ощущений, ассоциаций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ИНКВЕЙН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– короткое литературное произведение, характеризующее предмет (тему), состоящее из пяти строк, которое пишется по определённому плану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Нижний колонтитул 5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3000">
    <p:pull dir="l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3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1 строка – одно слово – название стихотворения, обычно существительно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2 строка – два слова (прилагательные). Описание темы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3 строка – три слова (глаголы). Действия, относящиеся к тем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4 строка – четыре слова – предложение. Фраза, которая показывает отношение автора к тем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5 строка – одно слово – ассоциация, которая повторяет суть темы, обычно существительное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WordArt 8"/>
          <p:cNvSpPr txBox="1"/>
          <p:nvPr/>
        </p:nvSpPr>
        <p:spPr>
          <a:xfrm>
            <a:off x="1600200" y="68580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Правила написания синквейна: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Нижний колонтитул 6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32000">
    <p:pull dir="l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3333ff"/>
                </a:solidFill>
                <a:latin typeface="Arial"/>
              </a:rPr>
              <a:t>Гор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95248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Строится и растёт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Красивый, весёлый, старинный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Я люблю свой город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Родин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340992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" name="Picture 16" descr="i?id=33502811"/>
          <p:cNvPicPr/>
          <p:nvPr/>
        </p:nvPicPr>
        <p:blipFill>
          <a:blip r:embed="rId1"/>
          <a:stretch/>
        </p:blipFill>
        <p:spPr>
          <a:xfrm>
            <a:off x="6705720" y="4495680"/>
            <a:ext cx="1531800" cy="1981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7"/>
          <p:cNvSpPr/>
          <p:nvPr/>
        </p:nvSpPr>
        <p:spPr>
          <a:xfrm>
            <a:off x="-57312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26" name="Group 21"/>
          <p:cNvGrpSpPr/>
          <p:nvPr/>
        </p:nvGrpSpPr>
        <p:grpSpPr>
          <a:xfrm>
            <a:off x="-1440" y="2732040"/>
            <a:ext cx="9148680" cy="1387440"/>
            <a:chOff x="-1440" y="2732040"/>
            <a:chExt cx="9148680" cy="1387440"/>
          </a:xfrm>
        </p:grpSpPr>
        <p:sp>
          <p:nvSpPr>
            <p:cNvPr id="127" name="Rectangle 18"/>
            <p:cNvSpPr/>
            <p:nvPr/>
          </p:nvSpPr>
          <p:spPr>
            <a:xfrm>
              <a:off x="-1440" y="2732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-1440" y="2732040"/>
              <a:ext cx="914868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8500" spc="-1" strike="noStrike">
                  <a:solidFill>
                    <a:srgbClr val="333333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9" name="Picture 20" descr="7"/>
          <p:cNvPicPr/>
          <p:nvPr/>
        </p:nvPicPr>
        <p:blipFill>
          <a:blip r:embed="rId2"/>
          <a:stretch/>
        </p:blipFill>
        <p:spPr>
          <a:xfrm>
            <a:off x="1905120" y="5181480"/>
            <a:ext cx="3429000" cy="1349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2"/>
          <p:cNvSpPr/>
          <p:nvPr/>
        </p:nvSpPr>
        <p:spPr>
          <a:xfrm>
            <a:off x="3271680" y="28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" name="Picture 24" descr="i?id=17693189"/>
          <p:cNvPicPr/>
          <p:nvPr/>
        </p:nvPicPr>
        <p:blipFill>
          <a:blip r:embed="rId3"/>
          <a:stretch/>
        </p:blipFill>
        <p:spPr>
          <a:xfrm>
            <a:off x="7467480" y="762120"/>
            <a:ext cx="1121040" cy="1154160"/>
          </a:xfrm>
          <a:prstGeom prst="rect">
            <a:avLst/>
          </a:prstGeom>
          <a:ln w="0">
            <a:noFill/>
          </a:ln>
        </p:spPr>
      </p:pic>
      <p:sp>
        <p:nvSpPr>
          <p:cNvPr id="132" name="Нижний колонтитул 14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7000">
    <p:pull dir="l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3366ff"/>
                </a:solidFill>
                <a:latin typeface="Arial"/>
              </a:rPr>
              <a:t>Санкт-Петербург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552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ольшой, красивый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Стоит, растёт, хорошеет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ш город очень красивый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Старик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13372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6" name="Picture 7" descr="ph_l_281"/>
          <p:cNvPicPr/>
          <p:nvPr/>
        </p:nvPicPr>
        <p:blipFill>
          <a:blip r:embed="rId1"/>
          <a:stretch/>
        </p:blipFill>
        <p:spPr>
          <a:xfrm>
            <a:off x="6813720" y="1600200"/>
            <a:ext cx="2330280" cy="350532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7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5000">
    <p:pull dir="l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р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Странная, красива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Радует, огорчает и удивляет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шу природу надо беречь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олшебниц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-571680" y="182880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0" y="1828800"/>
            <a:ext cx="9145440" cy="3110040"/>
            <a:chOff x="0" y="1828800"/>
            <a:chExt cx="9145440" cy="3110040"/>
          </a:xfrm>
        </p:grpSpPr>
        <p:sp>
          <p:nvSpPr>
            <p:cNvPr id="142" name="Rectangle 5"/>
            <p:cNvSpPr/>
            <p:nvPr/>
          </p:nvSpPr>
          <p:spPr>
            <a:xfrm>
              <a:off x="0" y="1828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3" name="Rectangle 6"/>
            <p:cNvSpPr/>
            <p:nvPr/>
          </p:nvSpPr>
          <p:spPr>
            <a:xfrm>
              <a:off x="0" y="1828800"/>
              <a:ext cx="9145440" cy="31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19800" spc="-1" strike="noStrike">
                  <a:solidFill>
                    <a:srgbClr val="333333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44" name="Picture 7" descr="Nt351"/>
          <p:cNvPicPr/>
          <p:nvPr/>
        </p:nvPicPr>
        <p:blipFill>
          <a:blip r:embed="rId1"/>
          <a:stretch/>
        </p:blipFill>
        <p:spPr>
          <a:xfrm>
            <a:off x="1676520" y="4800600"/>
            <a:ext cx="6933960" cy="190512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10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2000">
    <p:pull dir="l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" dur="3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8" dur="3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3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" dur="3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3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ff3399"/>
                </a:solidFill>
                <a:latin typeface="Arial"/>
              </a:rPr>
              <a:t>Цвет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Замечательный и красивый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Растёт, развивается, гибнет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Любит, чтобы его поливали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Роз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-57312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49" name="Group 8"/>
          <p:cNvGrpSpPr/>
          <p:nvPr/>
        </p:nvGrpSpPr>
        <p:grpSpPr>
          <a:xfrm>
            <a:off x="228600" y="2057400"/>
            <a:ext cx="9147240" cy="2286000"/>
            <a:chOff x="228600" y="2057400"/>
            <a:chExt cx="9147240" cy="2286000"/>
          </a:xfrm>
        </p:grpSpPr>
        <p:sp>
          <p:nvSpPr>
            <p:cNvPr id="150" name="Rectangle 5"/>
            <p:cNvSpPr/>
            <p:nvPr/>
          </p:nvSpPr>
          <p:spPr>
            <a:xfrm>
              <a:off x="228600" y="20574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1" name="Rectangle 6"/>
            <p:cNvSpPr/>
            <p:nvPr/>
          </p:nvSpPr>
          <p:spPr>
            <a:xfrm>
              <a:off x="228600" y="2057400"/>
              <a:ext cx="914724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333333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                        </a:t>
              </a:r>
              <a:r>
                <a:rPr b="0" lang="ru-RU" sz="1000" spc="-1" strike="noStrike">
                  <a:solidFill>
                    <a:srgbClr val="333333"/>
                  </a:solidFill>
                  <a:latin typeface="Times New Roman"/>
                </a:rPr>
                <a:t>             </a:t>
              </a: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52" name="Picture 7" descr="pic170"/>
          <p:cNvPicPr/>
          <p:nvPr/>
        </p:nvPicPr>
        <p:blipFill>
          <a:blip r:embed="rId1"/>
          <a:stretch/>
        </p:blipFill>
        <p:spPr>
          <a:xfrm>
            <a:off x="5410080" y="426708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10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5000">
    <p:pull dir="l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75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75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75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75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75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75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75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75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75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75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4400" spc="-1" strike="noStrike">
                <a:solidFill>
                  <a:srgbClr val="9933ff"/>
                </a:solidFill>
                <a:latin typeface="Arial"/>
              </a:rPr>
              <a:t>Вол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Жадный и хвастливый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оёт, лежит, ест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Зачем хозяин слушал волка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евец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33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571680" y="155412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0" y="1554120"/>
            <a:ext cx="9145440" cy="3643200"/>
            <a:chOff x="0" y="1554120"/>
            <a:chExt cx="9145440" cy="3643200"/>
          </a:xfrm>
        </p:grpSpPr>
        <p:sp>
          <p:nvSpPr>
            <p:cNvPr id="158" name="Rectangle 5"/>
            <p:cNvSpPr/>
            <p:nvPr/>
          </p:nvSpPr>
          <p:spPr>
            <a:xfrm>
              <a:off x="0" y="15541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0" y="1554120"/>
              <a:ext cx="9145440" cy="36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  </a:t>
              </a:r>
              <a:r>
                <a:rPr b="0" lang="en-US" sz="23300" spc="-1" strike="noStrike">
                  <a:solidFill>
                    <a:srgbClr val="333333"/>
                  </a:solidFill>
                  <a:latin typeface="Times New Roman"/>
                </a:rPr>
                <a:t> </a:t>
              </a: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60" name="Picture 7" descr="volk"/>
          <p:cNvPicPr/>
          <p:nvPr/>
        </p:nvPicPr>
        <p:blipFill>
          <a:blip r:embed="rId1"/>
          <a:stretch/>
        </p:blipFill>
        <p:spPr>
          <a:xfrm>
            <a:off x="6553080" y="3657600"/>
            <a:ext cx="2362320" cy="294156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10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55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748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инквейны моих дете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57480" y="1484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Час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егут, звенят, будят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езжалостные, властные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икогда не пощадят никого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ластители!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                            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рыксина Настя, 6а             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Нижний колонтитул 5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29"/>
                </a:solidFill>
                <a:latin typeface="Arial"/>
              </a:rPr>
              <a:t>Никитина Е. В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 advTm="10000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21:52:06Z</dcterms:created>
  <dc:creator>Разживина Елена Александровна</dc:creator>
  <dc:description/>
  <dc:language>en-US</dc:language>
  <cp:lastModifiedBy>1111</cp:lastModifiedBy>
  <dcterms:modified xsi:type="dcterms:W3CDTF">2015-02-05T08:55:16Z</dcterms:modified>
  <cp:revision>21</cp:revision>
  <dc:subject/>
  <dc:title>Презентация PowerPoint</dc:title>
</cp:coreProperties>
</file>