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518004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2714760" y="229680"/>
            <a:ext cx="3713040" cy="314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3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710C2A-2716-4817-A263-233567E9D5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1FD145-F8AA-4C6E-B0D1-CC3CDA892F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47CF4C-A85B-41CD-B418-F3BCF203BA8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9043EA-5EF1-4255-8F54-3EDB7356908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7BEA8-F946-4A98-BE52-4BAF8633CA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B9C661-8116-4A94-8FFA-3984D55824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9F7E9A-5FE8-4BF0-B8F9-B25B1F17A2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55C88-155F-4D1A-ACEF-B3136B17E6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4A513D-237D-4620-96FC-8DFD331739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148652-1DF3-445F-9B26-8473CBB5BE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08790B-23E6-4367-8501-9E40C83AFF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65F6EA-827A-42E2-A481-707B3312FC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96828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2680" y="39682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9280" y="16048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2840" y="16048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9682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9280" y="39682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2840" y="39682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2680" y="39682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cc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639800" y="587700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6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15800" y="785880"/>
            <a:ext cx="9145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хногенные ЧС, возможные на территории Нижегородской об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85840"/>
            <a:ext cx="9906120" cy="63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 наиболее опасным ХОО в нашей области относя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Нижнем Новгород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. Горький - Сортировочный - около 500 т хлора, станция аэрации н.п. Подновье - 42 т. хлора, мясокомбинат № 1 в Приокском районе - 103 т. аммиака, овощная база ОАО "ГАЗ" - 60 т. соляной кисл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Дзержинс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оды, использующие хлор – "Капролактам" - 1500 т, "Оргстекло" - 200 т, "Корунд" - 200 т, ж-д. станция Игумно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Арзамас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-д. ст. Арзамас-1 и Арзамас-2 - по 45 т хлора на каждой стан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Ксто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фтеперерабатывающий завод - 42 т. хл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Павло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О "Гидроагрегат" - 40 т амми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правка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: При аварийном выливе (выбросе) 30 т. хлора глубина заражения может достигнуть 20 км, а 30 т. аммиака - 8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44680" y="529920"/>
            <a:ext cx="8867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StamperRg&amp;Bt"/>
              </a:rPr>
              <a:t>Пожары и взры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41240" y="1268280"/>
            <a:ext cx="8380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44680" y="529920"/>
            <a:ext cx="8867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StamperRg&amp;Bt"/>
              </a:rPr>
              <a:t>Аварии на биологически опасных объ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209600" y="2421000"/>
            <a:ext cx="7177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44680" y="529920"/>
            <a:ext cx="8867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StamperRg&amp;Bt"/>
              </a:rPr>
              <a:t>Обрушение зданий и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41240" y="2060640"/>
            <a:ext cx="8191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8866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StamperRg&amp;Bt"/>
              </a:rPr>
              <a:t>Понятие о потенциально опасных объ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2520" y="714240"/>
            <a:ext cx="91454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8520" y="-360"/>
            <a:ext cx="8915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Основные мероприятия по предупреждению Ч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2520" y="1125000"/>
            <a:ext cx="9633240" cy="58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своевременного инфор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ов управления и населения об угрозе и возникновении Ч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нозирование ЧС, определение необходимых способов и средств защиты и оперативная ликвидация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по предупреждению ЧС и осуществление защиты в случае их возникнов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надежной защиты населения в Ч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я населения правильным действиям в Ч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я у населения психологической устойчивости и готовности к активным действиям в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499"/>
              </a:spcBef>
              <a:buNone/>
              <a:tabLst>
                <a:tab algn="l" pos="0"/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752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752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planeta.moy.su/_bl/204/85853551.jpg"/>
          <p:cNvPicPr/>
          <p:nvPr/>
        </p:nvPicPr>
        <p:blipFill>
          <a:blip r:embed="rId1"/>
          <a:stretch/>
        </p:blipFill>
        <p:spPr>
          <a:xfrm>
            <a:off x="2238480" y="554040"/>
            <a:ext cx="535932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23800" y="4154400"/>
          <a:ext cx="7731360" cy="2060640"/>
        </p:xfrm>
        <a:graphic>
          <a:graphicData uri="http://schemas.openxmlformats.org/drawingml/2006/table">
            <a:tbl>
              <a:tblPr/>
              <a:tblGrid>
                <a:gridCol w="7731360"/>
              </a:tblGrid>
              <a:tr h="398520">
                <a:tc>
                  <a:txBody>
                    <a:bodyPr lIns="95400" rIns="95400" tIns="2844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190440" rIns="190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440" marR="190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9cfd8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П в Нижегородской области. На заводе «Корунд» в Дзержинске произошла утечка хлор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b9bfc7"/>
                      </a:solidFill>
                    </a:lnL>
                    <a:lnR w="4320">
                      <a:solidFill>
                        <a:srgbClr val="4f5d71"/>
                      </a:solidFill>
                    </a:lnR>
                    <a:lnT w="4320">
                      <a:solidFill>
                        <a:srgbClr val="c9cfd8"/>
                      </a:solidFill>
                    </a:lnT>
                    <a:lnB w="4320">
                      <a:solidFill>
                        <a:srgbClr val="c9cf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520">
                <a:tc>
                  <a:txBody>
                    <a:bodyPr lIns="19080" rIns="19080" tIns="1908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довитое вещество попало в воздух, когда его переливали из цистерны в хранилище, из-за поломки вентиля.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b9bfc7"/>
                      </a:solidFill>
                    </a:lnL>
                    <a:lnR w="4320">
                      <a:solidFill>
                        <a:srgbClr val="4f5d71"/>
                      </a:solidFill>
                    </a:lnR>
                    <a:lnT w="4320">
                      <a:solidFill>
                        <a:srgbClr val="c9cfd8"/>
                      </a:solidFill>
                    </a:lnT>
                    <a:lnB w="4320">
                      <a:solidFill>
                        <a:srgbClr val="4f5d7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8"/>
          <p:cNvSpPr/>
          <p:nvPr/>
        </p:nvSpPr>
        <p:spPr>
          <a:xfrm>
            <a:off x="0" y="0"/>
            <a:ext cx="99075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00160" y="228600"/>
            <a:ext cx="9293040" cy="64008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0483920" y="617220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Cyr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0" descr="2"/>
          <p:cNvPicPr/>
          <p:nvPr/>
        </p:nvPicPr>
        <p:blipFill>
          <a:blip r:embed="rId1"/>
          <a:stretch/>
        </p:blipFill>
        <p:spPr>
          <a:xfrm>
            <a:off x="1523880" y="857160"/>
            <a:ext cx="6191280" cy="3924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8"/>
          <p:cNvSpPr/>
          <p:nvPr/>
        </p:nvSpPr>
        <p:spPr>
          <a:xfrm>
            <a:off x="237960" y="5072040"/>
            <a:ext cx="921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0.03.2013 на 393 км а/д Москва - Уфа (Нижегородская область, Дзержинский район, поворот на Игумново), а/м Шевроле-Нива выехал на полосу встречного движения и совершил столкновение с а/м Форд, после чего а/м Шевроле-Нива отбросило на припаркованный на обочине а/м МАЗ. В результате ДТП водитель и два пассажира а/м Шевроле-Нива сгорели. Водитель а/м Форд госпитализирован в БСМП г. Дзержинс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00160" y="228600"/>
            <a:ext cx="9293040" cy="64008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0483920" y="617220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Cyr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http://nn.mk.ru/upload/article_images/25/96/d6/495_47325.jpg"/>
          <p:cNvPicPr/>
          <p:nvPr/>
        </p:nvPicPr>
        <p:blipFill>
          <a:blip r:embed="rId1"/>
          <a:stretch/>
        </p:blipFill>
        <p:spPr>
          <a:xfrm>
            <a:off x="1809720" y="428760"/>
            <a:ext cx="6711840" cy="4214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738360" y="4857840"/>
            <a:ext cx="77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амонакопитель "Белое море" в Дзержинске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nn.mk.ru/upload/article_images/f2/1f/f2/495_47326.jpg"/>
          <p:cNvPicPr/>
          <p:nvPr/>
        </p:nvPicPr>
        <p:blipFill>
          <a:blip r:embed="rId1"/>
          <a:stretch/>
        </p:blipFill>
        <p:spPr>
          <a:xfrm>
            <a:off x="1523880" y="285840"/>
            <a:ext cx="7066080" cy="4714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952560" y="5143680"/>
            <a:ext cx="78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он «Черная дыра», около территории завода «Оргстекло»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240" y="259920"/>
            <a:ext cx="974088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причины чрезвычайных ситуаций техноген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4520" y="1499760"/>
            <a:ext cx="9313920" cy="53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кая степень износа основных производственных фондов на предприятиях с опасными технологическими процессами (по различным оценкам их износ превышает 70 процент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ответствие стандартов и норм безопасности производства, разработанных и введенных многие годы назад, современному уровню техники и технологий или сегодняшнему состоянию потенциально опас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блюдение требований нормативных документов при разработке проектной 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ушение производственной и технологической дисципл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 числа и сложности технологически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версии и террористические акты на потенциально опасных объектах: атомных электростанциях, гидроузлах, химически опасных производств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асные природные явления: землетрясения, тайфуны, наводнени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947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С техногенного характер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297240" y="1268280"/>
            <a:ext cx="2879640" cy="1008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жары и взры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88880" y="1268280"/>
            <a:ext cx="2519280" cy="1008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мышл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ва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392880" y="1268280"/>
            <a:ext cx="3024000" cy="1008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пас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исше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 транспор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88880" y="2565360"/>
            <a:ext cx="2519280" cy="3589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ы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8880" y="3068640"/>
            <a:ext cx="2519280" cy="3603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и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88880" y="3573360"/>
            <a:ext cx="2519280" cy="4302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и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88880" y="4149720"/>
            <a:ext cx="2519280" cy="5032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лог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88880" y="6308640"/>
            <a:ext cx="2519280" cy="3603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 на энерг. сет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88880" y="5661000"/>
            <a:ext cx="2519280" cy="5032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зап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ушение з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88880" y="4797360"/>
            <a:ext cx="2519280" cy="7923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392880" y="2565360"/>
            <a:ext cx="3024000" cy="35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ы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392880" y="3068640"/>
            <a:ext cx="3024000" cy="36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шение поез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392880" y="3645000"/>
            <a:ext cx="3024000" cy="43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ы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6392880" y="6308640"/>
            <a:ext cx="3024000" cy="36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Т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6392880" y="4797360"/>
            <a:ext cx="302400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бопровод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392880" y="5734080"/>
            <a:ext cx="3024000" cy="43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земных сооруж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392880" y="4221000"/>
            <a:ext cx="3024000" cy="43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иационные катастроф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4665600" y="9079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1568520" y="1125360"/>
            <a:ext cx="633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1568520" y="112536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>
            <a:off x="7905600" y="11253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>
            <a:off x="1568520" y="2276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7905600" y="2276640"/>
            <a:ext cx="1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3297240" y="2565360"/>
            <a:ext cx="2879640" cy="35892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горючие газы, жидко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3297240" y="3068640"/>
            <a:ext cx="2879640" cy="35892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орючие пыли, волок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297240" y="3645000"/>
            <a:ext cx="2879640" cy="93636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вердые горю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и материал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3297240" y="4869000"/>
            <a:ext cx="2879640" cy="108108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вещества котор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гаются в качест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ли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9"/>
          <p:cNvSpPr/>
          <p:nvPr/>
        </p:nvSpPr>
        <p:spPr>
          <a:xfrm>
            <a:off x="3297240" y="6021360"/>
            <a:ext cx="2879640" cy="64620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горючие ве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лодном состояни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>
            <a:off x="1568520" y="29242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1568520" y="342900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2"/>
          <p:cNvSpPr/>
          <p:nvPr/>
        </p:nvSpPr>
        <p:spPr>
          <a:xfrm>
            <a:off x="1568520" y="4005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33"/>
          <p:cNvSpPr/>
          <p:nvPr/>
        </p:nvSpPr>
        <p:spPr>
          <a:xfrm>
            <a:off x="1568520" y="465300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4"/>
          <p:cNvSpPr/>
          <p:nvPr/>
        </p:nvSpPr>
        <p:spPr>
          <a:xfrm>
            <a:off x="1568520" y="5589720"/>
            <a:ext cx="1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5"/>
          <p:cNvSpPr/>
          <p:nvPr/>
        </p:nvSpPr>
        <p:spPr>
          <a:xfrm>
            <a:off x="1568520" y="61657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6"/>
          <p:cNvSpPr/>
          <p:nvPr/>
        </p:nvSpPr>
        <p:spPr>
          <a:xfrm>
            <a:off x="7905600" y="292428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>
            <a:off x="7905600" y="3429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>
            <a:off x="7905600" y="407664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>
            <a:off x="7905600" y="465300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>
            <a:off x="7905600" y="558972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>
            <a:off x="7905600" y="61657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4665600" y="2276640"/>
            <a:ext cx="1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43"/>
          <p:cNvSpPr/>
          <p:nvPr/>
        </p:nvSpPr>
        <p:spPr>
          <a:xfrm>
            <a:off x="4665600" y="292428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4"/>
          <p:cNvSpPr/>
          <p:nvPr/>
        </p:nvSpPr>
        <p:spPr>
          <a:xfrm>
            <a:off x="4665600" y="3429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5"/>
          <p:cNvSpPr/>
          <p:nvPr/>
        </p:nvSpPr>
        <p:spPr>
          <a:xfrm>
            <a:off x="4665600" y="4581360"/>
            <a:ext cx="18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4737240" y="595008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236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1309680" y="428760"/>
            <a:ext cx="78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_StamperRg&amp;Bt"/>
                <a:ea typeface="Aharoni"/>
              </a:rPr>
              <a:t>Классификация ЧС по масштабам послед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1"/>
          <p:cNvGraphicFramePr/>
          <p:nvPr/>
        </p:nvGraphicFramePr>
        <p:xfrm>
          <a:off x="176040" y="0"/>
          <a:ext cx="9704520" cy="72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0"/>
                    <a:ext cx="9704520" cy="72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3:42:38Z</dcterms:created>
  <dc:creator>умц</dc:creator>
  <dc:description/>
  <dc:language>en-US</dc:language>
  <cp:lastModifiedBy>Вера</cp:lastModifiedBy>
  <dcterms:modified xsi:type="dcterms:W3CDTF">2015-02-05T20:26:04Z</dcterms:modified>
  <cp:revision>56</cp:revision>
  <dc:subject/>
  <dc:title>Слайд 1</dc:title>
</cp:coreProperties>
</file>