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02E-99B7-4D50-AE4F-9B054B79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446-A494-4D39-A3F5-4BEBE18E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4CE-37AD-4F0E-9226-F14DB08C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6B1-5A77-4065-AB8B-D4DB135E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9A3-25CD-4DBC-98DE-7716C0D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7E7-F0D4-43F3-87F7-3412EC0F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832-7327-41A2-9C25-36B9539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9E8-8E2D-406B-83B0-225D3B0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6CB-F5C8-424C-B35C-510B15D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27D-1A48-4553-B298-8A92132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BA4-B7A9-4E0A-A906-0FCE402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E5A-B9CE-452E-A908-953BB8D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8B8-91B1-4825-9976-396F7023B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nachalka.com/test_shablon" TargetMode="External"/><Relationship Id="rId4" Type="http://schemas.openxmlformats.org/officeDocument/2006/relationships/hyperlink" Target="http://www.nachalka.com/test_shablon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Скругленный прямоугольник 7"/>
          <p:cNvGrpSpPr/>
          <p:nvPr/>
        </p:nvGrpSpPr>
        <p:grpSpPr>
          <a:xfrm>
            <a:off x="5437080" y="5821200"/>
            <a:ext cx="3121200" cy="824040"/>
            <a:chOff x="5437080" y="5821200"/>
            <a:chExt cx="3121200" cy="824040"/>
          </a:xfrm>
        </p:grpSpPr>
        <p:pic>
          <p:nvPicPr>
            <p:cNvPr id="4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5437080" y="5821200"/>
              <a:ext cx="31212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535720" y="5892840"/>
              <a:ext cx="2930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ачать те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5"/>
          <a:stretch/>
        </p:blipFill>
        <p:spPr>
          <a:xfrm>
            <a:off x="512640" y="731880"/>
            <a:ext cx="5364360" cy="225576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8" descr=""/>
          <p:cNvPicPr/>
          <p:nvPr/>
        </p:nvPicPr>
        <p:blipFill>
          <a:blip r:embed="rId6"/>
          <a:stretch/>
        </p:blipFill>
        <p:spPr>
          <a:xfrm>
            <a:off x="2133720" y="3309840"/>
            <a:ext cx="26096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Скругленный прямоугольник 3"/>
          <p:cNvGrpSpPr/>
          <p:nvPr/>
        </p:nvGrpSpPr>
        <p:grpSpPr>
          <a:xfrm>
            <a:off x="3438360" y="2779560"/>
            <a:ext cx="1474920" cy="1006560"/>
            <a:chOff x="3438360" y="2779560"/>
            <a:chExt cx="1474920" cy="1006560"/>
          </a:xfrm>
        </p:grpSpPr>
        <p:pic>
          <p:nvPicPr>
            <p:cNvPr id="133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2779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538440" y="296712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4"/>
          <p:cNvGrpSpPr/>
          <p:nvPr/>
        </p:nvGrpSpPr>
        <p:grpSpPr>
          <a:xfrm>
            <a:off x="1298520" y="3565440"/>
            <a:ext cx="1468440" cy="1006560"/>
            <a:chOff x="1298520" y="3565440"/>
            <a:chExt cx="1468440" cy="1006560"/>
          </a:xfrm>
        </p:grpSpPr>
        <p:pic>
          <p:nvPicPr>
            <p:cNvPr id="13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98520" y="3565440"/>
              <a:ext cx="14684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95360" y="37530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5"/>
          <p:cNvGrpSpPr/>
          <p:nvPr/>
        </p:nvGrpSpPr>
        <p:grpSpPr>
          <a:xfrm>
            <a:off x="3584520" y="4425840"/>
            <a:ext cx="1401840" cy="1005120"/>
            <a:chOff x="3584520" y="4425840"/>
            <a:chExt cx="1401840" cy="1005120"/>
          </a:xfrm>
        </p:grpSpPr>
        <p:pic>
          <p:nvPicPr>
            <p:cNvPr id="139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58452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68136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527364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Скругленный прямоугольник 3"/>
          <p:cNvGrpSpPr/>
          <p:nvPr/>
        </p:nvGrpSpPr>
        <p:grpSpPr>
          <a:xfrm>
            <a:off x="1298520" y="3780000"/>
            <a:ext cx="1468440" cy="1004760"/>
            <a:chOff x="1298520" y="3780000"/>
            <a:chExt cx="1468440" cy="1004760"/>
          </a:xfrm>
        </p:grpSpPr>
        <p:pic>
          <p:nvPicPr>
            <p:cNvPr id="14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98520" y="3780000"/>
              <a:ext cx="14684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95360" y="3967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2511360" y="2567160"/>
            <a:ext cx="1474920" cy="1004760"/>
            <a:chOff x="2511360" y="2567160"/>
            <a:chExt cx="1474920" cy="100476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11360" y="256716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610000" y="2752560"/>
              <a:ext cx="12808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5"/>
          <p:cNvGrpSpPr/>
          <p:nvPr/>
        </p:nvGrpSpPr>
        <p:grpSpPr>
          <a:xfrm>
            <a:off x="3797280" y="3780000"/>
            <a:ext cx="1403280" cy="1004760"/>
            <a:chOff x="3797280" y="3780000"/>
            <a:chExt cx="1403280" cy="1004760"/>
          </a:xfrm>
        </p:grpSpPr>
        <p:pic>
          <p:nvPicPr>
            <p:cNvPr id="15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797280" y="378000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895560" y="396720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Прямоугольник 6" descr=""/>
          <p:cNvPicPr/>
          <p:nvPr/>
        </p:nvPicPr>
        <p:blipFill>
          <a:blip r:embed="rId5"/>
          <a:stretch/>
        </p:blipFill>
        <p:spPr>
          <a:xfrm>
            <a:off x="1042920" y="517680"/>
            <a:ext cx="39798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Скругленный прямоугольник 3"/>
          <p:cNvGrpSpPr/>
          <p:nvPr/>
        </p:nvGrpSpPr>
        <p:grpSpPr>
          <a:xfrm>
            <a:off x="3511440" y="4280040"/>
            <a:ext cx="1474920" cy="1004760"/>
            <a:chOff x="3511440" y="4280040"/>
            <a:chExt cx="1474920" cy="1004760"/>
          </a:xfrm>
        </p:grpSpPr>
        <p:pic>
          <p:nvPicPr>
            <p:cNvPr id="1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511440" y="428004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610080" y="4467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"/>
          <p:cNvGrpSpPr/>
          <p:nvPr/>
        </p:nvGrpSpPr>
        <p:grpSpPr>
          <a:xfrm>
            <a:off x="1438200" y="3638520"/>
            <a:ext cx="1476360" cy="1006560"/>
            <a:chOff x="1438200" y="3638520"/>
            <a:chExt cx="1476360" cy="1006560"/>
          </a:xfrm>
        </p:grpSpPr>
        <p:pic>
          <p:nvPicPr>
            <p:cNvPr id="1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438200" y="363852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3828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кругленный прямоугольник 5"/>
          <p:cNvGrpSpPr/>
          <p:nvPr/>
        </p:nvGrpSpPr>
        <p:grpSpPr>
          <a:xfrm>
            <a:off x="3438360" y="2925720"/>
            <a:ext cx="1401840" cy="1006560"/>
            <a:chOff x="3438360" y="2925720"/>
            <a:chExt cx="1401840" cy="1006560"/>
          </a:xfrm>
        </p:grpSpPr>
        <p:pic>
          <p:nvPicPr>
            <p:cNvPr id="16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29257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538440" y="31100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Прямоугольник 6" descr=""/>
          <p:cNvPicPr/>
          <p:nvPr/>
        </p:nvPicPr>
        <p:blipFill>
          <a:blip r:embed="rId5"/>
          <a:stretch/>
        </p:blipFill>
        <p:spPr>
          <a:xfrm>
            <a:off x="1189080" y="665280"/>
            <a:ext cx="40845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8840" y="1928880"/>
            <a:ext cx="3543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Скругленный прямоугольник 3"/>
          <p:cNvGrpSpPr/>
          <p:nvPr/>
        </p:nvGrpSpPr>
        <p:grpSpPr>
          <a:xfrm>
            <a:off x="3724200" y="3279600"/>
            <a:ext cx="1476360" cy="1006560"/>
            <a:chOff x="3724200" y="3279600"/>
            <a:chExt cx="1476360" cy="1006560"/>
          </a:xfrm>
        </p:grpSpPr>
        <p:pic>
          <p:nvPicPr>
            <p:cNvPr id="5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724200" y="327960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824280" y="346716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кругленный прямоугольник 4"/>
          <p:cNvGrpSpPr/>
          <p:nvPr/>
        </p:nvGrpSpPr>
        <p:grpSpPr>
          <a:xfrm>
            <a:off x="1365120" y="2925720"/>
            <a:ext cx="1474920" cy="1006560"/>
            <a:chOff x="1365120" y="2925720"/>
            <a:chExt cx="1474920" cy="1006560"/>
          </a:xfrm>
        </p:grpSpPr>
        <p:pic>
          <p:nvPicPr>
            <p:cNvPr id="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365120" y="292572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67000" y="31100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кругленный прямоугольник 5"/>
          <p:cNvGrpSpPr/>
          <p:nvPr/>
        </p:nvGrpSpPr>
        <p:grpSpPr>
          <a:xfrm>
            <a:off x="2438280" y="4711680"/>
            <a:ext cx="1401840" cy="1006560"/>
            <a:chOff x="2438280" y="4711680"/>
            <a:chExt cx="1401840" cy="1006560"/>
          </a:xfrm>
        </p:grpSpPr>
        <p:pic>
          <p:nvPicPr>
            <p:cNvPr id="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38280" y="471168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38360" y="48960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841320" y="517680"/>
            <a:ext cx="50166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Скругленный прямоугольник 3"/>
          <p:cNvGrpSpPr/>
          <p:nvPr/>
        </p:nvGrpSpPr>
        <p:grpSpPr>
          <a:xfrm>
            <a:off x="3297240" y="2925720"/>
            <a:ext cx="1469880" cy="1006560"/>
            <a:chOff x="3297240" y="2925720"/>
            <a:chExt cx="1469880" cy="100656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97240" y="29257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395520" y="311004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4"/>
          <p:cNvGrpSpPr/>
          <p:nvPr/>
        </p:nvGrpSpPr>
        <p:grpSpPr>
          <a:xfrm>
            <a:off x="1152360" y="3706920"/>
            <a:ext cx="1474920" cy="1011240"/>
            <a:chOff x="1152360" y="3706920"/>
            <a:chExt cx="1474920" cy="1011240"/>
          </a:xfrm>
        </p:grpSpPr>
        <p:pic>
          <p:nvPicPr>
            <p:cNvPr id="7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152360" y="3706920"/>
              <a:ext cx="14749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52440" y="3895560"/>
              <a:ext cx="12812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5"/>
          <p:cNvGrpSpPr/>
          <p:nvPr/>
        </p:nvGrpSpPr>
        <p:grpSpPr>
          <a:xfrm>
            <a:off x="3438360" y="4565520"/>
            <a:ext cx="1401840" cy="1006560"/>
            <a:chOff x="3438360" y="4565520"/>
            <a:chExt cx="1401840" cy="1006560"/>
          </a:xfrm>
        </p:grpSpPr>
        <p:pic>
          <p:nvPicPr>
            <p:cNvPr id="7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5655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38440" y="475308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Прямоугольник 6" descr=""/>
          <p:cNvPicPr/>
          <p:nvPr/>
        </p:nvPicPr>
        <p:blipFill>
          <a:blip r:embed="rId5"/>
          <a:stretch/>
        </p:blipFill>
        <p:spPr>
          <a:xfrm>
            <a:off x="828720" y="517680"/>
            <a:ext cx="435276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Скругленный прямоугольник 3"/>
          <p:cNvGrpSpPr/>
          <p:nvPr/>
        </p:nvGrpSpPr>
        <p:grpSpPr>
          <a:xfrm>
            <a:off x="1511280" y="3638520"/>
            <a:ext cx="1469880" cy="1006560"/>
            <a:chOff x="1511280" y="3638520"/>
            <a:chExt cx="1469880" cy="100656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511280" y="36385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60956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4"/>
          <p:cNvGrpSpPr/>
          <p:nvPr/>
        </p:nvGrpSpPr>
        <p:grpSpPr>
          <a:xfrm>
            <a:off x="3438360" y="3067200"/>
            <a:ext cx="1474920" cy="1004760"/>
            <a:chOff x="3438360" y="3067200"/>
            <a:chExt cx="1474920" cy="1004760"/>
          </a:xfrm>
        </p:grpSpPr>
        <p:pic>
          <p:nvPicPr>
            <p:cNvPr id="8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438360" y="306720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38440" y="325296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5"/>
          <p:cNvGrpSpPr/>
          <p:nvPr/>
        </p:nvGrpSpPr>
        <p:grpSpPr>
          <a:xfrm>
            <a:off x="3438360" y="4425840"/>
            <a:ext cx="1401840" cy="1005120"/>
            <a:chOff x="3438360" y="4425840"/>
            <a:chExt cx="1401840" cy="1005120"/>
          </a:xfrm>
        </p:grpSpPr>
        <p:pic>
          <p:nvPicPr>
            <p:cNvPr id="8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53844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4496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Скругленный прямоугольник 3"/>
          <p:cNvGrpSpPr/>
          <p:nvPr/>
        </p:nvGrpSpPr>
        <p:grpSpPr>
          <a:xfrm>
            <a:off x="3438360" y="3992400"/>
            <a:ext cx="1474920" cy="1013040"/>
            <a:chOff x="3438360" y="3992400"/>
            <a:chExt cx="1474920" cy="1013040"/>
          </a:xfrm>
        </p:grpSpPr>
        <p:pic>
          <p:nvPicPr>
            <p:cNvPr id="8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3992400"/>
              <a:ext cx="147492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38440" y="4181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4"/>
          <p:cNvGrpSpPr/>
          <p:nvPr/>
        </p:nvGrpSpPr>
        <p:grpSpPr>
          <a:xfrm>
            <a:off x="2298600" y="2706840"/>
            <a:ext cx="1468440" cy="1011240"/>
            <a:chOff x="2298600" y="2706840"/>
            <a:chExt cx="1468440" cy="1011240"/>
          </a:xfrm>
        </p:grpSpPr>
        <p:pic>
          <p:nvPicPr>
            <p:cNvPr id="9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98600" y="2706840"/>
              <a:ext cx="146844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395440" y="28954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5"/>
          <p:cNvGrpSpPr/>
          <p:nvPr/>
        </p:nvGrpSpPr>
        <p:grpSpPr>
          <a:xfrm>
            <a:off x="1079640" y="3992400"/>
            <a:ext cx="1401480" cy="1013040"/>
            <a:chOff x="1079640" y="3992400"/>
            <a:chExt cx="1401480" cy="1013040"/>
          </a:xfrm>
        </p:grpSpPr>
        <p:pic>
          <p:nvPicPr>
            <p:cNvPr id="9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079640" y="3992400"/>
              <a:ext cx="14014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81160" y="41814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Прямоугольник 6" descr=""/>
          <p:cNvPicPr/>
          <p:nvPr/>
        </p:nvPicPr>
        <p:blipFill>
          <a:blip r:embed="rId5"/>
          <a:stretch/>
        </p:blipFill>
        <p:spPr>
          <a:xfrm>
            <a:off x="334800" y="590400"/>
            <a:ext cx="58215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Скругленный прямоугольник 3"/>
          <p:cNvGrpSpPr/>
          <p:nvPr/>
        </p:nvGrpSpPr>
        <p:grpSpPr>
          <a:xfrm>
            <a:off x="1365120" y="3638520"/>
            <a:ext cx="1474920" cy="1006560"/>
            <a:chOff x="1365120" y="3638520"/>
            <a:chExt cx="1474920" cy="1006560"/>
          </a:xfrm>
        </p:grpSpPr>
        <p:pic>
          <p:nvPicPr>
            <p:cNvPr id="10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63852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467000" y="38242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кругленный прямоугольник 4"/>
          <p:cNvGrpSpPr/>
          <p:nvPr/>
        </p:nvGrpSpPr>
        <p:grpSpPr>
          <a:xfrm>
            <a:off x="3224160" y="2852640"/>
            <a:ext cx="1476360" cy="1006560"/>
            <a:chOff x="3224160" y="2852640"/>
            <a:chExt cx="1476360" cy="1006560"/>
          </a:xfrm>
        </p:grpSpPr>
        <p:pic>
          <p:nvPicPr>
            <p:cNvPr id="10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24160" y="285264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24240" y="3038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кругленный прямоугольник 5"/>
          <p:cNvGrpSpPr/>
          <p:nvPr/>
        </p:nvGrpSpPr>
        <p:grpSpPr>
          <a:xfrm>
            <a:off x="3438360" y="4280040"/>
            <a:ext cx="1401840" cy="1004760"/>
            <a:chOff x="3438360" y="4280040"/>
            <a:chExt cx="1401840" cy="1004760"/>
          </a:xfrm>
        </p:grpSpPr>
        <p:pic>
          <p:nvPicPr>
            <p:cNvPr id="10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280040"/>
              <a:ext cx="14018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538440" y="44672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8034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3"/>
          <p:cNvGrpSpPr/>
          <p:nvPr/>
        </p:nvGrpSpPr>
        <p:grpSpPr>
          <a:xfrm>
            <a:off x="3651120" y="4138560"/>
            <a:ext cx="1474920" cy="1006560"/>
            <a:chOff x="3651120" y="4138560"/>
            <a:chExt cx="1474920" cy="1006560"/>
          </a:xfrm>
        </p:grpSpPr>
        <p:pic>
          <p:nvPicPr>
            <p:cNvPr id="11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651120" y="4138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53000" y="432432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4"/>
          <p:cNvGrpSpPr/>
          <p:nvPr/>
        </p:nvGrpSpPr>
        <p:grpSpPr>
          <a:xfrm>
            <a:off x="2225520" y="2852640"/>
            <a:ext cx="1474920" cy="1006560"/>
            <a:chOff x="2225520" y="2852640"/>
            <a:chExt cx="1474920" cy="1006560"/>
          </a:xfrm>
        </p:grpSpPr>
        <p:pic>
          <p:nvPicPr>
            <p:cNvPr id="11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25520" y="285264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324160" y="303840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"/>
          <p:cNvGrpSpPr/>
          <p:nvPr/>
        </p:nvGrpSpPr>
        <p:grpSpPr>
          <a:xfrm>
            <a:off x="1511280" y="4138560"/>
            <a:ext cx="1403280" cy="1006560"/>
            <a:chOff x="1511280" y="4138560"/>
            <a:chExt cx="1403280" cy="1006560"/>
          </a:xfrm>
        </p:grpSpPr>
        <p:pic>
          <p:nvPicPr>
            <p:cNvPr id="11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511280" y="4138560"/>
              <a:ext cx="1403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609560" y="432432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Прямоугольник 7" descr=""/>
          <p:cNvPicPr/>
          <p:nvPr/>
        </p:nvPicPr>
        <p:blipFill>
          <a:blip r:embed="rId5"/>
          <a:stretch/>
        </p:blipFill>
        <p:spPr>
          <a:xfrm>
            <a:off x="828720" y="517680"/>
            <a:ext cx="41274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Скругленный прямоугольник 3"/>
          <p:cNvGrpSpPr/>
          <p:nvPr/>
        </p:nvGrpSpPr>
        <p:grpSpPr>
          <a:xfrm>
            <a:off x="1365120" y="3852720"/>
            <a:ext cx="1474920" cy="1005120"/>
            <a:chOff x="1365120" y="3852720"/>
            <a:chExt cx="1474920" cy="1005120"/>
          </a:xfrm>
        </p:grpSpPr>
        <p:pic>
          <p:nvPicPr>
            <p:cNvPr id="12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8527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467000" y="40384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Скругленный прямоугольник 4"/>
          <p:cNvGrpSpPr/>
          <p:nvPr/>
        </p:nvGrpSpPr>
        <p:grpSpPr>
          <a:xfrm>
            <a:off x="2584440" y="2639880"/>
            <a:ext cx="1469880" cy="1005120"/>
            <a:chOff x="2584440" y="2639880"/>
            <a:chExt cx="1469880" cy="1005120"/>
          </a:xfrm>
        </p:grpSpPr>
        <p:pic>
          <p:nvPicPr>
            <p:cNvPr id="12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84440" y="2639880"/>
              <a:ext cx="1469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681280" y="2824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Скругленный прямоугольник 5"/>
          <p:cNvGrpSpPr/>
          <p:nvPr/>
        </p:nvGrpSpPr>
        <p:grpSpPr>
          <a:xfrm>
            <a:off x="3651120" y="4352760"/>
            <a:ext cx="1401840" cy="1005120"/>
            <a:chOff x="3651120" y="4352760"/>
            <a:chExt cx="1401840" cy="1005120"/>
          </a:xfrm>
        </p:grpSpPr>
        <p:pic>
          <p:nvPicPr>
            <p:cNvPr id="12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651120" y="435276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753000" y="4538520"/>
              <a:ext cx="1209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Прямоугольник 6" descr=""/>
          <p:cNvPicPr/>
          <p:nvPr/>
        </p:nvPicPr>
        <p:blipFill>
          <a:blip r:embed="rId5"/>
          <a:stretch/>
        </p:blipFill>
        <p:spPr>
          <a:xfrm>
            <a:off x="841320" y="517680"/>
            <a:ext cx="55468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Учитель</cp:lastModifiedBy>
  <dcterms:modified xsi:type="dcterms:W3CDTF">2015-01-19T08:56:17Z</dcterms:modified>
  <cp:revision>716</cp:revision>
  <dc:subject/>
  <dc:title>Слайд 1</dc:title>
</cp:coreProperties>
</file>