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D55-1736-4A98-870D-A8832F3D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8E1-6E7E-4D44-AD0C-A9517733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C3D-F1C9-4826-8772-E599D577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3A1-4333-4BFA-9F49-D7A6A552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702-B9BC-4BCA-B64C-349BFD62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65D-D69E-43B0-A252-EB3276A0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FA3-BC02-417E-9AC4-F34F00DC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437-C417-47DC-9199-747E212F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B98-3B1C-4BF1-BD9E-540B78E5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512-F7A2-4EBE-A042-8CD2CEAD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798-E0C0-4ED0-8617-A176C8C0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C28-B58C-4CE4-8940-0FE7515E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077A-1D66-42EB-9558-5A31AA1AD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nachalka.com/test_shablon" TargetMode="External"/><Relationship Id="rId4" Type="http://schemas.openxmlformats.org/officeDocument/2006/relationships/hyperlink" Target="http://www.nachalka.com/test_shablon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Скругленный прямоугольник 7"/>
          <p:cNvGrpSpPr/>
          <p:nvPr/>
        </p:nvGrpSpPr>
        <p:grpSpPr>
          <a:xfrm>
            <a:off x="5437080" y="5821200"/>
            <a:ext cx="3121200" cy="824040"/>
            <a:chOff x="5437080" y="5821200"/>
            <a:chExt cx="3121200" cy="824040"/>
          </a:xfrm>
        </p:grpSpPr>
        <p:pic>
          <p:nvPicPr>
            <p:cNvPr id="43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5437080" y="5821200"/>
              <a:ext cx="31212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535720" y="5892840"/>
              <a:ext cx="2930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ачать те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6" descr=""/>
          <p:cNvPicPr/>
          <p:nvPr/>
        </p:nvPicPr>
        <p:blipFill>
          <a:blip r:embed="rId5"/>
          <a:stretch/>
        </p:blipFill>
        <p:spPr>
          <a:xfrm>
            <a:off x="512640" y="731880"/>
            <a:ext cx="5364360" cy="2255760"/>
          </a:xfrm>
          <a:prstGeom prst="rect">
            <a:avLst/>
          </a:prstGeom>
          <a:ln w="0">
            <a:noFill/>
          </a:ln>
        </p:spPr>
      </p:pic>
      <p:pic>
        <p:nvPicPr>
          <p:cNvPr id="47" name="Подзаголовок 8" descr=""/>
          <p:cNvPicPr/>
          <p:nvPr/>
        </p:nvPicPr>
        <p:blipFill>
          <a:blip r:embed="rId6"/>
          <a:stretch/>
        </p:blipFill>
        <p:spPr>
          <a:xfrm>
            <a:off x="2133720" y="3309840"/>
            <a:ext cx="26096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Скругленный прямоугольник 3"/>
          <p:cNvGrpSpPr/>
          <p:nvPr/>
        </p:nvGrpSpPr>
        <p:grpSpPr>
          <a:xfrm>
            <a:off x="3438360" y="2779560"/>
            <a:ext cx="1474920" cy="1006560"/>
            <a:chOff x="3438360" y="2779560"/>
            <a:chExt cx="1474920" cy="1006560"/>
          </a:xfrm>
        </p:grpSpPr>
        <p:pic>
          <p:nvPicPr>
            <p:cNvPr id="133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438360" y="277956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538440" y="296712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Скругленный прямоугольник 4"/>
          <p:cNvGrpSpPr/>
          <p:nvPr/>
        </p:nvGrpSpPr>
        <p:grpSpPr>
          <a:xfrm>
            <a:off x="1298520" y="3565440"/>
            <a:ext cx="1468440" cy="1006560"/>
            <a:chOff x="1298520" y="3565440"/>
            <a:chExt cx="1468440" cy="1006560"/>
          </a:xfrm>
        </p:grpSpPr>
        <p:pic>
          <p:nvPicPr>
            <p:cNvPr id="136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298520" y="3565440"/>
              <a:ext cx="14684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395360" y="37530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Скругленный прямоугольник 5"/>
          <p:cNvGrpSpPr/>
          <p:nvPr/>
        </p:nvGrpSpPr>
        <p:grpSpPr>
          <a:xfrm>
            <a:off x="3584520" y="4425840"/>
            <a:ext cx="1401840" cy="1005120"/>
            <a:chOff x="3584520" y="4425840"/>
            <a:chExt cx="1401840" cy="1005120"/>
          </a:xfrm>
        </p:grpSpPr>
        <p:pic>
          <p:nvPicPr>
            <p:cNvPr id="139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584520" y="442584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681360" y="461016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Прямоугольник 6" descr=""/>
          <p:cNvPicPr/>
          <p:nvPr/>
        </p:nvPicPr>
        <p:blipFill>
          <a:blip r:embed="rId5"/>
          <a:stretch/>
        </p:blipFill>
        <p:spPr>
          <a:xfrm>
            <a:off x="1328760" y="590400"/>
            <a:ext cx="380988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Скругленный прямоугольник 3"/>
          <p:cNvGrpSpPr/>
          <p:nvPr/>
        </p:nvGrpSpPr>
        <p:grpSpPr>
          <a:xfrm>
            <a:off x="1298520" y="3780000"/>
            <a:ext cx="1468440" cy="1004760"/>
            <a:chOff x="1298520" y="3780000"/>
            <a:chExt cx="1468440" cy="1004760"/>
          </a:xfrm>
        </p:grpSpPr>
        <p:pic>
          <p:nvPicPr>
            <p:cNvPr id="14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298520" y="3780000"/>
              <a:ext cx="14684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95360" y="39672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4"/>
          <p:cNvGrpSpPr/>
          <p:nvPr/>
        </p:nvGrpSpPr>
        <p:grpSpPr>
          <a:xfrm>
            <a:off x="2511360" y="2567160"/>
            <a:ext cx="1474920" cy="1004760"/>
            <a:chOff x="2511360" y="2567160"/>
            <a:chExt cx="1474920" cy="1004760"/>
          </a:xfrm>
        </p:grpSpPr>
        <p:pic>
          <p:nvPicPr>
            <p:cNvPr id="14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11360" y="256716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610000" y="2752560"/>
              <a:ext cx="12808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кругленный прямоугольник 5"/>
          <p:cNvGrpSpPr/>
          <p:nvPr/>
        </p:nvGrpSpPr>
        <p:grpSpPr>
          <a:xfrm>
            <a:off x="3797280" y="3780000"/>
            <a:ext cx="1403280" cy="1004760"/>
            <a:chOff x="3797280" y="3780000"/>
            <a:chExt cx="1403280" cy="1004760"/>
          </a:xfrm>
        </p:grpSpPr>
        <p:pic>
          <p:nvPicPr>
            <p:cNvPr id="150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797280" y="3780000"/>
              <a:ext cx="140328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895560" y="3967200"/>
              <a:ext cx="1209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Прямоугольник 6" descr=""/>
          <p:cNvPicPr/>
          <p:nvPr/>
        </p:nvPicPr>
        <p:blipFill>
          <a:blip r:embed="rId5"/>
          <a:stretch/>
        </p:blipFill>
        <p:spPr>
          <a:xfrm>
            <a:off x="1042920" y="517680"/>
            <a:ext cx="410868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Скругленный прямоугольник 3"/>
          <p:cNvGrpSpPr/>
          <p:nvPr/>
        </p:nvGrpSpPr>
        <p:grpSpPr>
          <a:xfrm>
            <a:off x="3511440" y="4280040"/>
            <a:ext cx="1474920" cy="1004760"/>
            <a:chOff x="3511440" y="4280040"/>
            <a:chExt cx="1474920" cy="1004760"/>
          </a:xfrm>
        </p:grpSpPr>
        <p:pic>
          <p:nvPicPr>
            <p:cNvPr id="15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511440" y="428004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610080" y="446724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кругленный прямоугольник 4"/>
          <p:cNvGrpSpPr/>
          <p:nvPr/>
        </p:nvGrpSpPr>
        <p:grpSpPr>
          <a:xfrm>
            <a:off x="1438200" y="3638520"/>
            <a:ext cx="1476360" cy="1006560"/>
            <a:chOff x="1438200" y="3638520"/>
            <a:chExt cx="1476360" cy="1006560"/>
          </a:xfrm>
        </p:grpSpPr>
        <p:pic>
          <p:nvPicPr>
            <p:cNvPr id="15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438200" y="3638520"/>
              <a:ext cx="1476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38280" y="38242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кругленный прямоугольник 5"/>
          <p:cNvGrpSpPr/>
          <p:nvPr/>
        </p:nvGrpSpPr>
        <p:grpSpPr>
          <a:xfrm>
            <a:off x="3438360" y="2925720"/>
            <a:ext cx="1401840" cy="1006560"/>
            <a:chOff x="3438360" y="2925720"/>
            <a:chExt cx="1401840" cy="1006560"/>
          </a:xfrm>
        </p:grpSpPr>
        <p:pic>
          <p:nvPicPr>
            <p:cNvPr id="161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292572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538440" y="311004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Прямоугольник 6" descr=""/>
          <p:cNvPicPr/>
          <p:nvPr/>
        </p:nvPicPr>
        <p:blipFill>
          <a:blip r:embed="rId5"/>
          <a:stretch/>
        </p:blipFill>
        <p:spPr>
          <a:xfrm>
            <a:off x="1189080" y="665280"/>
            <a:ext cx="382104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8840" y="1928880"/>
            <a:ext cx="35431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Скругленный прямоугольник 3"/>
          <p:cNvGrpSpPr/>
          <p:nvPr/>
        </p:nvGrpSpPr>
        <p:grpSpPr>
          <a:xfrm>
            <a:off x="1365120" y="3139920"/>
            <a:ext cx="1474920" cy="1005120"/>
            <a:chOff x="1365120" y="3139920"/>
            <a:chExt cx="1474920" cy="1005120"/>
          </a:xfrm>
        </p:grpSpPr>
        <p:pic>
          <p:nvPicPr>
            <p:cNvPr id="56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65120" y="3139920"/>
              <a:ext cx="147492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467000" y="332424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Скругленный прямоугольник 4"/>
          <p:cNvGrpSpPr/>
          <p:nvPr/>
        </p:nvGrpSpPr>
        <p:grpSpPr>
          <a:xfrm>
            <a:off x="3651120" y="3139920"/>
            <a:ext cx="1474920" cy="1005120"/>
            <a:chOff x="3651120" y="3139920"/>
            <a:chExt cx="1474920" cy="1005120"/>
          </a:xfrm>
        </p:grpSpPr>
        <p:pic>
          <p:nvPicPr>
            <p:cNvPr id="5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651120" y="3139920"/>
              <a:ext cx="147492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753000" y="332424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Скругленный прямоугольник 5"/>
          <p:cNvGrpSpPr/>
          <p:nvPr/>
        </p:nvGrpSpPr>
        <p:grpSpPr>
          <a:xfrm>
            <a:off x="2438280" y="4711680"/>
            <a:ext cx="1401840" cy="1006560"/>
            <a:chOff x="2438280" y="4711680"/>
            <a:chExt cx="1401840" cy="1006560"/>
          </a:xfrm>
        </p:grpSpPr>
        <p:pic>
          <p:nvPicPr>
            <p:cNvPr id="6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38280" y="471168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538360" y="489600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Прямоугольник 6" descr=""/>
          <p:cNvPicPr/>
          <p:nvPr/>
        </p:nvPicPr>
        <p:blipFill>
          <a:blip r:embed="rId5"/>
          <a:stretch/>
        </p:blipFill>
        <p:spPr>
          <a:xfrm>
            <a:off x="835200" y="517680"/>
            <a:ext cx="445608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Скругленный прямоугольник 3"/>
          <p:cNvGrpSpPr/>
          <p:nvPr/>
        </p:nvGrpSpPr>
        <p:grpSpPr>
          <a:xfrm>
            <a:off x="3297240" y="2925720"/>
            <a:ext cx="1469880" cy="1006560"/>
            <a:chOff x="3297240" y="2925720"/>
            <a:chExt cx="1469880" cy="1006560"/>
          </a:xfrm>
        </p:grpSpPr>
        <p:pic>
          <p:nvPicPr>
            <p:cNvPr id="67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297240" y="2925720"/>
              <a:ext cx="14698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395520" y="311004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4"/>
          <p:cNvGrpSpPr/>
          <p:nvPr/>
        </p:nvGrpSpPr>
        <p:grpSpPr>
          <a:xfrm>
            <a:off x="1152360" y="3706920"/>
            <a:ext cx="1474920" cy="1011240"/>
            <a:chOff x="1152360" y="3706920"/>
            <a:chExt cx="1474920" cy="1011240"/>
          </a:xfrm>
        </p:grpSpPr>
        <p:pic>
          <p:nvPicPr>
            <p:cNvPr id="7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152360" y="3706920"/>
              <a:ext cx="14749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52440" y="3895560"/>
              <a:ext cx="12812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5"/>
          <p:cNvGrpSpPr/>
          <p:nvPr/>
        </p:nvGrpSpPr>
        <p:grpSpPr>
          <a:xfrm>
            <a:off x="3438360" y="4565520"/>
            <a:ext cx="1401840" cy="1006560"/>
            <a:chOff x="3438360" y="4565520"/>
            <a:chExt cx="1401840" cy="1006560"/>
          </a:xfrm>
        </p:grpSpPr>
        <p:pic>
          <p:nvPicPr>
            <p:cNvPr id="7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565520"/>
              <a:ext cx="14018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538440" y="475308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Прямоугольник 6" descr=""/>
          <p:cNvPicPr/>
          <p:nvPr/>
        </p:nvPicPr>
        <p:blipFill>
          <a:blip r:embed="rId5"/>
          <a:stretch/>
        </p:blipFill>
        <p:spPr>
          <a:xfrm>
            <a:off x="828720" y="517680"/>
            <a:ext cx="355428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Скругленный прямоугольник 3"/>
          <p:cNvGrpSpPr/>
          <p:nvPr/>
        </p:nvGrpSpPr>
        <p:grpSpPr>
          <a:xfrm>
            <a:off x="1511280" y="3638520"/>
            <a:ext cx="1469880" cy="1006560"/>
            <a:chOff x="1511280" y="3638520"/>
            <a:chExt cx="1469880" cy="1006560"/>
          </a:xfrm>
        </p:grpSpPr>
        <p:pic>
          <p:nvPicPr>
            <p:cNvPr id="78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511280" y="3638520"/>
              <a:ext cx="14698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609560" y="38242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4"/>
          <p:cNvGrpSpPr/>
          <p:nvPr/>
        </p:nvGrpSpPr>
        <p:grpSpPr>
          <a:xfrm>
            <a:off x="3438360" y="3067200"/>
            <a:ext cx="1474920" cy="1004760"/>
            <a:chOff x="3438360" y="3067200"/>
            <a:chExt cx="1474920" cy="1004760"/>
          </a:xfrm>
        </p:grpSpPr>
        <p:pic>
          <p:nvPicPr>
            <p:cNvPr id="81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438360" y="3067200"/>
              <a:ext cx="14749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538440" y="325296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5"/>
          <p:cNvGrpSpPr/>
          <p:nvPr/>
        </p:nvGrpSpPr>
        <p:grpSpPr>
          <a:xfrm>
            <a:off x="3438360" y="4425840"/>
            <a:ext cx="1401840" cy="1005120"/>
            <a:chOff x="3438360" y="4425840"/>
            <a:chExt cx="1401840" cy="1005120"/>
          </a:xfrm>
        </p:grpSpPr>
        <p:pic>
          <p:nvPicPr>
            <p:cNvPr id="84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42584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538440" y="461016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6" descr=""/>
          <p:cNvPicPr/>
          <p:nvPr/>
        </p:nvPicPr>
        <p:blipFill>
          <a:blip r:embed="rId5"/>
          <a:stretch/>
        </p:blipFill>
        <p:spPr>
          <a:xfrm>
            <a:off x="835200" y="517680"/>
            <a:ext cx="4443120" cy="18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Скругленный прямоугольник 3"/>
          <p:cNvGrpSpPr/>
          <p:nvPr/>
        </p:nvGrpSpPr>
        <p:grpSpPr>
          <a:xfrm>
            <a:off x="3438360" y="3992400"/>
            <a:ext cx="1474920" cy="1013040"/>
            <a:chOff x="3438360" y="3992400"/>
            <a:chExt cx="1474920" cy="1013040"/>
          </a:xfrm>
        </p:grpSpPr>
        <p:pic>
          <p:nvPicPr>
            <p:cNvPr id="89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438360" y="3992400"/>
              <a:ext cx="147492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538440" y="41814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кругленный прямоугольник 4"/>
          <p:cNvGrpSpPr/>
          <p:nvPr/>
        </p:nvGrpSpPr>
        <p:grpSpPr>
          <a:xfrm>
            <a:off x="2298600" y="2706840"/>
            <a:ext cx="1468440" cy="1011240"/>
            <a:chOff x="2298600" y="2706840"/>
            <a:chExt cx="1468440" cy="1011240"/>
          </a:xfrm>
        </p:grpSpPr>
        <p:pic>
          <p:nvPicPr>
            <p:cNvPr id="9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298600" y="2706840"/>
              <a:ext cx="146844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395440" y="289548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5"/>
          <p:cNvGrpSpPr/>
          <p:nvPr/>
        </p:nvGrpSpPr>
        <p:grpSpPr>
          <a:xfrm>
            <a:off x="1079640" y="3992400"/>
            <a:ext cx="1401480" cy="1013040"/>
            <a:chOff x="1079640" y="3992400"/>
            <a:chExt cx="1401480" cy="1013040"/>
          </a:xfrm>
        </p:grpSpPr>
        <p:pic>
          <p:nvPicPr>
            <p:cNvPr id="95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079640" y="3992400"/>
              <a:ext cx="140148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81160" y="418140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Прямоугольник 6" descr=""/>
          <p:cNvPicPr/>
          <p:nvPr/>
        </p:nvPicPr>
        <p:blipFill>
          <a:blip r:embed="rId5"/>
          <a:stretch/>
        </p:blipFill>
        <p:spPr>
          <a:xfrm>
            <a:off x="1468440" y="665280"/>
            <a:ext cx="397512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Скругленный прямоугольник 3"/>
          <p:cNvGrpSpPr/>
          <p:nvPr/>
        </p:nvGrpSpPr>
        <p:grpSpPr>
          <a:xfrm>
            <a:off x="1365120" y="3638520"/>
            <a:ext cx="1474920" cy="1006560"/>
            <a:chOff x="1365120" y="3638520"/>
            <a:chExt cx="1474920" cy="1006560"/>
          </a:xfrm>
        </p:grpSpPr>
        <p:pic>
          <p:nvPicPr>
            <p:cNvPr id="100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65120" y="363852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467000" y="382428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Скругленный прямоугольник 4"/>
          <p:cNvGrpSpPr/>
          <p:nvPr/>
        </p:nvGrpSpPr>
        <p:grpSpPr>
          <a:xfrm>
            <a:off x="3224160" y="2852640"/>
            <a:ext cx="1476360" cy="1006560"/>
            <a:chOff x="3224160" y="2852640"/>
            <a:chExt cx="1476360" cy="1006560"/>
          </a:xfrm>
        </p:grpSpPr>
        <p:pic>
          <p:nvPicPr>
            <p:cNvPr id="10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224160" y="2852640"/>
              <a:ext cx="1476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24240" y="30384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кругленный прямоугольник 5"/>
          <p:cNvGrpSpPr/>
          <p:nvPr/>
        </p:nvGrpSpPr>
        <p:grpSpPr>
          <a:xfrm>
            <a:off x="3438360" y="4280040"/>
            <a:ext cx="1401840" cy="1004760"/>
            <a:chOff x="3438360" y="4280040"/>
            <a:chExt cx="1401840" cy="1004760"/>
          </a:xfrm>
        </p:grpSpPr>
        <p:pic>
          <p:nvPicPr>
            <p:cNvPr id="10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438360" y="4280040"/>
              <a:ext cx="14018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538440" y="4467240"/>
              <a:ext cx="1209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Прямоугольник 6" descr=""/>
          <p:cNvPicPr/>
          <p:nvPr/>
        </p:nvPicPr>
        <p:blipFill>
          <a:blip r:embed="rId5"/>
          <a:stretch/>
        </p:blipFill>
        <p:spPr>
          <a:xfrm>
            <a:off x="1542960" y="731880"/>
            <a:ext cx="361476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Скругленный прямоугольник 3"/>
          <p:cNvGrpSpPr/>
          <p:nvPr/>
        </p:nvGrpSpPr>
        <p:grpSpPr>
          <a:xfrm>
            <a:off x="3651120" y="4138560"/>
            <a:ext cx="1474920" cy="1006560"/>
            <a:chOff x="3651120" y="4138560"/>
            <a:chExt cx="1474920" cy="1006560"/>
          </a:xfrm>
        </p:grpSpPr>
        <p:pic>
          <p:nvPicPr>
            <p:cNvPr id="111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651120" y="413856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753000" y="432432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4"/>
          <p:cNvGrpSpPr/>
          <p:nvPr/>
        </p:nvGrpSpPr>
        <p:grpSpPr>
          <a:xfrm>
            <a:off x="2225520" y="2852640"/>
            <a:ext cx="1474920" cy="1006560"/>
            <a:chOff x="2225520" y="2852640"/>
            <a:chExt cx="1474920" cy="1006560"/>
          </a:xfrm>
        </p:grpSpPr>
        <p:pic>
          <p:nvPicPr>
            <p:cNvPr id="114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225520" y="2852640"/>
              <a:ext cx="1474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324160" y="303840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"/>
          <p:cNvGrpSpPr/>
          <p:nvPr/>
        </p:nvGrpSpPr>
        <p:grpSpPr>
          <a:xfrm>
            <a:off x="1511280" y="4138560"/>
            <a:ext cx="1403280" cy="1006560"/>
            <a:chOff x="1511280" y="4138560"/>
            <a:chExt cx="1403280" cy="1006560"/>
          </a:xfrm>
        </p:grpSpPr>
        <p:pic>
          <p:nvPicPr>
            <p:cNvPr id="117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511280" y="4138560"/>
              <a:ext cx="1403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609560" y="4324320"/>
              <a:ext cx="1209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Прямоугольник 7" descr=""/>
          <p:cNvPicPr/>
          <p:nvPr/>
        </p:nvPicPr>
        <p:blipFill>
          <a:blip r:embed="rId5"/>
          <a:stretch/>
        </p:blipFill>
        <p:spPr>
          <a:xfrm>
            <a:off x="1328760" y="665280"/>
            <a:ext cx="390204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C:\Users\Учитель\Desktop\Рамки\0_85576_79130e1f_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Скругленный прямоугольник 3"/>
          <p:cNvGrpSpPr/>
          <p:nvPr/>
        </p:nvGrpSpPr>
        <p:grpSpPr>
          <a:xfrm>
            <a:off x="1365120" y="3852720"/>
            <a:ext cx="1474920" cy="1005120"/>
            <a:chOff x="1365120" y="3852720"/>
            <a:chExt cx="1474920" cy="1005120"/>
          </a:xfrm>
        </p:grpSpPr>
        <p:pic>
          <p:nvPicPr>
            <p:cNvPr id="122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65120" y="3852720"/>
              <a:ext cx="147492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467000" y="4038480"/>
              <a:ext cx="1280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Скругленный прямоугольник 4"/>
          <p:cNvGrpSpPr/>
          <p:nvPr/>
        </p:nvGrpSpPr>
        <p:grpSpPr>
          <a:xfrm>
            <a:off x="2584440" y="2639880"/>
            <a:ext cx="1469880" cy="1005120"/>
            <a:chOff x="2584440" y="2639880"/>
            <a:chExt cx="1469880" cy="1005120"/>
          </a:xfrm>
        </p:grpSpPr>
        <p:pic>
          <p:nvPicPr>
            <p:cNvPr id="125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84440" y="2639880"/>
              <a:ext cx="14698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681280" y="2824200"/>
              <a:ext cx="1281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Скругленный прямоугольник 5"/>
          <p:cNvGrpSpPr/>
          <p:nvPr/>
        </p:nvGrpSpPr>
        <p:grpSpPr>
          <a:xfrm>
            <a:off x="3651120" y="4352760"/>
            <a:ext cx="1401840" cy="1005120"/>
            <a:chOff x="3651120" y="4352760"/>
            <a:chExt cx="1401840" cy="1005120"/>
          </a:xfrm>
        </p:grpSpPr>
        <p:pic>
          <p:nvPicPr>
            <p:cNvPr id="128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3651120" y="4352760"/>
              <a:ext cx="14018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753000" y="4538520"/>
              <a:ext cx="1209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Прямоугольник 6" descr=""/>
          <p:cNvPicPr/>
          <p:nvPr/>
        </p:nvPicPr>
        <p:blipFill>
          <a:blip r:embed="rId5"/>
          <a:stretch/>
        </p:blipFill>
        <p:spPr>
          <a:xfrm>
            <a:off x="1042920" y="590400"/>
            <a:ext cx="4351320" cy="187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Учитель</cp:lastModifiedBy>
  <dcterms:modified xsi:type="dcterms:W3CDTF">2015-01-20T03:20:10Z</dcterms:modified>
  <cp:revision>720</cp:revision>
  <dc:subject/>
  <dc:title>Слайд 1</dc:title>
</cp:coreProperties>
</file>