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EEBF-E064-42EF-9F3C-FD33B5F8FE6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794-2AC8-4486-A081-E6CDF50D2F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455D-B37D-4B4B-B053-6F5515F286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0120-7F01-471C-A3F2-154842F15C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96F6-11DF-41FD-8692-5B3D3C5886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E8D-B0BD-4DEA-8308-C7EC3876108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E03E-BD03-4EAB-BAA7-0F1C6CB6C2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4763-F65A-48E4-B6D9-A70629C975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C783-71A0-428D-806B-15CBE72478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13C7-CA04-4A5A-8EA5-B4A81CDE45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DC48-D986-4A84-B007-A48A372FB9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456B-43F3-4B21-BF76-E85E7D362C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7C26-00CF-43D4-8056-641FAAABEBF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509-0FD6-4AE9-89E2-62FF35AAB56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DD2B-7CE3-4C4F-AFE5-EE8FC98879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3C4D-6812-4A3E-9E1B-9FE7AFA9B6A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C557-793D-4205-B1D8-BDA6AE3DBC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7975-879B-4B92-8CEF-C43F2D1039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AD74-106B-4182-B6CB-4B2B1C0B51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48C0-D64A-4248-A5A8-0A8685A4B7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5A0B-F7B8-4462-934C-FE6D755F5BB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2F7C-A343-4742-B2E8-EB7356A252B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3B3-A166-457C-98E1-8FDF3EBAF3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F3E2-7F59-4D4F-9115-CDB238D909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6068-AE27-460B-94D7-295019A6DF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DD8-E248-44C6-BDAD-4D1A62E91D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5631-A7F7-4E67-BBD6-96FCEEC5CAD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28AC-108A-4290-8DF5-16DC4ABC03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6291-AF4C-4C07-81C6-2B85D10A25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2352-3D3C-4F4C-9618-F90E1E906A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A8BC-AC0B-4DB3-B6D1-D5EDEF4AFB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EFAA-778B-4565-B1B1-7D61C601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48D4-8FA1-422A-8FB3-C8143EF9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D4FC-57D8-4207-8DE9-C7BF9A8D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CDB1-42B0-45E8-A226-22A30C11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393D-9E4D-466C-88CC-97894642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3222-9390-4EF5-8832-AB6C8C9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3D68-CE25-430F-B854-B9C73E9B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5DA3-50A6-4B0B-9FF8-BB6D202C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89A1-F1BD-4224-8923-68E43FF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DA39-5565-4D64-A4D2-CAAAAACF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6A90-1CF5-4FF1-9C56-6E9AFCF8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C127-4E68-49BA-BE79-23320426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C6C7-6DC3-444E-9A23-3C166B15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7560-76D1-4038-B525-AEC82C86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7484-1182-4A23-ADAA-A7A5AEED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1BD0-8158-41A2-B084-CF5D7E9F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66C5-EE24-4705-A071-7D21E2D6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D13D-997B-4AD1-8E58-050198F8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B026-7161-445B-8DDE-326A5CD1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CBC0-98D9-4104-8452-32630B34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C188-B1D6-462E-8F51-0F4C5C03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2C02-55D7-4F10-8BF8-1E838EE9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BCAC-0293-46BD-A3A4-FC961BD5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365E-2A51-4B45-9210-F7D679DA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E786-74B2-49DF-A25F-891E44AA0C6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620-E4BB-4B4D-9F67-C1BFF95FBAC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ТКРЫТЫЙ УРОК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 6 КЛАСС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92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Прямоугольник 8"/>
          <p:cNvSpPr/>
          <p:nvPr/>
        </p:nvSpPr>
        <p:spPr>
          <a:xfrm>
            <a:off x="428760" y="49291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5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6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    2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99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Прямоугольник 9"/>
          <p:cNvSpPr/>
          <p:nvPr/>
        </p:nvSpPr>
        <p:spPr>
          <a:xfrm>
            <a:off x="571680" y="50007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* 13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9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206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8"/>
          <p:cNvSpPr/>
          <p:nvPr/>
        </p:nvSpPr>
        <p:spPr>
          <a:xfrm>
            <a:off x="500040" y="48578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     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213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Прямоугольник 8"/>
          <p:cNvSpPr/>
          <p:nvPr/>
        </p:nvSpPr>
        <p:spPr>
          <a:xfrm>
            <a:off x="500040" y="50007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-0,5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220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РАСНАЯ КНИГА РЕСПУБЛИКИ ТАТАРСТА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"/>
          <p:cNvSpPr/>
          <p:nvPr/>
        </p:nvSpPr>
        <p:spPr>
          <a:xfrm>
            <a:off x="228960" y="4929480"/>
            <a:ext cx="59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. САМОЕ МАЛЕНЬКОЕ НАТУРАЛЬНОЕ ЧИСЛ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Rectangle 2"/>
          <p:cNvSpPr/>
          <p:nvPr/>
        </p:nvSpPr>
        <p:spPr>
          <a:xfrm>
            <a:off x="401760" y="4932720"/>
            <a:ext cx="28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. КВАДРАТ ЧИСЛА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Rectangle 1"/>
          <p:cNvSpPr/>
          <p:nvPr/>
        </p:nvSpPr>
        <p:spPr>
          <a:xfrm>
            <a:off x="138600" y="5004360"/>
            <a:ext cx="67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. НАИБОЛЬШИЙ ОБЩИЙ ДЕЛИТЕЛЬ ЧИСЕЛ 18 И 2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731160" y="5288400"/>
            <a:ext cx="68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4. НАТУРАЛЬНОЕ ЧИСЛО, КОТОРОЕ БОЛЬШЕ 4  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НО МЕНЬШЕ     5  2/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85840" y="4429080"/>
          <a:ext cx="1785960" cy="131148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43040" indent="-7430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5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</a:t>
                      </a:r>
                      <a:r>
                        <a:rPr b="1" lang="ru-RU" sz="4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3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743040" indent="-7430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   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37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урый медвед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са медвежонка бурого медведя при рождении 3/5 кг, а масса взрослого медведя в 1500 раз больше. Какова масса бурого медвед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0" y="1844640"/>
            <a:ext cx="47880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елка-телеут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389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лка-телеутка раскалывает и съедает орех за 2\9 минуты. Сколько времени понадобится белке, чтобы расколоть и съесть  3(Радису), 4(Айзату), 5(Алсу Вахитовой), 6(Денису), 9 (Тахиру), 12(Алсу Валиевой) орехов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468360" y="1916280"/>
            <a:ext cx="4216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Хомячок серы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 подготовили клетку для серого хомячка. Длина клетки 3/8 м , а ширина в 2 раза больше. Какова площадь этой клетки? Можно ли в нее поместить серого хомячк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0" y="2637000"/>
            <a:ext cx="4932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ликан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85928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полета пеликана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\12 км\мин.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0" y="1916280"/>
            <a:ext cx="4950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зарка белощека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полета казарки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6  км/мин.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0" y="1628640"/>
            <a:ext cx="47880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ерку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21000" y="1700280"/>
            <a:ext cx="37242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корость полета беркута 15\16 км\ми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0" y="1706400"/>
            <a:ext cx="44276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расстояние пролетит каждая птица за 0,9 мину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полета пеликана-7\12 км\мин., скорость казарки – 5\6км\мин., а скорость полета беркута 15\16 км\мин. Какое расстояние пролетит каждая птица за 0,9 мину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Ёж ушасты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1640" y="1773360"/>
            <a:ext cx="4321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Ёж ушастый любил сидеть в большой коробке, которая стояла около его норки. Длина этой коробки – 5/6 м, ширина – 4/5 м, а высота - 13/14 м. Найдите объем этой короб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8" descr="Изображение"/>
          <p:cNvPicPr/>
          <p:nvPr/>
        </p:nvPicPr>
        <p:blipFill>
          <a:blip r:embed="rId1"/>
          <a:stretch/>
        </p:blipFill>
        <p:spPr>
          <a:xfrm>
            <a:off x="0" y="2421000"/>
            <a:ext cx="4427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43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428920" y="4143240"/>
          <a:ext cx="3870360" cy="118908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Прямоугольник 9"/>
          <p:cNvSpPr/>
          <p:nvPr/>
        </p:nvSpPr>
        <p:spPr>
          <a:xfrm>
            <a:off x="500040" y="4357800"/>
            <a:ext cx="178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3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*  2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7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оставить задачу на умножение дроб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шифровать  сл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 алгоритмы умножения дроб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50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Прямоугольник 8"/>
          <p:cNvSpPr/>
          <p:nvPr/>
        </p:nvSpPr>
        <p:spPr>
          <a:xfrm>
            <a:off x="571680" y="4429080"/>
            <a:ext cx="150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   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57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Прямоугольник 8"/>
          <p:cNvSpPr/>
          <p:nvPr/>
        </p:nvSpPr>
        <p:spPr>
          <a:xfrm>
            <a:off x="571680" y="47149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5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+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0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7   1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64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Прямоугольник 8"/>
          <p:cNvSpPr/>
          <p:nvPr/>
        </p:nvSpPr>
        <p:spPr>
          <a:xfrm>
            <a:off x="571680" y="44290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+0,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71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Прямоугольник 8"/>
          <p:cNvSpPr/>
          <p:nvPr/>
        </p:nvSpPr>
        <p:spPr>
          <a:xfrm>
            <a:off x="500040" y="45007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25+0,2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28760" y="1714320"/>
          <a:ext cx="8229600" cy="4530600"/>
        </p:xfrm>
        <a:graphic>
          <a:graphicData uri="http://schemas.openxmlformats.org/drawingml/2006/table"/>
        </a:graphic>
      </p:graphicFrame>
      <p:sp>
        <p:nvSpPr>
          <p:cNvPr id="178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Прямоугольник 8"/>
          <p:cNvSpPr/>
          <p:nvPr/>
        </p:nvSpPr>
        <p:spPr>
          <a:xfrm>
            <a:off x="428760" y="48578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1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_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5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8    1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85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Прямоугольник 8"/>
          <p:cNvSpPr/>
          <p:nvPr/>
        </p:nvSpPr>
        <p:spPr>
          <a:xfrm>
            <a:off x="500040" y="50007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_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   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8:15:21Z</dcterms:created>
  <dc:creator>Ришат</dc:creator>
  <dc:description/>
  <dc:language>en-US</dc:language>
  <cp:lastModifiedBy>Пользователь Windows</cp:lastModifiedBy>
  <dcterms:modified xsi:type="dcterms:W3CDTF">2008-11-24T17:26:02Z</dcterms:modified>
  <cp:revision>25</cp:revision>
  <dc:subject/>
  <dc:title>Ёж ушастый</dc:title>
</cp:coreProperties>
</file>