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FAB8-D126-456A-992B-C5799428A84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B47C-77F9-42FC-8EF3-66D645DE2B2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EC7D-4E0B-48D9-B0F5-34BE46E8691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2519-E832-499C-9D6B-2B8E28A3524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40BD-1E1A-4100-AC73-8A774FDC610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24C7-9E03-40B0-A240-A35DC4A9107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925E-6DC0-49C6-95F4-03D0FBE7551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1C72-E0FF-44A7-BDD0-43F18E1189E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406C-C91E-4A1F-82DE-F95BB7741BF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404A-1B4C-4FC1-BC58-AFB27ACBCA4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B140-C68B-45F3-96B2-3400C0A4761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2F54-6EFC-459D-B369-945570186BC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419B-11DC-4807-9728-7769EB88B30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C2F4-4D98-4B11-9308-F64ECBD20E2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3475-ED6B-4C83-BE03-D7B5A0C202A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4B4C-0A5A-4FCF-ACC4-F798E291E5B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9509-AD38-4FDA-85D9-8173E1AC5A4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8661-FF6A-4BDF-9EC9-A2DF5A702D6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F2DB-CDEA-45F7-B23E-6C23F3D18E3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EFED-CF43-4E80-91DC-9F2532168FA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25D9-C5F4-4663-AFC6-92856E7593C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15C3-5EDC-416C-B39B-2CF9E7A04C7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34F7-B882-4D02-A86E-F7EC7CEDFE6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E1D9-EFE7-4F4D-B7A7-7C03676B0DF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B1C8-3399-44E4-9D91-958D97F19F8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B38A-7755-457C-914B-DD74C2B09D4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2760-19D6-4244-A3D9-1DF3E905C5E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16A5-3B54-4D9D-B2C9-F724A925FF7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F03E-871F-4C1E-B0E5-349FE42F63A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9184-DEF5-4594-A30F-EC4D37E44A1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71AD-9541-410D-938B-7CCF60027E7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2E7D5-CCF7-4AEF-ADD5-A7FF04F8A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D00FE-03FB-4FBC-9709-4EA8E428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2429C-9549-4ACE-9065-01A393CD9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6E4B9-BF48-40FE-9054-490E794D8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AC6F-DD0E-4DDE-814C-EC26C3991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5ACB-6F0C-41BD-A7F3-F67507C3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BB14D-DFA4-43AC-818D-2FAE2A66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D297D-2981-46FC-818F-61D03A0B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3C46-C0DD-4413-9061-21B80649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704A8-FEF8-4B93-974E-6F0576F6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0E19-F68B-4F57-97E8-5B84DD48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036E5-733E-4734-8970-F70A3236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0A7B-D581-4192-BE00-2737A0BD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DAA7-17AD-4E05-91C2-17EE964F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579D-637D-4F5E-A841-0BD1E880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4600-AA3F-4CA8-9225-22162A448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B373-1DA5-4852-9C08-1A87D09FF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8495A-8CF8-442E-8E73-9A370635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3A137-C07F-4390-9EC0-D3BF2CAE8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94DD0-3247-4631-AD6A-E4CC71DC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0DF64-4C31-424C-8827-228BAF6E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E0F12-9638-4252-9031-813F6CAD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F39A1-CF9D-4CA4-9D78-042E4423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68416-716B-4A26-9181-1450ED39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65DE-241C-4B33-9A70-354182320606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0665-EAEF-4CF1-BA47-0AFE9F6C9B79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22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ОТКРЫТЫЙ УРОК </a:t>
            </a:r>
            <a:br>
              <a:rPr sz="3800"/>
            </a:b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В 6 КЛАССЕ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ШИФР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57200" y="1599840"/>
          <a:ext cx="8229600" cy="4530600"/>
        </p:xfrm>
        <a:graphic>
          <a:graphicData uri="http://schemas.openxmlformats.org/drawingml/2006/table"/>
        </a:graphic>
      </p:graphicFrame>
      <p:sp>
        <p:nvSpPr>
          <p:cNvPr id="192" name="Rectangle 6"/>
          <p:cNvSpPr/>
          <p:nvPr/>
        </p:nvSpPr>
        <p:spPr>
          <a:xfrm>
            <a:off x="1536120" y="2864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28760" y="1214280"/>
          <a:ext cx="8135640" cy="223236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7720"/>
                <a:gridCol w="1015920"/>
                <a:gridCol w="1015920"/>
                <a:gridCol w="1017720"/>
                <a:gridCol w="1019160"/>
                <a:gridCol w="101736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/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4/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/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3/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/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/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/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2428920" y="4143240"/>
          <a:ext cx="3870360" cy="1073160"/>
        </p:xfrm>
        <a:graphic>
          <a:graphicData uri="http://schemas.openxmlformats.org/drawingml/2006/table">
            <a:tbl>
              <a:tblPr/>
              <a:tblGrid>
                <a:gridCol w="552240"/>
                <a:gridCol w="552600"/>
                <a:gridCol w="554040"/>
                <a:gridCol w="552600"/>
                <a:gridCol w="554040"/>
                <a:gridCol w="552240"/>
                <a:gridCol w="552600"/>
              </a:tblGrid>
              <a:tr h="107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3143160" y="5500800"/>
          <a:ext cx="2765520" cy="928440"/>
        </p:xfrm>
        <a:graphic>
          <a:graphicData uri="http://schemas.openxmlformats.org/drawingml/2006/table">
            <a:tbl>
              <a:tblPr/>
              <a:tblGrid>
                <a:gridCol w="552600"/>
                <a:gridCol w="552240"/>
                <a:gridCol w="554040"/>
                <a:gridCol w="552600"/>
                <a:gridCol w="554040"/>
              </a:tblGrid>
              <a:tr h="92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Прямоугольник 8"/>
          <p:cNvSpPr/>
          <p:nvPr/>
        </p:nvSpPr>
        <p:spPr>
          <a:xfrm>
            <a:off x="428760" y="492912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5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* </a:t>
            </a: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16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2    25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ШИФР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57200" y="1599840"/>
          <a:ext cx="8229600" cy="4530600"/>
        </p:xfrm>
        <a:graphic>
          <a:graphicData uri="http://schemas.openxmlformats.org/drawingml/2006/table"/>
        </a:graphic>
      </p:graphicFrame>
      <p:sp>
        <p:nvSpPr>
          <p:cNvPr id="199" name="Rectangle 6"/>
          <p:cNvSpPr/>
          <p:nvPr/>
        </p:nvSpPr>
        <p:spPr>
          <a:xfrm>
            <a:off x="1536120" y="2864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28760" y="1214280"/>
          <a:ext cx="8135640" cy="223236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7720"/>
                <a:gridCol w="1015920"/>
                <a:gridCol w="1015920"/>
                <a:gridCol w="1017720"/>
                <a:gridCol w="1019160"/>
                <a:gridCol w="101736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/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4/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/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3/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/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/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/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2428920" y="4143240"/>
          <a:ext cx="3870360" cy="1073160"/>
        </p:xfrm>
        <a:graphic>
          <a:graphicData uri="http://schemas.openxmlformats.org/drawingml/2006/table">
            <a:tbl>
              <a:tblPr/>
              <a:tblGrid>
                <a:gridCol w="552240"/>
                <a:gridCol w="552600"/>
                <a:gridCol w="554040"/>
                <a:gridCol w="552600"/>
                <a:gridCol w="554040"/>
                <a:gridCol w="552240"/>
                <a:gridCol w="552600"/>
              </a:tblGrid>
              <a:tr h="107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3143160" y="5500800"/>
          <a:ext cx="2765520" cy="928440"/>
        </p:xfrm>
        <a:graphic>
          <a:graphicData uri="http://schemas.openxmlformats.org/drawingml/2006/table">
            <a:tbl>
              <a:tblPr/>
              <a:tblGrid>
                <a:gridCol w="552600"/>
                <a:gridCol w="552240"/>
                <a:gridCol w="554040"/>
                <a:gridCol w="552600"/>
                <a:gridCol w="554040"/>
              </a:tblGrid>
              <a:tr h="92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Прямоугольник 9"/>
          <p:cNvSpPr/>
          <p:nvPr/>
        </p:nvSpPr>
        <p:spPr>
          <a:xfrm>
            <a:off x="571680" y="500076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1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* 13</a:t>
            </a: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9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ШИФР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457200" y="1599840"/>
          <a:ext cx="8229600" cy="4530600"/>
        </p:xfrm>
        <a:graphic>
          <a:graphicData uri="http://schemas.openxmlformats.org/drawingml/2006/table"/>
        </a:graphic>
      </p:graphicFrame>
      <p:sp>
        <p:nvSpPr>
          <p:cNvPr id="206" name="Rectangle 6"/>
          <p:cNvSpPr/>
          <p:nvPr/>
        </p:nvSpPr>
        <p:spPr>
          <a:xfrm>
            <a:off x="1536120" y="2864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28760" y="1214280"/>
          <a:ext cx="8135640" cy="223236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7720"/>
                <a:gridCol w="1015920"/>
                <a:gridCol w="1015920"/>
                <a:gridCol w="1017720"/>
                <a:gridCol w="1019160"/>
                <a:gridCol w="101736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/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4/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/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3/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/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/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/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2428920" y="4143240"/>
          <a:ext cx="3870360" cy="1073160"/>
        </p:xfrm>
        <a:graphic>
          <a:graphicData uri="http://schemas.openxmlformats.org/drawingml/2006/table">
            <a:tbl>
              <a:tblPr/>
              <a:tblGrid>
                <a:gridCol w="552240"/>
                <a:gridCol w="552600"/>
                <a:gridCol w="554040"/>
                <a:gridCol w="552600"/>
                <a:gridCol w="554040"/>
                <a:gridCol w="552240"/>
                <a:gridCol w="552600"/>
              </a:tblGrid>
              <a:tr h="107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143160" y="5500800"/>
          <a:ext cx="2765520" cy="928440"/>
        </p:xfrm>
        <a:graphic>
          <a:graphicData uri="http://schemas.openxmlformats.org/drawingml/2006/table">
            <a:tbl>
              <a:tblPr/>
              <a:tblGrid>
                <a:gridCol w="552600"/>
                <a:gridCol w="552240"/>
                <a:gridCol w="554040"/>
                <a:gridCol w="552600"/>
                <a:gridCol w="554040"/>
              </a:tblGrid>
              <a:tr h="92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Прямоугольник 8"/>
          <p:cNvSpPr/>
          <p:nvPr/>
        </p:nvSpPr>
        <p:spPr>
          <a:xfrm>
            <a:off x="500040" y="485784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1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1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2     3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ШИФР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57200" y="1599840"/>
          <a:ext cx="8229600" cy="4530600"/>
        </p:xfrm>
        <a:graphic>
          <a:graphicData uri="http://schemas.openxmlformats.org/drawingml/2006/table"/>
        </a:graphic>
      </p:graphicFrame>
      <p:sp>
        <p:nvSpPr>
          <p:cNvPr id="213" name="Rectangle 6"/>
          <p:cNvSpPr/>
          <p:nvPr/>
        </p:nvSpPr>
        <p:spPr>
          <a:xfrm>
            <a:off x="1536120" y="2864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28760" y="1214280"/>
          <a:ext cx="8135640" cy="223236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7720"/>
                <a:gridCol w="1015920"/>
                <a:gridCol w="1015920"/>
                <a:gridCol w="1017720"/>
                <a:gridCol w="1019160"/>
                <a:gridCol w="101736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/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4/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/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3/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/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/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/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2428920" y="4143240"/>
          <a:ext cx="3870360" cy="1073160"/>
        </p:xfrm>
        <a:graphic>
          <a:graphicData uri="http://schemas.openxmlformats.org/drawingml/2006/table">
            <a:tbl>
              <a:tblPr/>
              <a:tblGrid>
                <a:gridCol w="552240"/>
                <a:gridCol w="552600"/>
                <a:gridCol w="554040"/>
                <a:gridCol w="552600"/>
                <a:gridCol w="554040"/>
                <a:gridCol w="552240"/>
                <a:gridCol w="552600"/>
              </a:tblGrid>
              <a:tr h="107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3143160" y="5500800"/>
          <a:ext cx="2765520" cy="928440"/>
        </p:xfrm>
        <a:graphic>
          <a:graphicData uri="http://schemas.openxmlformats.org/drawingml/2006/table">
            <a:tbl>
              <a:tblPr/>
              <a:tblGrid>
                <a:gridCol w="552600"/>
                <a:gridCol w="552240"/>
                <a:gridCol w="554040"/>
                <a:gridCol w="552600"/>
                <a:gridCol w="554040"/>
              </a:tblGrid>
              <a:tr h="92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Прямоугольник 8"/>
          <p:cNvSpPr/>
          <p:nvPr/>
        </p:nvSpPr>
        <p:spPr>
          <a:xfrm>
            <a:off x="500040" y="500076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1-0,5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ШИФР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57200" y="1599840"/>
          <a:ext cx="8229600" cy="4530600"/>
        </p:xfrm>
        <a:graphic>
          <a:graphicData uri="http://schemas.openxmlformats.org/drawingml/2006/table"/>
        </a:graphic>
      </p:graphicFrame>
      <p:sp>
        <p:nvSpPr>
          <p:cNvPr id="220" name="Rectangle 6"/>
          <p:cNvSpPr/>
          <p:nvPr/>
        </p:nvSpPr>
        <p:spPr>
          <a:xfrm>
            <a:off x="1536120" y="2864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428760" y="1214280"/>
          <a:ext cx="8135640" cy="223236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7720"/>
                <a:gridCol w="1015920"/>
                <a:gridCol w="1015920"/>
                <a:gridCol w="1017720"/>
                <a:gridCol w="1019160"/>
                <a:gridCol w="101736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/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4/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/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3/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/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/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/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2428920" y="4143240"/>
          <a:ext cx="3870360" cy="1073160"/>
        </p:xfrm>
        <a:graphic>
          <a:graphicData uri="http://schemas.openxmlformats.org/drawingml/2006/table">
            <a:tbl>
              <a:tblPr/>
              <a:tblGrid>
                <a:gridCol w="552240"/>
                <a:gridCol w="552600"/>
                <a:gridCol w="554040"/>
                <a:gridCol w="552600"/>
                <a:gridCol w="554040"/>
                <a:gridCol w="552240"/>
                <a:gridCol w="552600"/>
              </a:tblGrid>
              <a:tr h="107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3143160" y="5500800"/>
          <a:ext cx="2765520" cy="928440"/>
        </p:xfrm>
        <a:graphic>
          <a:graphicData uri="http://schemas.openxmlformats.org/drawingml/2006/table">
            <a:tbl>
              <a:tblPr/>
              <a:tblGrid>
                <a:gridCol w="552600"/>
                <a:gridCol w="552240"/>
                <a:gridCol w="554040"/>
                <a:gridCol w="552600"/>
                <a:gridCol w="554040"/>
              </a:tblGrid>
              <a:tr h="92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160" y="1294920"/>
            <a:ext cx="7924680" cy="3124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КРАСНАЯ КНИГА РЕСПУБЛИКИ ТАТАРСТАН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2786040" y="428760"/>
          <a:ext cx="3870360" cy="1073160"/>
        </p:xfrm>
        <a:graphic>
          <a:graphicData uri="http://schemas.openxmlformats.org/drawingml/2006/table">
            <a:tbl>
              <a:tblPr/>
              <a:tblGrid>
                <a:gridCol w="552600"/>
                <a:gridCol w="552240"/>
                <a:gridCol w="554040"/>
                <a:gridCol w="552600"/>
                <a:gridCol w="554040"/>
                <a:gridCol w="552240"/>
                <a:gridCol w="552600"/>
              </a:tblGrid>
              <a:tr h="107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3357720" y="1785960"/>
          <a:ext cx="2765160" cy="928800"/>
        </p:xfrm>
        <a:graphic>
          <a:graphicData uri="http://schemas.openxmlformats.org/drawingml/2006/table">
            <a:tbl>
              <a:tblPr/>
              <a:tblGrid>
                <a:gridCol w="552240"/>
                <a:gridCol w="552600"/>
                <a:gridCol w="554040"/>
                <a:gridCol w="552240"/>
                <a:gridCol w="554040"/>
              </a:tblGrid>
              <a:tr h="928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Rectangle 4"/>
          <p:cNvSpPr/>
          <p:nvPr/>
        </p:nvSpPr>
        <p:spPr>
          <a:xfrm>
            <a:off x="3849120" y="74880"/>
            <a:ext cx="144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ГОД ИЗДА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3786120" y="3714840"/>
          <a:ext cx="2211480" cy="928440"/>
        </p:xfrm>
        <a:graphic>
          <a:graphicData uri="http://schemas.openxmlformats.org/drawingml/2006/table">
            <a:tbl>
              <a:tblPr/>
              <a:tblGrid>
                <a:gridCol w="552600"/>
                <a:gridCol w="552240"/>
                <a:gridCol w="554040"/>
                <a:gridCol w="552600"/>
              </a:tblGrid>
              <a:tr h="92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Rectangle 1"/>
          <p:cNvSpPr/>
          <p:nvPr/>
        </p:nvSpPr>
        <p:spPr>
          <a:xfrm>
            <a:off x="228960" y="4929480"/>
            <a:ext cx="593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1. САМОЕ МАЛЕНЬКОЕ НАТУРАЛЬНОЕ ЧИСЛ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2786040" y="428760"/>
          <a:ext cx="3870360" cy="1073160"/>
        </p:xfrm>
        <a:graphic>
          <a:graphicData uri="http://schemas.openxmlformats.org/drawingml/2006/table">
            <a:tbl>
              <a:tblPr/>
              <a:tblGrid>
                <a:gridCol w="552600"/>
                <a:gridCol w="552240"/>
                <a:gridCol w="554040"/>
                <a:gridCol w="552600"/>
                <a:gridCol w="554040"/>
                <a:gridCol w="552240"/>
                <a:gridCol w="552600"/>
              </a:tblGrid>
              <a:tr h="107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3357720" y="1785960"/>
          <a:ext cx="2765160" cy="928800"/>
        </p:xfrm>
        <a:graphic>
          <a:graphicData uri="http://schemas.openxmlformats.org/drawingml/2006/table">
            <a:tbl>
              <a:tblPr/>
              <a:tblGrid>
                <a:gridCol w="552240"/>
                <a:gridCol w="552600"/>
                <a:gridCol w="554040"/>
                <a:gridCol w="552240"/>
                <a:gridCol w="554040"/>
              </a:tblGrid>
              <a:tr h="928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Rectangle 4"/>
          <p:cNvSpPr/>
          <p:nvPr/>
        </p:nvSpPr>
        <p:spPr>
          <a:xfrm>
            <a:off x="3849120" y="74880"/>
            <a:ext cx="144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ГОД ИЗДА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3786120" y="3714840"/>
          <a:ext cx="2211480" cy="928440"/>
        </p:xfrm>
        <a:graphic>
          <a:graphicData uri="http://schemas.openxmlformats.org/drawingml/2006/table">
            <a:tbl>
              <a:tblPr/>
              <a:tblGrid>
                <a:gridCol w="552600"/>
                <a:gridCol w="552240"/>
                <a:gridCol w="554040"/>
                <a:gridCol w="552600"/>
              </a:tblGrid>
              <a:tr h="92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Rectangle 2"/>
          <p:cNvSpPr/>
          <p:nvPr/>
        </p:nvSpPr>
        <p:spPr>
          <a:xfrm>
            <a:off x="401760" y="4932720"/>
            <a:ext cx="280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2. КВАДРАТ ЧИСЛА 3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786040" y="428760"/>
          <a:ext cx="3870360" cy="1073160"/>
        </p:xfrm>
        <a:graphic>
          <a:graphicData uri="http://schemas.openxmlformats.org/drawingml/2006/table">
            <a:tbl>
              <a:tblPr/>
              <a:tblGrid>
                <a:gridCol w="552600"/>
                <a:gridCol w="552240"/>
                <a:gridCol w="554040"/>
                <a:gridCol w="552600"/>
                <a:gridCol w="554040"/>
                <a:gridCol w="552240"/>
                <a:gridCol w="552600"/>
              </a:tblGrid>
              <a:tr h="107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3357720" y="1785960"/>
          <a:ext cx="2765160" cy="928800"/>
        </p:xfrm>
        <a:graphic>
          <a:graphicData uri="http://schemas.openxmlformats.org/drawingml/2006/table">
            <a:tbl>
              <a:tblPr/>
              <a:tblGrid>
                <a:gridCol w="552240"/>
                <a:gridCol w="552600"/>
                <a:gridCol w="554040"/>
                <a:gridCol w="552240"/>
                <a:gridCol w="554040"/>
              </a:tblGrid>
              <a:tr h="928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Rectangle 4"/>
          <p:cNvSpPr/>
          <p:nvPr/>
        </p:nvSpPr>
        <p:spPr>
          <a:xfrm>
            <a:off x="3849120" y="74880"/>
            <a:ext cx="144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ГОД ИЗДА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3786120" y="3714840"/>
          <a:ext cx="2211480" cy="928440"/>
        </p:xfrm>
        <a:graphic>
          <a:graphicData uri="http://schemas.openxmlformats.org/drawingml/2006/table">
            <a:tbl>
              <a:tblPr/>
              <a:tblGrid>
                <a:gridCol w="552600"/>
                <a:gridCol w="552240"/>
                <a:gridCol w="554040"/>
                <a:gridCol w="552600"/>
              </a:tblGrid>
              <a:tr h="92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Rectangle 1"/>
          <p:cNvSpPr/>
          <p:nvPr/>
        </p:nvSpPr>
        <p:spPr>
          <a:xfrm>
            <a:off x="138600" y="5004360"/>
            <a:ext cx="678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3. НАИБОЛЬШИЙ ОБЩИЙ ДЕЛИТЕЛЬ ЧИСЕЛ 18 И 27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786040" y="428760"/>
          <a:ext cx="3870360" cy="1073160"/>
        </p:xfrm>
        <a:graphic>
          <a:graphicData uri="http://schemas.openxmlformats.org/drawingml/2006/table">
            <a:tbl>
              <a:tblPr/>
              <a:tblGrid>
                <a:gridCol w="552600"/>
                <a:gridCol w="552240"/>
                <a:gridCol w="554040"/>
                <a:gridCol w="552600"/>
                <a:gridCol w="554040"/>
                <a:gridCol w="552240"/>
                <a:gridCol w="552600"/>
              </a:tblGrid>
              <a:tr h="107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3357720" y="1785960"/>
          <a:ext cx="2765160" cy="928800"/>
        </p:xfrm>
        <a:graphic>
          <a:graphicData uri="http://schemas.openxmlformats.org/drawingml/2006/table">
            <a:tbl>
              <a:tblPr/>
              <a:tblGrid>
                <a:gridCol w="552240"/>
                <a:gridCol w="552600"/>
                <a:gridCol w="554040"/>
                <a:gridCol w="552240"/>
                <a:gridCol w="554040"/>
              </a:tblGrid>
              <a:tr h="928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Rectangle 4"/>
          <p:cNvSpPr/>
          <p:nvPr/>
        </p:nvSpPr>
        <p:spPr>
          <a:xfrm>
            <a:off x="3849120" y="74880"/>
            <a:ext cx="144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ГОД ИЗДА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3786120" y="3714840"/>
          <a:ext cx="2211480" cy="928440"/>
        </p:xfrm>
        <a:graphic>
          <a:graphicData uri="http://schemas.openxmlformats.org/drawingml/2006/table">
            <a:tbl>
              <a:tblPr/>
              <a:tblGrid>
                <a:gridCol w="552600"/>
                <a:gridCol w="552240"/>
                <a:gridCol w="554040"/>
                <a:gridCol w="552600"/>
              </a:tblGrid>
              <a:tr h="92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Rectangle 1"/>
          <p:cNvSpPr/>
          <p:nvPr/>
        </p:nvSpPr>
        <p:spPr>
          <a:xfrm>
            <a:off x="731160" y="5288400"/>
            <a:ext cx="682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4. НАТУРАЛЬНОЕ ЧИСЛО, КОТОРОЕ БОЛЬШЕ 4  ½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НО МЕНЬШЕ     5  2/3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ШИФР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85840" y="4429080"/>
          <a:ext cx="1785960" cy="1311480"/>
        </p:xfrm>
        <a:graphic>
          <a:graphicData uri="http://schemas.openxmlformats.org/drawingml/2006/table">
            <a:tbl>
              <a:tblPr/>
              <a:tblGrid>
                <a:gridCol w="178596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743040" indent="-7430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5 </a:t>
                      </a: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 </a:t>
                      </a:r>
                      <a:r>
                        <a:rPr b="1" lang="ru-RU" sz="40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3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743040" indent="-7430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    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137" name="Rectangle 6"/>
          <p:cNvSpPr/>
          <p:nvPr/>
        </p:nvSpPr>
        <p:spPr>
          <a:xfrm>
            <a:off x="1536120" y="2864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28760" y="1214280"/>
          <a:ext cx="8135640" cy="223236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7720"/>
                <a:gridCol w="1015920"/>
                <a:gridCol w="1015920"/>
                <a:gridCol w="1017720"/>
                <a:gridCol w="1019160"/>
                <a:gridCol w="101736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/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4/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/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3/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/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/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/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2428920" y="4143240"/>
          <a:ext cx="3870360" cy="1073160"/>
        </p:xfrm>
        <a:graphic>
          <a:graphicData uri="http://schemas.openxmlformats.org/drawingml/2006/table">
            <a:tbl>
              <a:tblPr/>
              <a:tblGrid>
                <a:gridCol w="552240"/>
                <a:gridCol w="552600"/>
                <a:gridCol w="554040"/>
                <a:gridCol w="552600"/>
                <a:gridCol w="554040"/>
                <a:gridCol w="552240"/>
                <a:gridCol w="552600"/>
              </a:tblGrid>
              <a:tr h="107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3143160" y="5500800"/>
          <a:ext cx="2765520" cy="928440"/>
        </p:xfrm>
        <a:graphic>
          <a:graphicData uri="http://schemas.openxmlformats.org/drawingml/2006/table">
            <a:tbl>
              <a:tblPr/>
              <a:tblGrid>
                <a:gridCol w="552600"/>
                <a:gridCol w="552240"/>
                <a:gridCol w="554040"/>
                <a:gridCol w="552600"/>
                <a:gridCol w="554040"/>
              </a:tblGrid>
              <a:tr h="92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2786040" y="428760"/>
          <a:ext cx="3870360" cy="1073160"/>
        </p:xfrm>
        <a:graphic>
          <a:graphicData uri="http://schemas.openxmlformats.org/drawingml/2006/table">
            <a:tbl>
              <a:tblPr/>
              <a:tblGrid>
                <a:gridCol w="552600"/>
                <a:gridCol w="552240"/>
                <a:gridCol w="554040"/>
                <a:gridCol w="552600"/>
                <a:gridCol w="554040"/>
                <a:gridCol w="552240"/>
                <a:gridCol w="552600"/>
              </a:tblGrid>
              <a:tr h="107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3357720" y="1785960"/>
          <a:ext cx="2765160" cy="928800"/>
        </p:xfrm>
        <a:graphic>
          <a:graphicData uri="http://schemas.openxmlformats.org/drawingml/2006/table">
            <a:tbl>
              <a:tblPr/>
              <a:tblGrid>
                <a:gridCol w="552240"/>
                <a:gridCol w="552600"/>
                <a:gridCol w="554040"/>
                <a:gridCol w="552240"/>
                <a:gridCol w="554040"/>
              </a:tblGrid>
              <a:tr h="928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Rectangle 4"/>
          <p:cNvSpPr/>
          <p:nvPr/>
        </p:nvSpPr>
        <p:spPr>
          <a:xfrm>
            <a:off x="3849120" y="74880"/>
            <a:ext cx="144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ГОД ИЗДА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3786120" y="3714840"/>
          <a:ext cx="2211480" cy="928440"/>
        </p:xfrm>
        <a:graphic>
          <a:graphicData uri="http://schemas.openxmlformats.org/drawingml/2006/table">
            <a:tbl>
              <a:tblPr/>
              <a:tblGrid>
                <a:gridCol w="552600"/>
                <a:gridCol w="552240"/>
                <a:gridCol w="554040"/>
                <a:gridCol w="552600"/>
              </a:tblGrid>
              <a:tr h="92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Бурый медведь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32000" y="1599840"/>
            <a:ext cx="3754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сса медвежонка бурого медведя при рождении 3/5 кг, а масса взрослого медведя в 1500 раз больше. Какова масса бурого медведя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4" descr="Изображение 004"/>
          <p:cNvPicPr/>
          <p:nvPr/>
        </p:nvPicPr>
        <p:blipFill>
          <a:blip r:embed="rId1"/>
          <a:stretch/>
        </p:blipFill>
        <p:spPr>
          <a:xfrm>
            <a:off x="0" y="1844640"/>
            <a:ext cx="478800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Белка-телеут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788000" y="1557000"/>
            <a:ext cx="3898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елка-телеутка раскалывает и съедает орех за 2\9 минуты. Сколько времени понадобится белке, чтобы расколоть и съесть  3(Радису), 4(Айзату), 5(Алсу Вахитовой), 6(Денису), 9 (Тахиру), 12(Алсу Валиевой) орехов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0" name="Picture 4" descr="Изображение 001"/>
          <p:cNvPicPr/>
          <p:nvPr/>
        </p:nvPicPr>
        <p:blipFill>
          <a:blip r:embed="rId1"/>
          <a:stretch/>
        </p:blipFill>
        <p:spPr>
          <a:xfrm>
            <a:off x="468360" y="1916280"/>
            <a:ext cx="421632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Хомячок серы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932000" y="1599840"/>
            <a:ext cx="3754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бята подготовили клетку для серого хомячка. Длина клетки 3/8 м , а ширина в 2 раза больше. Какова площадь этой клетки? Можно ли в нее поместить серого хомячка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3" name="Picture 4" descr="Изображение 003"/>
          <p:cNvPicPr/>
          <p:nvPr/>
        </p:nvPicPr>
        <p:blipFill>
          <a:blip r:embed="rId1"/>
          <a:stretch/>
        </p:blipFill>
        <p:spPr>
          <a:xfrm>
            <a:off x="0" y="2637000"/>
            <a:ext cx="49323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еликан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859280" y="1599840"/>
            <a:ext cx="382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орость полета пеликана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7\12 км\мин.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6" name="Picture 4" descr="Изображение 005"/>
          <p:cNvPicPr/>
          <p:nvPr/>
        </p:nvPicPr>
        <p:blipFill>
          <a:blip r:embed="rId1"/>
          <a:stretch/>
        </p:blipFill>
        <p:spPr>
          <a:xfrm>
            <a:off x="0" y="1916280"/>
            <a:ext cx="495000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Казарка белощека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932000" y="1599840"/>
            <a:ext cx="3754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орость полета казарки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/6  км/мин.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9" name="Picture 4" descr="Изображение 006"/>
          <p:cNvPicPr/>
          <p:nvPr/>
        </p:nvPicPr>
        <p:blipFill>
          <a:blip r:embed="rId1"/>
          <a:stretch/>
        </p:blipFill>
        <p:spPr>
          <a:xfrm>
            <a:off x="0" y="1628640"/>
            <a:ext cx="478800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Беркут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121000" y="1700280"/>
            <a:ext cx="37242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скорость полета беркута 15\16 км\мин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2" name="Picture 4" descr="Изображение 007"/>
          <p:cNvPicPr/>
          <p:nvPr/>
        </p:nvPicPr>
        <p:blipFill>
          <a:blip r:embed="rId1"/>
          <a:stretch/>
        </p:blipFill>
        <p:spPr>
          <a:xfrm>
            <a:off x="0" y="1706400"/>
            <a:ext cx="442764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е расстояние пролетит каждая птица за 0,9 минут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орость полета пеликана-7\12 км\мин., скорость казарки – 5\6км\мин., а скорость полета беркута 15\16 км\мин. Какое расстояние пролетит каждая птица за 0,9 минут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Ёж ушастый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1640" y="1773360"/>
            <a:ext cx="432108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Ёж ушастый любил сидеть в большой коробке, которая стояла около его норки. Длина этой коробки – 5/6 м, ширина – 4/5 м, а высота - 13/14 м. Найдите объем этой коробк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9" name="Picture 8" descr="Изображение"/>
          <p:cNvPicPr/>
          <p:nvPr/>
        </p:nvPicPr>
        <p:blipFill>
          <a:blip r:embed="rId1"/>
          <a:stretch/>
        </p:blipFill>
        <p:spPr>
          <a:xfrm>
            <a:off x="0" y="2421000"/>
            <a:ext cx="44276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ШИФР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57200" y="1599840"/>
          <a:ext cx="8229600" cy="4530600"/>
        </p:xfrm>
        <a:graphic>
          <a:graphicData uri="http://schemas.openxmlformats.org/drawingml/2006/table"/>
        </a:graphic>
      </p:graphicFrame>
      <p:sp>
        <p:nvSpPr>
          <p:cNvPr id="143" name="Rectangle 6"/>
          <p:cNvSpPr/>
          <p:nvPr/>
        </p:nvSpPr>
        <p:spPr>
          <a:xfrm>
            <a:off x="1536120" y="2864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28760" y="1214280"/>
          <a:ext cx="8135640" cy="223236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7720"/>
                <a:gridCol w="1015920"/>
                <a:gridCol w="1015920"/>
                <a:gridCol w="1017720"/>
                <a:gridCol w="1019160"/>
                <a:gridCol w="101736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/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4/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/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3/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/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/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/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428920" y="4143240"/>
          <a:ext cx="3870360" cy="1189080"/>
        </p:xfrm>
        <a:graphic>
          <a:graphicData uri="http://schemas.openxmlformats.org/drawingml/2006/table">
            <a:tbl>
              <a:tblPr/>
              <a:tblGrid>
                <a:gridCol w="552240"/>
                <a:gridCol w="552600"/>
                <a:gridCol w="554040"/>
                <a:gridCol w="552600"/>
                <a:gridCol w="554040"/>
                <a:gridCol w="552240"/>
                <a:gridCol w="552600"/>
              </a:tblGrid>
              <a:tr h="1189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5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3143160" y="5500800"/>
          <a:ext cx="2765520" cy="928440"/>
        </p:xfrm>
        <a:graphic>
          <a:graphicData uri="http://schemas.openxmlformats.org/drawingml/2006/table">
            <a:tbl>
              <a:tblPr/>
              <a:tblGrid>
                <a:gridCol w="552600"/>
                <a:gridCol w="552240"/>
                <a:gridCol w="554040"/>
                <a:gridCol w="552600"/>
                <a:gridCol w="554040"/>
              </a:tblGrid>
              <a:tr h="92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Прямоугольник 9"/>
          <p:cNvSpPr/>
          <p:nvPr/>
        </p:nvSpPr>
        <p:spPr>
          <a:xfrm>
            <a:off x="500040" y="4357800"/>
            <a:ext cx="1785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3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*  2</a:t>
            </a: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7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ДОМАШНЕЕ ЗАДАНИ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Составить задачу на умножение дроб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Л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Зашифровать  слов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торить алгоритмы умножения дроб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ШИФР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7200" y="1599840"/>
          <a:ext cx="8229600" cy="4530600"/>
        </p:xfrm>
        <a:graphic>
          <a:graphicData uri="http://schemas.openxmlformats.org/drawingml/2006/table"/>
        </a:graphic>
      </p:graphicFrame>
      <p:sp>
        <p:nvSpPr>
          <p:cNvPr id="150" name="Rectangle 6"/>
          <p:cNvSpPr/>
          <p:nvPr/>
        </p:nvSpPr>
        <p:spPr>
          <a:xfrm>
            <a:off x="1536120" y="2864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28760" y="1214280"/>
          <a:ext cx="8135640" cy="223236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7720"/>
                <a:gridCol w="1015920"/>
                <a:gridCol w="1015920"/>
                <a:gridCol w="1017720"/>
                <a:gridCol w="1019160"/>
                <a:gridCol w="101736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/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4/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/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3/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/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/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/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2428920" y="4143240"/>
          <a:ext cx="3870360" cy="1073160"/>
        </p:xfrm>
        <a:graphic>
          <a:graphicData uri="http://schemas.openxmlformats.org/drawingml/2006/table">
            <a:tbl>
              <a:tblPr/>
              <a:tblGrid>
                <a:gridCol w="552240"/>
                <a:gridCol w="552600"/>
                <a:gridCol w="554040"/>
                <a:gridCol w="552600"/>
                <a:gridCol w="554040"/>
                <a:gridCol w="552240"/>
                <a:gridCol w="552600"/>
              </a:tblGrid>
              <a:tr h="107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3143160" y="5500800"/>
          <a:ext cx="2765520" cy="928440"/>
        </p:xfrm>
        <a:graphic>
          <a:graphicData uri="http://schemas.openxmlformats.org/drawingml/2006/table">
            <a:tbl>
              <a:tblPr/>
              <a:tblGrid>
                <a:gridCol w="552600"/>
                <a:gridCol w="552240"/>
                <a:gridCol w="554040"/>
                <a:gridCol w="552600"/>
                <a:gridCol w="554040"/>
              </a:tblGrid>
              <a:tr h="92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Прямоугольник 8"/>
          <p:cNvSpPr/>
          <p:nvPr/>
        </p:nvSpPr>
        <p:spPr>
          <a:xfrm>
            <a:off x="571680" y="4429080"/>
            <a:ext cx="150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1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+ </a:t>
            </a: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1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4    4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ШИФР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57200" y="1599840"/>
          <a:ext cx="8229600" cy="4530600"/>
        </p:xfrm>
        <a:graphic>
          <a:graphicData uri="http://schemas.openxmlformats.org/drawingml/2006/table"/>
        </a:graphic>
      </p:graphicFrame>
      <p:sp>
        <p:nvSpPr>
          <p:cNvPr id="157" name="Rectangle 6"/>
          <p:cNvSpPr/>
          <p:nvPr/>
        </p:nvSpPr>
        <p:spPr>
          <a:xfrm>
            <a:off x="1536120" y="2864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28760" y="1214280"/>
          <a:ext cx="8135640" cy="223236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7720"/>
                <a:gridCol w="1015920"/>
                <a:gridCol w="1015920"/>
                <a:gridCol w="1017720"/>
                <a:gridCol w="1019160"/>
                <a:gridCol w="101736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/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4/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/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3/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/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/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/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2428920" y="4143240"/>
          <a:ext cx="3870360" cy="1073160"/>
        </p:xfrm>
        <a:graphic>
          <a:graphicData uri="http://schemas.openxmlformats.org/drawingml/2006/table">
            <a:tbl>
              <a:tblPr/>
              <a:tblGrid>
                <a:gridCol w="552240"/>
                <a:gridCol w="552600"/>
                <a:gridCol w="554040"/>
                <a:gridCol w="552600"/>
                <a:gridCol w="554040"/>
                <a:gridCol w="552240"/>
                <a:gridCol w="552600"/>
              </a:tblGrid>
              <a:tr h="107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143160" y="5500800"/>
          <a:ext cx="2765520" cy="928440"/>
        </p:xfrm>
        <a:graphic>
          <a:graphicData uri="http://schemas.openxmlformats.org/drawingml/2006/table">
            <a:tbl>
              <a:tblPr/>
              <a:tblGrid>
                <a:gridCol w="552600"/>
                <a:gridCol w="552240"/>
                <a:gridCol w="554040"/>
                <a:gridCol w="552600"/>
                <a:gridCol w="554040"/>
              </a:tblGrid>
              <a:tr h="92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Прямоугольник 8"/>
          <p:cNvSpPr/>
          <p:nvPr/>
        </p:nvSpPr>
        <p:spPr>
          <a:xfrm>
            <a:off x="571680" y="471492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5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+</a:t>
            </a: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10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17   17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ШИФР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7200" y="1599840"/>
          <a:ext cx="8229600" cy="4530600"/>
        </p:xfrm>
        <a:graphic>
          <a:graphicData uri="http://schemas.openxmlformats.org/drawingml/2006/table"/>
        </a:graphic>
      </p:graphicFrame>
      <p:sp>
        <p:nvSpPr>
          <p:cNvPr id="164" name="Rectangle 6"/>
          <p:cNvSpPr/>
          <p:nvPr/>
        </p:nvSpPr>
        <p:spPr>
          <a:xfrm>
            <a:off x="1536120" y="2864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28760" y="1214280"/>
          <a:ext cx="8135640" cy="223236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7720"/>
                <a:gridCol w="1015920"/>
                <a:gridCol w="1015920"/>
                <a:gridCol w="1017720"/>
                <a:gridCol w="1019160"/>
                <a:gridCol w="101736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/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4/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/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3/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/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/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/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428920" y="4143240"/>
          <a:ext cx="3870360" cy="1073160"/>
        </p:xfrm>
        <a:graphic>
          <a:graphicData uri="http://schemas.openxmlformats.org/drawingml/2006/table">
            <a:tbl>
              <a:tblPr/>
              <a:tblGrid>
                <a:gridCol w="552240"/>
                <a:gridCol w="552600"/>
                <a:gridCol w="554040"/>
                <a:gridCol w="552600"/>
                <a:gridCol w="554040"/>
                <a:gridCol w="552240"/>
                <a:gridCol w="552600"/>
              </a:tblGrid>
              <a:tr h="107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3143160" y="5500800"/>
          <a:ext cx="2765520" cy="928440"/>
        </p:xfrm>
        <a:graphic>
          <a:graphicData uri="http://schemas.openxmlformats.org/drawingml/2006/table">
            <a:tbl>
              <a:tblPr/>
              <a:tblGrid>
                <a:gridCol w="552600"/>
                <a:gridCol w="552240"/>
                <a:gridCol w="554040"/>
                <a:gridCol w="552600"/>
                <a:gridCol w="554040"/>
              </a:tblGrid>
              <a:tr h="92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Прямоугольник 8"/>
          <p:cNvSpPr/>
          <p:nvPr/>
        </p:nvSpPr>
        <p:spPr>
          <a:xfrm>
            <a:off x="571680" y="44290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1+0,6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ШИФР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7200" y="1599840"/>
          <a:ext cx="8229600" cy="4530600"/>
        </p:xfrm>
        <a:graphic>
          <a:graphicData uri="http://schemas.openxmlformats.org/drawingml/2006/table"/>
        </a:graphic>
      </p:graphicFrame>
      <p:sp>
        <p:nvSpPr>
          <p:cNvPr id="171" name="Rectangle 6"/>
          <p:cNvSpPr/>
          <p:nvPr/>
        </p:nvSpPr>
        <p:spPr>
          <a:xfrm>
            <a:off x="1536120" y="2864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28760" y="1214280"/>
          <a:ext cx="8135640" cy="223236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7720"/>
                <a:gridCol w="1015920"/>
                <a:gridCol w="1015920"/>
                <a:gridCol w="1017720"/>
                <a:gridCol w="1019160"/>
                <a:gridCol w="101736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/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4/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/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3/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/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/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/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2428920" y="4143240"/>
          <a:ext cx="3870360" cy="1073160"/>
        </p:xfrm>
        <a:graphic>
          <a:graphicData uri="http://schemas.openxmlformats.org/drawingml/2006/table">
            <a:tbl>
              <a:tblPr/>
              <a:tblGrid>
                <a:gridCol w="552240"/>
                <a:gridCol w="552600"/>
                <a:gridCol w="554040"/>
                <a:gridCol w="552600"/>
                <a:gridCol w="554040"/>
                <a:gridCol w="552240"/>
                <a:gridCol w="552600"/>
              </a:tblGrid>
              <a:tr h="107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3143160" y="5500800"/>
          <a:ext cx="2765520" cy="928440"/>
        </p:xfrm>
        <a:graphic>
          <a:graphicData uri="http://schemas.openxmlformats.org/drawingml/2006/table">
            <a:tbl>
              <a:tblPr/>
              <a:tblGrid>
                <a:gridCol w="552600"/>
                <a:gridCol w="552240"/>
                <a:gridCol w="554040"/>
                <a:gridCol w="552600"/>
                <a:gridCol w="554040"/>
              </a:tblGrid>
              <a:tr h="92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Прямоугольник 8"/>
          <p:cNvSpPr/>
          <p:nvPr/>
        </p:nvSpPr>
        <p:spPr>
          <a:xfrm>
            <a:off x="500040" y="450072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0,25+0,25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ШИФР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28760" y="1714320"/>
          <a:ext cx="8229600" cy="4530600"/>
        </p:xfrm>
        <a:graphic>
          <a:graphicData uri="http://schemas.openxmlformats.org/drawingml/2006/table"/>
        </a:graphic>
      </p:graphicFrame>
      <p:sp>
        <p:nvSpPr>
          <p:cNvPr id="178" name="Rectangle 6"/>
          <p:cNvSpPr/>
          <p:nvPr/>
        </p:nvSpPr>
        <p:spPr>
          <a:xfrm>
            <a:off x="1536120" y="2864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28760" y="1214280"/>
          <a:ext cx="8135640" cy="223236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7720"/>
                <a:gridCol w="1015920"/>
                <a:gridCol w="1015920"/>
                <a:gridCol w="1017720"/>
                <a:gridCol w="1019160"/>
                <a:gridCol w="101736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/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4/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/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3/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/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/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/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2428920" y="4143240"/>
          <a:ext cx="3870360" cy="1073160"/>
        </p:xfrm>
        <a:graphic>
          <a:graphicData uri="http://schemas.openxmlformats.org/drawingml/2006/table">
            <a:tbl>
              <a:tblPr/>
              <a:tblGrid>
                <a:gridCol w="552240"/>
                <a:gridCol w="552600"/>
                <a:gridCol w="554040"/>
                <a:gridCol w="552600"/>
                <a:gridCol w="554040"/>
                <a:gridCol w="552240"/>
                <a:gridCol w="552600"/>
              </a:tblGrid>
              <a:tr h="107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3143160" y="5500800"/>
          <a:ext cx="2765520" cy="928440"/>
        </p:xfrm>
        <a:graphic>
          <a:graphicData uri="http://schemas.openxmlformats.org/drawingml/2006/table">
            <a:tbl>
              <a:tblPr/>
              <a:tblGrid>
                <a:gridCol w="552600"/>
                <a:gridCol w="552240"/>
                <a:gridCol w="554040"/>
                <a:gridCol w="552600"/>
                <a:gridCol w="554040"/>
              </a:tblGrid>
              <a:tr h="92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Прямоугольник 8"/>
          <p:cNvSpPr/>
          <p:nvPr/>
        </p:nvSpPr>
        <p:spPr>
          <a:xfrm>
            <a:off x="428760" y="485784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11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_  </a:t>
            </a: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5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18    18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ШИФР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57200" y="1599840"/>
          <a:ext cx="8229600" cy="4530600"/>
        </p:xfrm>
        <a:graphic>
          <a:graphicData uri="http://schemas.openxmlformats.org/drawingml/2006/table"/>
        </a:graphic>
      </p:graphicFrame>
      <p:sp>
        <p:nvSpPr>
          <p:cNvPr id="185" name="Rectangle 6"/>
          <p:cNvSpPr/>
          <p:nvPr/>
        </p:nvSpPr>
        <p:spPr>
          <a:xfrm>
            <a:off x="1536120" y="2864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28760" y="1214280"/>
          <a:ext cx="8135640" cy="223236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7720"/>
                <a:gridCol w="1015920"/>
                <a:gridCol w="1015920"/>
                <a:gridCol w="1017720"/>
                <a:gridCol w="1019160"/>
                <a:gridCol w="101736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/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4/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/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3/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/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/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/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2428920" y="4143240"/>
          <a:ext cx="3870360" cy="1073160"/>
        </p:xfrm>
        <a:graphic>
          <a:graphicData uri="http://schemas.openxmlformats.org/drawingml/2006/table">
            <a:tbl>
              <a:tblPr/>
              <a:tblGrid>
                <a:gridCol w="552240"/>
                <a:gridCol w="552600"/>
                <a:gridCol w="554040"/>
                <a:gridCol w="552600"/>
                <a:gridCol w="554040"/>
                <a:gridCol w="552240"/>
                <a:gridCol w="552600"/>
              </a:tblGrid>
              <a:tr h="107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3143160" y="5500800"/>
          <a:ext cx="2765520" cy="928440"/>
        </p:xfrm>
        <a:graphic>
          <a:graphicData uri="http://schemas.openxmlformats.org/drawingml/2006/table">
            <a:tbl>
              <a:tblPr/>
              <a:tblGrid>
                <a:gridCol w="552600"/>
                <a:gridCol w="552240"/>
                <a:gridCol w="554040"/>
                <a:gridCol w="552600"/>
                <a:gridCol w="554040"/>
              </a:tblGrid>
              <a:tr h="92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Прямоугольник 8"/>
          <p:cNvSpPr/>
          <p:nvPr/>
        </p:nvSpPr>
        <p:spPr>
          <a:xfrm>
            <a:off x="500040" y="500076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1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_ </a:t>
            </a: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1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2    8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18:15:21Z</dcterms:created>
  <dc:creator>Ришат</dc:creator>
  <dc:description/>
  <dc:language>en-US</dc:language>
  <cp:lastModifiedBy>Пользователь Windows</cp:lastModifiedBy>
  <dcterms:modified xsi:type="dcterms:W3CDTF">2008-11-24T17:26:02Z</dcterms:modified>
  <cp:revision>25</cp:revision>
  <dc:subject/>
  <dc:title>Ёж ушастый</dc:title>
</cp:coreProperties>
</file>