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6.png" ContentType="image/png"/>
  <Override PartName="/ppt/media/image7.jpeg" ContentType="image/jpeg"/>
  <Override PartName="/ppt/media/image9.png" ContentType="image/png"/>
  <Override PartName="/ppt/media/image10.gif" ContentType="image/gif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3097-7E85-480F-BFD3-9329174B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95C0-0E2B-4AB8-833C-4D3B3E00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D981-0ECE-4C77-A98B-BDFAB4BF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BEE-F20A-49DA-86A7-59A08A7E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09EB-75B0-49D3-B406-FF10C27C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0833-ED3A-4C3A-8649-0A86F472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1D33-7711-41B5-B42F-EBC252C4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70A2-290D-48AB-A720-705D21B3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D753-4C01-48E8-AA67-FAF4C442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2CBF-84F7-46F2-9E1B-B5C54D8B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6C92-BEE2-4551-A993-3EAFF355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C9D8-DB5D-4206-8F67-510C9BF5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0700-9773-4D4C-AFDB-9A0FC582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B5A7-4899-47DC-9A5C-8226BFAC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B6CE-7E1E-4271-B49A-E729BFCF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8E5D-5C5F-42D5-AC3D-A1876312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1FEB-D97F-4A22-A3CD-296F8152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50FA5-5368-49A8-B249-48A7EE75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2A1DE-948B-4C10-A98B-85A25B3D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C1D7E-4D5A-453D-B753-6557FAB2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EF1AF-CEA3-4FEE-9343-667EEA5D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7A3C7-4E61-42B8-88F9-2C2BCF5A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6872-6D76-4B65-A5A4-C166AFF3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75D9D-8C2E-489F-A311-50C45EAD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603C7-D5EB-4A7B-A5BB-AE473048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8E14F-91F5-44AA-AD44-0F253450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5ADD7-0BAE-4C60-A2CA-0E15318D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43590-AEA6-4AF6-A2BA-15011316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A1228-6A57-4BF2-9AAC-CA03AEB7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54AFD-3A27-4CE0-ACC1-84379A95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E0F2B-99C9-46EC-BBFD-B1CB93F8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F2ABA-D17A-46F8-8FF0-C2612EC1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54052-8A03-4B20-B82C-D81ACDA8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AADB-65F9-4BD7-A54D-D5E582F7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24AB5-5101-441E-B277-C01B0DCB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90A05-EB59-4763-A22A-C4231BCD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F5AE3-B542-4855-9E65-66167DE8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4FDC2-0B8B-4501-95D9-20CE33C8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50D17-33B9-43BF-99CB-7F9392BC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91CFE-7009-4066-8B61-F2DFF7CF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7A98F-18C8-47A0-ABD8-82998EAB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E8324-528A-42E8-A8CB-D339BA6A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69651-6639-4BE4-A896-E4BEE65C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6A72-2BEB-417A-8CFA-59F14A32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A8D-D237-45A9-8D54-A5C3FE63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AAAF-877F-4929-8F20-6E87B306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2D9F-57AC-45DE-B017-2866209E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6DF0-BE43-49F0-9330-037EE798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FF56-740E-44E2-B24A-19682B6198B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C328-D185-4275-B890-D8FD1D45967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D09E-8E86-4685-8039-8AE53BED590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E15B-EAEF-442F-BBC5-3A90FB92EB0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3"/>
          <p:cNvSpPr/>
          <p:nvPr/>
        </p:nvSpPr>
        <p:spPr>
          <a:xfrm>
            <a:off x="357120" y="571680"/>
            <a:ext cx="8501040" cy="1785600"/>
          </a:xfrm>
          <a:prstGeom prst="rect">
            <a:avLst/>
          </a:prstGeom>
          <a:solidFill>
            <a:srgbClr val="10cf9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55440" y="457200"/>
            <a:ext cx="908208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001000" cy="714240"/>
          </a:xfrm>
          <a:prstGeom prst="rect">
            <a:avLst/>
          </a:prstGeom>
          <a:solidFill>
            <a:srgbClr val="5ff3ca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alibri"/>
              </a:rPr>
              <a:t>Мысленно перемести бабочку.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00080" y="1571760"/>
          <a:ext cx="7143840" cy="4857480"/>
        </p:xfrm>
        <a:graphic>
          <a:graphicData uri="http://schemas.openxmlformats.org/drawingml/2006/table">
            <a:tbl>
              <a:tblPr/>
              <a:tblGrid>
                <a:gridCol w="2381400"/>
                <a:gridCol w="2381040"/>
                <a:gridCol w="2381400"/>
              </a:tblGrid>
              <a:tr h="16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6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16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234" name="Picture 4" descr="F:\Анимашки\Бабочки\d3e1e1b1c981dcbdbcb440883fcabfc6.gif"/>
          <p:cNvPicPr/>
          <p:nvPr/>
        </p:nvPicPr>
        <p:blipFill>
          <a:blip r:embed="rId11"/>
          <a:stretch/>
        </p:blipFill>
        <p:spPr>
          <a:xfrm>
            <a:off x="4000680" y="3286080"/>
            <a:ext cx="142848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4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4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Горизонтальный свиток 4"/>
          <p:cNvSpPr/>
          <p:nvPr/>
        </p:nvSpPr>
        <p:spPr>
          <a:xfrm>
            <a:off x="571680" y="1357200"/>
            <a:ext cx="8358120" cy="50007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571680" y="785880"/>
            <a:ext cx="7429320" cy="785880"/>
          </a:xfrm>
          <a:prstGeom prst="rect">
            <a:avLst/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42600" y="785520"/>
            <a:ext cx="728676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5000" spc="-1" strike="noStrike">
                <a:solidFill>
                  <a:srgbClr val="0000cc"/>
                </a:solidFill>
                <a:latin typeface="Calibri"/>
              </a:rPr>
              <a:t>Подведем итоги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213920" y="2071800"/>
            <a:ext cx="74725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Что мы развивали на занят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Что вам особенно понравилос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Что не понравилос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В чём вы испытывали затруднения, почему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8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9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9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8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80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808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811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814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Горизонтальный свиток 5"/>
          <p:cNvSpPr/>
          <p:nvPr/>
        </p:nvSpPr>
        <p:spPr>
          <a:xfrm>
            <a:off x="285840" y="1357200"/>
            <a:ext cx="6929280" cy="5286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571680" y="357120"/>
            <a:ext cx="7643520" cy="1000080"/>
          </a:xfrm>
          <a:prstGeom prst="rect">
            <a:avLst/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735804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cc"/>
                </a:solidFill>
                <a:latin typeface="Calibri"/>
              </a:rPr>
              <a:t>Психологический настрой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57160" y="1999800"/>
            <a:ext cx="64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Я в школе, сейчас я начну уч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Я рад(а) этом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Внимание моё расте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Я, как разведчик, всё замеча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Память моя крепка, голова ясна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Я хочу уч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Я очень хочу уч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Я готов(а) работа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Я работа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6" descr="F:\Анимашки\Звезды\aa53b5fdb7f8e8dd9fe39dc0af3150a5.gif"/>
          <p:cNvPicPr/>
          <p:nvPr/>
        </p:nvPicPr>
        <p:blipFill>
          <a:blip r:embed="rId3"/>
          <a:stretch/>
        </p:blipFill>
        <p:spPr>
          <a:xfrm>
            <a:off x="7143840" y="15717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9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2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5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8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1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4" dur="1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7" dur="10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0" dur="1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Горизонтальный свиток 4"/>
          <p:cNvSpPr/>
          <p:nvPr/>
        </p:nvSpPr>
        <p:spPr>
          <a:xfrm>
            <a:off x="642960" y="1714680"/>
            <a:ext cx="8001000" cy="47862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785880" y="785880"/>
            <a:ext cx="7572240" cy="928800"/>
          </a:xfrm>
          <a:prstGeom prst="rect">
            <a:avLst/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85920" y="785880"/>
            <a:ext cx="68580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cc"/>
                </a:solidFill>
                <a:latin typeface="Calibri"/>
              </a:rPr>
              <a:t>Цели занят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643040" y="2285640"/>
            <a:ext cx="704376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витие логических операций мышл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витие произвольного внима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витие словесно-логической памя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44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68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9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0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04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4"/>
          <p:cNvSpPr/>
          <p:nvPr/>
        </p:nvSpPr>
        <p:spPr>
          <a:xfrm>
            <a:off x="428760" y="714240"/>
            <a:ext cx="8215200" cy="928800"/>
          </a:xfrm>
          <a:prstGeom prst="rect">
            <a:avLst/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Горизонтальный свиток 3"/>
          <p:cNvSpPr/>
          <p:nvPr/>
        </p:nvSpPr>
        <p:spPr>
          <a:xfrm>
            <a:off x="428760" y="1714680"/>
            <a:ext cx="8429400" cy="485748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Заголовок 1" descr=""/>
          <p:cNvPicPr/>
          <p:nvPr/>
        </p:nvPicPr>
        <p:blipFill>
          <a:blip r:embed="rId3"/>
          <a:stretch/>
        </p:blipFill>
        <p:spPr>
          <a:xfrm>
            <a:off x="536400" y="560520"/>
            <a:ext cx="8083800" cy="957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071360" y="2357280"/>
            <a:ext cx="742932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з, поел, он, хорошо, Андрей, школы, пришёл, когд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Когда Андрей пришёл из школ, он хорошо пое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3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6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9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Горизонтальный свиток 8"/>
          <p:cNvSpPr/>
          <p:nvPr/>
        </p:nvSpPr>
        <p:spPr>
          <a:xfrm>
            <a:off x="500040" y="1071720"/>
            <a:ext cx="8358120" cy="578628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3"/>
          <p:cNvSpPr/>
          <p:nvPr/>
        </p:nvSpPr>
        <p:spPr>
          <a:xfrm>
            <a:off x="571680" y="357120"/>
            <a:ext cx="7572240" cy="1143000"/>
          </a:xfrm>
          <a:prstGeom prst="rect">
            <a:avLst/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14384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Calibri"/>
              </a:rPr>
              <a:t>Запишите предложения  с правильным смыслом себе в тетради.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42640" y="1857240"/>
            <a:ext cx="754380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Солнышке, при, а, тепло, добро, матери, пр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Кот, дворе, мурлыкает, 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Любить, подарки, я, мама, своя, дари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Трав, у, кустарников, многих, и, деревьев, землю, в, глубоко, корни, уходя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Поверхности, когда, волны, море, подует, возникают, ветер, 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9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2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5" dur="5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Горизонтальный свиток 4"/>
          <p:cNvSpPr/>
          <p:nvPr/>
        </p:nvSpPr>
        <p:spPr>
          <a:xfrm>
            <a:off x="285840" y="1071720"/>
            <a:ext cx="8643960" cy="578628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428400"/>
            <a:ext cx="621504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71360" y="1856880"/>
            <a:ext cx="7615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бро при матери, а тепло при солнышк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дворе мурлыкает ко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люблю дарить своей маме подар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многих трав, кустарников и деревьев корни уходят глубоко в земл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гда подует ветер на поверхности моря возникают вол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714240" y="357120"/>
            <a:ext cx="7286760" cy="928800"/>
          </a:xfrm>
          <a:prstGeom prst="rect">
            <a:avLst/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Constantia"/>
              </a:rPr>
              <a:t>Проверяем !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8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1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4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7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054040" y="2482560"/>
            <a:ext cx="3322080" cy="3465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txBody>
          <a:bodyPr anchor="ctr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Вертикальный свиток 5"/>
          <p:cNvSpPr/>
          <p:nvPr/>
        </p:nvSpPr>
        <p:spPr>
          <a:xfrm>
            <a:off x="214200" y="1928880"/>
            <a:ext cx="4500720" cy="450036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85880" y="2499840"/>
            <a:ext cx="32860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За двумя зайцами погонишься….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Взявшись за гуж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Как волка ни корми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Box 8"/>
          <p:cNvSpPr/>
          <p:nvPr/>
        </p:nvSpPr>
        <p:spPr>
          <a:xfrm>
            <a:off x="5072040" y="2571840"/>
            <a:ext cx="32148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…не говори, что не дюж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… ни одного не поймаеш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… всё в лес смотри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4200" y="571680"/>
            <a:ext cx="8715600" cy="1071360"/>
          </a:xfrm>
          <a:prstGeom prst="rect">
            <a:avLst/>
          </a:prstGeom>
          <a:solidFill>
            <a:srgbClr val="5ff3ca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Соберите пословицу из частей, «потерявших» друг друга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850"/>
                            </p:stCondLst>
                            <p:childTnLst>
                              <p:par>
                                <p:cTn id="4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850"/>
                            </p:stCondLst>
                            <p:childTnLst>
                              <p:par>
                                <p:cTn id="4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850"/>
                            </p:stCondLst>
                            <p:childTnLst>
                              <p:par>
                                <p:cTn id="434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200"/>
                            </p:stCondLst>
                            <p:childTnLst>
                              <p:par>
                                <p:cTn id="4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880"/>
                            </p:stCondLst>
                            <p:childTnLst>
                              <p:par>
                                <p:cTn id="4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8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80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78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9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80" dur="2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84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6" dur="indefinite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87" dur="indefinite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8" dur="indefinite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0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2" dur="indefinite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3" dur="indefinite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94" dur="indefinite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8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00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50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amond(in)" transition="out">
                                      <p:cBhvr additive="repl">
                                        <p:cTn id="507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1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51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519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522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52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52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531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Вертикальный свиток 6"/>
          <p:cNvSpPr/>
          <p:nvPr/>
        </p:nvSpPr>
        <p:spPr>
          <a:xfrm>
            <a:off x="857160" y="1071720"/>
            <a:ext cx="6643800" cy="550044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6500880" cy="642960"/>
          </a:xfrm>
          <a:prstGeom prst="rect">
            <a:avLst/>
          </a:prstGeom>
          <a:solidFill>
            <a:srgbClr val="5ff3ca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Calibri"/>
              </a:rPr>
              <a:t>ФИЗМИНУТК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85960" y="1785600"/>
            <a:ext cx="485784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уки в стороны поставим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равой левую достан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А потом – наоборот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Будет вправо поворо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 – хлопок, два – хлопок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овернись ещё разок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 – два – три – четыре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лечи выше, руки шире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пускаем руки вниз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 на корточки садись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3" descr="G:\Анимашки\Звезды\ce4ede9bcf51071af29ec5a04ea033f2.gif"/>
          <p:cNvPicPr/>
          <p:nvPr/>
        </p:nvPicPr>
        <p:blipFill>
          <a:blip r:embed="rId3"/>
          <a:stretch/>
        </p:blipFill>
        <p:spPr>
          <a:xfrm>
            <a:off x="7134120" y="3357720"/>
            <a:ext cx="2009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8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8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8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6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9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2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5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1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4"/>
          <p:cNvSpPr/>
          <p:nvPr/>
        </p:nvSpPr>
        <p:spPr>
          <a:xfrm>
            <a:off x="214200" y="357120"/>
            <a:ext cx="8643960" cy="1143000"/>
          </a:xfrm>
          <a:prstGeom prst="rect">
            <a:avLst/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Calibri"/>
              </a:rPr>
              <a:t>Прочитайте фразу, проследив взглядом </a:t>
            </a:r>
            <a:br>
              <a:rPr sz="3400"/>
            </a:br>
            <a:r>
              <a:rPr b="1" lang="en-US" sz="3400" spc="-1" strike="noStrike">
                <a:solidFill>
                  <a:srgbClr val="0000cc"/>
                </a:solidFill>
                <a:latin typeface="Calibri"/>
              </a:rPr>
              <a:t>от начала до конца.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3840" y="1643040"/>
            <a:ext cx="86439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У                  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Д                                                                  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Б                                       Н           О          М                      О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Д                                                                  Г                Н           Ж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Т                              О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Ь         О                          Р         О                  Р             А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С                                                                                   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Полилиния 17"/>
          <p:cNvSpPr/>
          <p:nvPr/>
        </p:nvSpPr>
        <p:spPr>
          <a:xfrm>
            <a:off x="293760" y="1643040"/>
            <a:ext cx="8429400" cy="45403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Прямая со стрелкой 23"/>
          <p:cNvCxnSpPr/>
          <p:nvPr/>
        </p:nvCxnSpPr>
        <p:spPr>
          <a:xfrm>
            <a:off x="285840" y="2571840"/>
            <a:ext cx="28656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1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7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0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3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6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2</cp:lastModifiedBy>
  <dcterms:modified xsi:type="dcterms:W3CDTF">2012-03-30T06:36:22Z</dcterms:modified>
  <cp:revision>47</cp:revision>
  <dc:subject/>
  <dc:title>Урок психологии </dc:title>
</cp:coreProperties>
</file>