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9.png" ContentType="image/png"/>
  <Override PartName="/ppt/media/image10.gif" ContentType="image/gi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585-7942-4EC1-BDD2-05285C3F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97E-F9CD-48D9-AC9B-F50F966B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6DA-F6C9-4208-A398-4F53B829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63A-9F21-4324-B2D3-AE959005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FA9-C0EB-4F2B-8874-B4A5491F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9112-6839-48F1-B199-6313676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E55-DB8C-4E04-B9FF-741CDF60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BCDC-4157-4BD5-9D31-6B1DEE18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22F-3F39-4588-8955-7CB9009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F20-1C3A-41F4-8DE3-42CEF913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080-1530-4DE4-BC74-EDF5E92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76D-576C-4EBA-9916-5834A39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48FB-6A50-4FAD-AC14-CF147E5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B6E-3801-4968-A5E4-D7FD917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CD0F-E892-448E-BB3F-6E8702B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A615-7B7C-4FF8-BA89-6F61D151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4B22-F8D2-49C7-9179-8806F25A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E8A8-60EE-4E13-BC0E-6C782947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B7AB-7607-42A9-AD8B-99168A64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28EB-1B4C-4BA9-9B2A-30E2862C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3853-840D-46E6-A446-C98F7033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4DAF-0092-47CA-8639-1B09D95A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C97-59DC-4BD5-8811-47F0714B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BA86-F636-43B8-B909-95762120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5E58-3BA7-430C-B9EE-FCC6A09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F31F-C452-4508-BDDC-E744533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0B8E-F324-4EC4-B5C3-8567753D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626B-EB93-4F17-8224-58B88027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17B0-7C8A-44F3-8A72-3BB73E4B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180F-414F-43FE-AD50-18F1DFA7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6FAD-BAD1-4369-9439-ABE05C44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70B9-5C51-42F2-AEE2-1B6A1639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AE2A-4D37-42F8-A85F-65D7E4B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C17-D2FC-4947-B325-88EEB63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45CB-71DF-4A7B-99A2-40C01FF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7DAA-30F9-4FBE-B1BC-3378389E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4F6B-688B-42A2-B37F-806D62F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7DE2-94DC-4DB6-82A3-AC954AE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00DD-273C-4E8D-B0B7-C525FC5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3A36-5CE6-4BD7-9A45-769A05F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4721-B4DE-4BC8-A1B4-0349AC07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FEEB-E7BC-417E-841C-B8772D25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84D5-8D91-4F9E-AEC3-4DCB8414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E8B-C5D1-4CB0-A1C3-074A094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5DE-8599-4E0C-9D16-2D79A39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D42-9115-4722-9774-D86CE54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B00-5450-43EC-92A4-E8882425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BE9-5D3B-46E7-8652-B84284F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C81E-8E61-48AF-8FFF-03A7F214CF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EDF8-EECB-4AB1-A416-C2AED9ECAB4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BCC8-CC2E-4C2F-BE92-E12B75B049E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F79-413A-4229-A2E9-699DB9B449F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3"/>
          <p:cNvSpPr/>
          <p:nvPr/>
        </p:nvSpPr>
        <p:spPr>
          <a:xfrm>
            <a:off x="357120" y="571680"/>
            <a:ext cx="8501040" cy="1785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5440" y="457200"/>
            <a:ext cx="908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001000" cy="71424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Мысленно перемести бабочку.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00080" y="1571760"/>
          <a:ext cx="7143840" cy="485748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34" name="Picture 4" descr="F:\Анимашки\Бабочки\d3e1e1b1c981dcbdbcb440883fcabfc6.gif"/>
          <p:cNvPicPr/>
          <p:nvPr/>
        </p:nvPicPr>
        <p:blipFill>
          <a:blip r:embed="rId11"/>
          <a:stretch/>
        </p:blipFill>
        <p:spPr>
          <a:xfrm>
            <a:off x="4000680" y="3286080"/>
            <a:ext cx="1428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Горизонтальный свиток 4"/>
          <p:cNvSpPr/>
          <p:nvPr/>
        </p:nvSpPr>
        <p:spPr>
          <a:xfrm>
            <a:off x="571680" y="1357200"/>
            <a:ext cx="8358120" cy="50007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71680" y="785880"/>
            <a:ext cx="7429320" cy="78588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28676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Подведем итог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3920" y="2071800"/>
            <a:ext cx="74725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Что мы развивали на занят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Что вам особенно понрав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Что не понрав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В чём вы испытывали затруднения, почем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2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2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3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34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Горизонтальный свиток 5"/>
          <p:cNvSpPr/>
          <p:nvPr/>
        </p:nvSpPr>
        <p:spPr>
          <a:xfrm>
            <a:off x="285840" y="1357200"/>
            <a:ext cx="6929280" cy="5286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71680" y="357120"/>
            <a:ext cx="7643520" cy="100008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358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Психологический настро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7160" y="1999800"/>
            <a:ext cx="64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в школе, сейчас я начн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рад(а) эт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нимание моё раст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, как разведчик, всё замеч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Память моя крепка, голова ясна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хоч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очень хоч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готов(а) работ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работ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6" descr="F:\Анимашки\Звезды\aa53b5fdb7f8e8dd9fe39dc0af3150a5.gif"/>
          <p:cNvPicPr/>
          <p:nvPr/>
        </p:nvPicPr>
        <p:blipFill>
          <a:blip r:embed="rId3"/>
          <a:stretch/>
        </p:blipFill>
        <p:spPr>
          <a:xfrm>
            <a:off x="7143840" y="1571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Горизонтальный свиток 4"/>
          <p:cNvSpPr/>
          <p:nvPr/>
        </p:nvSpPr>
        <p:spPr>
          <a:xfrm>
            <a:off x="642960" y="1714680"/>
            <a:ext cx="8001000" cy="47862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785880" y="785880"/>
            <a:ext cx="757224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Цели занят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43040" y="2285640"/>
            <a:ext cx="70437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логических операций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произвольного вним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словесно-логической памя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68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9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4"/>
          <p:cNvSpPr/>
          <p:nvPr/>
        </p:nvSpPr>
        <p:spPr>
          <a:xfrm>
            <a:off x="428760" y="714240"/>
            <a:ext cx="821520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Горизонтальный свиток 3"/>
          <p:cNvSpPr/>
          <p:nvPr/>
        </p:nvSpPr>
        <p:spPr>
          <a:xfrm>
            <a:off x="428760" y="1714680"/>
            <a:ext cx="8429400" cy="48574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3"/>
          <a:stretch/>
        </p:blipFill>
        <p:spPr>
          <a:xfrm>
            <a:off x="536400" y="560520"/>
            <a:ext cx="8083800" cy="95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071360" y="2357280"/>
            <a:ext cx="74293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з, поел, он, хорошо, Андрей, школы, пришёл, ког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Когда Андрей пришёл из школ, он хорошо по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Горизонтальный свиток 8"/>
          <p:cNvSpPr/>
          <p:nvPr/>
        </p:nvSpPr>
        <p:spPr>
          <a:xfrm>
            <a:off x="500040" y="1071720"/>
            <a:ext cx="8358120" cy="5786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571680" y="357120"/>
            <a:ext cx="7572240" cy="11430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1438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Запишите предложения  с правильным смыслом себе в тетради.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2640" y="1857240"/>
            <a:ext cx="75438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олнышке, при, а, тепло, добро, матери, п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от, дворе, мурлыкает, 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Любить, подарки, я, мама, своя, дар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Трав, у, кустарников, многих, и, деревьев, землю, в, глубоко, корни, уходя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Поверхности, когда, волны, море, подует, возникают, ветер, 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Горизонтальный свиток 4"/>
          <p:cNvSpPr/>
          <p:nvPr/>
        </p:nvSpPr>
        <p:spPr>
          <a:xfrm>
            <a:off x="285840" y="1071720"/>
            <a:ext cx="8643960" cy="5786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1360" y="1856880"/>
            <a:ext cx="7615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ро при матери, а тепло при солныш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дворе мурлыкает к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люблю дарить своей маме подар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многих трав, кустарников и деревьев корни уходят глубоко в земл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подует ветер на поверхности моря возникают вол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714240" y="357120"/>
            <a:ext cx="728676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nstantia"/>
              </a:rPr>
              <a:t>Проверяем !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8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54040" y="2482560"/>
            <a:ext cx="3322080" cy="346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ертикальный свиток 5"/>
          <p:cNvSpPr/>
          <p:nvPr/>
        </p:nvSpPr>
        <p:spPr>
          <a:xfrm>
            <a:off x="214200" y="1928880"/>
            <a:ext cx="4500720" cy="4500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5880" y="2499840"/>
            <a:ext cx="32860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За двумя зайцами погонишься…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Взявшись за гуж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Как волка ни корми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5072040" y="2571840"/>
            <a:ext cx="3214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…не говори, что не дюж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… ни одного не поймае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… всё в лес смотр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8715600" cy="107136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оберите пословицу из частей, «потерявших» друг друг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85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850"/>
                            </p:stCondLst>
                            <p:childTnLst>
                              <p:par>
                                <p:cTn id="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850"/>
                            </p:stCondLst>
                            <p:childTnLst>
                              <p:par>
                                <p:cTn id="452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20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8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8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80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0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8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3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4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1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52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4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4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4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5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Вертикальный свиток 6"/>
          <p:cNvSpPr/>
          <p:nvPr/>
        </p:nvSpPr>
        <p:spPr>
          <a:xfrm>
            <a:off x="857160" y="1071720"/>
            <a:ext cx="6643800" cy="55004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6500880" cy="64296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ФИЗМИНУТ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5960" y="1785600"/>
            <a:ext cx="48578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уки в стороны постави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ой левую достан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 потом – наоборо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удет вправо повор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 – хлопок, два – хлоп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овернись ещё разок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 – два – три – четыр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лечи выше, руки шир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ускаем руки вниз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 на корточки садис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G:\Анимашки\Звезды\ce4ede9bcf51071af29ec5a04ea033f2.gif"/>
          <p:cNvPicPr/>
          <p:nvPr/>
        </p:nvPicPr>
        <p:blipFill>
          <a:blip r:embed="rId3"/>
          <a:stretch/>
        </p:blipFill>
        <p:spPr>
          <a:xfrm>
            <a:off x="7134120" y="3357720"/>
            <a:ext cx="2009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5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214200" y="357120"/>
            <a:ext cx="8643960" cy="11430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alibri"/>
              </a:rPr>
              <a:t>Прочитайте фразу, проследив взглядом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Calibri"/>
              </a:rPr>
              <a:t>от начала до конца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                  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                                                                  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Б                                       Н           О          М                      О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                                                                  Г                Н           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                              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Ь         О                          Р         О                  Р             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                                                                                   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олилиния 17"/>
          <p:cNvSpPr/>
          <p:nvPr/>
        </p:nvSpPr>
        <p:spPr>
          <a:xfrm>
            <a:off x="293760" y="1643040"/>
            <a:ext cx="8429400" cy="454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23"/>
          <p:cNvCxnSpPr/>
          <p:nvPr/>
        </p:nvCxnSpPr>
        <p:spPr>
          <a:xfrm>
            <a:off x="285840" y="2571840"/>
            <a:ext cx="2865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2-03-30T06:36:22Z</dcterms:modified>
  <cp:revision>47</cp:revision>
  <dc:subject/>
  <dc:title>Урок психологии </dc:title>
</cp:coreProperties>
</file>