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7B9-55A2-4123-8B72-E1505529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A0A-40DC-42D0-B524-88C65BDE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E3C-72D4-48FC-B7AD-8B1F088A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B96-BC1E-40DA-BA10-FD728A75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9AD-7BCC-4CDA-AEB1-CE8F348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8DC-A78F-49F2-8017-317E28CB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04B-B17A-4ADF-90D7-BBC01148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D90-AFF8-403F-AC60-BD20F25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0B0-D87B-42D1-9984-272FD2DC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A50-BD44-499D-BD18-2D5EEA3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7BC-D9E1-4805-97B4-E4ADDF2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C7F-A6D8-4A69-A10B-5E45C3BA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7D9A-6109-484E-BCDB-AE6C3FDCC006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7760" y="1714320"/>
            <a:ext cx="528624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Georgia"/>
              </a:rPr>
              <a:t>Валентина Александровна Осеева-Хмелёва</a:t>
            </a:r>
            <a:r>
              <a:rPr b="0" lang="ru-RU" sz="4000" spc="-1" strike="noStrike">
                <a:solidFill>
                  <a:srgbClr val="009900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Georgia"/>
              </a:rPr>
              <a:t>(1902—1969) —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7760" y="4286160"/>
            <a:ext cx="52862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советская детская писательница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" name="Picture 2" descr="C:\Users\Umka\Desktop\Вера Осеева\Осеева, Валентина Александровна — Википедия_files\ВАЛЕНТИНА_ОСЕЕВА.jpeg"/>
          <p:cNvPicPr/>
          <p:nvPr/>
        </p:nvPicPr>
        <p:blipFill>
          <a:blip r:embed="rId1"/>
          <a:stretch/>
        </p:blipFill>
        <p:spPr>
          <a:xfrm>
            <a:off x="500040" y="1285920"/>
            <a:ext cx="3214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Georgia"/>
              </a:rPr>
              <a:t>Краткая биография: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00" y="107136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Валентина Александровна родилась в Киеве  28 апреля  1902 года в семье инженер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По окончании средней школы училась до 1923 года на актерском факультете Киевского института им. Н. В. Лысенко, но не закончила учебу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После семья переехала в Москв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В 1924—1940 годах работала педагогом и воспитателем в детских коммунах и приёмниках для беспризорных детей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Во время эвакуации в годы Великой Отечественной войны работала воспитательницей в детском саду в Башкир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Муж В. А. Осеевой — известный писатель В. Д. Охотников. Семья с 1952 года проживала в посёлке Изюмовка, недалеко от города Старый Кры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В 1952 Валентина Александровна была награждена Сталинской премией третьей степени за 1—2 части повести «Васёк Трубачёв и его товарищи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ыла награждена медалью «За доблестный труд в Великой Отечественной войне 1941-1945 гг.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ерла писательница 5 июля 1969 года. Похоронена в Москве на Ваганьковском кладбищ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Georgia"/>
              </a:rPr>
              <a:t>Творчество Осеевой: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8480" y="1071720"/>
            <a:ext cx="7429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268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В 1937 году В. А. Осеева отнесла в редакцию   свой первый рассказ «Гришка»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В 1940 году вышла первая книга «Рыжий кот»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Затем были написаны сборники рассказов для детей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«Бабка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«Волшебное слово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«Отцовская куртка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«Мой товарищ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книга стихов «Ежинка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повесть «Васёк Трубачёв и его товарищи», 3 части (1947—1951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В 1959 году вышла повесть «Динка», а чуть позднее «Динка прощается с детство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8" name="Picture 13" descr="images (13)"/>
          <p:cNvPicPr/>
          <p:nvPr/>
        </p:nvPicPr>
        <p:blipFill>
          <a:blip r:embed="rId1"/>
          <a:stretch/>
        </p:blipFill>
        <p:spPr>
          <a:xfrm rot="747600">
            <a:off x="402840" y="4873680"/>
            <a:ext cx="1170000" cy="187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images (18)"/>
          <p:cNvPicPr/>
          <p:nvPr/>
        </p:nvPicPr>
        <p:blipFill>
          <a:blip r:embed="rId2"/>
          <a:srcRect l="0" t="0" r="0" b="9536"/>
          <a:stretch/>
        </p:blipFill>
        <p:spPr>
          <a:xfrm rot="21078000">
            <a:off x="142920" y="229680"/>
            <a:ext cx="1297080" cy="19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images (15)"/>
          <p:cNvPicPr/>
          <p:nvPr/>
        </p:nvPicPr>
        <p:blipFill>
          <a:blip r:embed="rId3"/>
          <a:stretch/>
        </p:blipFill>
        <p:spPr>
          <a:xfrm>
            <a:off x="142920" y="2500200"/>
            <a:ext cx="1297080" cy="208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mages (3)"/>
          <p:cNvPicPr/>
          <p:nvPr/>
        </p:nvPicPr>
        <p:blipFill>
          <a:blip r:embed="rId4"/>
          <a:stretch/>
        </p:blipFill>
        <p:spPr>
          <a:xfrm>
            <a:off x="7572240" y="3071880"/>
            <a:ext cx="14526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отцов"/>
          <p:cNvPicPr/>
          <p:nvPr/>
        </p:nvPicPr>
        <p:blipFill>
          <a:blip r:embed="rId5"/>
          <a:srcRect l="0" t="5513" r="0" b="0"/>
          <a:stretch/>
        </p:blipFill>
        <p:spPr>
          <a:xfrm>
            <a:off x="6143760" y="3071880"/>
            <a:ext cx="12142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8:38:27Z</dcterms:created>
  <dc:creator>Umka</dc:creator>
  <dc:description/>
  <dc:language>en-US</dc:language>
  <cp:lastModifiedBy>Umka</cp:lastModifiedBy>
  <dcterms:modified xsi:type="dcterms:W3CDTF">2015-02-02T09:08:56Z</dcterms:modified>
  <cp:revision>4</cp:revision>
  <dc:subject/>
  <dc:title>Валентина Александровна Осеева-Хмелёва  (1902—1969) —</dc:title>
</cp:coreProperties>
</file>