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E51A-C11A-4D1F-ADF9-70B3F9BE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9D6-63C0-4B80-9745-65F89297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6822-50F9-49C8-B6C8-4F2D2341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F264-451C-4262-9328-18F2BBC5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744B-04D7-46D7-9F2D-F9B610C2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65B4-E1B8-4A02-B7C4-D54D7261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779-92ED-4B1C-9D22-48B4DEC5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8B5D-A374-4D70-BF24-637393CB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32B6-9C97-403D-8F79-E5E901B2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E4AC-43D3-4F1B-99DA-4274577E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8DFA-FCA8-49AD-8144-757DE2C0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F79F-F8F3-4BB9-8044-82E3810F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39EC-742F-480B-B6CB-4A7FD9B1B6CA}" type="slidenum">
              <a:rPr b="0" lang="ru-RU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57760" y="1714320"/>
            <a:ext cx="5286240" cy="23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Georgia"/>
              </a:rPr>
              <a:t>Валентина Александровна Осеева-Хмелёва</a:t>
            </a:r>
            <a:r>
              <a:rPr b="0" lang="ru-RU" sz="4000" spc="-1" strike="noStrike">
                <a:solidFill>
                  <a:srgbClr val="009900"/>
                </a:solidFill>
                <a:latin typeface="Georgi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Georgia"/>
              </a:rPr>
              <a:t>(1902—1969) —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57760" y="4286160"/>
            <a:ext cx="528624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Georgia"/>
              </a:rPr>
              <a:t>советская детская писательница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3" name="Picture 2" descr="C:\Users\Umka\Desktop\Вера Осеева\Осеева, Валентина Александровна — Википедия_files\ВАЛЕНТИНА_ОСЕЕВА.jpeg"/>
          <p:cNvPicPr/>
          <p:nvPr/>
        </p:nvPicPr>
        <p:blipFill>
          <a:blip r:embed="rId1"/>
          <a:stretch/>
        </p:blipFill>
        <p:spPr>
          <a:xfrm>
            <a:off x="500040" y="1285920"/>
            <a:ext cx="3214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Georgia"/>
              </a:rPr>
              <a:t>Краткая биография: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4200" y="107136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Валентина Александровна родилась в Киеве  28 апреля  1902 года в семье инженер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По окончании средней школы училась до 1923 года на актерском факультете Киевского института им. Н. В. Лысенко, но не закончила учебу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После семья переехала в Москву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В 1924—1940 годах работала педагогом и воспитателем в детских коммунах и приёмниках для беспризорных детей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Во время эвакуации в годы Великой Отечественной войны работала воспитательницей в детском саду в Башкири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Муж В. А. Осеевой — известный писатель В. Д. Охотников. Семья с 1952 года проживала в посёлке Изюмовка, недалеко от города Старый Крым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В 1952 Валентина Александровна была награждена Сталинской премией третьей степени за 1—2 части повести «Васёк Трубачёв и его товарищи»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Была награждена медалью «За доблестный труд в Великой Отечественной войне 1941-1945 гг.»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Умерла писательница 5 июля 1969 года. Похоронена в Москве на Ваганьковском кладбищ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Georgia"/>
              </a:rPr>
              <a:t>Творчество Осеевой: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28480" y="1071720"/>
            <a:ext cx="74293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268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cc"/>
                </a:solidFill>
                <a:latin typeface="Georgia"/>
              </a:rPr>
              <a:t>В 1937 году В. А. Осеева отнесла в редакцию   свой первый рассказ «Гришка»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87480" indent="268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cc"/>
                </a:solidFill>
                <a:latin typeface="Georgia"/>
              </a:rPr>
              <a:t>В 1940 году вышла первая книга «Рыжий кот»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87480" indent="268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cc"/>
                </a:solidFill>
                <a:latin typeface="Georgia"/>
              </a:rPr>
              <a:t>Затем были написаны сборники рассказов для детей: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87480" indent="268200" algn="just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cc"/>
                </a:solidFill>
                <a:latin typeface="Georgia"/>
              </a:rPr>
              <a:t>«Бабка»,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87480" indent="268200" algn="just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cc"/>
                </a:solidFill>
                <a:latin typeface="Georgia"/>
              </a:rPr>
              <a:t>«Волшебное слово»,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87480" indent="268200" algn="just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cc"/>
                </a:solidFill>
                <a:latin typeface="Georgia"/>
              </a:rPr>
              <a:t>«Отцовская куртка»,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87480" indent="268200" algn="just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cc"/>
                </a:solidFill>
                <a:latin typeface="Georgia"/>
              </a:rPr>
              <a:t>«Мой товарищ»,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87480" indent="268200" algn="just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cc"/>
                </a:solidFill>
                <a:latin typeface="Georgia"/>
              </a:rPr>
              <a:t>книга стихов «Ежинка»,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87480" indent="268200" algn="just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cc"/>
                </a:solidFill>
                <a:latin typeface="Georgia"/>
              </a:rPr>
              <a:t>повесть «Васёк Трубачёв и его товарищи», 3 части (1947—1951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87480" indent="268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cc"/>
                </a:solidFill>
                <a:latin typeface="Georgia"/>
              </a:rPr>
              <a:t>В 1959 году вышла повесть «Динка», а чуть позднее «Динка прощается с детство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87480" indent="268200">
              <a:lnSpc>
                <a:spcPct val="80000"/>
              </a:lnSpc>
              <a:spcBef>
                <a:spcPts val="624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8" name="Picture 13" descr="images (13)"/>
          <p:cNvPicPr/>
          <p:nvPr/>
        </p:nvPicPr>
        <p:blipFill>
          <a:blip r:embed="rId1"/>
          <a:stretch/>
        </p:blipFill>
        <p:spPr>
          <a:xfrm rot="747600">
            <a:off x="402840" y="4873680"/>
            <a:ext cx="1170000" cy="1879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images (18)"/>
          <p:cNvPicPr/>
          <p:nvPr/>
        </p:nvPicPr>
        <p:blipFill>
          <a:blip r:embed="rId2"/>
          <a:srcRect l="0" t="0" r="0" b="9536"/>
          <a:stretch/>
        </p:blipFill>
        <p:spPr>
          <a:xfrm rot="21078000">
            <a:off x="142920" y="229680"/>
            <a:ext cx="1297080" cy="199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images (15)"/>
          <p:cNvPicPr/>
          <p:nvPr/>
        </p:nvPicPr>
        <p:blipFill>
          <a:blip r:embed="rId3"/>
          <a:stretch/>
        </p:blipFill>
        <p:spPr>
          <a:xfrm>
            <a:off x="142920" y="2500200"/>
            <a:ext cx="1297080" cy="208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images (3)"/>
          <p:cNvPicPr/>
          <p:nvPr/>
        </p:nvPicPr>
        <p:blipFill>
          <a:blip r:embed="rId4"/>
          <a:stretch/>
        </p:blipFill>
        <p:spPr>
          <a:xfrm>
            <a:off x="7572240" y="3071880"/>
            <a:ext cx="1452600" cy="1801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отцов"/>
          <p:cNvPicPr/>
          <p:nvPr/>
        </p:nvPicPr>
        <p:blipFill>
          <a:blip r:embed="rId5"/>
          <a:srcRect l="0" t="5513" r="0" b="0"/>
          <a:stretch/>
        </p:blipFill>
        <p:spPr>
          <a:xfrm>
            <a:off x="6143760" y="3071880"/>
            <a:ext cx="12142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08:38:27Z</dcterms:created>
  <dc:creator>Umka</dc:creator>
  <dc:description/>
  <dc:language>en-US</dc:language>
  <cp:lastModifiedBy>Umka</cp:lastModifiedBy>
  <dcterms:modified xsi:type="dcterms:W3CDTF">2015-02-02T09:08:56Z</dcterms:modified>
  <cp:revision>4</cp:revision>
  <dc:subject/>
  <dc:title>Валентина Александровна Осеева-Хмелёва  (1902—1969) —</dc:title>
</cp:coreProperties>
</file>