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234B-91A4-472B-8477-0D7B4857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3D88-9DF0-4BBC-A367-4A511EE7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AF9A7-A8A9-4C53-A7E8-1B435EEC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BAF5D-2B1C-4B07-B05C-E9D2433F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36685-E7E1-466B-A514-AE8EF951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7A08A-D73D-49F2-892B-24712076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9C6BC-36F8-4889-A378-8933BF9B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912D3-3FFC-4088-A819-CCC3702F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54350-F41E-45CE-BCD9-EF601355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B336E-0468-46B7-837F-860FB3A2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2E623-BD8A-4466-B712-133E1AD8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895B-8340-4783-A6AD-11D7052E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2FE-CAE8-447D-A053-C5F37369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BDC3-8613-4D39-8FEA-40B43642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4D07-6D36-4420-8B92-BF76F617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0955-C8DB-4DE4-9A32-8FA2E13F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9A3F-DC92-4865-ABC1-F068F5C1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8187-93EC-4661-AD26-DEB15855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0135-183D-4CC0-AAF1-358F3932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6EA1-F2D1-4CA5-A8BC-04E99DFD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D17E-1FFE-4F56-9B4A-C42E4EDC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159E-3DA9-44AC-9DA4-4F222327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0BC4-0DDB-4826-A9DF-E7F076C8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9965-F569-458E-BE7B-F1A0812F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340F-A762-4498-BDF2-58E58DA8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32E7-BD94-4C45-A88E-6B86E03D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7D15F-AB13-4B0B-9CE2-F72828DE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570DC-D562-4C89-966B-D4DBACA1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6C818-AE89-4B8B-B744-42043F95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9E15E-5A25-4B64-8923-DA8C3959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80A2B-10F3-413C-9F55-C1A6F692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79BE-4359-44B1-97F2-22F2514B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158EC-3B6A-422D-A04F-8DB795D0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5A2DF-7A73-43D6-BE22-658C5735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0E5D0-FA4D-4149-AFCC-3BF41F9D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9A029-7D85-453A-B3DE-6AEC6B7A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8AA2C-EAAB-40E2-8709-55A601B7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49D9C-8E05-4A9F-8E05-EA893A19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E9763-4C8C-42E9-BE75-C625372D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691E3-904A-4433-BDB2-E9A280D0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E9027-2121-4631-B366-B650CCE9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7FC7D-ADC0-4D98-8E64-C890BBBB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311-5CF4-4C25-A115-F0DA4BDA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BF34B-1683-4435-A4CE-F3D0307A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D3C6A-FE4F-4166-B916-12244B9D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23EB5-FE24-419E-8AE8-4B8CC145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F1C55-E38C-4597-9994-CB1C1884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855A9-365A-4C73-934A-81AE1A96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52518-9F8F-4C73-86A3-52B805BD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A60DB-FD7A-4A35-BCD7-46A0286A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C8358-D212-4ADF-A278-588C7A5F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0D706-75AD-4309-9F42-C34F9906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B7EB9-F885-4427-A551-2743F79D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CECF-D72F-4EF7-8F03-6DA674F4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C3D04-A1A0-4F98-A95E-323DE690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137DA-8971-4D35-8D8B-75E879D7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33453-2978-44F9-B2ED-7D29AE5F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8DD2C-2782-4CC5-AAF1-28C4B9C7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B5447-ACC8-4B9B-8A7A-F6721DA5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59FB1-5106-4634-9378-FE15F929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5E2C3-C364-44EE-AA45-43FAB1F5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ECECA-3BF5-438F-8734-CA51EEED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CF29A-C2F8-4901-A952-8C481EB8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6ABFA-5F5C-459A-A049-2DEE4E19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9EBF-26EE-4481-BE3E-09A108E0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73DED-A5BC-4955-8F1B-6D2D534F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2536E-98A2-4CAF-BF75-0B7FFFA5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07799-43DE-467D-89DC-319652BA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5BBD4-6BB8-4A32-BF3A-7987BF3C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9E450-1ED1-4A88-BEE7-3C084634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70DDE-0F12-42F9-BFD7-B409C3F4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3262C-C854-4771-93D0-570F9504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AB93D-8AB9-4653-BC31-88A1D971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99873-E905-4CE3-A2A0-D56BA31D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45EC1-0465-4083-9C58-CA3E4DED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3810-A914-4E0C-9DA1-A9C53265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D3581-6E03-47F0-BC17-4F9BB737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B230B-5A34-42C0-A8FD-BDBEF9B3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0E6FF-54F9-40F2-9AF7-E3DB454D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59B5D-5356-4B27-8349-CFEFD098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04232-2D2D-4FC3-8409-6182974F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DD16B-7E26-4685-8632-C8507285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67564-95C5-4BA7-94C3-A70B6E4A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2EEF6-F167-4B82-89F5-925AD85D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78F8C-367D-44EF-8D9F-854ADAFC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4F40F-D9C4-4611-83C3-6549FEFB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F00C-6551-454C-B4F3-DC4CA3B4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32AF8-F202-431F-ADC7-8569B4C3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6EE75-6A41-4ED3-8947-21CF7F90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99E1E-C98E-492A-81FA-DCF718F5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99747-2CEA-4B39-B1C0-154C98D5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A2DD0-9C1E-4881-8B01-9C79A10F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BE91B-6CB2-44E5-8770-A5C4EB28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C9FE3-E782-47A8-8EDC-3D978BCA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BE718-D4B4-4419-BEF7-574D145B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7CD0A-7D49-4309-85A1-61BED757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C9015-1432-401B-97FC-037BAF19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7BDF-0E00-44FF-AE2C-BD653B24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8E508-4D6B-4810-BFAC-9256A5DC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90693-E15E-4A4B-8A82-9D5BC8C3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7D601-0720-4CEA-BD2D-B13EBEB1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36B3D-8BE8-4BC4-8C47-805D1ED2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842CD-BCF7-4E58-8D3B-25B0C10E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2B951-0E68-4A85-B659-82CBC29B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6BBF4-9233-4BFC-8D51-0B7FC621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B7944-361C-4B65-85B3-85E707E3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A7D4D-F8BE-472E-B217-7AAB3393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A8B93-8E0A-4FD3-958D-50804BC9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0DF6-50C5-4880-B6BB-84F1007C9BD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C5BB-7212-441C-9FEC-0D20D9DD663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13F0-3E09-4CD6-9960-0DF5E663AE4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2D4B-7176-4730-A79C-B2C94A29630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BBDE-3D69-47AE-A3B0-D5511C56C83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0882-49E8-409D-A30D-BB8F4541368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C1F7-3883-4BA9-98BA-5887617E22E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A636-B3E1-4104-89F7-8FCE546465F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186C-3F6D-40AD-90E1-E73A53AC897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Фон 20"/>
          <p:cNvPicPr/>
          <p:nvPr/>
        </p:nvPicPr>
        <p:blipFill>
          <a:blip r:embed="rId1"/>
          <a:stretch/>
        </p:blipFill>
        <p:spPr>
          <a:xfrm>
            <a:off x="-69840" y="-88920"/>
            <a:ext cx="9213840" cy="6946920"/>
          </a:xfrm>
          <a:prstGeom prst="rect">
            <a:avLst/>
          </a:prstGeom>
          <a:ln w="0">
            <a:noFill/>
          </a:ln>
        </p:spPr>
      </p:pic>
      <p:sp>
        <p:nvSpPr>
          <p:cNvPr id="400" name="WordArt 5"/>
          <p:cNvSpPr txBox="1"/>
          <p:nvPr/>
        </p:nvSpPr>
        <p:spPr>
          <a:xfrm rot="21466800">
            <a:off x="158760" y="185760"/>
            <a:ext cx="8964720" cy="436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002060"/>
                </a:solidFill>
                <a:latin typeface="Meiryo UI"/>
              </a:rPr>
              <a:t>" Виды работы с текстом </a:t>
            </a:r>
            <a:endParaRPr b="1" lang="en-US" sz="1800" spc="1" strike="noStrike">
              <a:ln w="9360">
                <a:solidFill>
                  <a:srgbClr val="ccffcc"/>
                </a:solidFill>
                <a:miter/>
              </a:ln>
              <a:solidFill>
                <a:srgbClr val="002060"/>
              </a:solidFill>
              <a:latin typeface="Meiryo UI"/>
              <a:ea typeface="Meiryo U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002060"/>
                </a:solidFill>
                <a:latin typeface="Meiryo UI"/>
              </a:rPr>
              <a:t>в </a:t>
            </a:r>
            <a:endParaRPr b="1" lang="en-US" sz="1800" spc="1" strike="noStrike">
              <a:ln w="9360">
                <a:solidFill>
                  <a:srgbClr val="ccffcc"/>
                </a:solidFill>
                <a:miter/>
              </a:ln>
              <a:solidFill>
                <a:srgbClr val="002060"/>
              </a:solidFill>
              <a:latin typeface="Meiryo UI"/>
              <a:ea typeface="Meiryo U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002060"/>
                </a:solidFill>
                <a:latin typeface="Meiryo UI"/>
              </a:rPr>
              <a:t>начальной школе"</a:t>
            </a:r>
            <a:endParaRPr b="1" lang="en-US" sz="1800" spc="1" strike="noStrike">
              <a:ln w="9360">
                <a:solidFill>
                  <a:srgbClr val="ccffcc"/>
                </a:solidFill>
                <a:miter/>
              </a:ln>
              <a:solidFill>
                <a:srgbClr val="002060"/>
              </a:solidFill>
              <a:latin typeface="Meiryo UI"/>
              <a:ea typeface="Meiryo UI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5651640" y="6021360"/>
            <a:ext cx="338436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малдинова А.Ю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БОУ ООШ №19 г.о. Новокуйбышевс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Georgia"/>
              </a:rPr>
              <a:t>Внедрение системы работы с текстом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86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1 класс </a:t>
            </a:r>
            <a:r>
              <a:rPr b="0" lang="ru-RU" sz="2000" spc="-1" strike="noStrike">
                <a:solidFill>
                  <a:srgbClr val="4e3b30"/>
                </a:solidFill>
                <a:latin typeface="Georgia"/>
              </a:rPr>
              <a:t>– обучение детей чтению и пониманию прочитанного текста, его осознанного восприят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2 класс</a:t>
            </a:r>
            <a:r>
              <a:rPr b="0" lang="ru-RU" sz="2000" spc="-1" strike="noStrike">
                <a:solidFill>
                  <a:srgbClr val="4e3b30"/>
                </a:solidFill>
                <a:latin typeface="Georgia"/>
              </a:rPr>
              <a:t> – обучение детей работать с текстом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3 класс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                              </a:t>
            </a:r>
            <a:r>
              <a:rPr b="0" lang="ru-RU" sz="2000" spc="-1" strike="noStrike">
                <a:solidFill>
                  <a:srgbClr val="4e3b30"/>
                </a:solidFill>
                <a:latin typeface="Georgia"/>
              </a:rPr>
              <a:t>обучение находить информацию, интерпретировать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Georgia"/>
              </a:rPr>
              <a:t>                                </a:t>
            </a:r>
            <a:r>
              <a:rPr b="0" lang="ru-RU" sz="2000" spc="-1" strike="noStrike">
                <a:solidFill>
                  <a:srgbClr val="4e3b30"/>
                </a:solidFill>
                <a:latin typeface="Georgia"/>
              </a:rPr>
              <a:t>тексты и рефлексировать их содержание, давать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Georgia"/>
              </a:rPr>
              <a:t>                                </a:t>
            </a:r>
            <a:r>
              <a:rPr b="0" lang="ru-RU" sz="2000" spc="-1" strike="noStrike">
                <a:solidFill>
                  <a:srgbClr val="4e3b30"/>
                </a:solidFill>
                <a:latin typeface="Georgia"/>
              </a:rPr>
              <a:t>оценку прочитанному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4 класс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Правая фигурная скобка 1"/>
          <p:cNvSpPr/>
          <p:nvPr/>
        </p:nvSpPr>
        <p:spPr>
          <a:xfrm>
            <a:off x="1908000" y="2637000"/>
            <a:ext cx="287640" cy="1512720"/>
          </a:xfrm>
          <a:custGeom>
            <a:avLst/>
            <a:gdLst>
              <a:gd name="textAreaLeft" fmla="*/ 0 w 287640"/>
              <a:gd name="textAreaRight" fmla="*/ 103680 w 287640"/>
              <a:gd name="textAreaTop" fmla="*/ 7200 h 1512720"/>
              <a:gd name="textAreaBottom" fmla="*/ 150552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1"/>
                  <a:pt x="10800" y="342"/>
                </a:cubicBezTo>
                <a:lnTo>
                  <a:pt x="10800" y="10458"/>
                </a:lnTo>
                <a:cubicBezTo>
                  <a:pt x="10800" y="10629"/>
                  <a:pt x="16200" y="10800"/>
                  <a:pt x="21600" y="10800"/>
                </a:cubicBezTo>
                <a:cubicBezTo>
                  <a:pt x="16200" y="10800"/>
                  <a:pt x="10800" y="10971"/>
                  <a:pt x="10800" y="11142"/>
                </a:cubicBezTo>
                <a:lnTo>
                  <a:pt x="10800" y="21258"/>
                </a:lnTo>
                <a:cubicBezTo>
                  <a:pt x="10800" y="21429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Georgia"/>
              </a:rPr>
              <a:t>Условия обучения работе с текстом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86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Georgia"/>
              </a:rPr>
              <a:t>для развития умения находить информацию используются тексты научно – познавательного характера, соответствующего возрасту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Georgia"/>
              </a:rPr>
              <a:t>для того чтобы дети учились интерпретировать полученную информацию, тексты подбираются разных стилей, но схожих по содержанию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Georgia"/>
              </a:rPr>
              <a:t>ведётся работа над развитием речи учащихс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Georgia"/>
              </a:rPr>
              <a:t>при работе с текстами учитывается мотивация учащихся и их способность быть читателем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Georgia"/>
              </a:rPr>
              <a:t>разные по объему произведения позволяют учителю учитывать разноуровневую готовность учащихс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7859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Georgia"/>
              </a:rPr>
              <a:t>Межпредметные связи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Стрелка вниз 1"/>
          <p:cNvSpPr/>
          <p:nvPr/>
        </p:nvSpPr>
        <p:spPr>
          <a:xfrm rot="1603800">
            <a:off x="1603080" y="847800"/>
            <a:ext cx="360360" cy="12970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Стрелка вниз 4"/>
          <p:cNvSpPr/>
          <p:nvPr/>
        </p:nvSpPr>
        <p:spPr>
          <a:xfrm rot="19757400">
            <a:off x="6810120" y="798120"/>
            <a:ext cx="360360" cy="12970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Стрелка вниз 5"/>
          <p:cNvSpPr/>
          <p:nvPr/>
        </p:nvSpPr>
        <p:spPr>
          <a:xfrm rot="1168800">
            <a:off x="2426760" y="965160"/>
            <a:ext cx="360360" cy="25192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Стрелка вниз 6"/>
          <p:cNvSpPr/>
          <p:nvPr/>
        </p:nvSpPr>
        <p:spPr>
          <a:xfrm>
            <a:off x="4067280" y="1197000"/>
            <a:ext cx="360360" cy="345600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Стрелка вниз 7"/>
          <p:cNvSpPr/>
          <p:nvPr/>
        </p:nvSpPr>
        <p:spPr>
          <a:xfrm rot="20547000">
            <a:off x="5664240" y="1009440"/>
            <a:ext cx="358560" cy="251928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Box 2"/>
          <p:cNvSpPr/>
          <p:nvPr/>
        </p:nvSpPr>
        <p:spPr>
          <a:xfrm>
            <a:off x="324000" y="222552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УССКИЙ ЯЗЫ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1116000" y="3546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Box 10"/>
          <p:cNvSpPr/>
          <p:nvPr/>
        </p:nvSpPr>
        <p:spPr>
          <a:xfrm>
            <a:off x="2771640" y="48690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ЗОБРАЗИТЕЛЬНОЕ ИСКУС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Box 11"/>
          <p:cNvSpPr/>
          <p:nvPr/>
        </p:nvSpPr>
        <p:spPr>
          <a:xfrm>
            <a:off x="5280120" y="3789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КРУЖАЮЩИЙ МИ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Box 12"/>
          <p:cNvSpPr/>
          <p:nvPr/>
        </p:nvSpPr>
        <p:spPr>
          <a:xfrm>
            <a:off x="6588000" y="22701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ЕХНОЛОГ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900000" y="1341360"/>
            <a:ext cx="712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Продуманная и целенаправленная работа с текстом позволяет добывать ребёнку из большого объема информации нужную и полезную, а также приобретать социально – нравственный опыт и заставляет думать, познавая окружающий мир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8253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Georgia"/>
              </a:rPr>
              <a:t>Заключение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6" name="Рисунок 1" descr=""/>
          <p:cNvPicPr/>
          <p:nvPr/>
        </p:nvPicPr>
        <p:blipFill>
          <a:blip r:embed="rId1"/>
          <a:stretch/>
        </p:blipFill>
        <p:spPr>
          <a:xfrm>
            <a:off x="4932360" y="3981600"/>
            <a:ext cx="3606840" cy="240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9" name="Picture 4" descr="Фон 20"/>
          <p:cNvPicPr/>
          <p:nvPr/>
        </p:nvPicPr>
        <p:blipFill>
          <a:blip r:embed="rId1"/>
          <a:srcRect l="31619" t="56261" r="22262" b="12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WordArt 5"/>
          <p:cNvSpPr txBox="1"/>
          <p:nvPr/>
        </p:nvSpPr>
        <p:spPr>
          <a:xfrm rot="20341200">
            <a:off x="250920" y="1125360"/>
            <a:ext cx="70578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0a22e"/>
                  </a:solidFill>
                  <a:miter/>
                </a:ln>
                <a:solidFill>
                  <a:srgbClr val="f0a22e"/>
                </a:solidFill>
                <a:latin typeface="Georgia"/>
              </a:rPr>
              <a:t>Спасибо за внимание !</a:t>
            </a:r>
            <a:endParaRPr b="0" lang="en-US" sz="1800" spc="1" strike="noStrike">
              <a:ln w="9360">
                <a:solidFill>
                  <a:srgbClr val="f0a22e"/>
                </a:solidFill>
                <a:miter/>
              </a:ln>
              <a:solidFill>
                <a:srgbClr val="f0a22e"/>
              </a:solidFill>
              <a:latin typeface="Georgia"/>
              <a:ea typeface="Georgia"/>
            </a:endParaRPr>
          </a:p>
        </p:txBody>
      </p:sp>
      <p:sp>
        <p:nvSpPr>
          <p:cNvPr id="441" name="WordArt 6"/>
          <p:cNvSpPr txBox="1"/>
          <p:nvPr/>
        </p:nvSpPr>
        <p:spPr>
          <a:xfrm>
            <a:off x="324000" y="5373720"/>
            <a:ext cx="835164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0a22e"/>
                  </a:solidFill>
                  <a:miter/>
                </a:ln>
                <a:solidFill>
                  <a:srgbClr val="f0a22e"/>
                </a:solidFill>
                <a:latin typeface="Georgia"/>
              </a:rPr>
              <a:t>Творческих успехов !</a:t>
            </a:r>
            <a:endParaRPr b="0" lang="en-US" sz="1800" spc="1" strike="noStrike">
              <a:ln w="9360">
                <a:solidFill>
                  <a:srgbClr val="f0a22e"/>
                </a:solidFill>
                <a:miter/>
              </a:ln>
              <a:solidFill>
                <a:srgbClr val="f0a22e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04920" y="333360"/>
            <a:ext cx="8686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253800" indent="-25380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Georgia"/>
              </a:rPr>
              <a:t>Читать – это ещё ничего не значит: что читать и как понимать читаемое – вот в чём главное дело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5380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990000"/>
                </a:solidFill>
                <a:latin typeface="Georgia"/>
              </a:rPr>
              <a:t>	</a:t>
            </a:r>
            <a:r>
              <a:rPr b="0" lang="ru-RU" sz="4000" spc="-1" strike="noStrike">
                <a:solidFill>
                  <a:srgbClr val="990000"/>
                </a:solidFill>
                <a:latin typeface="Georgia"/>
              </a:rPr>
              <a:t>	</a:t>
            </a:r>
            <a:r>
              <a:rPr b="0" lang="ru-RU" sz="4000" spc="-1" strike="noStrike">
                <a:solidFill>
                  <a:srgbClr val="990000"/>
                </a:solidFill>
                <a:latin typeface="Georgia"/>
              </a:rPr>
              <a:t>	</a:t>
            </a:r>
            <a:r>
              <a:rPr b="0" lang="ru-RU" sz="4000" spc="-1" strike="noStrike">
                <a:solidFill>
                  <a:srgbClr val="990000"/>
                </a:solidFill>
                <a:latin typeface="Georgia"/>
              </a:rPr>
              <a:t>	</a:t>
            </a:r>
            <a:r>
              <a:rPr b="0" lang="ru-RU" sz="4000" spc="-1" strike="noStrike">
                <a:solidFill>
                  <a:srgbClr val="990000"/>
                </a:solidFill>
                <a:latin typeface="Georgia"/>
              </a:rPr>
              <a:t>	</a:t>
            </a:r>
            <a:r>
              <a:rPr b="0" lang="ru-RU" sz="4000" spc="-1" strike="noStrike">
                <a:solidFill>
                  <a:srgbClr val="990000"/>
                </a:solidFill>
                <a:latin typeface="Georgia"/>
              </a:rPr>
              <a:t>	</a:t>
            </a:r>
            <a:r>
              <a:rPr b="0" lang="ru-RU" sz="4000" spc="-1" strike="noStrike">
                <a:solidFill>
                  <a:srgbClr val="990000"/>
                </a:solidFill>
                <a:latin typeface="Georgia"/>
              </a:rPr>
              <a:t>            </a:t>
            </a:r>
            <a:r>
              <a:rPr b="1" i="1" lang="ru-RU" sz="4000" spc="-1" strike="noStrike">
                <a:solidFill>
                  <a:srgbClr val="990000"/>
                </a:solidFill>
                <a:latin typeface="Georgia"/>
              </a:rPr>
              <a:t>К.Д.Ушинский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Рисунок 1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436716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6264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Georgia"/>
              </a:rPr>
              <a:t>Цель: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Georgia"/>
              </a:rPr>
              <a:t>формирование читательской компетентности младшего школьника, осознание себя как грамотного читателя, способного к творческой деятельнос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55640" y="457200"/>
            <a:ext cx="8236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Georgia"/>
              </a:rPr>
              <a:t>Задачи: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Georgia"/>
              </a:rPr>
              <a:t>развивать универсальные учебные действия - способности личности к саморазвитию и самосовершенствованию путем сознательного и активного присвоения нового социального опыт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Georgia"/>
              </a:rPr>
              <a:t>формировать предметные универсальные учебные действия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55640" y="457200"/>
            <a:ext cx="8236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1f1f"/>
                </a:solidFill>
                <a:latin typeface="Georgia"/>
              </a:rPr>
              <a:t>Читательская компетентность определяется: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владением техникой чтени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приёмами понимания прочитанного и прослушанного произведени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умение работать с текстам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знанием книг и умением их самостоятельно выбира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сформированностью духовной потребности в книге как средстве познания мира и самопознания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Georgia"/>
              </a:rPr>
              <a:t>Нахождение информац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Georgia"/>
              </a:rPr>
              <a:t>Интерпретация текс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Georgia"/>
              </a:rPr>
              <a:t>Рефлексия на содержание текста или его форму и их оцен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ad1f1f"/>
                </a:solidFill>
                <a:latin typeface="Georgia"/>
              </a:rPr>
              <a:t>Применение знаний при работе с текстом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1f1f"/>
                </a:solidFill>
                <a:latin typeface="Georgia"/>
              </a:rPr>
              <a:t>Виды работы с текстом: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 всего текст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, деление на смысловые части. Составление план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 по готовому план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, после чтения пересказывани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 учеником нового текста, заранее подготовленного дом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восстановление деформированного текст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инсценирование текста или отрывк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выборочное чтение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 в лица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1f1f"/>
                </a:solidFill>
                <a:latin typeface="Georgia"/>
              </a:rPr>
              <a:t>Виды работы с текстом: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«жужжащее чтение»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 цепочкой по предложению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 абзацам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 с пометкам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 с остановкам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 по группам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поисковое чтени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комбинированное чтени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«живая картинка»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 с целью нахождения подходящего отрывка к рисунку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1f1f"/>
                </a:solidFill>
                <a:latin typeface="Georgia"/>
              </a:rPr>
              <a:t>Виды работы с текстом: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чтение с целью нахождения отрывка, который поможет ответить на вопрос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нахождение предложения или отрывка, отражающего главную мысль текст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нахождение и чтение образных слов и описани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нахождение и чтение слов с логическим ударением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вычленения слов из текста к предложенной схеме, например: чк, чн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кто быстрее в тексте найдет слово на определённое правил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Georgia"/>
              </a:rPr>
              <a:t>нахождение самого длинного слова в текст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7:52:47Z</dcterms:created>
  <dc:creator>pupil</dc:creator>
  <dc:description/>
  <dc:language>en-US</dc:language>
  <cp:lastModifiedBy>Учитель</cp:lastModifiedBy>
  <dcterms:modified xsi:type="dcterms:W3CDTF">2015-02-05T10:28:44Z</dcterms:modified>
  <cp:revision>53</cp:revision>
  <dc:subject/>
  <dc:title>Слайд 1</dc:title>
</cp:coreProperties>
</file>