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316-D40F-46D2-80E6-73958DF4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332-F94E-408B-9190-E4243271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AE2F8-7A82-4F9A-A28C-55C6F050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3582B-78CE-46E1-A908-E5139FD7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3AA4A-6776-4652-AEAF-679FC8C0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E8533-57C4-4E2E-B99E-2081C0F2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67F71-28D0-4AA3-94D4-074635BB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FF64F-124B-4D5D-B41B-2673908A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63063-6406-475B-99B1-8708934D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80518-F409-4EC2-8A0C-3B87086C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DEBA0-FC76-47E4-9E36-A44F4C2B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982-53AB-482E-915D-2EF138FE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42A-DF4E-4A81-A8BE-4EDE1DE8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6ACC-D98E-4A61-B844-171945E8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46FB-76A4-484A-BA06-6F94D3F6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A781-9916-4F7D-A94B-7E171A14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5B39-60A8-492F-B66D-DA070CF9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133F-9EA6-4D63-A883-46E6E46C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8074-479A-42D6-BFF1-53D6C1E4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22B9-F188-41F0-8CC8-46C23B3A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BF9-A905-4977-8A1A-1543F30C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3E0A-29ED-4870-971B-63206E44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FDD9-31F5-41D1-AD94-60BC97AA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5FF8-C0D9-4320-A778-F932B3F1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1A12-F2AA-45F1-9E44-C22DDB75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F40C-8950-46C2-B1AB-412A7519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3E799-83A1-42EF-A802-152B1279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8ADCE-6B07-440E-9BE7-A7B65E8E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7718-CB2A-4732-9C4A-6A708F27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448D-64ED-47E0-BA44-F823DC78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BB73D-150A-4EC4-B586-591AB6DF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F11-1850-492F-BF27-1E5C5F04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10B81-A7EB-407A-B454-E4394681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88F82-ECF1-423A-A595-CDF327EC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218D-1F01-45B3-9FCF-F8F0D05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0B557-DF48-4FED-9E72-DE1D33EA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FB426-FA5B-4B45-85E2-9C05FFD0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547D-7960-4231-BEDE-511E8D62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FCC38-B9E1-48BD-A3E6-9C2A0B87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88B29-7DE1-40D8-B353-4B56E03D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29BFD-9442-49B4-9B60-37E92FCC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6DFEE-F4A8-4B9E-BBEA-A3894C37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F4E-91D2-4804-9CDC-62B3507F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3D878-74B3-462F-93E2-46C3BBEC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2774C-7A77-4EBA-B073-A238C65D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1D078-E1B9-4AE7-922D-C2BAF222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88B31-92CC-4080-A8DB-1D5EC039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9372F-63F9-4C71-AA4C-F51EE4FD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27CD0-7086-4055-B425-526F2AD9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60F75-FC8B-46E9-B148-B9F4100A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8DEBE-F883-4727-9DA4-A97A341E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54B02-6575-4F59-8916-165FAE98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A6223-CD88-423D-9F16-1A5E0605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786-AA12-4F70-93FB-F978F72A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B699E-C41D-4647-98D9-805015BE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3D10E-6643-4096-BFBF-0B8FB27D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B80B8-05AA-4EB0-AF69-55547126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87B19-89D6-4654-847A-E3970364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2C78A-ED43-4E61-9BF0-CF9348FF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A99CB-3C5B-4348-88AE-A9D6C059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4F92E-27CC-4897-9EFF-E749BF6E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77CC1-D74E-4B62-89B7-00A3041E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337A8-47B7-45AE-93AA-C033DD2B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6308D-2CA3-45A3-87AE-849691E3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7D3-3D4C-4ECD-B3E1-6AF2EBD2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CFE8B-D2E8-4599-AF71-3F0B8093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944F6-CA40-4EAF-81C2-0A163A86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DAAB6-7C42-4CF0-9D58-5CFD3637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5DAAC-9615-4892-AC4C-48F79812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B7C21-7505-46EC-B5FF-D3ECA823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CFDAA-5828-4D30-A06E-98931D25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056AA-B2C2-403B-9849-5C0CF466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9E369-07C1-433E-BB0E-F3549BCE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A026B-A562-472D-AD2F-875F7073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58001-52B7-4747-B924-6D03E37D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88F-192C-479F-9FED-357BFC2B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8F12D-DD10-45D4-8F9F-534F5308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355B2-2F96-4EBC-AC9B-A5B8AE68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76C89-3DFF-41A4-AD19-B8887656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DC003-0B5A-4B46-9CCD-3E29D510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69A55-6170-45D3-850F-C4058C92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632A3-6F4E-4EB9-90D4-8BB8AAF7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791DE-2F09-4F94-8817-C1F30F6B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12656-9BF8-42C7-B233-B9FF485D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570AF-EE44-40F7-AF1B-615D1E8E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C1D37-E249-4D5B-8071-618C2B87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A2A8-FFA9-4EF1-992E-1D2ED694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EC07E-373B-4817-B9E3-43038BC1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3A899-991C-4028-A530-9C1DB61C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F61CC-C0D9-47C2-B29B-F34336DE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A37CD-D6A4-4671-92BC-B37D9FBE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D7787-1213-433D-849D-230F396D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E79C6-AF8F-43A0-9CF0-494DC5BA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3D3ED-1D72-45A7-9B8B-169BD031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91401-F984-461E-A3B8-6D156276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1B374-FE4E-4371-BB9C-2E8E7F04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E7A11-02F8-4B93-8357-20566681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2D5-4B4E-4035-8A58-D39F67C1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046F0-D8F0-449E-9AD0-59F3ACF4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51ADC-E0AE-4D0C-8224-128576B9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BE610-41A5-4174-B614-EE87494C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5C7BF-F608-448F-A037-B777A2F2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0613C-F8D1-4B0A-B1C0-27FF498D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BF05D-684D-495D-9757-0A0AAA0A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F5A34-8489-43E1-8805-8849E687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F946D-128B-4D11-BA4A-3533CA4A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1C190-FC0E-450B-AD62-515ADD1D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55009-4A81-4040-A10E-5C928424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9FDB-49C9-451C-9868-D317E0EFB4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677B-DD01-4E62-BD75-DB197EA7F98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3FC5-5FD1-43FA-BDD6-C77FE87DD8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CF5C-59E5-47AA-B8E6-0EC62B242C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1F1E-220E-42D3-9CED-85126E1C58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BCC6-C3DD-459F-89CD-7C0FE2B6F8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C136-95EC-4818-8A39-A5E7A2648AA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8C2D-4D45-450F-8656-B6291C4176C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F93C-A613-4B7F-BA02-A38B49A60F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Фон 20"/>
          <p:cNvPicPr/>
          <p:nvPr/>
        </p:nvPicPr>
        <p:blipFill>
          <a:blip r:embed="rId1"/>
          <a:stretch/>
        </p:blipFill>
        <p:spPr>
          <a:xfrm>
            <a:off x="-69840" y="-88920"/>
            <a:ext cx="9213840" cy="6946920"/>
          </a:xfrm>
          <a:prstGeom prst="rect">
            <a:avLst/>
          </a:prstGeom>
          <a:ln w="0">
            <a:noFill/>
          </a:ln>
        </p:spPr>
      </p:pic>
      <p:sp>
        <p:nvSpPr>
          <p:cNvPr id="400" name="WordArt 5"/>
          <p:cNvSpPr txBox="1"/>
          <p:nvPr/>
        </p:nvSpPr>
        <p:spPr>
          <a:xfrm rot="21466800">
            <a:off x="158760" y="185760"/>
            <a:ext cx="8964720" cy="436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002060"/>
                </a:solidFill>
                <a:latin typeface="Meiryo UI"/>
              </a:rPr>
              <a:t>" Виды работы с текстом </a:t>
            </a:r>
            <a:endParaRPr b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002060"/>
              </a:solidFill>
              <a:latin typeface="Meiryo UI"/>
              <a:ea typeface="Meiryo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002060"/>
                </a:solidFill>
                <a:latin typeface="Meiryo UI"/>
              </a:rPr>
              <a:t>в </a:t>
            </a:r>
            <a:endParaRPr b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002060"/>
              </a:solidFill>
              <a:latin typeface="Meiryo UI"/>
              <a:ea typeface="Meiryo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002060"/>
                </a:solidFill>
                <a:latin typeface="Meiryo UI"/>
              </a:rPr>
              <a:t>начальной школе"</a:t>
            </a:r>
            <a:endParaRPr b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002060"/>
              </a:solidFill>
              <a:latin typeface="Meiryo UI"/>
              <a:ea typeface="Meiryo UI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5651640" y="6021360"/>
            <a:ext cx="338436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малдинова А.Ю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БОУ ООШ №19 г.о. Новокуйбышевс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Georgia"/>
              </a:rPr>
              <a:t>Внедрение системы работы с текстом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86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1 класс </a:t>
            </a: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– обучение детей чтению и пониманию прочитанного текста, его осознанного восприят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2 класс</a:t>
            </a: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 – обучение детей работать с текстом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3 класс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                              </a:t>
            </a: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обучение находить информацию, интерпретироват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                                </a:t>
            </a: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тексты и рефлексировать их содержание, дават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                                </a:t>
            </a: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оценку прочитанному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4 класс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Правая фигурная скобка 1"/>
          <p:cNvSpPr/>
          <p:nvPr/>
        </p:nvSpPr>
        <p:spPr>
          <a:xfrm>
            <a:off x="1908000" y="2637000"/>
            <a:ext cx="287640" cy="151272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1512720"/>
              <a:gd name="textAreaBottom" fmla="*/ 15055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1"/>
                  <a:pt x="10800" y="342"/>
                </a:cubicBezTo>
                <a:lnTo>
                  <a:pt x="10800" y="10458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1"/>
                  <a:pt x="10800" y="11142"/>
                </a:cubicBezTo>
                <a:lnTo>
                  <a:pt x="10800" y="21258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Georgia"/>
              </a:rPr>
              <a:t>Условия обучения работе с текстом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86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для развития умения находить информацию используются тексты научно – познавательного характера, соответствующего возрасту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для того чтобы дети учились интерпретировать полученную информацию, тексты подбираются разных стилей, но схожих по содержанию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ведётся работа над развитием речи учащихс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при работе с текстами учитывается мотивация учащихся и их способность быть читателем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разные по объему произведения позволяют учителю учитывать разноуровневую готовность учащихс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859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Georgia"/>
              </a:rPr>
              <a:t>Межпредметные связ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Стрелка вниз 1"/>
          <p:cNvSpPr/>
          <p:nvPr/>
        </p:nvSpPr>
        <p:spPr>
          <a:xfrm rot="1603800">
            <a:off x="1603080" y="847800"/>
            <a:ext cx="360360" cy="12970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Стрелка вниз 4"/>
          <p:cNvSpPr/>
          <p:nvPr/>
        </p:nvSpPr>
        <p:spPr>
          <a:xfrm rot="19757400">
            <a:off x="6810120" y="798120"/>
            <a:ext cx="360360" cy="12970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Стрелка вниз 5"/>
          <p:cNvSpPr/>
          <p:nvPr/>
        </p:nvSpPr>
        <p:spPr>
          <a:xfrm rot="1168800">
            <a:off x="2426760" y="965160"/>
            <a:ext cx="360360" cy="25192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Стрелка вниз 6"/>
          <p:cNvSpPr/>
          <p:nvPr/>
        </p:nvSpPr>
        <p:spPr>
          <a:xfrm>
            <a:off x="4067280" y="1197000"/>
            <a:ext cx="360360" cy="34560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Стрелка вниз 7"/>
          <p:cNvSpPr/>
          <p:nvPr/>
        </p:nvSpPr>
        <p:spPr>
          <a:xfrm rot="20547000">
            <a:off x="5664240" y="1009440"/>
            <a:ext cx="358560" cy="251928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2"/>
          <p:cNvSpPr/>
          <p:nvPr/>
        </p:nvSpPr>
        <p:spPr>
          <a:xfrm>
            <a:off x="324000" y="222552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УССКИЙ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116000" y="3546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2771640" y="48690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ЗОБРАЗИТЕЛЬНОЕ ИСКУС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Box 11"/>
          <p:cNvSpPr/>
          <p:nvPr/>
        </p:nvSpPr>
        <p:spPr>
          <a:xfrm>
            <a:off x="5280120" y="3789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КРУЖАЮЩИЙ МИ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12"/>
          <p:cNvSpPr/>
          <p:nvPr/>
        </p:nvSpPr>
        <p:spPr>
          <a:xfrm>
            <a:off x="6588000" y="2270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900000" y="1341360"/>
            <a:ext cx="712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Продуманная и целенаправленная работа с текстом позволяет добывать ребёнку из большого объема информации нужную и полезную, а также приобретать социально – нравственный опыт и заставляет думать, познавая окружающий мир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Georgia"/>
              </a:rPr>
              <a:t>Заключение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6" name="Рисунок 1" descr=""/>
          <p:cNvPicPr/>
          <p:nvPr/>
        </p:nvPicPr>
        <p:blipFill>
          <a:blip r:embed="rId1"/>
          <a:stretch/>
        </p:blipFill>
        <p:spPr>
          <a:xfrm>
            <a:off x="4932360" y="3981600"/>
            <a:ext cx="3606840" cy="240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9" name="Picture 4" descr="Фон 20"/>
          <p:cNvPicPr/>
          <p:nvPr/>
        </p:nvPicPr>
        <p:blipFill>
          <a:blip r:embed="rId1"/>
          <a:srcRect l="31619" t="56261" r="22262" b="12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WordArt 5"/>
          <p:cNvSpPr txBox="1"/>
          <p:nvPr/>
        </p:nvSpPr>
        <p:spPr>
          <a:xfrm rot="20341200">
            <a:off x="250920" y="1125360"/>
            <a:ext cx="7057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0a22e"/>
                  </a:solidFill>
                  <a:miter/>
                </a:ln>
                <a:solidFill>
                  <a:srgbClr val="f0a22e"/>
                </a:solidFill>
                <a:latin typeface="Georgia"/>
              </a:rPr>
              <a:t>Спасибо за внимание !</a:t>
            </a:r>
            <a:endParaRPr b="0" lang="en-US" sz="1800" spc="1" strike="noStrike">
              <a:ln w="9360">
                <a:solidFill>
                  <a:srgbClr val="f0a22e"/>
                </a:solidFill>
                <a:miter/>
              </a:ln>
              <a:solidFill>
                <a:srgbClr val="f0a22e"/>
              </a:solidFill>
              <a:latin typeface="Georgia"/>
              <a:ea typeface="Georgia"/>
            </a:endParaRPr>
          </a:p>
        </p:txBody>
      </p:sp>
      <p:sp>
        <p:nvSpPr>
          <p:cNvPr id="441" name="WordArt 6"/>
          <p:cNvSpPr txBox="1"/>
          <p:nvPr/>
        </p:nvSpPr>
        <p:spPr>
          <a:xfrm>
            <a:off x="324000" y="5373720"/>
            <a:ext cx="835164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0a22e"/>
                  </a:solidFill>
                  <a:miter/>
                </a:ln>
                <a:solidFill>
                  <a:srgbClr val="f0a22e"/>
                </a:solidFill>
                <a:latin typeface="Georgia"/>
              </a:rPr>
              <a:t>Творческих успехов !</a:t>
            </a:r>
            <a:endParaRPr b="0" lang="en-US" sz="1800" spc="1" strike="noStrike">
              <a:ln w="9360">
                <a:solidFill>
                  <a:srgbClr val="f0a22e"/>
                </a:solidFill>
                <a:miter/>
              </a:ln>
              <a:solidFill>
                <a:srgbClr val="f0a22e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4920" y="333360"/>
            <a:ext cx="8686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253800" indent="-25380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Georgia"/>
              </a:rPr>
              <a:t>Читать – это ещё ничего не значит: что читать и как понимать читаемое – вот в чём главное дело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538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990000"/>
                </a:solidFill>
                <a:latin typeface="Georgia"/>
              </a:rPr>
              <a:t>	</a:t>
            </a:r>
            <a:r>
              <a:rPr b="0" lang="ru-RU" sz="4000" spc="-1" strike="noStrike">
                <a:solidFill>
                  <a:srgbClr val="990000"/>
                </a:solidFill>
                <a:latin typeface="Georgia"/>
              </a:rPr>
              <a:t>	</a:t>
            </a:r>
            <a:r>
              <a:rPr b="0" lang="ru-RU" sz="4000" spc="-1" strike="noStrike">
                <a:solidFill>
                  <a:srgbClr val="990000"/>
                </a:solidFill>
                <a:latin typeface="Georgia"/>
              </a:rPr>
              <a:t>	</a:t>
            </a:r>
            <a:r>
              <a:rPr b="0" lang="ru-RU" sz="4000" spc="-1" strike="noStrike">
                <a:solidFill>
                  <a:srgbClr val="990000"/>
                </a:solidFill>
                <a:latin typeface="Georgia"/>
              </a:rPr>
              <a:t>	</a:t>
            </a:r>
            <a:r>
              <a:rPr b="0" lang="ru-RU" sz="4000" spc="-1" strike="noStrike">
                <a:solidFill>
                  <a:srgbClr val="990000"/>
                </a:solidFill>
                <a:latin typeface="Georgia"/>
              </a:rPr>
              <a:t>	</a:t>
            </a:r>
            <a:r>
              <a:rPr b="0" lang="ru-RU" sz="4000" spc="-1" strike="noStrike">
                <a:solidFill>
                  <a:srgbClr val="990000"/>
                </a:solidFill>
                <a:latin typeface="Georgia"/>
              </a:rPr>
              <a:t>	</a:t>
            </a:r>
            <a:r>
              <a:rPr b="0" lang="ru-RU" sz="4000" spc="-1" strike="noStrike">
                <a:solidFill>
                  <a:srgbClr val="990000"/>
                </a:solidFill>
                <a:latin typeface="Georgia"/>
              </a:rPr>
              <a:t>            </a:t>
            </a:r>
            <a:r>
              <a:rPr b="1" i="1" lang="ru-RU" sz="4000" spc="-1" strike="noStrike">
                <a:solidFill>
                  <a:srgbClr val="990000"/>
                </a:solidFill>
                <a:latin typeface="Georgia"/>
              </a:rPr>
              <a:t>К.Д.Ушинский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Рисунок 1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436716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6264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Georgia"/>
              </a:rPr>
              <a:t>Цель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Georgia"/>
              </a:rPr>
              <a:t>формирование читательской компетентности младшего школьника, осознание себя как грамотного читателя, способного к творческой деятель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5640" y="457200"/>
            <a:ext cx="823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Georgia"/>
              </a:rPr>
              <a:t>Задачи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Georgia"/>
              </a:rPr>
              <a:t>развивать универсальные учебные действия - способности личности к саморазвитию и самосовершенствованию путем сознательного и активного присвоения нового социального опыт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Georgia"/>
              </a:rPr>
              <a:t>формировать предметные универсальные учебные действия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55640" y="457200"/>
            <a:ext cx="823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1f1f"/>
                </a:solidFill>
                <a:latin typeface="Georgia"/>
              </a:rPr>
              <a:t>Читательская компетентность определяется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владением техникой чтени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приёмами понимания прочитанного и прослушанного произведени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умение работать с текстам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знанием книг и умением их самостоятельно выбира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сформированностью духовной потребности в книге как средстве познания мира и самопознания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Нахождение информац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Интерпретация текс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Рефлексия на содержание текста или его форму и их оцен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ad1f1f"/>
                </a:solidFill>
                <a:latin typeface="Georgia"/>
              </a:rPr>
              <a:t>Применение знаний при работе с текстом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1f1f"/>
                </a:solidFill>
                <a:latin typeface="Georgia"/>
              </a:rPr>
              <a:t>Виды работы с текстом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всего текст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, деление на смысловые части. Составление план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по готовому план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, после чтения пересказыва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учеником нового текста, заранее подготовленного дом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восстановление деформированного текст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инсценирование текста или отрывк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выборочное чтение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в лица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1f1f"/>
                </a:solidFill>
                <a:latin typeface="Georgia"/>
              </a:rPr>
              <a:t>Виды работы с текстом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«жужжащее чтение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цепочкой по предложению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абзацам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с пометкам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с остановкам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по группа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поисковое чте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комбинированное чте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«живая картинка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с целью нахождения подходящего отрывка к рисунку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1f1f"/>
                </a:solidFill>
                <a:latin typeface="Georgia"/>
              </a:rPr>
              <a:t>Виды работы с текстом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с целью нахождения отрывка, который поможет ответить на вопрос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нахождение предложения или отрывка, отражающего главную мысль текст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нахождение и чтение образных слов и описан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нахождение и чтение слов с логическим ударение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вычленения слов из текста к предложенной схеме, например: чк, ч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кто быстрее в тексте найдет слово на определённое правил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нахождение самого длинного слова в текст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7:52:47Z</dcterms:created>
  <dc:creator>pupil</dc:creator>
  <dc:description/>
  <dc:language>en-US</dc:language>
  <cp:lastModifiedBy>Учитель</cp:lastModifiedBy>
  <dcterms:modified xsi:type="dcterms:W3CDTF">2015-02-05T10:28:44Z</dcterms:modified>
  <cp:revision>53</cp:revision>
  <dc:subject/>
  <dc:title>Слайд 1</dc:title>
</cp:coreProperties>
</file>