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068-9309-47B9-A4DA-C86CB64B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335-2483-4874-AF34-1C9759A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A30-057C-4C6A-BB4B-0C99D41A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5CF-593C-4B97-A2D8-101495A0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D08-E381-4F01-9660-D50C5593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B5E-C15E-4776-95A6-1712CE5C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A41-F50E-40CA-9E88-FBB4108E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9A3-6BEC-4C41-A4C9-1874DC99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B28-F4A8-46AE-9241-1F43CB9E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68C-C23A-47DC-863E-1FD814EF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D81-E102-41BF-8FE8-A558011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EE7-E433-4083-BFA5-E3145A1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C94D-E4AB-4519-B926-C8408A8C9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nteer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ur t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olunteer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expressions and guess what the video will be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7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ss-country running 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ort against terro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idea and the ai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attract /draw public at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draw people into social 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solve ecological 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o 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российский кросс нац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рт против терро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лавная идея и ц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влечь внимание обществ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влечь к общественной рабо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шить экологические пробл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щита эколог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the video and answer the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en was the marathon and w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at was it’s main idea and a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many people took part i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How old were the runn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Who organized the ev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What is the difference between the social activities of authorities and volunte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What can we do to have our town more comfortable and convenient to do sports and rela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can we raise money for char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Look through the words and guess what the film will be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757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cal authorit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nge for the bet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a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bank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allation of gas in towns and vill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mshack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ll into disrepa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wn improv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ные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менить к лучше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р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береж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зификация городов и сё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тх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ветшать, прийти в негод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агоустройство го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Fill in the gap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Our town has…for the better since 19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Zhigulevsk … are better than even in Togliat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The … of the Volga has become the favourite place to relax for many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A lot of … houses fell into disrepair and it was necessary to build new buil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The town … began in 1994s thanks to our local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See the video and find out tr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lse (F) stat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The roads in Zhigulevsk were better in 2004 than in 19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The local authorities did less for the town improvement than volunt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The local authorities began the installation of gas in towns and vill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The volunteers must rebuild ramshackle ho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The town improvement began in 198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the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What is the difference between the activities of authorities and volunte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What can we do to have our town clean and ti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28592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tirement h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using e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rity 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hairdresser’s/barber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tax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center of rehabil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derly 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ldren/people/animals in n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bled 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vironmental protec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м престарел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лой микрорайо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й магаз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ая парикмахе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ое такс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о-реабилитационный цент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жил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уждающиеся  дети/люди/живот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юди с ограниченными возможностя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храна окружающей сре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Fill in the gap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bers of the … … are bored on Sun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The … …. has no place for teenagers to 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The … of the Volga has become the favourite place to relax for many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A lot of … houses fell into disrepair and it was necessary to build new buil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There isn’t a … shop in the town for People in N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See the video and find out tr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lse (F) stat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There is only one social hairdresser shop in Zhigulev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The local authorities did much for the town improvement for elderly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The local authorities organized three social taxis for disable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The volunteers can help in the retirement h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There is no transport for elderly and disable people in Zhigulev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What is the difference between the social activities of authorities and volunte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What can we do to have our town comfortable and convenient for old, disable people and people in difficult conditions of daily li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1:51:04Z</dcterms:created>
  <dc:creator>Людмила</dc:creator>
  <dc:description/>
  <dc:language>en-US</dc:language>
  <cp:lastModifiedBy>Людмила</cp:lastModifiedBy>
  <dcterms:modified xsi:type="dcterms:W3CDTF">2012-01-31T20:13:37Z</dcterms:modified>
  <cp:revision>23</cp:revision>
  <dc:subject/>
  <dc:title>Volunteers 1</dc:title>
</cp:coreProperties>
</file>