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EB445-9A02-4449-8DD5-15496572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EB886-BE94-4533-B2F3-D2ACE06A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FBD15-8862-4B3A-803D-B876A009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1ACB6-BFB3-46E5-AA1F-4EF0A4AA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50E3-95C1-4B23-AA5C-621FC310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64E6-527C-4E77-B149-F0D9FB6C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E97B-4AEC-4343-8D6D-F1A09A54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9C65-E157-4711-A67A-0E777E31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BEEA-611F-4123-8071-535EB2EC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FC97-162D-48D5-907F-1B0011D9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2B83-2E65-4CBF-AC2B-2C6A6403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3F382-ADF8-4B45-9D3A-391F33CF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1DD5-280E-4488-9B93-A919EF77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3075-DC78-40AD-A4EF-6FC44EAB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7EBC-5936-40DE-BEFE-2FF3CE1C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5329-B72F-4F35-9DED-B1645CDC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BB09-1A44-48D1-9FEE-49D06D65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76F84-A1E0-49B2-B620-2414E5C1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43C7-65A6-4A97-9A1C-DDC7F912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DFAB-F21E-44C9-BC0E-4BC71785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C196C-B882-4DA1-BF18-2A896326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13CB-6DEE-4BD9-BEC9-4A64E525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00E6-12C0-4A4C-9827-61F21C77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930F8-22D1-4828-B3FA-9643B533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8019-C9FB-4831-A89A-26691CF773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2BA7-E00D-49C0-8E8C-D798D966C8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Возрастные особенности детей 5-6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витие лич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является произвольность психических проце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пособность управлять своим повед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няется представление ребёнка о себе (образ 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верстники приобретают серьёзное значение для ребё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игровой деятельности распределение ролей до начала игры, игровое взаимодействие сопровождается реч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IMG_0012"/>
          <p:cNvPicPr/>
          <p:nvPr/>
        </p:nvPicPr>
        <p:blipFill>
          <a:blip r:embed="rId1"/>
          <a:stretch/>
        </p:blipFill>
        <p:spPr>
          <a:xfrm>
            <a:off x="4495680" y="1981080"/>
            <a:ext cx="4191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витие психических процес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сприяти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ершенствуется восприятие цвета, формы, велич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имани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величивается устойчивость внимания, развивается способность к его распределению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мять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ль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ление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родолжает развиваться образное мышление, дети способны решать задачу в уме, совершенствуется способность к обобщ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расцвет фантаз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чь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овершенствуется звуковая сторона речи, фонематический слух, интонационная выразительность, грамматический строй, богаче становится лексика и развивается связная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Физиологические особеннос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 5-7 лет называют часто «периодом первого вытяжения» когда ребёнок может вырасти на 7-10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едний рост ребёнка 5 лет составляет 106-107 см, а масса тела-17-18 к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блюдается незавершённость строения стопы 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язи с этим необходимо предупреждать появление и закрепление у ребёнка плоскостоп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развита крупные мышцы туловища и конечностей, но слабы мелкие мышцы, особенно кистей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Особенности общ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ошкольном возрасте в жизнь ребёнка прочно и уже навсегда входят другие дети-сверстники. Между ними строятся отношения. Они дружат, ссорятся, мирятся, обижаются, ревнуют, помогают друг другу, а иногда «делают мелкие пакости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демонстрируют свои преимущества,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тском обще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является конкурентное, соревновательное нача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любой деятельности дети пристально и ревниво наблюдают за действиями сверстников, оценивают их и сравнивают  со своими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этом возрасте возникают такие тяжёлые переживания, как зависть, ревность, обида на  сверстника. Это конечно же осложняет отношени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очень страдают, если кто-то в чём-то их превосходит. Важно вовремя «притормозить» надвигающийся вал зависти, ревности и хвастовства. Это возможно сделать через совместн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Ролевая 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это время игра становится коллективной- дети предпочитают играть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Главное общее дело или деловое сотрудни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У каждого своя 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Здесь нет повода соревноваться и конкурировать-есть обще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Главное результат, которого мы достигаем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ихолог</cp:lastModifiedBy>
  <dcterms:modified xsi:type="dcterms:W3CDTF">2015-02-05T09:02:4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