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DCDC-7410-44AE-97F7-A3522E9F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3E34-0114-4352-A995-D7CE7406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8C20-FE23-420F-9CEF-A9114043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7CD5-C6DB-4BE7-82CE-D92D1B10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05B1-2D94-4BCB-980B-4ABD6C7F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98D7-0080-40F2-92B7-9B17B1B2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B756-C0C3-43FE-9A6C-5DF8861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A22E-B556-4A71-8BFD-803C17EC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91D-3975-421D-9A1F-41F6FBA6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B46-C1D4-4147-9F09-ED6E674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76C8-5F70-47AB-9C10-CEED306B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0CBD-329A-4B42-9F91-CD956577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2FCC-F431-4B56-8F3C-98D6EDF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5F9-BF1A-4A64-A233-7162C9B8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C24F-E622-4466-987C-4E441B9F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C171-564A-4F38-B81B-FA4EE553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D175-5E92-45DB-A5A4-CA349899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6DF1-560D-4460-9197-83538F14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C76D-BC87-4999-B336-88AD1447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1704-F93A-401B-B625-3DD020AB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6FA2-5888-45E3-8F28-0A00F8D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6D4E-FAFB-4B94-AFEA-D0AB9998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5AA6-3070-496E-8820-4BB2B15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289B-4970-41A1-90B1-2F9EC6C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2083-E7CA-4B98-A2A4-6B8E32932D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EB3D-48DB-4A4D-8146-298E753E1D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озрастные особенности детей 5-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лич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является произвольность психически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особность управлять своим пове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няется представление ребёнка о себе (образ 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рстники приобретают серьёзное значение для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игровой деятельности распределение ролей до начала игры, игровое взаимодействие сопровождается реч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IMG_0012"/>
          <p:cNvPicPr/>
          <p:nvPr/>
        </p:nvPicPr>
        <p:blipFill>
          <a:blip r:embed="rId1"/>
          <a:stretch/>
        </p:blipFill>
        <p:spPr>
          <a:xfrm>
            <a:off x="4495680" y="198108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ие психических 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рияти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ствуется восприятие цвета, формы, велич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величивается устойчивость внимания, развивается способность к его распределению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мять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одолжает развиваться образное мышление, дети способны решать задачу в уме, совершенствуется способность к обобщ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расцвет фант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чь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овершенствуется звуковая сторона речи, фонематический слух, интонационная выразительность, грамматический строй, богаче становится лексика и 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Физиологические особенно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 5-7 лет называют часто «периодом первого вытяжения» когда ребёнок может вырасти на 7-1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ий рост ребёнка 5 лет составляет 106-107 см, а масса тела-17-18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блюдается незавершённость строения стопы 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язи с этим необходимо предупреждать появление и закрепление у ребёнка плоскосто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развита крупные мышцы туловища и конечностей, но слабы мелкие мышцы, особенно кисте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собенности общ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школьном возрасте в жизнь ребёнка прочно и уже навсегда входят другие дети-сверстники. Между ними строятся отношения. Они дружат, ссорятся, мирятся, обижаются, ревнуют, помогают друг другу, а иногда «делают мелкие пакост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емонстрируют свои преимущества,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тском общ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является конкурентное, соревновательное нач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любой деятельности дети пристально и ревниво наблюдают за действиями сверстников, оценивают их и сравнивают  со своим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этом возрасте возникают такие тяжёлые переживания, как зависть, ревность, обида на  сверстника. Это конечно же осложняет отноше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очень страдают, если кто-то в чём-то их превосходит. Важно вовремя «притормозить» надвигающийся вал зависти, ревности и хвастовства. Это возможно сделать через совмест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олев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это время игра становится коллективной- дети предпочитают играть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лавное общее дело или деловое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У каждого своя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десь нет повода соревноваться и конкурировать-есть обще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Главное результат, которого мы достигаем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5-02-05T09:02:4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