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8FF-7EBC-4498-A074-2D296681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1D9-55AC-4D4A-92C8-F569C7B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6AC-D119-416C-AB6A-61E46D54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69F-D7CE-4BC2-995C-4823C838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F1C-07D1-4F37-9AB0-B0BAA99F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EA27-2BA7-4E48-AA5A-E79B41B0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CC72-954A-4AF1-8919-4D72F82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2A75-9AB9-4B27-B0F7-A9365656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3A19-F814-45F9-85C1-56E200D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56BA-0FA8-4C70-ABEA-7751C70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8CEF-2674-4318-A7C6-8366796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D25-D618-42A0-A592-16855820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C588-F48C-4CFF-93DC-60C5183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A32-A31C-471D-A581-B24F4DC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0C12-9262-4DAE-8407-85394EF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A041-0D40-45C8-A3B6-4223B826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DA00-7D91-4B72-B21C-ADFDFA2B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5B8-D294-43B0-8950-4EF4FF9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4AE-63D2-47CB-8B42-514B1F14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9CA-93A6-4F9E-80D6-34050EA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300-D069-4C6C-9D13-FCA37FB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BE7-DFE7-4393-A90D-B7F1259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BD2-A3B1-4FBD-A86D-D8358FB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D31-7FFA-449D-A70D-18246BB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E56-B584-471D-8AF1-69E034358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5715-34AD-4F4C-9C19-2EAE2A585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2.xml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3933360"/>
            <a:ext cx="802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реншильдт И.К.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группа 1.45.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рунз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Школа № 3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ролева О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анкт-Петербург 200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772400" y="380880"/>
            <a:ext cx="981000" cy="990720"/>
            <a:chOff x="7772400" y="380880"/>
            <a:chExt cx="981000" cy="990720"/>
          </a:xfrm>
        </p:grpSpPr>
        <p:grpSp>
          <p:nvGrpSpPr>
            <p:cNvPr id="100" name=""/>
            <p:cNvGrpSpPr/>
            <p:nvPr/>
          </p:nvGrpSpPr>
          <p:grpSpPr>
            <a:xfrm>
              <a:off x="7772400" y="380880"/>
              <a:ext cx="981000" cy="990720"/>
              <a:chOff x="7772400" y="380880"/>
              <a:chExt cx="981000" cy="99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7894800" y="513000"/>
                <a:ext cx="735840" cy="7264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772400" y="380880"/>
                <a:ext cx="981000" cy="990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Circle">
                  <a:avLst>
                    <a:gd name="adj" fmla="val 1086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Impact"/>
                  </a:rPr>
                  <a:t>  </a:t>
                </a:r>
                <a:r>
                  <a:rPr b="0" lang="en-US" sz="40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Impact"/>
                  </a:rPr>
                  <a:t>*  Санкт-Петербургский ЦЕНТР ИНФОРМАЦИОННЫХ   технологий   и  телекоммуникаций</a:t>
                </a:r>
                <a:endParaRPr b="0" lang="en-US" sz="40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078760" y="645120"/>
              <a:ext cx="429120" cy="528480"/>
              <a:chOff x="8078760" y="645120"/>
              <a:chExt cx="429120" cy="52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8262720" y="909360"/>
                <a:ext cx="61200" cy="2642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78760" y="645120"/>
                <a:ext cx="429120" cy="39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 txBox="1"/>
          <p:nvPr/>
        </p:nvSpPr>
        <p:spPr>
          <a:xfrm>
            <a:off x="0" y="1484280"/>
            <a:ext cx="914400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ЗАИМНО ОБРАТНЫЕ ФУНКЦИ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g x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tg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324000" y="1844640"/>
            <a:ext cx="4319280" cy="4608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-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ин- терва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возрастает. ОЗФ – множеств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arc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 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96000" y="2637000"/>
            <a:ext cx="2448000" cy="923400"/>
            <a:chOff x="6696000" y="2637000"/>
            <a:chExt cx="2448000" cy="923400"/>
          </a:xfrm>
        </p:grpSpPr>
        <p:sp>
          <p:nvSpPr>
            <p:cNvPr id="168" name=""/>
            <p:cNvSpPr/>
            <p:nvPr/>
          </p:nvSpPr>
          <p:spPr>
            <a:xfrm>
              <a:off x="6696000" y="26370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-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;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200720" y="3159720"/>
              <a:ext cx="1336680" cy="400680"/>
              <a:chOff x="7200720" y="3159720"/>
              <a:chExt cx="1336680" cy="400680"/>
            </a:xfrm>
          </p:grpSpPr>
          <p:sp>
            <p:nvSpPr>
              <p:cNvPr id="170" name=""/>
              <p:cNvSpPr/>
              <p:nvPr/>
            </p:nvSpPr>
            <p:spPr>
              <a:xfrm>
                <a:off x="8064360" y="3161520"/>
                <a:ext cx="473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00720" y="3161520"/>
                <a:ext cx="39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16920" y="3159720"/>
                <a:ext cx="39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0720" y="3161520"/>
                <a:ext cx="473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tg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rcctg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c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омежутке (0;</a:t>
            </a:r>
            <a:r>
              <a:rPr b="0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убыв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ЗФ  множеств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ной является функция 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rcctg 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5003640" y="1628640"/>
            <a:ext cx="3961080" cy="46800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чет по теме </a:t>
            </a:r>
            <a:br>
              <a:rPr sz="40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Взаимно обратные функц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опрос №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опрос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Вопрос №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Вопрос №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Вопрос №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5084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084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ки взаимно обратных функций расположены в системе координат симметрично относитель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716280"/>
            <a:ext cx="3024360" cy="10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Нач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коорди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1332000" y="5300640"/>
            <a:ext cx="302400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Прямой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5" action="ppaction://hlinksldjump"/>
              </a:rPr>
              <a:t>у=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5229360"/>
            <a:ext cx="2736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6" action="ppaction://hlinksldjump"/>
              </a:rPr>
              <a:t>Оси</a:t>
            </a: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 Black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8" action="ppaction://hlinksldjump"/>
              </a:rPr>
              <a:t>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9" action="ppaction://hlinksldjump"/>
          </p:cNvPr>
          <p:cNvSpPr/>
          <p:nvPr/>
        </p:nvSpPr>
        <p:spPr>
          <a:xfrm>
            <a:off x="5651640" y="3860640"/>
            <a:ext cx="280800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0" action="ppaction://hlinksldjump"/>
              </a:rPr>
              <a:t>Оси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1" action="ppaction://hlinksldjump"/>
              </a:rPr>
              <a:t>OX</a:t>
            </a: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 Black"/>
                <a:hlinkClick r:id="rId12" action="ppaction://hlinksldjump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3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вязанны область определения исходной и область значений обратной функ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4869000"/>
            <a:ext cx="2952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941720"/>
            <a:ext cx="28814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Независим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функция является обратной к логарифмической функ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3789360"/>
            <a:ext cx="316872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Степ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5157720"/>
            <a:ext cx="316872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Линей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5157720"/>
            <a:ext cx="3311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3" action="ppaction://hlinksldjump"/>
              </a:rPr>
              <a:t>Квадрати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3789360"/>
            <a:ext cx="324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Показ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прос №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arcctg x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обратной для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1547640" y="3933720"/>
            <a:ext cx="273708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y=sin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373720"/>
            <a:ext cx="273672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3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tg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5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5445000"/>
            <a:ext cx="27367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6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7" action="ppaction://hlinksldjump"/>
              </a:rPr>
              <a:t>ctg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8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3933720"/>
            <a:ext cx="27367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9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0" action="ppaction://hlinksldjump"/>
              </a:rPr>
              <a:t>cos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1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 «Взаимно обратные функции»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084640"/>
            <a:ext cx="324000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Элементар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5084640"/>
            <a:ext cx="331308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оей люби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500280"/>
            <a:ext cx="331164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Лег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26920" y="3500280"/>
            <a:ext cx="28814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нят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ра! Ура! Ур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324000" y="1557360"/>
            <a:ext cx="3673440" cy="1728720"/>
          </a:xfrm>
          <a:prstGeom prst="wedgeEllipseCallout">
            <a:avLst>
              <a:gd name="adj1" fmla="val -63875"/>
              <a:gd name="adj2" fmla="val 6368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олодец, учены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8244000" y="602136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3794" y="9024"/>
                </a:moveTo>
                <a:lnTo>
                  <a:pt x="7301" y="9024"/>
                </a:lnTo>
                <a:lnTo>
                  <a:pt x="7301" y="14360"/>
                </a:lnTo>
                <a:cubicBezTo>
                  <a:pt x="7301" y="15282"/>
                  <a:pt x="8102" y="16014"/>
                  <a:pt x="9138" y="16014"/>
                </a:cubicBezTo>
                <a:lnTo>
                  <a:pt x="10800" y="16014"/>
                </a:lnTo>
                <a:cubicBezTo>
                  <a:pt x="11836" y="16014"/>
                  <a:pt x="12636" y="15282"/>
                  <a:pt x="12636" y="14360"/>
                </a:cubicBezTo>
                <a:lnTo>
                  <a:pt x="12636" y="9024"/>
                </a:lnTo>
                <a:lnTo>
                  <a:pt x="10800" y="9024"/>
                </a:lnTo>
                <a:lnTo>
                  <a:pt x="14308" y="5517"/>
                </a:lnTo>
                <a:lnTo>
                  <a:pt x="17981" y="9024"/>
                </a:lnTo>
                <a:lnTo>
                  <a:pt x="16144" y="9024"/>
                </a:lnTo>
                <a:lnTo>
                  <a:pt x="16144" y="14360"/>
                </a:lnTo>
                <a:cubicBezTo>
                  <a:pt x="16144" y="17128"/>
                  <a:pt x="13568" y="19686"/>
                  <a:pt x="10800" y="19686"/>
                </a:cubicBezTo>
                <a:lnTo>
                  <a:pt x="9138" y="19686"/>
                </a:lnTo>
                <a:cubicBezTo>
                  <a:pt x="6370" y="19686"/>
                  <a:pt x="3794" y="17128"/>
                  <a:pt x="3794" y="1436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 неверн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51280" cy="3035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72908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H="1">
            <a:off x="1834560" y="2421000"/>
            <a:ext cx="3600360" cy="1439640"/>
          </a:xfrm>
          <a:prstGeom prst="wedgeEllipseCallout">
            <a:avLst>
              <a:gd name="adj1" fmla="val -76106"/>
              <a:gd name="adj2" fmla="val 644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овтори с начал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7640" y="148392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692280"/>
            <a:ext cx="8135640" cy="43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42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Показательная и логарифмическая функция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00360" y="1557360"/>
            <a:ext cx="3168720" cy="359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4437000"/>
            <a:ext cx="874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Тригонометрические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47640" y="4653000"/>
            <a:ext cx="165600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683640" y="2060640"/>
            <a:ext cx="4679640" cy="1800000"/>
          </a:xfrm>
          <a:prstGeom prst="wedgeEllipseCallout">
            <a:avLst>
              <a:gd name="adj1" fmla="val -74152"/>
              <a:gd name="adj2" fmla="val -1499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Я возмущен твоим ответ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7493"/>
                </a:moveTo>
                <a:lnTo>
                  <a:pt x="9137" y="7493"/>
                </a:lnTo>
                <a:lnTo>
                  <a:pt x="9137" y="12828"/>
                </a:lnTo>
                <a:cubicBezTo>
                  <a:pt x="9137" y="13751"/>
                  <a:pt x="9938" y="14482"/>
                  <a:pt x="10974" y="14482"/>
                </a:cubicBezTo>
                <a:lnTo>
                  <a:pt x="12636" y="14482"/>
                </a:lnTo>
                <a:cubicBezTo>
                  <a:pt x="13672" y="14482"/>
                  <a:pt x="14472" y="13751"/>
                  <a:pt x="14472" y="12828"/>
                </a:cubicBezTo>
                <a:lnTo>
                  <a:pt x="14472" y="7493"/>
                </a:lnTo>
                <a:lnTo>
                  <a:pt x="12636" y="7493"/>
                </a:lnTo>
                <a:lnTo>
                  <a:pt x="16144" y="3985"/>
                </a:lnTo>
                <a:lnTo>
                  <a:pt x="19817" y="7493"/>
                </a:lnTo>
                <a:lnTo>
                  <a:pt x="17980" y="7493"/>
                </a:lnTo>
                <a:lnTo>
                  <a:pt x="17980" y="12828"/>
                </a:lnTo>
                <a:cubicBezTo>
                  <a:pt x="17980" y="15596"/>
                  <a:pt x="15404" y="18155"/>
                  <a:pt x="12636" y="18155"/>
                </a:cubicBezTo>
                <a:lnTo>
                  <a:pt x="10974" y="18155"/>
                </a:lnTo>
                <a:cubicBezTo>
                  <a:pt x="8206" y="18155"/>
                  <a:pt x="5630" y="15596"/>
                  <a:pt x="563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лич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87280" y="1916280"/>
            <a:ext cx="648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ебра и начала анализа: Учеб. для 10-11 кл. общеобразоват. учреждений / Ш.А. Алимов, Ю.М. Колягин, Ю.В. Сидоров и др. – 12-е изд. – М.: Просвещение, 2004. – 384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алгебры и начал анализа в 10-11 классах: Кн. для учителя / Н.Е. Федорова, М.В. Ткачева. – 2-е изд. – М. : Просвещение, 2004. – 205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е материалы по алгебре и началам анализа для 10 класса: Пособие для учителя / Б.М. Ивлев, С.М. Саакян, С.И. Шварцбурд. – 2-е изд., перераб. – М.: Просвещение, 1998. -143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ки обратных тригонометрических функций http://chernovskoe.narod.ru/tema13.ht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5672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Основные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ример урав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Графики обратных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Показательная и логарифмическая фун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Функции синус и арксин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Функции косинус и арккосин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Функции тангенс и арктан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Функции котангенс и арккотан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9" action="ppaction://hlinksldjump"/>
              </a:rPr>
              <a:t>Зачет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522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734080"/>
            <a:ext cx="2736720" cy="863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ратимая функ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функци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=f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каждое свое значение только при одном значени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о эту функцию называют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брати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акой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и можно выразить обратную зависимость значений аргумента от значений фун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мер построения функции, обратной данн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7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ны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а функция  у=3х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тноситель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им х на у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) и (2) взаимно обра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844280"/>
            <a:ext cx="38876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=f (x)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ратимая фун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а функц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= g 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им х на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=f (x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        у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g(x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заимно обра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87280" y="4581360"/>
                <a:ext cx="2303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3500280"/>
                <a:ext cx="2160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Графики обратных функц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ОФ     ОЗ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ЗФ      ОО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            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0160"/>
            <a:ext cx="394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-1010880" y="-935280"/>
            <a:ext cx="8048160" cy="9020880"/>
            <a:chOff x="-1010880" y="-935280"/>
            <a:chExt cx="8048160" cy="9020880"/>
          </a:xfrm>
        </p:grpSpPr>
        <p:sp>
          <p:nvSpPr>
            <p:cNvPr id="128" name=""/>
            <p:cNvSpPr/>
            <p:nvPr/>
          </p:nvSpPr>
          <p:spPr>
            <a:xfrm>
              <a:off x="3944880" y="4179960"/>
              <a:ext cx="48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013120" y="2192400"/>
              <a:ext cx="0" cy="382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454200">
              <a:off x="-654840" y="-757800"/>
              <a:ext cx="3059640" cy="560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38" y="41"/>
                  </a:moveTo>
                  <a:arcTo wR="10800" hR="10800" stAng="-5100894" swAng="49481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38" y="41"/>
                  </a:moveTo>
                  <a:arcTo wR="10800" hR="10800" stAng="-5100894" swAng="494814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 rot="4143600">
              <a:off x="2306160" y="3102480"/>
              <a:ext cx="3645000" cy="48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36" y="140"/>
                  </a:moveTo>
                  <a:arcTo wR="10800" hR="10800" stAng="-4844995" swAng="5706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36" y="140"/>
                  </a:moveTo>
                  <a:arcTo wR="10800" hR="10800" stAng="-4844995" swAng="5706044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26560" y="2349360"/>
              <a:ext cx="3024360" cy="331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9360" y="1936800"/>
              <a:ext cx="48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27640" y="220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3213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121360" y="3598920"/>
            <a:ext cx="2944800" cy="23922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казательная и логарифмическая функ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87280" y="809640"/>
          <a:ext cx="5616720" cy="60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09640"/>
                    <a:ext cx="5616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4640" y="4724280"/>
            <a:ext cx="13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83920" y="18446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03760" y="33577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2200" y="1565280"/>
            <a:ext cx="1100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3280" y="2276640"/>
            <a:ext cx="960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&gt;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n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rcsin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sin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трез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возрастает. ОЗ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-1;1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 у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sin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sin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5076720" y="1413000"/>
            <a:ext cx="4067280" cy="475272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0360" y="2781360"/>
            <a:ext cx="1893600" cy="758880"/>
            <a:chOff x="2700360" y="2781360"/>
            <a:chExt cx="1893600" cy="758880"/>
          </a:xfrm>
        </p:grpSpPr>
        <p:sp>
          <p:nvSpPr>
            <p:cNvPr id="154" name=""/>
            <p:cNvSpPr/>
            <p:nvPr/>
          </p:nvSpPr>
          <p:spPr>
            <a:xfrm>
              <a:off x="2700360" y="2781360"/>
              <a:ext cx="189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[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Black"/>
                </a:rPr>
                <a:t>-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ru-RU" sz="4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Black"/>
                </a:rPr>
                <a:t>;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ru-RU" sz="4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2960" y="3141360"/>
              <a:ext cx="311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3880" y="3141360"/>
              <a:ext cx="38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2960" y="3141360"/>
              <a:ext cx="3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53880" y="3141360"/>
              <a:ext cx="31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s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cos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392720" cy="4824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у=с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0;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убывает. ОЗФ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-1;1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arcco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у=с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0:16:21Z</dcterms:created>
  <dc:creator>4.41.36</dc:creator>
  <dc:description/>
  <dc:language>en-US</dc:language>
  <cp:lastModifiedBy>4.41.36</cp:lastModifiedBy>
  <dcterms:modified xsi:type="dcterms:W3CDTF">2006-03-22T16:29:11Z</dcterms:modified>
  <cp:revision>32</cp:revision>
  <dc:subject/>
  <dc:title>Взаимообратные функции</dc:title>
</cp:coreProperties>
</file>