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D16-E4A4-42FA-A6FC-B392A27A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23EB-51E4-452F-9FC8-A99EBB4A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F4E-31C5-430A-B459-D0BA9A38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962D-1728-4658-A387-E24A7FA1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0CC4-F183-4F23-9B04-8E982E97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7951-A0C7-4349-B3EB-69F3B653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3481-C6DC-48E9-958A-D6D2C8DD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B3F5-4EA1-406A-9D2B-14437FEE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00EF-827E-47A5-9569-75B8EAE8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C1D9-8B0F-406A-9978-42C108D8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A0A4-7509-41DE-BDE1-221894AE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3C7-BF41-4905-AF48-21DC4800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E58A-0EA7-4198-97D0-D962FC0B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62A1-F8AF-4E5A-A01F-457243DF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A1E4-E52F-49AB-9DAE-10BBBDFE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7332-476C-4E57-8EAF-FA4D29B3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355C-FF03-42B6-92D7-CAC9F5EE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4D62-40F2-4AF5-971B-EBA4A049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173-2645-43AC-98B9-6040788B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0C05-0216-47D7-9E86-749B54D1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8D1-84AB-48AA-A0DC-B3C4FB95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987-02A4-4644-B62E-D35F42C3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F567-DD52-4613-BF73-B3CEDBE5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007-E28C-48B9-8A04-748145E0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A672-EBA7-46EE-BED5-1E9A53A72B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1BB7-3EF0-495B-8261-2B73379C11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98984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onotype Corsiva"/>
              </a:rPr>
              <a:t>Зеленый пояс Славы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2492280"/>
            <a:ext cx="403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Нестерова Катерина 9 «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3068640"/>
            <a:ext cx="590544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«Январский гром»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мориал был сооружен в 1968 году в районе 19 километра Гостилицкого шоссе, на месте, где с 1941 года проходила граница ораниенбаумского плацдарма, а 14 января 1944 года началась советская наступательная операция «Январский гром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Скульптор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Г.В. Беляе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Архитекторы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.В. Устинович, А.Е. Ривки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349560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«Январский гром»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етонный пилон высотой 8 метров с мемориальной доской и барельефами защитников Ленинграда установлен на естественном холме, с которого после продолжительной артиллерийской подготовки 131-й дивизии под командованием полковника Романенко прорвала оборону против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день начала войны, 22 июня, у мемориала проводится торжественное перезахоронение останков воинов, найденных поисковыми отряд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700360" y="357336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«Стальной путь»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емориал сооружен в 1973 году на железнодорожной станции Петрокрепость около поселка Морозов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Авторы проекта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И.Г. Явейн, Г.Д. Гликман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амятник состоит из стелы высотой 8 метров, на которой находятся барельефы железнодорожников и мемориальная надпись, повествующая об их подвиге в 1941 - 1944  годах. Рядом со стелой установлен паровоз 1933 года построй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3097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«Сад Мира»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мориал расположен на 38-ом километре Выборгского шоссе. Открыт 5 мая 1967 год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 насыпном холме установлена стела из гранитных блоков длиной 10 метров и высотой 2,8 метров. Рядом со стелой расположены бетонные противотанковые надолб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вторы проекта: В.А. Гаврилов, Ю.А. Дьякон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484360" y="3789360"/>
            <a:ext cx="36734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onotype Corsiva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Зеленый пояс Слав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комплекс мемориальных сооружений на рубежах битвы за Ленинград в 1941 – 1944 годах, созданный в 1965 – 1968 годах с целью увековечить память героических защитников. Инициатором создания этого комплекса был Михаил Дуди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Памятники «Зеленого пояса Славы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Атака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Безымянная высота», памятн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Белый остров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Берег мужественных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Гостилицкий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Дальний рубеж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Ижорский таран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Катюша», монумен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Кировский вал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Кронштадтский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Лемболовская твердыня», мемориальный комплек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ела на месте гибели летчиков, повторивших в июле 1942 года подвиг Н. Гастел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Невский порог», мемориальный комплек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Невский пятачок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Непокоренные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Ополченцы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Приморский», мемориальный комплек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Переправа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Прорыв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Пулковский рубеж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Памятники «Зеленого пояса Славы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Разорванное кольцо», мемориальный комплек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Рубежный камень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Румболовская гора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Сад мира», памятн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Сестра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Стальной путь», памятн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Цветок Жизни», мемориальный комплек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Штурм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Якорь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Январский гром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83280" y="1752480"/>
            <a:ext cx="3205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Памятники «Зеленого пояса Славы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2975040" cy="2057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060880" y="1752480"/>
            <a:ext cx="3087720" cy="2057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042920" y="3962520"/>
            <a:ext cx="2952720" cy="2057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076720" y="3962520"/>
            <a:ext cx="3024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Памятники «Зеленого пояса Славы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71640" y="1752480"/>
            <a:ext cx="3024000" cy="2057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234040" y="17524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984240" y="3962520"/>
            <a:ext cx="3087720" cy="2057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5219640" y="400536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«Лемболовская твердыня»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ходится на рубеже, где в сентябре 1941 года части 23-й армии остановили наступление финских войс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оружен в 1967 году трудящимися Василеостровского района Ленинграда на северном берегу реки Муратов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396072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«Лемболовская твердыня»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378900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вертикальной стеле изображены барельефы матери и ребенка, на двух пилонах – даты обороны Ленинграда «1941-44» и барельеф «Фрагмент боя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Авторы проек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А.И. Гутов, Ю.М. Цариковский, Б.А. Свинин, Н.И. Сед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акже в состав мемориала входит памятник Героям Советского Союза капитану С.М. Алешину, В.А. Гончаруку, Н.А. Боброву, направившим в июле 1942 года свой горящий самолет на позицию артиллерийской батареи против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987640" y="1773360"/>
            <a:ext cx="3087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«Штурм»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мемориальных комплекс «Штурм» входят стела в поселке Ям-Ижора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установлена в 1944 году, архитектор Я.М. Зеленый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 обелиск на 29 километре Московского шоссе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установлен в 1957 году, архитектор М.К. Меликова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тела сооружена в память о подвиге воинов входивших в состав 55-й армии 268-й стрелковой дивизии, сражавшихся в июне 1942 на Ленинградском фронте между Колпино и Ям-Ижоро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елиск установлен на рубеже, где в сентябре 1941 года было остановлено наступление немецких войс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49760" y="1752480"/>
            <a:ext cx="39117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3:46:33Z</dcterms:created>
  <dc:creator> </dc:creator>
  <dc:description/>
  <dc:language>en-US</dc:language>
  <cp:lastModifiedBy> </cp:lastModifiedBy>
  <dcterms:modified xsi:type="dcterms:W3CDTF">2014-03-11T15:08:42Z</dcterms:modified>
  <cp:revision>4</cp:revision>
  <dc:subject/>
  <dc:title>Зеленый пояс Славы</dc:title>
</cp:coreProperties>
</file>