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2B52-B0E4-4801-A2F6-8F09F13E6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C68A-BC57-4219-B225-A8106D08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4500-9675-43EA-B5BC-3A90DA81E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E63F-7CD7-42D0-853E-424EC821A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8DA9-13A1-43E7-991B-695AB1B35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318BA-35FF-498D-8784-3155206E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AE55-47B9-4B52-B90B-895E1D7B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B9FF-E312-447E-B65C-04E6E2D5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A3C9-61EA-42FE-AB83-C2FDA79A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ED25-5F62-4974-9BAF-D8FB0546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6CA9-B216-4966-8450-0F5F8CC5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45F1-CFF3-4B48-93B5-F7D5A3BC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566E-12AD-404E-BA2D-CE20B366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391B7-FC1F-49F9-BDD8-C4265208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3E33-71E0-48FC-A889-1C14B499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06355-8DFD-4F48-9CEB-D6BA0DDAA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090D-EBEA-4526-8B9F-BA29E6BA3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FD41-060F-4441-838E-FC627B60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485A-605B-4E19-8FAD-0BD9DAF5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2CD0-FA2D-4E1B-93EC-669078E3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BBBB-3C3D-499C-B4F2-B2D3DCDE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1FCA-5E6C-4129-B998-A7E72DB6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98E8-6176-475C-B9AD-8EA677E9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0277-3030-4B90-BA89-1AB64A15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642C-0853-4970-B7B2-9FE2A4324F2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4C0C-BC48-468B-9F19-A3EA10C3DD5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98984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Monotype Corsiva"/>
              </a:rPr>
              <a:t>Зеленый пояс Славы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2492280"/>
            <a:ext cx="40323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Нестерова Катерина 9 «А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843280" y="3068640"/>
            <a:ext cx="590544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«Январский гром»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емориал был сооружен в 1968 году в районе 19 километра Гостилицкого шоссе, на месте, где с 1941 года проходила граница ораниенбаумского плацдарма, а 14 января 1944 года началась советская наступательная операция «Январский гром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Скульптор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Г.В. Беляе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Архитекторы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Н.В. Устинович, А.Е. Ривкин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700360" y="3789360"/>
            <a:ext cx="349560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«Январский гром»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етонный пилон высотой 8 метров с мемориальной доской и барельефами защитников Ленинграда установлен на естественном холме, с которого после продолжительной артиллерийской подготовки 131-й дивизии под командованием полковника Романенко прорвала оборону противн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день начала войны, 22 июня, у мемориала проводится торжественное перезахоронение останков воинов, найденных поисковыми отряд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700360" y="3573360"/>
            <a:ext cx="338436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«Стальной путь»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емориал сооружен в 1973 году на железнодорожной станции Петрокрепость около поселка Морозов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Авторы проекта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И.Г. Явейн, Г.Д. Гликман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амятник состоит из стелы высотой 8 метров, на которой находятся барельефы железнодорожников и мемориальная надпись, повествующая об их подвиге в 1941 - 1944  годах. Рядом со стелой установлен паровоз 1933 года постройк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042920" y="1773360"/>
            <a:ext cx="3097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«Сад Мира»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емориал расположен на 38-ом километре Выборгского шоссе. Открыт 5 мая 1967 год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 насыпном холме установлена стела из гранитных блоков длиной 10 метров и высотой 2,8 метров. Рядом со стелой расположены бетонные противотанковые надолб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вторы проекта: В.А. Гаврилов, Ю.А. Дьякон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484360" y="3789360"/>
            <a:ext cx="36734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Monotype Corsiva"/>
              </a:rPr>
              <a:t>Спасибо за внимание!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Зеленый пояс Славы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комплекс мемориальных сооружений на рубежах битвы за Ленинград в 1941 – 1944 годах, созданный в 1965 – 1968 годах с целью увековечить память героических защитников. Инициатором создания этого комплекса был Михаил Дудин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Памятники «Зеленого пояса Славы»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Атака», мемориа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Безымянная высота», памятни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Белый остров», мемориа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Берег мужественных», мемориа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Гостилицкий», мемориа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Дальний рубеж», мемориа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Ижорский таран», мемориа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Катюша», монумен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Кировский вал», мемориа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Кронштадтский», мемориа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Лемболовская твердыня», мемориальный комплек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тела на месте гибели летчиков, повторивших в июле 1942 года подвиг Н. Гастелл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Невский порог», мемориальный комплек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Невский пятачок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Непокоренные», мемориа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Ополченцы», мемориа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Приморский», мемориальный комплек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Переправа», мемориа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Прорыв», мемориа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Пулковский рубеж», мемориа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Памятники «Зеленого пояса Славы»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Разорванное кольцо», мемориальный комплек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Рубежный камень», мемориа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Румболовская гора», мемориа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Сад мира», памятни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Сестра», мемориа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Стальной путь», памятни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Цветок Жизни», мемориальный комплек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Штурм», мемориа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Якорь», мемориа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Январский гром», мемориа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183280" y="1752480"/>
            <a:ext cx="3205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Памятники «Зеленого пояса Славы»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042920" y="1773360"/>
            <a:ext cx="2975040" cy="2057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060880" y="1752480"/>
            <a:ext cx="3087720" cy="2057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042920" y="3962520"/>
            <a:ext cx="2952720" cy="2057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5076720" y="3962520"/>
            <a:ext cx="30243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Памятники «Зеленого пояса Славы»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971640" y="1752480"/>
            <a:ext cx="3024000" cy="2057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234040" y="17524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984240" y="3962520"/>
            <a:ext cx="3087720" cy="2057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5219640" y="4005360"/>
            <a:ext cx="2808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«Лемболовская твердыня»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ходится на рубеже, где в сентябре 1941 года части 23-й армии остановили наступление финских войс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ооружен в 1967 году трудящимися Василеостровского района Ленинграда на северном берегу реки Муратов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276720" y="3429000"/>
            <a:ext cx="396072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«Лемболовская твердыня»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0920" y="378900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 вертикальной стеле изображены барельефы матери и ребенка, на двух пилонах – даты обороны Ленинграда «1941-44» и барельеф «Фрагмент боя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Авторы проект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А.И. Гутов, Ю.М. Цариковский, Б.А. Свинин, Н.И. Седо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акже в состав мемориала входит памятник Героям Советского Союза капитану С.М. Алешину, В.А. Гончаруку, Н.А. Боброву, направившим в июле 1942 года свой горящий самолет на позицию артиллерийской батареи противн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987640" y="1773360"/>
            <a:ext cx="3087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«Штурм»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2436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 мемориальных комплекс «Штурм» входят стела в поселке Ям-Ижора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установлена в 1944 году, архитектор Я.М. Зеленый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и обелиск на 29 километре Московского шоссе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установлен в 1957 году, архитектор М.К. Меликова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тела сооружена в память о подвиге воинов входивших в состав 55-й армии 268-й стрелковой дивизии, сражавшихся в июне 1942 на Ленинградском фронте между Колпино и Ям-Ижоро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белиск установлен на рубеже, где в сентябре 1941 года было остановлено наступление немецких войс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649760" y="1752480"/>
            <a:ext cx="39117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13:46:33Z</dcterms:created>
  <dc:creator> </dc:creator>
  <dc:description/>
  <dc:language>en-US</dc:language>
  <cp:lastModifiedBy> </cp:lastModifiedBy>
  <dcterms:modified xsi:type="dcterms:W3CDTF">2014-03-11T15:08:42Z</dcterms:modified>
  <cp:revision>4</cp:revision>
  <dc:subject/>
  <dc:title>Зеленый пояс Славы</dc:title>
</cp:coreProperties>
</file>