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2FC-6D3A-4E40-8D7E-4F35FBD1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170-8838-47ED-9F73-1FF4CAE3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27E-9545-4924-8875-7309EC6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263-90E2-4DE6-93BA-07E1945C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8446-788B-4D6F-B5E9-E2C24A6C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54C6-6A0D-477B-8C73-35AEC39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6826-2F46-4CD9-B1E9-094210F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E69A-6521-4783-98A9-850D172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2C5-3A98-4F4F-8EC5-EE7288EF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64A6-EC1D-4AAD-8410-49BF154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66F-556B-4D77-92A4-8D3A46B9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110-6CA4-471E-9DE7-33DB747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3C1-AA19-44EA-A870-6139C41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3BC9-A451-4994-A3C9-0C189340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9F5-4B87-4AED-B628-0986CF8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539-2E5C-4F32-A60F-19DB154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86E-30D8-4E0B-A99C-5C1A0E2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6C53-10E0-4757-BF64-8DE701F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C894-6678-4140-9822-E4C6259A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820D-453A-4F41-859A-FDBF73E3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95D6-7F79-4312-AC2E-1A9267D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329B-E90B-413F-A82D-81F62B9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4B9-C0C6-4359-9902-86C96FFE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A31C-24E0-48BE-87EF-8C2A6080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E8EB-5DDE-4780-BEB8-D26EE4D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19FB-E76E-4BF1-BFDC-175C492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8A77-6D2C-41A1-8ADB-EACC3BC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4DBC-D6DB-4477-8600-58C4AE9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47C32-DF42-4278-B11B-A4102DED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A53B-F58D-4394-87D7-1BBA4408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2667-271A-4837-9695-B9392A6D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5FC5-E221-4450-9F50-0A0AD23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FFEF-8D8B-448E-80AE-07228945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4A8-788E-4EA9-98C3-56CB2871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1C3F-4486-40EF-9B1C-E698F7D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42A6-85FA-4AA0-8A47-5683B5B6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4B2A-439D-4634-BA37-7470B559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3BF8-B7C9-47DD-8395-0B9338A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32A3-1912-4129-9025-D19E49E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45C9C-324D-4BB3-83CB-5028055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EC87-9F32-4B68-9168-14F3CBD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DF1A-E33A-44BD-AA35-B7DFAD54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BE78-32D5-4CEC-882F-20A4FE88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8A04-33F2-4D8D-9D6A-12C3E015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46C-E2FD-4ED1-AA69-732B0A34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CF81-AED8-4082-9D63-90AF9263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5D26-C6C6-483C-B219-165DF4C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72AA-99C1-43BE-87E7-3147E62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30D1B-0B63-47CF-A118-2266ED0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1EFC-11F7-4DFB-8D6A-16F05F6D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AFCBF-F374-42DC-A65D-75F2564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37C9-F2E9-410B-889D-E873BC2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9DE3D-0918-4E39-A71C-73CF742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0A3F-57BA-4038-A24C-629462BD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0752-3C3E-4BFA-96DE-F8475824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C4C-2749-4DF7-A9AF-833EA87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74A1-CEC3-4E9B-9623-600C4BD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0A83-5221-4BDF-BEB7-6BDA461E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A6479-B7D4-4E35-91D6-C460708A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F3BA-20D6-4954-A112-E320D89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8D97-BA8A-4ABB-8F30-DA7E137A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EB8D-D1F2-4F58-AB95-1485317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515C0-E21F-4E64-AA91-A6C4267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3A21B-A717-47CE-B8FE-60EFAE54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F8786-46DE-4627-818D-E0B8DCF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2E524-9FD2-4A22-86A2-09D7E55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FFE-B147-47F9-9BAE-065BBA4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1C8A8-6465-4A76-8E54-B2338FBE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7339-8546-4379-84AC-09BB2F0B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D276-DDC4-4CCA-9B65-11D1CBED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72975-E689-485B-B45B-71244CAE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8B0DB-58A5-4C94-8AF7-4E3674DA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B14E-DBB7-4043-917E-66E7C3DD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BBD5C-1765-450A-ACBD-EA910AF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6F39-07C6-4910-A315-C634C42B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CF8C-CB8C-45C2-B29B-ECAE40C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15F33-6541-40A5-9133-077A9F7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C99-46CB-48F4-9222-96BBB898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3873-0922-4763-A4C2-7856539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950C-520F-496B-8317-DCBF1F5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7B88E-0612-4AC5-AB81-29850A7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8EE7-C1E9-4096-A2C9-A675031C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D4B1C-622A-447E-91C6-3960040F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8A92-95A0-47A5-921F-61CF122A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0FE3-B05D-493F-941B-381BA615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8688-6B4A-49FF-A678-FF8404C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F9EAF-6A1A-4B63-8F4C-025A6794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4E2F-5DF0-44AA-8825-92F8849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492-1FDB-4888-A9EE-54378DD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C3032-9A66-4531-A8DB-93DDFECE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DAC2-E7CB-4304-A8A2-6175EDD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0098-AEF1-4739-9900-D844211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A52A-291D-4F0E-8845-EBBDFE8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2CFD-A5B7-4EFE-95B2-9E379C2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8A73-E440-44BF-AC83-54BB274C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5FA3-60BB-4FF1-9664-DC0B803E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0A7-4872-406F-A2FB-6DD444C463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162C-8C4C-4DC4-B189-0B2A5D31F1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0D8-69C7-4D18-B31C-8B47D8AC36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7A2-EDAD-4BD3-B8A4-5720AA69EB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825-F417-437D-9DEA-647BCECDD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448-CD42-4A5F-916E-DAF664AF1E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0119-0534-4EF0-81E0-6D86093E49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50FA-12E9-44F8-8262-96032E46FD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nity4you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monet-parliament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5" descr=""/>
          <p:cNvPicPr/>
          <p:nvPr/>
        </p:nvPicPr>
        <p:blipFill>
          <a:blip r:embed="rId2"/>
          <a:stretch/>
        </p:blipFill>
        <p:spPr>
          <a:xfrm>
            <a:off x="-311040" y="1596960"/>
            <a:ext cx="10064520" cy="39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 скалы и море &lt; Церковь в Варенживилле, пасмурная погода &gt;:: Клод Моне ( Claude Monet )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940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3"/>
          <p:cNvSpPr/>
          <p:nvPr/>
        </p:nvSpPr>
        <p:spPr>
          <a:xfrm>
            <a:off x="457200" y="4572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«Церковь в Варенживилле, пасмурная погода»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южные пейзажи &lt; Бордигера &gt;:: Клод Моне ( Claude Monet )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491472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3"/>
          <p:cNvSpPr/>
          <p:nvPr/>
        </p:nvSpPr>
        <p:spPr>
          <a:xfrm>
            <a:off x="3595680" y="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Бордигер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09480" y="22860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Клод Моне Рыбацкие лодки в море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Picture 2" descr="пейзажи - парусники и лодки &lt; Рыбацкие лодки в море &gt;:: Клод Моне ( Claude Monet )"/>
          <p:cNvPicPr/>
          <p:nvPr/>
        </p:nvPicPr>
        <p:blipFill>
          <a:blip r:embed="rId1"/>
          <a:stretch/>
        </p:blipFill>
        <p:spPr>
          <a:xfrm>
            <a:off x="1905120" y="1447920"/>
            <a:ext cx="5867280" cy="433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monet-parliament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52772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2377080" y="22860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Здание парламента в Лондоне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скалы и море &lt; Скалы ночью &gt;:: Клод Моне ( Claude Monet )"/>
          <p:cNvPicPr/>
          <p:nvPr/>
        </p:nvPicPr>
        <p:blipFill>
          <a:blip r:embed="rId1"/>
          <a:stretch/>
        </p:blipFill>
        <p:spPr>
          <a:xfrm>
            <a:off x="1371600" y="1176480"/>
            <a:ext cx="6324480" cy="51242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3"/>
          <p:cNvSpPr/>
          <p:nvPr/>
        </p:nvSpPr>
        <p:spPr>
          <a:xfrm>
            <a:off x="3067200" y="0"/>
            <a:ext cx="31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Скалы ночью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Ренуар"/>
          <p:cNvPicPr/>
          <p:nvPr/>
        </p:nvPicPr>
        <p:blipFill>
          <a:blip r:embed="rId1"/>
          <a:stretch/>
        </p:blipFill>
        <p:spPr>
          <a:xfrm>
            <a:off x="2286000" y="1163520"/>
            <a:ext cx="4495680" cy="569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2895480" y="228600"/>
          <a:ext cx="3810240" cy="8539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853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Огюст Рену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(1841 - 191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http://www.renyar.ru/components/com_datsogallery/sub_wm.php?src=/var/www/paint/data/www/renyar.ru/components/com_datsogallery/img_pictures/med_37_ren.jpeg"/>
          <p:cNvPicPr/>
          <p:nvPr/>
        </p:nvPicPr>
        <p:blipFill>
          <a:blip r:embed="rId1"/>
          <a:stretch/>
        </p:blipFill>
        <p:spPr>
          <a:xfrm>
            <a:off x="1066680" y="990720"/>
            <a:ext cx="6629400" cy="49417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0" y="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4921"/>
                </a:solidFill>
                <a:latin typeface="Tahoma"/>
              </a:rPr>
              <a:t>Сена близ Анера (Лодка)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www.renyar.ru/components/com_datsogallery/sub_wm.php?src=/var/www/paint/data/www/renyar.ru/components/com_datsogallery/img_pictures/med_11_ren.jpeg"/>
          <p:cNvPicPr/>
          <p:nvPr/>
        </p:nvPicPr>
        <p:blipFill>
          <a:blip r:embed="rId1"/>
          <a:stretch/>
        </p:blipFill>
        <p:spPr>
          <a:xfrm>
            <a:off x="2133720" y="0"/>
            <a:ext cx="5043240" cy="693432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3"/>
          <p:cNvSpPr/>
          <p:nvPr/>
        </p:nvSpPr>
        <p:spPr>
          <a:xfrm>
            <a:off x="1371600" y="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ртрет супругов Сислей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i074.radikal.ru/1006/15/1c5c112afa5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5404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609480" y="7621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Импрессиониз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228600" y="22096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Направление возникло во Франци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во 2 половине 19 ве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Название произошло от французского</a:t>
            </a:r>
            <a:r>
              <a:rPr b="0" lang="en-US" sz="36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ahoma"/>
              </a:rPr>
              <a:t>Impression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- впечатл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речной пейзаж &lt; Сена рядом с Живерни &gt;:: Клод Моне ( Claude Monet )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onet-parliament"/>
          <p:cNvPicPr/>
          <p:nvPr/>
        </p:nvPicPr>
        <p:blipFill>
          <a:blip r:embed="rId2"/>
          <a:stretch/>
        </p:blipFill>
        <p:spPr>
          <a:xfrm>
            <a:off x="2190600" y="110952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2"/>
          <p:cNvSpPr/>
          <p:nvPr/>
        </p:nvSpPr>
        <p:spPr>
          <a:xfrm>
            <a:off x="2568960" y="3244680"/>
            <a:ext cx="53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од Моне Здание парламента в Лондоне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2" descr="http://f.rodon.org/p/13/080403232930.jpg"/>
          <p:cNvPicPr/>
          <p:nvPr/>
        </p:nvPicPr>
        <p:blipFill>
          <a:blip r:embed="rId3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3241080" y="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3c4a"/>
                </a:solidFill>
                <a:latin typeface="Tahoma"/>
              </a:rPr>
              <a:t>Клод Моне (1840-192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b77412afa3cd"/>
          <p:cNvPicPr/>
          <p:nvPr/>
        </p:nvPicPr>
        <p:blipFill>
          <a:blip r:embed="rId1"/>
          <a:stretch/>
        </p:blipFill>
        <p:spPr>
          <a:xfrm>
            <a:off x="1447920" y="1376280"/>
            <a:ext cx="6248160" cy="47736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2286000" y="380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ahoma"/>
              </a:rPr>
              <a:t>Клод Моне «Стога возле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0_18fca_3f040d8b_XL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5483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2"/>
          <p:cNvSpPr/>
          <p:nvPr/>
        </p:nvSpPr>
        <p:spPr>
          <a:xfrm>
            <a:off x="3221640" y="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d6ea"/>
                </a:solidFill>
                <a:latin typeface="Tahoma"/>
              </a:rPr>
              <a:t>Клод Моне «Водные лил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речной пейзаж &lt; Сена рядом с Живерни &gt;:: Клод Моне ( Claude Monet )"/>
          <p:cNvPicPr/>
          <p:nvPr/>
        </p:nvPicPr>
        <p:blipFill>
          <a:blip r:embed="rId1"/>
          <a:srcRect l="0" t="4649" r="0" b="0"/>
          <a:stretch/>
        </p:blipFill>
        <p:spPr>
          <a:xfrm>
            <a:off x="228600" y="838080"/>
            <a:ext cx="8640720" cy="58849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438280" y="22860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ahoma"/>
              </a:rPr>
              <a:t>Клод Моне  «Сена рядом с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image001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8495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2"/>
          <p:cNvSpPr/>
          <p:nvPr/>
        </p:nvSpPr>
        <p:spPr>
          <a:xfrm>
            <a:off x="1869120" y="15228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Клод Моне Жанна-Маргарита Лекадр в са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1718"/>
          <p:cNvPicPr/>
          <p:nvPr/>
        </p:nvPicPr>
        <p:blipFill>
          <a:blip r:embed="rId1"/>
          <a:stretch/>
        </p:blipFill>
        <p:spPr>
          <a:xfrm>
            <a:off x="1600200" y="12193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5"/>
          <p:cNvSpPr/>
          <p:nvPr/>
        </p:nvSpPr>
        <p:spPr>
          <a:xfrm>
            <a:off x="295200" y="152280"/>
            <a:ext cx="88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Клод Моне «Тропа в саду Моне, Живерн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48495753_1252427534_x_be5227a1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1800" y="4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384000" y="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314e"/>
                </a:solidFill>
                <a:latin typeface="Tahoma"/>
              </a:rPr>
              <a:t>Клод Моне «Маки в Аржентё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06:23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