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8D0-5430-4553-ABB8-340D1B47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8D6-1D9E-4A14-AE37-B820EAC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489-0B5E-4FEB-A41A-A08CADEC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BF5-EB53-4924-BD7A-D638085F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C6F3-88E1-449E-A6B5-4130EFB3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7A2-5F40-42EA-AB8D-4AF851FD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881-545A-4F1D-9EC8-FAAD4B5A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A10-1271-4DCF-8C8E-8DF1743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E825-2AB2-4111-9316-01B97145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4E3-DCD5-4B40-B34A-FF485CB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B24-AA59-452E-8BFD-4059EA4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44B-F7B3-4412-939A-9E426C3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FCAB-14FF-4093-8F43-557958C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C048-7F4F-482F-8B44-3220209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922-F5DE-4540-AC42-5CEF9CCC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25E-F76A-48DC-80D1-A8117FC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05B1-D456-40E4-B061-3A373196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E87E-040C-4298-9EF6-CBF5D04C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F6EB-EB56-4C18-B97F-F80C691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7E2A-BE75-488B-A1B9-0DF2D51F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6080-F007-4E44-B9C6-EE87E82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38CC-B7CC-444A-A88A-E5F6EED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AD3-721A-4797-9BDD-9B725379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09AB-F908-44FE-919B-46085CA8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958C-03E9-486F-AAAC-A652B78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1C97-545A-4B9E-AA6A-C0D8E41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73E0-7A19-412A-9614-647B5AC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7279-3197-414C-9BC3-71F5371A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98EC-9E11-4C38-93DE-802E71E7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2530-87FF-4E35-A3BF-3A634CED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EEB7-052F-4B5D-A23B-6EDEDE45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F61C-6665-472E-B3C3-05943E95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B9D2-890A-4CAE-9FE9-F66076D7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DC8-6B4D-4A63-9F27-BAF01AB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F472-C8C6-49CF-8E8D-28F68002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09DB-2A08-4D77-87C9-EADB166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6AC3-3D6B-4A51-9F97-4C834599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A8DD-7021-4681-878D-F9DCC30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A00D-1241-462F-AD83-D5F700C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FB0D-7A7F-465E-BC38-E3403D0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F4C5-170D-4B63-B9A4-863EB6F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E692-839F-4BE6-9F17-0876C1AE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E532-D846-4DE5-A6AF-301F267E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6C0B-7D97-47AB-8509-27F3F63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051-B87F-4CBE-837D-BFEA3B1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F928-88C9-4B40-8754-C8A5D7AE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238B-182E-4D35-ADC0-F2BD970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FE0A-7D54-4F70-A103-E6CA237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25C1-946E-48BB-9794-5DA1F7A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BA68-CEE0-4646-AA97-F8E3045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E808-6761-4319-A417-BD4E956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4C72-0D0F-4D75-90D0-34D21BE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2FE9-6C95-4542-BB75-7FE8F27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49A3-AE95-4C38-AC89-E6187A79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0F07-CFCD-47B2-915C-EEC6EE83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14-CE8F-453D-924F-053F2C04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8908-8C23-40A8-961C-9F3708EF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A51D-5772-41A6-A663-4BDD5E79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A9FD-D78E-4B71-A0A4-B2D3830F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6D80-298F-4AB3-AF16-0654F4AE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FDAB-A031-404A-A163-953505AB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BAAE-900A-4594-96F6-05F67B72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C7F0-33DC-445D-8EE6-E2112555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B0C9-2695-4D50-BA8C-700A9ADC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E7C9-68C6-490A-A4E0-8DE4DE0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F7F8-043B-454B-B483-0EA324B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340-F029-4935-8D51-7382405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0EEC-5E08-4BB9-9E0C-5456B4E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25BA-8DF9-4B6D-A0CB-8CA8D271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D196-DB6D-4A5A-8766-8AE914BE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9CCC-8AF0-4531-A65E-2E35FD1D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26A7-ABCD-4B0B-98FC-0EF33D61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C8575-D810-4135-AF02-BEDB602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DCC63-B87F-4A54-8701-7BCB9F0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65CAC-F6AB-411C-978F-96B115F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DE78-33C1-481B-9D07-B87B23D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211A-1D64-4F58-98BD-75963D5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021-C8FD-4FFC-88B2-666C6E7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56FA-E696-4D3F-8C41-A50FE32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F689-13A1-4BA7-AEE1-AA79FBB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8413A-D9E8-4706-91E5-2D84BC37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004A-3927-40D7-BC55-8EA16277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FFB4-0B3A-4FF4-B248-EAC871CC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16DE-B415-4DCE-BFC7-D671B66D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DD625-DB62-47F5-B714-2730A99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E85B4-C007-43DF-B1CC-BEA0866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A5747-FC9F-45D4-ABAD-1E634E96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19C8D-CCF3-40CB-B2C2-99200E8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11F-8B62-43ED-99C1-A7D63F1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F952C-B031-4D80-BFFB-15F1BF0D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24E5-740D-4A52-9616-24B3FDD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8A54-0BE1-4149-B068-8726819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776C-DF16-444E-93F5-B5328750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CB10-AFC0-451E-B327-79F5DFD4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730E8-3678-4028-8DAA-ADAE5D3F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BC05-B31A-4A56-9BBE-5A08B73B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955E-B9BB-4A0F-B711-AE39838CBC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EC5-C311-40C6-83E6-01928B5AD7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963-4B10-419F-BABC-3AA9DB182D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351-F2ED-41BB-93A6-B6B6D6B5A2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9BF9-5AFC-4802-B7FC-6B29975D8B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79E-9BEA-42E6-8015-A6BB290E26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E8C-3F37-49D8-826C-5304248019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641-2AEA-4303-9CD3-29310EFD77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nity4you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monet-parliament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5" descr=""/>
          <p:cNvPicPr/>
          <p:nvPr/>
        </p:nvPicPr>
        <p:blipFill>
          <a:blip r:embed="rId2"/>
          <a:stretch/>
        </p:blipFill>
        <p:spPr>
          <a:xfrm>
            <a:off x="-311040" y="1596960"/>
            <a:ext cx="10064520" cy="39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 скалы и море &lt; Церковь в Варенживилле, пасмурная погода &gt;:: Клод Моне ( Claude Monet )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940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3"/>
          <p:cNvSpPr/>
          <p:nvPr/>
        </p:nvSpPr>
        <p:spPr>
          <a:xfrm>
            <a:off x="457200" y="4572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«Церковь в Варенживилле, пасмурная погода»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южные пейзажи &lt; Бордигера &gt;:: Клод Моне ( Claude Monet )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491472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3"/>
          <p:cNvSpPr/>
          <p:nvPr/>
        </p:nvSpPr>
        <p:spPr>
          <a:xfrm>
            <a:off x="3595680" y="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Бордигер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09480" y="22860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Клод Моне Рыбацкие лодки в море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Picture 2" descr="пейзажи - парусники и лодки &lt; Рыбацкие лодки в море &gt;:: Клод Моне ( Claude Monet )"/>
          <p:cNvPicPr/>
          <p:nvPr/>
        </p:nvPicPr>
        <p:blipFill>
          <a:blip r:embed="rId1"/>
          <a:stretch/>
        </p:blipFill>
        <p:spPr>
          <a:xfrm>
            <a:off x="1905120" y="1447920"/>
            <a:ext cx="5867280" cy="433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monet-parliament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52772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2377080" y="22860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Здание парламента в Лондоне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скалы и море &lt; Скалы ночью &gt;:: Клод Моне ( Claude Monet )"/>
          <p:cNvPicPr/>
          <p:nvPr/>
        </p:nvPicPr>
        <p:blipFill>
          <a:blip r:embed="rId1"/>
          <a:stretch/>
        </p:blipFill>
        <p:spPr>
          <a:xfrm>
            <a:off x="1371600" y="1176480"/>
            <a:ext cx="6324480" cy="51242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3"/>
          <p:cNvSpPr/>
          <p:nvPr/>
        </p:nvSpPr>
        <p:spPr>
          <a:xfrm>
            <a:off x="3067200" y="0"/>
            <a:ext cx="31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Скалы ночью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Ренуар"/>
          <p:cNvPicPr/>
          <p:nvPr/>
        </p:nvPicPr>
        <p:blipFill>
          <a:blip r:embed="rId1"/>
          <a:stretch/>
        </p:blipFill>
        <p:spPr>
          <a:xfrm>
            <a:off x="2286000" y="1163520"/>
            <a:ext cx="4495680" cy="569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2895480" y="228600"/>
          <a:ext cx="3810240" cy="8539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853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Огюст Рену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(1841 - 191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www.renyar.ru/components/com_datsogallery/sub_wm.php?src=/var/www/paint/data/www/renyar.ru/components/com_datsogallery/img_pictures/med_37_ren.jpeg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49417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4921"/>
                </a:solidFill>
                <a:latin typeface="Tahoma"/>
              </a:rPr>
              <a:t>Сена близ Анера (Лодка)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www.renyar.ru/components/com_datsogallery/sub_wm.php?src=/var/www/paint/data/www/renyar.ru/components/com_datsogallery/img_pictures/med_11_ren.jpeg"/>
          <p:cNvPicPr/>
          <p:nvPr/>
        </p:nvPicPr>
        <p:blipFill>
          <a:blip r:embed="rId1"/>
          <a:stretch/>
        </p:blipFill>
        <p:spPr>
          <a:xfrm>
            <a:off x="2133720" y="0"/>
            <a:ext cx="5043240" cy="693432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3"/>
          <p:cNvSpPr/>
          <p:nvPr/>
        </p:nvSpPr>
        <p:spPr>
          <a:xfrm>
            <a:off x="1371600" y="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ртрет супругов Сислей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i074.radikal.ru/1006/15/1c5c112afa5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5404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609480" y="7621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Импрессиониз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228600" y="22096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Направление возникло во Франци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во 2 половине 19 ве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Название произошло от французского</a:t>
            </a:r>
            <a:r>
              <a:rPr b="0" lang="en-US" sz="36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ahoma"/>
              </a:rPr>
              <a:t>Impression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- впечатл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речной пейзаж &lt; Сена рядом с Живерни &gt;:: Клод Моне ( Claude Monet )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onet-parliament"/>
          <p:cNvPicPr/>
          <p:nvPr/>
        </p:nvPicPr>
        <p:blipFill>
          <a:blip r:embed="rId2"/>
          <a:stretch/>
        </p:blipFill>
        <p:spPr>
          <a:xfrm>
            <a:off x="2190600" y="110952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2"/>
          <p:cNvSpPr/>
          <p:nvPr/>
        </p:nvSpPr>
        <p:spPr>
          <a:xfrm>
            <a:off x="2568960" y="324468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Здание парламента в Лондоне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2" descr="http://f.rodon.org/p/13/080403232930.jpg"/>
          <p:cNvPicPr/>
          <p:nvPr/>
        </p:nvPicPr>
        <p:blipFill>
          <a:blip r:embed="rId3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3241080" y="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3c4a"/>
                </a:solidFill>
                <a:latin typeface="Tahoma"/>
              </a:rPr>
              <a:t>Клод Моне (1840-192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b77412afa3cd"/>
          <p:cNvPicPr/>
          <p:nvPr/>
        </p:nvPicPr>
        <p:blipFill>
          <a:blip r:embed="rId1"/>
          <a:stretch/>
        </p:blipFill>
        <p:spPr>
          <a:xfrm>
            <a:off x="1447920" y="1376280"/>
            <a:ext cx="6248160" cy="47736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2286000" y="380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ahoma"/>
              </a:rPr>
              <a:t>Клод Моне «Стога возле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0_18fca_3f040d8b_XL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5483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2"/>
          <p:cNvSpPr/>
          <p:nvPr/>
        </p:nvSpPr>
        <p:spPr>
          <a:xfrm>
            <a:off x="3221640" y="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d6ea"/>
                </a:solidFill>
                <a:latin typeface="Tahoma"/>
              </a:rPr>
              <a:t>Клод Моне «Водные лил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речной пейзаж &lt; Сена рядом с Живерни &gt;:: Клод Моне ( Claude Monet )"/>
          <p:cNvPicPr/>
          <p:nvPr/>
        </p:nvPicPr>
        <p:blipFill>
          <a:blip r:embed="rId1"/>
          <a:srcRect l="0" t="4649" r="0" b="0"/>
          <a:stretch/>
        </p:blipFill>
        <p:spPr>
          <a:xfrm>
            <a:off x="228600" y="838080"/>
            <a:ext cx="8640720" cy="58849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438280" y="22860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ahoma"/>
              </a:rPr>
              <a:t>Клод Моне  «Сена рядом с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image001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8495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2"/>
          <p:cNvSpPr/>
          <p:nvPr/>
        </p:nvSpPr>
        <p:spPr>
          <a:xfrm>
            <a:off x="1869120" y="15228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Клод Моне Жанна-Маргарита Лекадр в са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1718"/>
          <p:cNvPicPr/>
          <p:nvPr/>
        </p:nvPicPr>
        <p:blipFill>
          <a:blip r:embed="rId1"/>
          <a:stretch/>
        </p:blipFill>
        <p:spPr>
          <a:xfrm>
            <a:off x="1600200" y="12193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5"/>
          <p:cNvSpPr/>
          <p:nvPr/>
        </p:nvSpPr>
        <p:spPr>
          <a:xfrm>
            <a:off x="295200" y="152280"/>
            <a:ext cx="88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Клод Моне «Тропа в саду Моне,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48495753_1252427534_x_be5227a1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384000" y="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314e"/>
                </a:solidFill>
                <a:latin typeface="Tahoma"/>
              </a:rPr>
              <a:t>Клод Моне «Маки в Аржентё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06:23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