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907-53CC-486F-BF24-0E85C14E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FCD-8053-439E-8123-6250E382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52F-A199-483F-A1E8-0780BEC0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FD5-77DE-4728-91B9-71E4EEF3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3CDD-B30A-4E3C-8E95-DA6072AE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40BF-910D-4A9A-99D9-BB74F49D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7122-1CD5-4CB0-8419-C3029BB3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B7BF-583E-4C67-A24D-2121BE8A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5CD5-C3A5-42E6-BFB0-61CCDABF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23EC-2F5D-4128-A9F6-35B89DED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D8AB-3AD4-41D4-BD4D-CE8F6988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F3F-FF7D-48BE-BD5D-6D8CFEA3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86CA-9B21-4854-8D1E-2730071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9D8A-103A-4E14-8C4E-E90F264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9AA1-10FA-488D-8950-0AB99A1F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E374-C63C-4FFB-AE6D-FED8136B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8EFE-8BCB-4A71-BE07-1AA5DBA8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0E16-8BD2-412B-A847-23B193BB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884F-E9E0-48EE-B967-EA443179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89253-C485-480B-B751-340A61B2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3B75-988F-44DC-BCB2-C6A0D819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C27F-8064-44D0-9E25-69C7C75F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6A5-5D5E-4EF3-A351-78D2808B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FDBD5-95C9-44B8-84FD-D70198BA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2753-B53D-4D03-8E14-33DE222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A8B0-BFD6-49F4-8015-E2448FA3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5603-99EF-480C-954E-674148A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15B5-11A6-4BD0-AA1D-065C1BA2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5042-F1EC-4825-ACE4-5DDC2A8F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F643-196C-4851-B78D-B4EFA459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CC79B-44DE-4F02-B2B2-3AE16AA5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F596-EEAC-4E4E-8E65-D90A59BF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BFBA1-6986-49E8-B972-AB4E8B5C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20C-3075-461E-AA0C-59A96AB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36ACC-2402-4651-A490-C606D8A0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20CB8-C624-4EB5-8E1A-361D3B88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1D70-E647-4B8B-9C86-E239E6A4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A547-FD18-4F57-A5F6-F5EF1962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D8B3-1125-4D36-996E-230AF69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68F7-8895-456E-A050-C0D12BA5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85BF-760F-4BFB-B6C2-8546FC05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E994-9654-44CC-B00A-BB17192F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567E7-7270-4A48-908C-B72A9777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90A5D-585D-45FE-9786-C00B85F8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2CF-E228-488B-8FA2-557B37E0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DCC2-AA36-4E95-89B6-8ADBBEA9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29D11-43B7-4242-B8B3-5B612C38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9D0B1-42CA-4963-BED5-1446A9B4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441C5-283F-4DEC-A495-518CD82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AD059-3D64-4E0D-A407-28BAF4F8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FE52-FEDB-4F27-AA45-43A69CAB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22A8-6295-4700-ABAA-53C1BE35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0ABE-C89A-4C07-9936-BAA8221E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808EE-B7EF-4AF4-AFDF-2891BE6C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190E1-8AF5-4003-8355-17670526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8C6-620A-4DC0-9D95-71DD4A3E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5FDB2-7A2E-49D8-92EC-7F12D8B2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10C94-82F1-4AD4-A0E3-EFCFE8AC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48BCE-8559-4D69-93C6-066F4AA2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E1EBD-6ABC-4E38-A243-F744BBE1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9F234-89D3-42DF-ADED-BC9A8550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E7D85-0A21-4D3B-B016-61E089CF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53F5-F35A-4038-BF70-C59F0DCC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A3C5-64AE-4C5C-A939-1F071A2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5742-532B-4650-8FB1-CF7A0A84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64670-A938-4007-B2B3-5880DF6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545-EA8F-4402-8E59-02703ED0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730EC-B10B-42E9-B003-0E944EFB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88AB-5D29-4C48-8795-3A0E5A20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FE80-BF52-4CCA-8BA0-2DA216C6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F32B6-26FF-4B6C-9BD2-07FF479C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4AFBD-8652-44DC-B715-E003B08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5D12B-3CC3-442D-9C23-0E13CDC2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F20B-7F42-4665-AC0A-C6522339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0039F-E87C-44BF-8403-13A5F616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8C608-6894-46A4-B8C4-3B5758F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4D48D-69DB-4998-8DE9-066791ED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14E-0904-4638-BCF5-4EE00A4E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ED2E3-EF9D-4421-AF99-4282217A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DABE8-866B-431C-9DAC-B3002AC4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52CBB-7544-4953-8F91-3E1F2F17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5240D-3C44-41D9-B0BD-5E58DA02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3BE91-83CD-4F27-B846-7869EA99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B7369-87F6-49D7-B624-76EAD004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5BAB2-7DBA-4BD5-802A-CEB2D0C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43B6B-9A06-4BD2-9D9C-D7558611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7FB18-86A0-4C82-B151-105CF23D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EA342-C84A-4F55-A997-9732C73B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D99-1846-4603-A4F9-9DAC381F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907A-EF08-455E-A327-E30462FD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C18E9-040C-4C92-965F-C0F74F90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38FA0-85C4-41AB-BFBF-FA0D0212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430C9-57ED-4CAB-8F0D-975A0E0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2A69F-94A0-40DF-AA53-468D42A2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60A02-BC46-4FB7-9E02-A6BD9D39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5A64A-7241-4896-9436-E44E8FC3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244C-AE12-4C1F-AC13-8E338982C67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010D-0D97-4AD0-B14A-CBF4E259D57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8434-B797-475B-954B-328466FA49E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2797-03F0-4195-92A2-758EBCEE7F2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A5E6-4EF3-4316-A15D-FC1ABAB10D5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BE28-F3B3-41F5-86F1-80B007DBA66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5D39-21CB-4595-8116-C044C77E808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731B-E86E-45D5-BB78-802B6887DBF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http://www.renyar.ru/components/com_datsogallery/sub_wm.php?src=/var/www/paint/data/www/renyar.ru/components/com_datsogallery/img_pictures/med_47_ren.jpeg"/>
          <p:cNvPicPr/>
          <p:nvPr/>
        </p:nvPicPr>
        <p:blipFill>
          <a:blip r:embed="rId1"/>
          <a:stretch/>
        </p:blipFill>
        <p:spPr>
          <a:xfrm>
            <a:off x="2286000" y="1143000"/>
            <a:ext cx="4521240" cy="542304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3"/>
          <p:cNvSpPr/>
          <p:nvPr/>
        </p:nvSpPr>
        <p:spPr>
          <a:xfrm>
            <a:off x="175248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54a10"/>
                </a:solidFill>
                <a:latin typeface="Tahoma"/>
              </a:rPr>
              <a:t>Пьер Огюст Ренуар «Причесывающаяся девушка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vincent van gogh"/>
          <p:cNvPicPr/>
          <p:nvPr/>
        </p:nvPicPr>
        <p:blipFill>
          <a:blip r:embed="rId1"/>
          <a:stretch/>
        </p:blipFill>
        <p:spPr>
          <a:xfrm>
            <a:off x="1905120" y="609480"/>
            <a:ext cx="4724280" cy="60832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"/>
          <p:cNvSpPr/>
          <p:nvPr/>
        </p:nvSpPr>
        <p:spPr>
          <a:xfrm>
            <a:off x="3285720" y="7632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acbe0"/>
                </a:solidFill>
                <a:latin typeface="Tahoma"/>
              </a:rPr>
              <a:t>Винсент Ван Гог </a:t>
            </a:r>
            <a:r>
              <a:rPr b="0" lang="ru-RU" sz="1800" spc="-1" strike="noStrike">
                <a:solidFill>
                  <a:srgbClr val="7acbe0"/>
                </a:solidFill>
                <a:latin typeface="Tahoma"/>
              </a:rPr>
              <a:t>(1853-189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ветка миндаля"/>
          <p:cNvPicPr/>
          <p:nvPr/>
        </p:nvPicPr>
        <p:blipFill>
          <a:blip r:embed="rId1"/>
          <a:stretch/>
        </p:blipFill>
        <p:spPr>
          <a:xfrm>
            <a:off x="1066680" y="990720"/>
            <a:ext cx="6324840" cy="473868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3"/>
          <p:cNvSpPr/>
          <p:nvPr/>
        </p:nvSpPr>
        <p:spPr>
          <a:xfrm>
            <a:off x="-76320" y="228600"/>
            <a:ext cx="9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инсент Ван Гог  «Цветущая ветка миндаля». Сан-Реми, март 18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www.renyar.ru/components/com_datsogallery/sub_wm.php?src=/var/www/paint/data/www/renyar.ru/components/com_datsogallery/img_pictures/med_46_ren.jpeg"/>
          <p:cNvPicPr/>
          <p:nvPr/>
        </p:nvPicPr>
        <p:blipFill>
          <a:blip r:embed="rId1"/>
          <a:stretch/>
        </p:blipFill>
        <p:spPr>
          <a:xfrm>
            <a:off x="2133720" y="457200"/>
            <a:ext cx="4690800" cy="62485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3"/>
          <p:cNvSpPr/>
          <p:nvPr/>
        </p:nvSpPr>
        <p:spPr>
          <a:xfrm>
            <a:off x="152280" y="0"/>
            <a:ext cx="90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Tahoma"/>
              </a:rPr>
              <a:t>Две девушки у фортепиано Пьер Огюст Рену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www.renyar.ru/components/com_datsogallery/sub_wm.php?src=/var/www/paint/data/www/renyar.ru/components/com_datsogallery/img_pictures/med_21_ren.jpeg"/>
          <p:cNvPicPr/>
          <p:nvPr/>
        </p:nvPicPr>
        <p:blipFill>
          <a:blip r:embed="rId1"/>
          <a:stretch/>
        </p:blipFill>
        <p:spPr>
          <a:xfrm>
            <a:off x="2209680" y="685800"/>
            <a:ext cx="4572000" cy="6066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3210840" y="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1927"/>
                </a:solidFill>
                <a:latin typeface="Tahoma"/>
              </a:rPr>
              <a:t>Зонтики Пьер Огюст Рену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Поль Сезанн &quot;Каштановая аллея в Жа де Буффан&quot;"/>
          <p:cNvPicPr/>
          <p:nvPr/>
        </p:nvPicPr>
        <p:blipFill>
          <a:blip r:embed="rId1"/>
          <a:stretch/>
        </p:blipFill>
        <p:spPr>
          <a:xfrm>
            <a:off x="1752480" y="1125360"/>
            <a:ext cx="5334120" cy="49136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838080" y="32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ль Сезан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"Каштановая аллея в Жа де Буффан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Содержимое 7" descr="Андрес Цорн.JPG"/>
          <p:cNvPicPr/>
          <p:nvPr/>
        </p:nvPicPr>
        <p:blipFill>
          <a:blip r:embed="rId1"/>
          <a:stretch/>
        </p:blipFill>
        <p:spPr>
          <a:xfrm>
            <a:off x="4419720" y="1143000"/>
            <a:ext cx="3638520" cy="48276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5"/>
          <p:cNvSpPr/>
          <p:nvPr/>
        </p:nvSpPr>
        <p:spPr>
          <a:xfrm>
            <a:off x="152280" y="1143000"/>
            <a:ext cx="35816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ндерс Цорн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1860-192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ведский живописец, график и скульптор Андерс Леонард Цорн вошел в историю искусства как замечательный портретист и мастер офорта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File:Gunnlod.jpg"/>
          <p:cNvPicPr/>
          <p:nvPr/>
        </p:nvPicPr>
        <p:blipFill>
          <a:blip r:embed="rId1"/>
          <a:stretch/>
        </p:blipFill>
        <p:spPr>
          <a:xfrm>
            <a:off x="2590920" y="1143000"/>
            <a:ext cx="3879720" cy="509112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0" y="152280"/>
            <a:ext cx="9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171e"/>
                </a:solidFill>
                <a:latin typeface="Tahoma"/>
              </a:rPr>
              <a:t>Андерс Цорн «Великанша Гунло, дочь великана Суттунг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File:Zorn Anders Valsen.jpg"/>
          <p:cNvPicPr/>
          <p:nvPr/>
        </p:nvPicPr>
        <p:blipFill>
          <a:blip r:embed="rId1"/>
          <a:stretch/>
        </p:blipFill>
        <p:spPr>
          <a:xfrm>
            <a:off x="2895480" y="1523880"/>
            <a:ext cx="3354480" cy="489744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4"/>
          <p:cNvSpPr/>
          <p:nvPr/>
        </p:nvSpPr>
        <p:spPr>
          <a:xfrm>
            <a:off x="3165480" y="6094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дерс Цорн «Вальс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img0.liveinternet.ru/images/attach/b/3/26/566/26566921_Peder_Severin_Kreyer_Hudozhnik_na_plyazhe_1892_szh.JPG"/>
          <p:cNvPicPr/>
          <p:nvPr/>
        </p:nvPicPr>
        <p:blipFill>
          <a:blip r:embed="rId1"/>
          <a:stretch/>
        </p:blipFill>
        <p:spPr>
          <a:xfrm>
            <a:off x="1600200" y="1752480"/>
            <a:ext cx="5486400" cy="40165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3"/>
          <p:cNvSpPr/>
          <p:nvPr/>
        </p:nvSpPr>
        <p:spPr>
          <a:xfrm>
            <a:off x="0" y="304920"/>
            <a:ext cx="9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1faecd"/>
                </a:solidFill>
                <a:latin typeface="Tahoma"/>
              </a:rPr>
              <a:t>Андерс Цорн «Сёстры Шварц в мастерской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http://territa.ru/_ph/151/2/738872064.jpg"/>
          <p:cNvPicPr/>
          <p:nvPr/>
        </p:nvPicPr>
        <p:blipFill>
          <a:blip r:embed="rId1"/>
          <a:stretch/>
        </p:blipFill>
        <p:spPr>
          <a:xfrm>
            <a:off x="2590920" y="1066680"/>
            <a:ext cx="4114800" cy="494676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3"/>
          <p:cNvSpPr/>
          <p:nvPr/>
        </p:nvSpPr>
        <p:spPr>
          <a:xfrm>
            <a:off x="1905120" y="304920"/>
            <a:ext cx="65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171e"/>
                </a:solidFill>
                <a:latin typeface="Tahoma"/>
              </a:rPr>
              <a:t>Андерс Цорн «Портрет дочерей Суберкасо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ga</dc:creator>
  <dc:description/>
  <dc:language>en-US</dc:language>
  <cp:lastModifiedBy>olga</cp:lastModifiedBy>
  <dcterms:modified xsi:type="dcterms:W3CDTF">2015-02-06T19:18:59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