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EB9-C6AC-4802-A205-D7D1272B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E49-9678-43AD-B09E-8554CE7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CF7-06E4-4672-BB74-626D8B7C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037-02FF-44D9-8BEB-EC57FBD8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5A3-3F8D-49C2-9698-F4CDCCD6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157B-B738-494A-91EC-F2F8CA2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1F9E-C38A-4D5A-BD5C-2229A183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CC7A-EBD4-4A8A-8904-4945B65A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39F6-19B9-4FC0-A18A-78B1B679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8572-3B17-4017-941F-C69A8740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5AF6-48DC-45DF-8EBE-5EA4A74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24A-21F4-460A-899F-36695CF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E951-A674-493C-A5E9-D677C09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E47-B4F1-4E23-801D-E4C712F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8B9-E826-4A7F-BA1A-D1829D3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4A7-3424-4CC1-9CFD-0B67B1BE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26B-8EE6-4D74-974A-F46816BD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3A94-D7B6-4FE6-B951-5CA875F9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64DB-129B-40AE-8D79-30C2EFA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258B-AA33-4C95-A618-29E31D0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3C54-61D8-4FD4-A652-0715582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7E9C-8339-4A36-967C-06435299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C06-990E-4775-BAFE-E6727F1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4043-ABD5-47BA-8EA8-C588F25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3F0E-0BEB-49FA-A2E1-A3E101E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2579-894D-4D36-AAE3-34183AA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FB04-69D4-4949-B2D4-BD1BAD5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49A1-4CA0-4540-A4DC-E17E612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D1AA-0692-4658-9BD7-00812E4D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2561-B858-4E42-9E75-0B790B30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EBE7-C962-4513-948F-8BF10BF0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7469-4F8D-4717-9061-A468EF53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41C2-FE45-4DA2-AFC2-4BA634D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D58-33F9-427D-A350-4BCC43F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9A4F-D035-4A8E-B3F4-795FFFF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7F16-14FA-4FF4-A474-A29EAF7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0FBD-20FC-4490-87EE-8CC6839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CE20-9C30-4F13-8966-3368F84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087F-09FA-4A2D-9D8D-AA08F40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1BD9-ACAD-4065-89EB-DD44212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9A87-735F-4858-BD34-A540D22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61D8-D505-4F9C-B900-C79F3F8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969E-2145-48B4-8659-3825DA59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8890-7464-4584-AAD3-1D74C5B8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F9B-C83D-4F4F-A095-86570E6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C132-D957-44BF-81AE-E5F992D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D534-AA67-4452-9BA6-DDEF8351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40D1-701B-489D-AE41-71C42F5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313F-7012-4D24-8A89-8285C7D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62E4-A855-47A3-A6B9-8869FD7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19A9-DBA0-47EB-9EEA-F9F0F6D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C253-2DA6-4C21-ABB3-F7F3A95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F55B-60A2-428D-9993-2F5C503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F4A6-A787-479F-906F-F192FB2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90AE-93A4-49CA-AA0A-7BB09EA2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5C0-E13F-40FB-AF5E-DC00941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4F40-22C9-4347-81BC-8A5A774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4008-4CD8-4684-B720-E976FDC8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804C-2914-4278-ACC3-5E55FE9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44AF-2982-4D88-8797-13C55B51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A3D2-4F9F-4836-BFA5-0FB96C0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91BB-F130-48C4-AA41-E46A571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6034-02AF-4A59-A9C4-1DEDBB7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67C6-701D-4166-BD35-624A106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1051-6545-4DD1-9C6F-E7E402E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C20CE-9B3F-49E2-BD67-838BD1F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164-8E13-4D45-925F-A841DB1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1E63-12A7-40EB-92A8-AC9B1A7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D1FA-1344-41D2-9BC7-D51AEF5F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3721-3344-479C-ABD5-329A1DD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D812-D735-430D-BABA-3D0C7C04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0CFF-8DC7-4953-AB18-3197652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A5825-8F19-465F-9D37-B2EF028D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DF85-169A-4900-836C-172FAD7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265B0-876A-4227-BE67-F60DF013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94C3-6B5E-4B0F-B40B-0E11BF09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2CFA-E5DD-43CC-A77B-2A27500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E9D-3265-43EC-AC71-2C23BD8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243CC-A789-46EE-8005-FF04A28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D09D-1789-4FB3-9B7E-8F01B20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5519-187D-4487-B523-65385060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A5BD-CF19-4222-BC87-D1DB218F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983B-9515-4AB8-8E8C-232F33A9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73D1-C6F7-47EF-A8F1-03EAC610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0C2A-F21A-44AF-B39D-9985A42A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A47A-96B4-4891-8589-E4F9443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D561-FFA5-4A26-AAF6-E979FAA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4BA7-6240-46EE-8D24-4704D9B7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68B-D40E-4A11-AF4A-3504D27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F134-782B-4218-A818-2914FAB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050B3-7146-44FD-9274-3CF8537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5C16-CAC1-441E-ABEE-2792B41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175B2-0998-4D4C-9289-01E21C9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6431-B462-4389-A606-1F2A654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4269-14B0-42E3-878B-D7ADE0CD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580A-59E2-40DD-B089-2E052BB1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653-4819-4D9F-A767-9DD792613F5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05C1-6958-48C6-A787-4D86D400AA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B7AE-BC16-4305-8EEA-4F9DCBD1766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7DD-8290-4B5A-B491-99B15F6B370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9AF-2C26-4BE5-8117-6860B13BE76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F1B-B590-42D8-80B2-750D3133D9F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8F4B-1179-4B47-85EF-FE066D84CE9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E9D-E1FD-466C-9175-EC9419F878D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www.renyar.ru/components/com_datsogallery/sub_wm.php?src=/var/www/paint/data/www/renyar.ru/components/com_datsogallery/img_pictures/med_47_ren.jpeg"/>
          <p:cNvPicPr/>
          <p:nvPr/>
        </p:nvPicPr>
        <p:blipFill>
          <a:blip r:embed="rId1"/>
          <a:stretch/>
        </p:blipFill>
        <p:spPr>
          <a:xfrm>
            <a:off x="2286000" y="1143000"/>
            <a:ext cx="4521240" cy="54230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3"/>
          <p:cNvSpPr/>
          <p:nvPr/>
        </p:nvSpPr>
        <p:spPr>
          <a:xfrm>
            <a:off x="175248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54a10"/>
                </a:solidFill>
                <a:latin typeface="Tahoma"/>
              </a:rPr>
              <a:t>Пьер Огюст Ренуар «Причесывающаяся девушка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vincent van gogh"/>
          <p:cNvPicPr/>
          <p:nvPr/>
        </p:nvPicPr>
        <p:blipFill>
          <a:blip r:embed="rId1"/>
          <a:stretch/>
        </p:blipFill>
        <p:spPr>
          <a:xfrm>
            <a:off x="1905120" y="609480"/>
            <a:ext cx="4724280" cy="60832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"/>
          <p:cNvSpPr/>
          <p:nvPr/>
        </p:nvSpPr>
        <p:spPr>
          <a:xfrm>
            <a:off x="3285720" y="7632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acbe0"/>
                </a:solidFill>
                <a:latin typeface="Tahoma"/>
              </a:rPr>
              <a:t>Винсент Ван Гог </a:t>
            </a:r>
            <a:r>
              <a:rPr b="0" lang="ru-RU" sz="1800" spc="-1" strike="noStrike">
                <a:solidFill>
                  <a:srgbClr val="7acbe0"/>
                </a:solidFill>
                <a:latin typeface="Tahoma"/>
              </a:rPr>
              <a:t>(1853-18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ветка миндаля"/>
          <p:cNvPicPr/>
          <p:nvPr/>
        </p:nvPicPr>
        <p:blipFill>
          <a:blip r:embed="rId1"/>
          <a:stretch/>
        </p:blipFill>
        <p:spPr>
          <a:xfrm>
            <a:off x="1066680" y="990720"/>
            <a:ext cx="6324840" cy="47386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-76320" y="228600"/>
            <a:ext cx="9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инсент Ван Гог  «Цветущая ветка миндаля». Сан-Реми, март 18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www.renyar.ru/components/com_datsogallery/sub_wm.php?src=/var/www/paint/data/www/renyar.ru/components/com_datsogallery/img_pictures/med_46_ren.jpeg"/>
          <p:cNvPicPr/>
          <p:nvPr/>
        </p:nvPicPr>
        <p:blipFill>
          <a:blip r:embed="rId1"/>
          <a:stretch/>
        </p:blipFill>
        <p:spPr>
          <a:xfrm>
            <a:off x="2133720" y="457200"/>
            <a:ext cx="4690800" cy="62485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152280" y="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Tahoma"/>
              </a:rPr>
              <a:t>Две девушки у фортепиано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www.renyar.ru/components/com_datsogallery/sub_wm.php?src=/var/www/paint/data/www/renyar.ru/components/com_datsogallery/img_pictures/med_21_ren.jpeg"/>
          <p:cNvPicPr/>
          <p:nvPr/>
        </p:nvPicPr>
        <p:blipFill>
          <a:blip r:embed="rId1"/>
          <a:stretch/>
        </p:blipFill>
        <p:spPr>
          <a:xfrm>
            <a:off x="2209680" y="685800"/>
            <a:ext cx="4572000" cy="6066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3210840" y="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927"/>
                </a:solidFill>
                <a:latin typeface="Tahoma"/>
              </a:rPr>
              <a:t>Зонтики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Поль Сезанн &quot;Каштановая аллея в Жа де Буффан&quot;"/>
          <p:cNvPicPr/>
          <p:nvPr/>
        </p:nvPicPr>
        <p:blipFill>
          <a:blip r:embed="rId1"/>
          <a:stretch/>
        </p:blipFill>
        <p:spPr>
          <a:xfrm>
            <a:off x="1752480" y="1125360"/>
            <a:ext cx="5334120" cy="49136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838080" y="32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ь Сезан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"Каштановая аллея в Жа де Буффан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7" descr="Андрес Цорн.JPG"/>
          <p:cNvPicPr/>
          <p:nvPr/>
        </p:nvPicPr>
        <p:blipFill>
          <a:blip r:embed="rId1"/>
          <a:stretch/>
        </p:blipFill>
        <p:spPr>
          <a:xfrm>
            <a:off x="4419720" y="1143000"/>
            <a:ext cx="3638520" cy="48276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5"/>
          <p:cNvSpPr/>
          <p:nvPr/>
        </p:nvSpPr>
        <p:spPr>
          <a:xfrm>
            <a:off x="152280" y="1143000"/>
            <a:ext cx="35816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ндерс Цорн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1860-192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ведский живописец, график и скульптор Андерс Леонард Цорн вошел в историю искусства как замечательный портретист и мастер офорт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File:Gunnlod.jpg"/>
          <p:cNvPicPr/>
          <p:nvPr/>
        </p:nvPicPr>
        <p:blipFill>
          <a:blip r:embed="rId1"/>
          <a:stretch/>
        </p:blipFill>
        <p:spPr>
          <a:xfrm>
            <a:off x="2590920" y="1143000"/>
            <a:ext cx="3879720" cy="50911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0" y="15228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171e"/>
                </a:solidFill>
                <a:latin typeface="Tahoma"/>
              </a:rPr>
              <a:t>Андерс Цорн «Великанша Гунло, дочь великана Суттунг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File:Zorn Anders Valsen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54480" cy="48974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3165480" y="6094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дерс Цорн «Вальс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img0.liveinternet.ru/images/attach/b/3/26/566/26566921_Peder_Severin_Kreyer_Hudozhnik_na_plyazhe_1892_szh.JPG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0165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0" y="30492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1faecd"/>
                </a:solidFill>
                <a:latin typeface="Tahoma"/>
              </a:rPr>
              <a:t>Андерс Цорн «Сёстры Шварц в мастерской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http://territa.ru/_ph/151/2/738872064.jpg"/>
          <p:cNvPicPr/>
          <p:nvPr/>
        </p:nvPicPr>
        <p:blipFill>
          <a:blip r:embed="rId1"/>
          <a:stretch/>
        </p:blipFill>
        <p:spPr>
          <a:xfrm>
            <a:off x="2590920" y="1066680"/>
            <a:ext cx="4114800" cy="49467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3"/>
          <p:cNvSpPr/>
          <p:nvPr/>
        </p:nvSpPr>
        <p:spPr>
          <a:xfrm>
            <a:off x="1905120" y="304920"/>
            <a:ext cx="65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171e"/>
                </a:solidFill>
                <a:latin typeface="Tahoma"/>
              </a:rPr>
              <a:t>Андерс Цорн «Портрет дочерей Суберкасо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18:59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