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742-F9AE-4485-8A9E-E020D0DA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486-F8A3-4DDC-9220-2BBBAE60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F9F-4086-4369-9010-E14B2C8A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D98-EE0B-4B8B-96A3-698E1101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42A0-5D67-4DA7-8BB4-2436A11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2665-E484-4626-B78E-3FD34E8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7153-8D04-4B28-8C02-8DA73A6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E693-F571-4076-AB57-5494576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5EB-2E33-46DF-A78B-671C9004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4E2-DF31-43A8-A355-909C2A86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AFD9-3B49-400F-8542-5C4B8CE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3AE-7911-4BAD-97A0-D13546A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4321-9ACC-4BEF-8060-597D1262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6F5-8ED0-4BFD-B2CC-53073B1C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98EC-1841-4C2E-8F66-45C84096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927-DC6C-4666-B6B1-D1ACB505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50C-DEBC-4580-9C11-345944FE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504C-C8D7-44A7-A1E0-D238FA22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D869-CBB7-4B5A-BCC9-895DE705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272C-293F-4D93-B72C-08BA484D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9182-B3D9-4C06-9860-B1CA792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A0AD-A212-4D05-B67C-CA7365E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1E4-B91E-4698-9ADF-29CADEE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F1E8-0C4D-41AC-AB2C-EF15E5F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CAF4-A05D-4344-886D-3E21FF9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6700-DD17-456A-B372-9A90C57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5196-1DEA-4740-A518-6F779B2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DB82-D176-414E-AD04-5E352E4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3007-3855-40A1-BC32-23365CD0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7CAF-6F44-4DB1-8428-7B188B0F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F354-184C-4AD0-92BC-017C069E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2932-D571-4181-B9B5-8F0D082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A195A-D8A9-4EA6-912E-060A72E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9FB-0AB9-4046-8BFB-10F78E9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6C8D-A96A-41A5-9CDB-B00BA29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B636-35B7-4B17-9965-8F103A1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A092-6094-4110-9B98-916CD3A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AFFB-B91A-4DC4-AC06-ED50DF0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EE7F-1538-4157-B216-79BC0A2F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E4E0-D5AF-4AC3-9795-437B6B4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BEF6-B159-454F-B7C2-C03DC1B8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C6ED-146F-4CFF-AE61-DB53EF57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E178-37DD-4796-9122-F254A1C6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B33A-FB82-4DDC-89A1-63634180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46A-473C-4A9C-9A8A-C65AB721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1FDD-76D4-4A84-81C0-E50200D4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889A-79B3-4C1C-886B-EC23CCF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81D2-16B5-4564-BEC2-4327E84C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226E-8810-4E8D-B8D4-721411B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C12D8-D27F-4265-923E-7A9E61C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8E49-6EF3-43CB-ADC3-7980DFB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CD39E-0D7B-4B0C-AEAB-60FC70C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57EA-F4A6-418C-979B-45D24A6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AA0B-BD2C-4219-86F2-C900766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66B64-C30A-47B1-9CE9-43B621F9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E59-EBD7-4097-8194-5E46A70F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373F-5BAF-49C7-ACBB-3E9CFBC2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0E25A-196A-4C88-AA13-B19F4AB5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F3B95-361E-46C0-A056-41FEAA9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04804-02C7-448A-B0B0-913AFB04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7DEC4-B857-4AF7-A143-B0CF4A05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CCE3-D803-454A-B375-E7C24E4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F1F6-1455-43B3-B297-3D01812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545A-57DB-4ACF-BA0A-A3800CA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E737-6A11-4C2D-9E2D-A3EEF06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7740-DF98-43EF-B717-DFE2203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A51-64A8-444A-BE1E-6EE78BF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4195-C99C-40DF-BD98-C9440D0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51AA-87C4-4471-936D-92546E7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D544-D188-424E-BE5F-3F1D416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EED4-1665-485D-AF5D-AE8365FF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17091-AE54-4839-87FC-9B8D69E4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79F0-FF3F-43E9-ACE7-BCE32481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B4EE-C315-492A-ADAD-28EB2F3D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6B04-582F-4B4C-B1E6-B9A932E5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82CD-E164-4F82-B314-2360722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33F8-19C9-4361-9254-3C2FCF6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051-A6D7-45D6-8D83-0622722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01BB-1972-406A-B674-7E0DEB0D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72AE7-C3AA-43FF-9902-A7B7B189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73E8-315D-40C7-9675-12F5DED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0010-342D-42EC-905A-80916D6D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5175-AC64-414B-B952-00C8F8F7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0052-C3DB-4F29-A770-7568B57D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EC098-C75D-4CA4-ACD3-229D3EE1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4841-D448-4506-A3C7-0B97F43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F5DAA-4C36-4A0F-AB09-2409415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45B5-0385-421A-A5E3-04D679D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59B-913C-4C47-A3EC-D6051677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17A2-3EBF-4117-9DE2-C6E1318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A091-B7AD-4FD8-BCDB-2014229D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D2F0-55B3-4976-BCD7-8FE1757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5E50F-D3BF-4BDF-A400-DF48373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C8410-8EAE-4DB5-B5E9-997E86B3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C3E88-B29C-451F-BA07-3A442038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C53C-80DF-41B1-8BFD-081ACE23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547-8311-41F4-BA34-CDC85EF21AB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AB58-796B-4F70-BB99-9EFFB35A9CD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86E-72EF-4253-8C35-3A6FACA5298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90B-10AC-402E-AEE4-0CCD8CFCC42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E72-C1E7-4039-9795-65DD0D19035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247E-7B03-4CB0-B3A4-93C047E7500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5F07-B7EC-4576-9E63-912EB808167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BD7-1F91-4C4E-96F4-5754DB91BBC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s1.wikipaintings.org/images/paul-gauguin/self-portrait-1885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ffinity4you.ru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звездная ночь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85604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ahoma"/>
              </a:rPr>
              <a:t>Винсент Ван Гог. Звездная ночь над Роной. Арль, сентябрь 188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ttp://img1.liveinternet.ru/images/attach/c/2/73/504/73504805_3184308_Edgar_Germain_Hilaire_Degas_076.jpg"/>
          <p:cNvPicPr/>
          <p:nvPr/>
        </p:nvPicPr>
        <p:blipFill>
          <a:blip r:embed="rId1"/>
          <a:stretch/>
        </p:blipFill>
        <p:spPr>
          <a:xfrm>
            <a:off x="1600200" y="129528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0" y="15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дгар Дега. Голубые танцовщиц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сеятель"/>
          <p:cNvPicPr/>
          <p:nvPr/>
        </p:nvPicPr>
        <p:blipFill>
          <a:blip r:embed="rId1"/>
          <a:stretch/>
        </p:blipFill>
        <p:spPr>
          <a:xfrm>
            <a:off x="2057400" y="1600200"/>
            <a:ext cx="4648320" cy="35323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3"/>
          <p:cNvSpPr/>
          <p:nvPr/>
        </p:nvSpPr>
        <p:spPr>
          <a:xfrm>
            <a:off x="0" y="533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инсент Ван Гог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«Сеятель на закате солнца»  1888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Автопортрет - Поль Гоге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86000"/>
            <a:ext cx="3426120" cy="416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klementeena.ru/wp-content/uploads/2011/02/gogen-autoportret.jpg"/>
          <p:cNvPicPr/>
          <p:nvPr/>
        </p:nvPicPr>
        <p:blipFill>
          <a:blip r:embed="rId3"/>
          <a:stretch/>
        </p:blipFill>
        <p:spPr>
          <a:xfrm>
            <a:off x="609480" y="1143000"/>
            <a:ext cx="3429000" cy="435456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609480" y="152280"/>
            <a:ext cx="853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жен Анри Поль Гоген (1848— 1903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нцузский живописец, скульптор, керамист и графи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images15.fotki.com/v235/photos/7/1454087/10124200/img168-vi.jpg"/>
          <p:cNvPicPr/>
          <p:nvPr/>
        </p:nvPicPr>
        <p:blipFill>
          <a:blip r:embed="rId1"/>
          <a:stretch/>
        </p:blipFill>
        <p:spPr>
          <a:xfrm>
            <a:off x="1219320" y="1295280"/>
            <a:ext cx="5943600" cy="428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2" descr="http://images57.fotki.com/v80/photos/7/1454087/10124200/TheCoastofBellangenay-vi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5520" cy="394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2"/>
          <p:cNvSpPr/>
          <p:nvPr/>
        </p:nvSpPr>
        <p:spPr>
          <a:xfrm>
            <a:off x="3823920" y="32446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дгар Де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2" descr="http://7iskusstv.com/2010/Nomer1/Kojfman7.jpg"/>
          <p:cNvPicPr/>
          <p:nvPr/>
        </p:nvPicPr>
        <p:blipFill>
          <a:blip r:embed="rId1"/>
          <a:stretch/>
        </p:blipFill>
        <p:spPr>
          <a:xfrm>
            <a:off x="2209680" y="746280"/>
            <a:ext cx="4419720" cy="61117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2362320" y="1522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ГА Эдгар Илер Жермен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1834-1917) французский живописе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i074.radikal.ru/1006/15/1c5c112afa5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371600"/>
            <a:ext cx="5410080" cy="40672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3200400" y="3049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</a:rPr>
              <a:t>Эдгар Д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3823920" y="32446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дгар Де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2" descr="http://s53.radikal.ru/i139/1006/ff/8a06a730693f.jpg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46004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4"/>
          <p:cNvSpPr/>
          <p:nvPr/>
        </p:nvSpPr>
        <p:spPr>
          <a:xfrm>
            <a:off x="3674520" y="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ahoma"/>
              </a:rPr>
              <a:t>Эдгар Де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uploads4.wikipaintings.org/images/edgar-degas/seascape-1869.jpg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4352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3"/>
          <p:cNvSpPr/>
          <p:nvPr/>
        </p:nvSpPr>
        <p:spPr>
          <a:xfrm>
            <a:off x="2673000" y="30492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144c"/>
                </a:solidFill>
                <a:latin typeface="Tahoma"/>
              </a:rPr>
              <a:t>Эдгар Дега Морской пейза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19:3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