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A82-30D6-45B6-AA0B-9838D1B6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7B7-4DBC-4565-92B4-62C1BBCB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8EB-A46E-4C91-9575-79EB7379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540-A816-4875-A9A9-6F657823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10A0-65D0-411C-9646-2894BEC1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E3A8-9886-4F84-A8C0-C49F6323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BBA4-DD59-4AAE-86EF-BCB890A7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9DCA-C9F6-4435-8920-5CBC0E07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D831-1213-4D72-BC4E-89344203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79FA-E668-43BF-9E97-2F3F48DC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D80F-B5DD-425D-9F94-9699BC3D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7F5-81B4-4FCE-9799-E4BEDDC7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CBF4-F8E0-401C-ACDE-D53DD42B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64D0-7413-4FA4-AFCA-09A4B99E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A4DF-B537-4154-9E50-323D314A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C3F8-567C-4AC8-ADCD-EE28A9CA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FECE-C137-4CFD-A39C-06100294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BEBFE-7C5F-47FA-8B33-8D8CCCC3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8FE5-381A-413D-AF9C-E23CC831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B3E88-CFF8-458A-A02A-D96DB0B6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73318-081B-4619-A9DB-FAF7E700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373A8-DEC2-477E-BFE4-3934AB5B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A71-585D-4261-9DD1-A340867C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879A4-DD4E-4882-9771-EF9A087A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CB0C9-F549-4C1D-B6F6-C8444524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579BA-0233-45D2-847A-585A0067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8146E-DB08-49AF-9241-6A9AF73E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3113C-46BC-4EE2-A6C9-8FF12E4D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E6453-719B-415E-A4D1-CE1CDE47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88228-42FE-4E86-AA9B-3EB9BD5D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05614-824C-4FFA-A812-E5793306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9CE68-C339-4849-84A5-289AEA27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E6B08-E468-43EA-A627-46D8B082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581-5567-4CA3-9B95-55267AA2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14E8E-D8DE-41E5-A777-FE1EEE59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89504-D388-4623-B17A-DC6B6DC0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CC5D7-346D-4A82-8840-424DD25B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18238-684D-4394-9DD5-508E92FA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06AEE-D7F6-4AD0-82AC-A113D563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DC8AF-F80C-4DBD-9A6F-59305C9D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E3B71-45FE-4EFB-B002-213E1714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85EE8-FA4B-474F-AAFF-0B03D916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8136B-3826-4450-A54B-10945C5C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C055C-0FC5-4F37-9784-77E1EDF5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323-27F3-4E30-8B03-9E475864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3A5A2-2D97-4E91-8DA5-29317234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37E2C-D893-4C5B-B597-E6E1BF1E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FA4EA-02F6-4950-858D-A12644D2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3BAA1-E4F7-41B9-8449-33521E69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97964-AF0B-43D6-A185-6414B068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E625F-C03A-4FBC-8586-ECEB373F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B2CB8-DCBD-46F1-9397-D7FB47DE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3FC54-3478-4BBD-89C9-3EEC07AE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C5A6A-006B-4ABB-8309-33F8F910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95E2F-1D57-4F95-9E5E-21CD9CD7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76FB-F01E-4E94-AD9E-FE0D5357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38ED7-226A-4118-8F8A-B6BEDBA0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7FE99-47A8-45B4-8BEF-614BE6C3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1AF55-7A69-4B22-A921-AFAD5EE1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6FFC1-4AE7-4BDE-BB37-0F6BFEE6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59802-3672-4F03-ADD2-392E06A3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F128E-B1E4-48FB-8F80-2D5BA76C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EADB7-D437-41D5-80A5-6FF8A3DD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F4AB3-74A4-4B3E-A007-A86500FB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218E3-AA9B-47CD-9C7B-7C12E65E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863CB-E7A9-4911-9350-7EF0E5EA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BA1-5A24-43EC-99BB-809AF51C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C77AD-51D2-416D-A17E-C95D5D7F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D3937-7C44-4A36-95A7-E7C3690D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31A15-5A24-4218-838E-230377CC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06471-4893-48A8-A7AF-F24C3BFF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B7AC8-0267-4A6C-B90E-A5A2DD29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D99E7-4427-4925-8BB4-79B2F438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E1EB2-970C-4876-A2C1-B7C96C9F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41734-8C21-402E-AEC1-01987064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CCF2A-C912-4070-886F-46E7D95E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1CF3E-8077-41E6-AA4E-4F897A48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8D5-8315-48EA-ACFD-64646065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63341-F999-4D77-9489-46992A74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A2A3D-3A3C-4F5F-A74E-77B7E757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BB982-11DB-4CFB-B159-B7B538A9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A163B-290F-4812-8935-54CCB01B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01B32-EE44-414F-B27C-5D5506B5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83DD7-9B78-42AA-90AE-ADF0EB15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34FD8-A0A1-4DEC-9006-C2B82345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4D77D-F0FB-4280-8CD5-558CD82E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71BEF-11EA-497F-904E-71BFF7A6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FB519-2449-49CC-B32E-50C58D6E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EE60-0569-49A0-A3FF-58899AAF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878F1-42F6-4973-9822-F737536D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B9271-4E02-4964-979E-AA8BBFE3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48385-A55A-43C1-9234-26716DB6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59DDD-4551-4D1C-873C-7F6321BE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82367-FB48-43C0-B21B-90FD9455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00FBC-6CFF-4B9A-9065-FCD54890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C0170-EAE2-4C05-9ECE-2207757B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FF25-C2CA-4B53-AA5B-C3BAAAE0D60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51C3-66F3-45DD-AD39-F39854965EE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D5B4-1B71-4E38-94D6-179A9B46E25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39E0-AAB1-41D0-AC2A-B04B86F4687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17A2-A4EC-4ECA-AAB8-D3D0134FC61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B715-57EB-4A73-A61C-434F8509F89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F1D5-E2EB-4A19-B247-3E9CDD7131E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D556-68FA-4FAB-AF78-57B768B72DC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s1.wikipaintings.org/images/paul-gauguin/self-portrait-1885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ffinity4you.ru/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Picture 2" descr="звездная ночь"/>
          <p:cNvPicPr/>
          <p:nvPr/>
        </p:nvPicPr>
        <p:blipFill>
          <a:blip r:embed="rId1"/>
          <a:stretch/>
        </p:blipFill>
        <p:spPr>
          <a:xfrm>
            <a:off x="1676520" y="1143000"/>
            <a:ext cx="5943600" cy="485604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Tahoma"/>
              </a:rPr>
              <a:t>Винсент Ван Гог. Звездная ночь над Роной. Арль, сентябрь 188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http://img1.liveinternet.ru/images/attach/c/2/73/504/73504805_3184308_Edgar_Germain_Hilaire_Degas_076.jpg"/>
          <p:cNvPicPr/>
          <p:nvPr/>
        </p:nvPicPr>
        <p:blipFill>
          <a:blip r:embed="rId1"/>
          <a:stretch/>
        </p:blipFill>
        <p:spPr>
          <a:xfrm>
            <a:off x="1600200" y="1295280"/>
            <a:ext cx="5334120" cy="487836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3"/>
          <p:cNvSpPr/>
          <p:nvPr/>
        </p:nvSpPr>
        <p:spPr>
          <a:xfrm>
            <a:off x="0" y="152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дгар Дега. Голубые танцовщиц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сеятель"/>
          <p:cNvPicPr/>
          <p:nvPr/>
        </p:nvPicPr>
        <p:blipFill>
          <a:blip r:embed="rId1"/>
          <a:stretch/>
        </p:blipFill>
        <p:spPr>
          <a:xfrm>
            <a:off x="2057400" y="1600200"/>
            <a:ext cx="4648320" cy="3532320"/>
          </a:xfrm>
          <a:prstGeom prst="rect">
            <a:avLst/>
          </a:prstGeom>
          <a:ln w="0">
            <a:noFill/>
          </a:ln>
        </p:spPr>
      </p:pic>
      <p:sp>
        <p:nvSpPr>
          <p:cNvPr id="374" name="Прямоугольник 3"/>
          <p:cNvSpPr/>
          <p:nvPr/>
        </p:nvSpPr>
        <p:spPr>
          <a:xfrm>
            <a:off x="0" y="533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Винсент Ван Гог</a:t>
            </a:r>
            <a:r>
              <a:rPr b="1" lang="en-US" sz="18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«Сеятель на закате солнца»  1888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Автопортрет - Поль Гоге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286000"/>
            <a:ext cx="3426120" cy="4168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http://klementeena.ru/wp-content/uploads/2011/02/gogen-autoportret.jpg"/>
          <p:cNvPicPr/>
          <p:nvPr/>
        </p:nvPicPr>
        <p:blipFill>
          <a:blip r:embed="rId3"/>
          <a:stretch/>
        </p:blipFill>
        <p:spPr>
          <a:xfrm>
            <a:off x="609480" y="1143000"/>
            <a:ext cx="3429000" cy="435456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3"/>
          <p:cNvSpPr/>
          <p:nvPr/>
        </p:nvSpPr>
        <p:spPr>
          <a:xfrm>
            <a:off x="609480" y="152280"/>
            <a:ext cx="8534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жен Анри Поль Гоген (1848— 1903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ранцузский живописец, скульптор, керамист и графи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http://images15.fotki.com/v235/photos/7/1454087/10124200/img168-vi.jpg"/>
          <p:cNvPicPr/>
          <p:nvPr/>
        </p:nvPicPr>
        <p:blipFill>
          <a:blip r:embed="rId1"/>
          <a:stretch/>
        </p:blipFill>
        <p:spPr>
          <a:xfrm>
            <a:off x="1219320" y="1295280"/>
            <a:ext cx="5943600" cy="4280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Picture 2" descr="http://images57.fotki.com/v80/photos/7/1454087/10124200/TheCoastofBellangenay-vi.jpg"/>
          <p:cNvPicPr/>
          <p:nvPr/>
        </p:nvPicPr>
        <p:blipFill>
          <a:blip r:embed="rId1"/>
          <a:stretch/>
        </p:blipFill>
        <p:spPr>
          <a:xfrm>
            <a:off x="2057400" y="1295280"/>
            <a:ext cx="5105520" cy="394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2"/>
          <p:cNvSpPr/>
          <p:nvPr/>
        </p:nvSpPr>
        <p:spPr>
          <a:xfrm>
            <a:off x="3823920" y="324468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Эдгар Де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2" name="Picture 2" descr="http://7iskusstv.com/2010/Nomer1/Kojfman7.jpg"/>
          <p:cNvPicPr/>
          <p:nvPr/>
        </p:nvPicPr>
        <p:blipFill>
          <a:blip r:embed="rId1"/>
          <a:stretch/>
        </p:blipFill>
        <p:spPr>
          <a:xfrm>
            <a:off x="2209680" y="746280"/>
            <a:ext cx="4419720" cy="611172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6"/>
          <p:cNvSpPr/>
          <p:nvPr/>
        </p:nvSpPr>
        <p:spPr>
          <a:xfrm>
            <a:off x="2362320" y="1522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ЕГА Эдгар Илер Жерм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1834-1917) французский живописец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http://i074.radikal.ru/1006/15/1c5c112afa5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371600"/>
            <a:ext cx="5410080" cy="40672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3"/>
          <p:cNvSpPr/>
          <p:nvPr/>
        </p:nvSpPr>
        <p:spPr>
          <a:xfrm>
            <a:off x="3200400" y="30492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ahoma"/>
              </a:rPr>
              <a:t>Эдгар Дег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2"/>
          <p:cNvSpPr/>
          <p:nvPr/>
        </p:nvSpPr>
        <p:spPr>
          <a:xfrm>
            <a:off x="3823920" y="324468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Эдгар Де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Picture 2" descr="http://s53.radikal.ru/i139/1006/ff/8a06a730693f.jpg"/>
          <p:cNvPicPr/>
          <p:nvPr/>
        </p:nvPicPr>
        <p:blipFill>
          <a:blip r:embed="rId1"/>
          <a:stretch/>
        </p:blipFill>
        <p:spPr>
          <a:xfrm>
            <a:off x="1523880" y="1447920"/>
            <a:ext cx="6172200" cy="460044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4"/>
          <p:cNvSpPr/>
          <p:nvPr/>
        </p:nvSpPr>
        <p:spPr>
          <a:xfrm>
            <a:off x="3674520" y="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1111"/>
                </a:solidFill>
                <a:latin typeface="Tahoma"/>
              </a:rPr>
              <a:t>Эдгар Дег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http://uploads4.wikipaintings.org/images/edgar-degas/seascape-1869.jpg"/>
          <p:cNvPicPr/>
          <p:nvPr/>
        </p:nvPicPr>
        <p:blipFill>
          <a:blip r:embed="rId1"/>
          <a:stretch/>
        </p:blipFill>
        <p:spPr>
          <a:xfrm>
            <a:off x="1295280" y="1447920"/>
            <a:ext cx="6400800" cy="443520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3"/>
          <p:cNvSpPr/>
          <p:nvPr/>
        </p:nvSpPr>
        <p:spPr>
          <a:xfrm>
            <a:off x="2673000" y="304920"/>
            <a:ext cx="35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b144c"/>
                </a:solidFill>
                <a:latin typeface="Tahoma"/>
              </a:rPr>
              <a:t>Эдгар Дега Морской пейзаж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ga</dc:creator>
  <dc:description/>
  <dc:language>en-US</dc:language>
  <cp:lastModifiedBy>olga</cp:lastModifiedBy>
  <dcterms:modified xsi:type="dcterms:W3CDTF">2015-02-06T19:19:36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