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D20B-DD58-48D8-BD84-C1307D5CA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8BF0-AD82-49CE-8EC2-C59379F9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8CEC-14D0-4C52-9C6F-9C5DD5A46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C839-00E6-4B29-8ADD-782FD2994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B166-A9C7-430A-AF5B-F307788E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608C-8834-4B91-AC1B-9EDC7EE7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AB8C-19BB-4A38-9019-4552CA86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61F5-71FE-4835-AFAA-0F5F5331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84B5-5E65-4139-927A-2D411C76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DC5F-8E91-4EC1-B68E-661CB2B8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D27D-2193-4916-BC0C-AEF47C8D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886A-7DC5-445D-834A-1FC3E932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A6F9-B7D0-412A-8C3C-74C0406A4D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pn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55640" y="1483920"/>
            <a:ext cx="4319640" cy="24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А.С. Пушкин. Жизнь и творчество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472000" y="5013360"/>
            <a:ext cx="367200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98989"/>
                </a:solidFill>
                <a:latin typeface="Bookman Old Style"/>
              </a:rPr>
              <a:t>учитель русского языка и литерату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98989"/>
                </a:solidFill>
                <a:latin typeface="Bookman Old Style"/>
              </a:rPr>
              <a:t>Кырнышева Зоя Александр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Documents and Settings\Admin\Рабочий стол\Уроки 5 и 8 класс\Пушкин.jpg"/>
          <p:cNvPicPr/>
          <p:nvPr/>
        </p:nvPicPr>
        <p:blipFill>
          <a:blip r:embed="rId1"/>
          <a:stretch/>
        </p:blipFill>
        <p:spPr>
          <a:xfrm>
            <a:off x="57240" y="1125360"/>
            <a:ext cx="3863880" cy="5058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3"/>
          <p:cNvSpPr/>
          <p:nvPr/>
        </p:nvSpPr>
        <p:spPr>
          <a:xfrm>
            <a:off x="755640" y="5076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МОУ «Благоевская средняя общеобразовательная школа 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вторы портрето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опинин Василий Андре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Репин Илья Ефим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Кипренский Орест Адам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C:\Documents and Settings\Admin\Рабочий стол\Уроки 5 и 8 класс\Тропининf.jpg"/>
          <p:cNvPicPr/>
          <p:nvPr/>
        </p:nvPicPr>
        <p:blipFill>
          <a:blip r:embed="rId1"/>
          <a:stretch/>
        </p:blipFill>
        <p:spPr>
          <a:xfrm>
            <a:off x="6935760" y="333360"/>
            <a:ext cx="2057400" cy="2664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C:\Documents and Settings\Admin\Рабочий стол\Уроки 5 и 8 класс\Репин.jpg"/>
          <p:cNvPicPr/>
          <p:nvPr/>
        </p:nvPicPr>
        <p:blipFill>
          <a:blip r:embed="rId2"/>
          <a:stretch/>
        </p:blipFill>
        <p:spPr>
          <a:xfrm>
            <a:off x="4836960" y="2781360"/>
            <a:ext cx="2063880" cy="2519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C:\Documents and Settings\Admin\Рабочий стол\Уроки 5 и 8 класс\Кипренскийf.jpg"/>
          <p:cNvPicPr/>
          <p:nvPr/>
        </p:nvPicPr>
        <p:blipFill>
          <a:blip r:embed="rId3"/>
          <a:stretch/>
        </p:blipFill>
        <p:spPr>
          <a:xfrm>
            <a:off x="684360" y="4321080"/>
            <a:ext cx="186516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му из этих художников позировал сам Пушкин А.С.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Documents and Settings\Admin\Рабочий стол\Уроки 5 и 8 класс\Пушкин Тропинин.jpg"/>
          <p:cNvPicPr/>
          <p:nvPr/>
        </p:nvPicPr>
        <p:blipFill>
          <a:blip r:embed="rId1"/>
          <a:stretch/>
        </p:blipFill>
        <p:spPr>
          <a:xfrm>
            <a:off x="4788000" y="1622520"/>
            <a:ext cx="3867120" cy="465120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4"/>
          <p:cNvSpPr/>
          <p:nvPr/>
        </p:nvSpPr>
        <p:spPr>
          <a:xfrm>
            <a:off x="185760" y="3962520"/>
            <a:ext cx="398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. Тропинину В.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5"/>
          <p:cNvSpPr/>
          <p:nvPr/>
        </p:nvSpPr>
        <p:spPr>
          <a:xfrm>
            <a:off x="11160" y="213372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. Тропинину В.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. Репину И.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. Кипренскому О.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зовите художника,  который написал этот портрет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4076640"/>
            <a:ext cx="45352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. Кипренский О.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C:\Documents and Settings\Admin\Рабочий стол\Уроки 5 и 8 класс\Пушкин Кинпренский.jpg"/>
          <p:cNvPicPr/>
          <p:nvPr/>
        </p:nvPicPr>
        <p:blipFill>
          <a:blip r:embed="rId1"/>
          <a:stretch/>
        </p:blipFill>
        <p:spPr>
          <a:xfrm>
            <a:off x="5292720" y="1996920"/>
            <a:ext cx="3336840" cy="403416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3"/>
          <p:cNvSpPr/>
          <p:nvPr/>
        </p:nvSpPr>
        <p:spPr>
          <a:xfrm>
            <a:off x="250920" y="2075040"/>
            <a:ext cx="439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. Тропинин В.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. Репин И.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. Кипренский О.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1" dur="1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ой из данных портретов был написан раньш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C:\Documents and Settings\Admin\Рабочий стол\Уроки 5 и 8 класс\Пушкин Тропинин.jpg"/>
          <p:cNvPicPr/>
          <p:nvPr/>
        </p:nvPicPr>
        <p:blipFill>
          <a:blip r:embed="rId1"/>
          <a:stretch/>
        </p:blipFill>
        <p:spPr>
          <a:xfrm>
            <a:off x="4788000" y="1622520"/>
            <a:ext cx="3867120" cy="4651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Documents and Settings\Admin\Рабочий стол\Уроки 5 и 8 класс\Пушкин Кинпренский.jpg"/>
          <p:cNvPicPr/>
          <p:nvPr/>
        </p:nvPicPr>
        <p:blipFill>
          <a:blip r:embed="rId2"/>
          <a:stretch/>
        </p:blipFill>
        <p:spPr>
          <a:xfrm>
            <a:off x="324000" y="1622520"/>
            <a:ext cx="384804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рузь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Чаадаев Петр Яковл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Кюхельбекер Вильгельм Карл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Пущин Иван Ив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Дельвиг Антон Анто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Каверин Петр Павл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Горчаков Александр Михайл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из друзей Пушкина А.С. посетил опального поэта в ссылке в Михайловско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435280" y="1413000"/>
            <a:ext cx="325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Пущин И. 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Дельвиг А. 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Горчаков А.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Объект 2"/>
          <p:cNvSpPr/>
          <p:nvPr/>
        </p:nvSpPr>
        <p:spPr>
          <a:xfrm>
            <a:off x="457200" y="1600200"/>
            <a:ext cx="375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Чаадаев П. 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Кюхельбекер В. 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Пущин И. 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Дельвиг А. 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Каверин П. 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Горчаков А.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C:\Documents and Settings\Admin\Рабочий стол\Уроки 5 и 8 класс\Пущин.jpg"/>
          <p:cNvPicPr/>
          <p:nvPr/>
        </p:nvPicPr>
        <p:blipFill>
          <a:blip r:embed="rId1"/>
          <a:stretch/>
        </p:blipFill>
        <p:spPr>
          <a:xfrm>
            <a:off x="179280" y="1268280"/>
            <a:ext cx="2381400" cy="2905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Documents and Settings\Admin\Рабочий стол\Уроки 5 и 8 класс\Дельвиг.jpg"/>
          <p:cNvPicPr/>
          <p:nvPr/>
        </p:nvPicPr>
        <p:blipFill>
          <a:blip r:embed="rId2"/>
          <a:stretch/>
        </p:blipFill>
        <p:spPr>
          <a:xfrm>
            <a:off x="2558880" y="2682720"/>
            <a:ext cx="2460960" cy="2951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C:\Documents and Settings\Admin\Рабочий стол\Уроки 5 и 8 класс\Горчаков.jpg"/>
          <p:cNvPicPr/>
          <p:nvPr/>
        </p:nvPicPr>
        <p:blipFill>
          <a:blip r:embed="rId3"/>
          <a:stretch/>
        </p:blipFill>
        <p:spPr>
          <a:xfrm>
            <a:off x="5019840" y="3933720"/>
            <a:ext cx="236052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то из друзей был гусарским офицеро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99840"/>
            <a:ext cx="38275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Чаадаев П. 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Кюхельбекер В. 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Пущин И. 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Дельвиг А. 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Каверин П. 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Горчаков А.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Объект 2"/>
          <p:cNvSpPr/>
          <p:nvPr/>
        </p:nvSpPr>
        <p:spPr>
          <a:xfrm>
            <a:off x="3419640" y="1598760"/>
            <a:ext cx="5483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Чаадаев П. 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Каверин П. 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C:\Documents and Settings\Admin\Рабочий стол\Уроки 5 и 8 класс\Чаадаев.jpg"/>
          <p:cNvPicPr/>
          <p:nvPr/>
        </p:nvPicPr>
        <p:blipFill>
          <a:blip r:embed="rId1"/>
          <a:stretch/>
        </p:blipFill>
        <p:spPr>
          <a:xfrm>
            <a:off x="539640" y="1546200"/>
            <a:ext cx="2592360" cy="3357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Documents and Settings\Admin\Рабочий стол\Уроки 5 и 8 класс\Каверин.jpg"/>
          <p:cNvPicPr/>
          <p:nvPr/>
        </p:nvPicPr>
        <p:blipFill>
          <a:blip r:embed="rId2"/>
          <a:stretch/>
        </p:blipFill>
        <p:spPr>
          <a:xfrm>
            <a:off x="3400560" y="3508200"/>
            <a:ext cx="2303280" cy="30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 кем из лицейских друзей Пушкин стрелялся на дуэл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60020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Чаадаев П. 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Кюхельбекер В. 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Пущин И. 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Дельвиг А. 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Каверин П. 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Горчаков А.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Объект 2"/>
          <p:cNvSpPr/>
          <p:nvPr/>
        </p:nvSpPr>
        <p:spPr>
          <a:xfrm>
            <a:off x="47880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Кюхельбекер В. 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C:\Documents and Settings\Admin\Рабочий стол\Уроки 5 и 8 класс\Кюхельбекер.jpg"/>
          <p:cNvPicPr/>
          <p:nvPr/>
        </p:nvPicPr>
        <p:blipFill>
          <a:blip r:embed="rId1"/>
          <a:stretch/>
        </p:blipFill>
        <p:spPr>
          <a:xfrm>
            <a:off x="797040" y="1773360"/>
            <a:ext cx="352872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му посвящены следующие строки Пушкина А.С.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14000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рузья мои, прекрасен наш союз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н как душа неразделим и вечен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колебим, свободен и беспече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растался он под сенью дружных муз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Объект 2"/>
          <p:cNvSpPr/>
          <p:nvPr/>
        </p:nvSpPr>
        <p:spPr>
          <a:xfrm>
            <a:off x="179280" y="1616040"/>
            <a:ext cx="381636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Чаадаев П. 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Кюхельбекер В. 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Пущин И. 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Дельвиг А. 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Каверин П. 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Горчаков А.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Объект 2"/>
          <p:cNvSpPr/>
          <p:nvPr/>
        </p:nvSpPr>
        <p:spPr>
          <a:xfrm>
            <a:off x="206280" y="2205000"/>
            <a:ext cx="410544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Кюхельбекеру В. 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Пущину И. 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Дельвигу А. 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Горчакову А.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друзьям лицеист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му посвящены следующие строки Пушкина А.С.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788000" y="1628280"/>
            <a:ext cx="36115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исатель, за свои грех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ы с виду всех трезве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прочти свои стих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б мне заснуть скорее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Объект 2"/>
          <p:cNvSpPr/>
          <p:nvPr/>
        </p:nvSpPr>
        <p:spPr>
          <a:xfrm>
            <a:off x="457200" y="1600200"/>
            <a:ext cx="3827520" cy="37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Чаадаев П. 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Кюхельбекер В. 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Пущин И. 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Дельвиг А. 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Каверин П. 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Горчаков А.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Объект 2"/>
          <p:cNvSpPr/>
          <p:nvPr/>
        </p:nvSpPr>
        <p:spPr>
          <a:xfrm>
            <a:off x="4716360" y="4056120"/>
            <a:ext cx="400068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Кюхельбекеру В. 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C:\Documents and Settings\Admin\Рабочий стол\Уроки 5 и 8 класс\Кюхельбекер.jpg"/>
          <p:cNvPicPr/>
          <p:nvPr/>
        </p:nvPicPr>
        <p:blipFill>
          <a:blip r:embed="rId1"/>
          <a:stretch/>
        </p:blipFill>
        <p:spPr>
          <a:xfrm>
            <a:off x="484200" y="1281240"/>
            <a:ext cx="361152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унд №1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68280"/>
            <a:ext cx="8686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ите в хронологическом порядке фамилии поэтов и писателей по датам их рожд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ушкин А.С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ержавин Г.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Жуковский В.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ылеев К.Ф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Грибоедов А.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Лермонтов М.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му посвящены следующие строки Пушкина А.С.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4920" y="270828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Чаадаев П. 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Кюхельбекер В. 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Пущин И. 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Дельвиг А. 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Каверин П. 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Горчаков А.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4"/>
          <p:cNvSpPr/>
          <p:nvPr/>
        </p:nvSpPr>
        <p:spPr>
          <a:xfrm>
            <a:off x="3851280" y="1436760"/>
            <a:ext cx="547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ты спиш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снись, ленивец сонный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ы не под кафедрой лежишь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атынью усыпленн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Объект 2"/>
          <p:cNvSpPr/>
          <p:nvPr/>
        </p:nvSpPr>
        <p:spPr>
          <a:xfrm>
            <a:off x="3995640" y="3860640"/>
            <a:ext cx="44640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Дельвигу А. 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C:\Documents and Settings\Admin\Рабочий стол\Уроки 5 и 8 класс\Дельвиг.jpg"/>
          <p:cNvPicPr/>
          <p:nvPr/>
        </p:nvPicPr>
        <p:blipFill>
          <a:blip r:embed="rId1"/>
          <a:stretch/>
        </p:blipFill>
        <p:spPr>
          <a:xfrm>
            <a:off x="179280" y="1844640"/>
            <a:ext cx="31132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1" dur="17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4" dur="17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му посвящены следующие строки Пушкина А.С.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3480" y="2492280"/>
            <a:ext cx="3178080" cy="32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Чаадаев П. 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юхельбекер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. 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Пущин И. 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Дельвиг А. 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Каверин П. П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. Горчаков А.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4"/>
          <p:cNvSpPr/>
          <p:nvPr/>
        </p:nvSpPr>
        <p:spPr>
          <a:xfrm>
            <a:off x="3564000" y="1628640"/>
            <a:ext cx="489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варищ, верь: взойдет он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везда пленительного счастья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ссия вспрянет ото сн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на обломках самовлас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ишут наши име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7"/>
          <p:cNvSpPr/>
          <p:nvPr/>
        </p:nvSpPr>
        <p:spPr>
          <a:xfrm>
            <a:off x="5165640" y="4437000"/>
            <a:ext cx="30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Чаадаеву П. 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C:\Documents and Settings\Admin\Рабочий стол\Уроки 5 и 8 класс\Чаадаев.jpg"/>
          <p:cNvPicPr/>
          <p:nvPr/>
        </p:nvPicPr>
        <p:blipFill>
          <a:blip r:embed="rId1"/>
          <a:stretch/>
        </p:blipFill>
        <p:spPr>
          <a:xfrm>
            <a:off x="324000" y="1413000"/>
            <a:ext cx="295272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3" dur="1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6" dur="1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му посвящены следующие строки Пушкина А.С.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3480" y="2492280"/>
            <a:ext cx="3178080" cy="32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Чаадаев П. 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юхельбекер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. 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Пущин И. 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Дельвиг А. 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Каверин П. П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. Горчаков А.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рямоугольник 4"/>
          <p:cNvSpPr/>
          <p:nvPr/>
        </p:nvSpPr>
        <p:spPr>
          <a:xfrm>
            <a:off x="3564000" y="1628640"/>
            <a:ext cx="4895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й первый друг, мой друг бесценный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я судьбу благословил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мой двор уединенны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чальный снегом занесенны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вой колокольчик огласи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5"/>
          <p:cNvSpPr/>
          <p:nvPr/>
        </p:nvSpPr>
        <p:spPr>
          <a:xfrm>
            <a:off x="5020560" y="5041800"/>
            <a:ext cx="285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Пущину И. 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C:\Documents and Settings\Admin\Рабочий стол\Уроки 5 и 8 класс\Пущин.jpg"/>
          <p:cNvPicPr/>
          <p:nvPr/>
        </p:nvPicPr>
        <p:blipFill>
          <a:blip r:embed="rId1"/>
          <a:stretch/>
        </p:blipFill>
        <p:spPr>
          <a:xfrm>
            <a:off x="250920" y="1882800"/>
            <a:ext cx="309708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20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унд №2.  Творче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26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нц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Валь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Поль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Полоне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Мазур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Лезги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Котиль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3"/>
          <p:cNvSpPr/>
          <p:nvPr/>
        </p:nvSpPr>
        <p:spPr>
          <a:xfrm>
            <a:off x="684360" y="404640"/>
            <a:ext cx="83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й танец танцевали на именина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тьяны Ларино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4"/>
          <p:cNvSpPr/>
          <p:nvPr/>
        </p:nvSpPr>
        <p:spPr>
          <a:xfrm>
            <a:off x="5302800" y="3141720"/>
            <a:ext cx="23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. Мазурк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C:\Documents and Settings\Admin\Рабочий стол\Уроки 5 и 8 класс\мазурка.jpg"/>
          <p:cNvPicPr/>
          <p:nvPr/>
        </p:nvPicPr>
        <p:blipFill>
          <a:blip r:embed="rId1"/>
          <a:stretch/>
        </p:blipFill>
        <p:spPr>
          <a:xfrm>
            <a:off x="826920" y="1717560"/>
            <a:ext cx="3745080" cy="497376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5"/>
          <p:cNvSpPr/>
          <p:nvPr/>
        </p:nvSpPr>
        <p:spPr>
          <a:xfrm>
            <a:off x="539640" y="115920"/>
            <a:ext cx="819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узыку к каким танцам сочиня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ибоедов А.С.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6"/>
          <p:cNvSpPr/>
          <p:nvPr/>
        </p:nvSpPr>
        <p:spPr>
          <a:xfrm>
            <a:off x="5148360" y="388152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. К вальса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3" descr="C:\Documents and Settings\Admin\Рабочий стол\Уроки 5 и 8 класс\вальс.jpg"/>
          <p:cNvPicPr/>
          <p:nvPr/>
        </p:nvPicPr>
        <p:blipFill>
          <a:blip r:embed="rId2"/>
          <a:srcRect l="0" t="0" r="0" b="3450"/>
          <a:stretch/>
        </p:blipFill>
        <p:spPr>
          <a:xfrm>
            <a:off x="974880" y="1552680"/>
            <a:ext cx="335592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0" dur="1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3" dur="1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6" dur="1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9" dur="1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2" dur="1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5" dur="1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8" dur="1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то первым пригласил на танец Ольгу Ларину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4000" y="1724040"/>
            <a:ext cx="2746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еро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Онегин 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Лен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Петуш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Буян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Зарец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Объект 2"/>
          <p:cNvSpPr/>
          <p:nvPr/>
        </p:nvSpPr>
        <p:spPr>
          <a:xfrm>
            <a:off x="1332000" y="3336840"/>
            <a:ext cx="2746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Петуш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C:\Documents and Settings\Admin\Рабочий стол\Уроки 5 и 8 класс\мазурка 2.jpg"/>
          <p:cNvPicPr/>
          <p:nvPr/>
        </p:nvPicPr>
        <p:blipFill>
          <a:blip r:embed="rId1"/>
          <a:stretch/>
        </p:blipFill>
        <p:spPr>
          <a:xfrm>
            <a:off x="4788000" y="1557360"/>
            <a:ext cx="3636720" cy="496260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4"/>
          <p:cNvSpPr/>
          <p:nvPr/>
        </p:nvSpPr>
        <p:spPr>
          <a:xfrm>
            <a:off x="241200" y="185760"/>
            <a:ext cx="889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то первым пригласил на танец Татьяну Ларин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оугольник 5"/>
          <p:cNvSpPr/>
          <p:nvPr/>
        </p:nvSpPr>
        <p:spPr>
          <a:xfrm>
            <a:off x="1035000" y="4165560"/>
            <a:ext cx="259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. Ленск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5" descr="C:\Documents and Settings\Admin\Рабочий стол\Уроки 5 и 8 класс\мазурка 3.jpg"/>
          <p:cNvPicPr/>
          <p:nvPr/>
        </p:nvPicPr>
        <p:blipFill>
          <a:blip r:embed="rId2"/>
          <a:srcRect l="4176" t="0" r="14674" b="0"/>
          <a:stretch/>
        </p:blipFill>
        <p:spPr>
          <a:xfrm>
            <a:off x="4932360" y="1631880"/>
            <a:ext cx="397188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0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3">
                                          <p:stCondLst>
                                            <p:cond delay="3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">
                                          <p:stCondLst>
                                            <p:cond delay="7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">
                                          <p:stCondLst>
                                            <p:cond delay="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3" dur="1" fill="hold">
                                          <p:stCondLst>
                                            <p:cond delay="3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4" dur="1" fill="hold">
                                          <p:stCondLst>
                                            <p:cond delay="3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1" fill="hold">
                                          <p:stCondLst>
                                            <p:cond delay="7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6" dur="1" fill="hold">
                                          <p:stCondLst>
                                            <p:cond delay="7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1" fill="hold">
                                          <p:stCondLst>
                                            <p:cond delay="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8" dur="1" fill="hold">
                                          <p:stCondLst>
                                            <p:cond delay="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0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3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0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77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94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2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2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зовите героя, погибшего на дуэл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003640" y="2614680"/>
            <a:ext cx="202752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Объект 2"/>
          <p:cNvSpPr/>
          <p:nvPr/>
        </p:nvSpPr>
        <p:spPr>
          <a:xfrm>
            <a:off x="324000" y="1671480"/>
            <a:ext cx="2746080" cy="39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еро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Онегин 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Лен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Петуш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Буян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Зарец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2" descr="C:\Documents and Settings\Admin\Рабочий стол\Уроки 5 и 8 класс\дуэль 2.jpg"/>
          <p:cNvPicPr/>
          <p:nvPr/>
        </p:nvPicPr>
        <p:blipFill>
          <a:blip r:embed="rId1"/>
          <a:stretch/>
        </p:blipFill>
        <p:spPr>
          <a:xfrm>
            <a:off x="3276720" y="2033640"/>
            <a:ext cx="5449680" cy="362736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6"/>
          <p:cNvSpPr/>
          <p:nvPr/>
        </p:nvSpPr>
        <p:spPr>
          <a:xfrm>
            <a:off x="13680" y="3343320"/>
            <a:ext cx="228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. Ленск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7"/>
          <p:cNvSpPr/>
          <p:nvPr/>
        </p:nvSpPr>
        <p:spPr>
          <a:xfrm>
            <a:off x="14040" y="4653000"/>
            <a:ext cx="248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5. Зарецк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8"/>
          <p:cNvSpPr/>
          <p:nvPr/>
        </p:nvSpPr>
        <p:spPr>
          <a:xfrm>
            <a:off x="390600" y="10008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зовите главного секунданта в дуэли Ленского и Онегин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0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то из героев был в плену у французов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300720" y="2205000"/>
            <a:ext cx="33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еро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Онегин 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Лен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Петуш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Буян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Зарец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" descr="C:\Documents and Settings\Admin\Рабочий стол\Уроки 5 и 8 класс\война 1812.jpg"/>
          <p:cNvPicPr/>
          <p:nvPr/>
        </p:nvPicPr>
        <p:blipFill>
          <a:blip r:embed="rId1"/>
          <a:stretch/>
        </p:blipFill>
        <p:spPr>
          <a:xfrm>
            <a:off x="0" y="1484280"/>
            <a:ext cx="6157800" cy="453708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3"/>
          <p:cNvSpPr/>
          <p:nvPr/>
        </p:nvSpPr>
        <p:spPr>
          <a:xfrm>
            <a:off x="6638760" y="3645000"/>
            <a:ext cx="248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5. Зарецк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рямоугольник 4"/>
          <p:cNvSpPr/>
          <p:nvPr/>
        </p:nvSpPr>
        <p:spPr>
          <a:xfrm>
            <a:off x="539640" y="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овите литературного героя, придуманного Василием Львовичем - дядей Пушкина А.С.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3" descr="C:\Documents and Settings\Admin\Рабочий стол\Уроки 5 и 8 класс\дядя Пушкина.jpg"/>
          <p:cNvPicPr/>
          <p:nvPr/>
        </p:nvPicPr>
        <p:blipFill>
          <a:blip r:embed="rId2"/>
          <a:stretch/>
        </p:blipFill>
        <p:spPr>
          <a:xfrm>
            <a:off x="1447920" y="1467000"/>
            <a:ext cx="3484440" cy="435600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 5"/>
          <p:cNvSpPr/>
          <p:nvPr/>
        </p:nvSpPr>
        <p:spPr>
          <a:xfrm>
            <a:off x="6381720" y="4290840"/>
            <a:ext cx="200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. Буян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0351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 Игр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24000" y="2060280"/>
            <a:ext cx="389880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Прят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Салоч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Кукл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Казаки-разбойн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Шаш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Шахм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Прямоугольник 3"/>
          <p:cNvSpPr/>
          <p:nvPr/>
        </p:nvSpPr>
        <p:spPr>
          <a:xfrm>
            <a:off x="826920" y="10526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бимая игра Онегина и Ленского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5" descr="C:\Documents and Settings\Admin\Рабочий стол\Уроки 5 и 8 класс\прятки.jpg"/>
          <p:cNvPicPr/>
          <p:nvPr/>
        </p:nvPicPr>
        <p:blipFill>
          <a:blip r:embed="rId1"/>
          <a:stretch/>
        </p:blipFill>
        <p:spPr>
          <a:xfrm>
            <a:off x="6227640" y="4869000"/>
            <a:ext cx="2676600" cy="17143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C:\Documents and Settings\Admin\Рабочий стол\Уроки 5 и 8 класс\шашки.jpg"/>
          <p:cNvPicPr/>
          <p:nvPr/>
        </p:nvPicPr>
        <p:blipFill>
          <a:blip r:embed="rId2"/>
          <a:stretch/>
        </p:blipFill>
        <p:spPr>
          <a:xfrm>
            <a:off x="2556000" y="166356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C:\Documents and Settings\Admin\Рабочий стол\Уроки 5 и 8 класс\шахматы.jpg"/>
          <p:cNvPicPr/>
          <p:nvPr/>
        </p:nvPicPr>
        <p:blipFill>
          <a:blip r:embed="rId3"/>
          <a:stretch/>
        </p:blipFill>
        <p:spPr>
          <a:xfrm>
            <a:off x="4468680" y="30211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:\Documents and Settings\Admin\Рабочий стол\Уроки 5 и 8 класс\салочки.jpg"/>
          <p:cNvPicPr/>
          <p:nvPr/>
        </p:nvPicPr>
        <p:blipFill>
          <a:blip r:embed="rId4"/>
          <a:stretch/>
        </p:blipFill>
        <p:spPr>
          <a:xfrm>
            <a:off x="7116840" y="1663560"/>
            <a:ext cx="1809720" cy="252432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оугольник 1"/>
          <p:cNvSpPr/>
          <p:nvPr/>
        </p:nvSpPr>
        <p:spPr>
          <a:xfrm>
            <a:off x="1438200" y="3789360"/>
            <a:ext cx="24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6. Шахма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Прямоугольник 3"/>
          <p:cNvSpPr/>
          <p:nvPr/>
        </p:nvSpPr>
        <p:spPr>
          <a:xfrm>
            <a:off x="785160" y="836640"/>
            <a:ext cx="750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какие игры играла Татьяна Ларин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4"/>
          <p:cNvSpPr/>
          <p:nvPr/>
        </p:nvSpPr>
        <p:spPr>
          <a:xfrm>
            <a:off x="66600" y="3254400"/>
            <a:ext cx="688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атьяна не играла ни в какие игр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9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63240" y="188640"/>
            <a:ext cx="48337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II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 Времена год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87480" y="2133720"/>
            <a:ext cx="1738080" cy="26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Лет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Осе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З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Вес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2" descr="C:\Documents and Settings\Admin\Рабочий стол\Уроки 5 и 8 класс\Весна.jpg"/>
          <p:cNvPicPr/>
          <p:nvPr/>
        </p:nvPicPr>
        <p:blipFill>
          <a:blip r:embed="rId1"/>
          <a:stretch/>
        </p:blipFill>
        <p:spPr>
          <a:xfrm>
            <a:off x="0" y="4933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C:\Documents and Settings\Admin\Рабочий стол\Уроки 5 и 8 класс\ЛЕто.jpg"/>
          <p:cNvPicPr/>
          <p:nvPr/>
        </p:nvPicPr>
        <p:blipFill>
          <a:blip r:embed="rId2"/>
          <a:stretch/>
        </p:blipFill>
        <p:spPr>
          <a:xfrm>
            <a:off x="6629400" y="1419120"/>
            <a:ext cx="2523960" cy="1809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C:\Documents and Settings\Admin\Рабочий стол\Уроки 5 и 8 класс\Зима.jpg"/>
          <p:cNvPicPr/>
          <p:nvPr/>
        </p:nvPicPr>
        <p:blipFill>
          <a:blip r:embed="rId3"/>
          <a:stretch/>
        </p:blipFill>
        <p:spPr>
          <a:xfrm>
            <a:off x="2492280" y="4365720"/>
            <a:ext cx="2705040" cy="16858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C:\Documents and Settings\Admin\Рабочий стол\Уроки 5 и 8 класс\Осень.jpg"/>
          <p:cNvPicPr/>
          <p:nvPr/>
        </p:nvPicPr>
        <p:blipFill>
          <a:blip r:embed="rId4"/>
          <a:stretch/>
        </p:blipFill>
        <p:spPr>
          <a:xfrm>
            <a:off x="5211720" y="316692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оугольник 3"/>
          <p:cNvSpPr/>
          <p:nvPr/>
        </p:nvSpPr>
        <p:spPr>
          <a:xfrm>
            <a:off x="47880" y="973080"/>
            <a:ext cx="69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ое любимое время года у Пушкина А.С.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Прямоугольник 4"/>
          <p:cNvSpPr/>
          <p:nvPr/>
        </p:nvSpPr>
        <p:spPr>
          <a:xfrm>
            <a:off x="2611440" y="2133720"/>
            <a:ext cx="18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. Осен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Прямоугольник 5"/>
          <p:cNvSpPr/>
          <p:nvPr/>
        </p:nvSpPr>
        <p:spPr>
          <a:xfrm>
            <a:off x="990000" y="957240"/>
            <a:ext cx="505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е любимое время год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Татьяны Ларино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Прямоугольник 6"/>
          <p:cNvSpPr/>
          <p:nvPr/>
        </p:nvSpPr>
        <p:spPr>
          <a:xfrm>
            <a:off x="5817240" y="284328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. Зи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7"/>
          <p:cNvSpPr/>
          <p:nvPr/>
        </p:nvSpPr>
        <p:spPr>
          <a:xfrm>
            <a:off x="2577240" y="868320"/>
            <a:ext cx="64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юбимое время года у Евгения Онегин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ик 8"/>
          <p:cNvSpPr/>
          <p:nvPr/>
        </p:nvSpPr>
        <p:spPr>
          <a:xfrm>
            <a:off x="997920" y="2381400"/>
            <a:ext cx="7284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00"/>
                </a:solidFill>
                <a:latin typeface="Calibri"/>
              </a:rPr>
              <a:t>У Евгения Онегина не был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ru-RU" sz="4800" spc="-1" strike="noStrike">
                <a:solidFill>
                  <a:srgbClr val="ff0000"/>
                </a:solidFill>
                <a:latin typeface="Calibri"/>
              </a:rPr>
              <a:t>любимого времени год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3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6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1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2890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III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 Числ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50920" y="1341000"/>
            <a:ext cx="1450800" cy="39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  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  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  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  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  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Прямоугольник 3"/>
          <p:cNvSpPr/>
          <p:nvPr/>
        </p:nvSpPr>
        <p:spPr>
          <a:xfrm>
            <a:off x="2411280" y="98100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 какого расстояния Онегин выстрелил в Ленского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2" descr="C:\Documents and Settings\Admin\Рабочий стол\Уроки 5 и 8 класс\дуэль 2.jpg"/>
          <p:cNvPicPr/>
          <p:nvPr/>
        </p:nvPicPr>
        <p:blipFill>
          <a:blip r:embed="rId1"/>
          <a:stretch/>
        </p:blipFill>
        <p:spPr>
          <a:xfrm>
            <a:off x="4572000" y="3357720"/>
            <a:ext cx="3699000" cy="2462040"/>
          </a:xfrm>
          <a:prstGeom prst="rect">
            <a:avLst/>
          </a:prstGeom>
          <a:ln w="0">
            <a:noFill/>
          </a:ln>
        </p:spPr>
      </p:pic>
      <p:sp>
        <p:nvSpPr>
          <p:cNvPr id="194" name="Прямоугольник 4"/>
          <p:cNvSpPr/>
          <p:nvPr/>
        </p:nvSpPr>
        <p:spPr>
          <a:xfrm>
            <a:off x="264600" y="3819600"/>
            <a:ext cx="33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4.  с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14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шаг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Прямоугольник 5"/>
          <p:cNvSpPr/>
          <p:nvPr/>
        </p:nvSpPr>
        <p:spPr>
          <a:xfrm>
            <a:off x="2259000" y="896760"/>
            <a:ext cx="688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 Дантес в Пушкина во время дуэли на речке Черной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рямоугольник 6"/>
          <p:cNvSpPr/>
          <p:nvPr/>
        </p:nvSpPr>
        <p:spPr>
          <a:xfrm>
            <a:off x="44280" y="2973240"/>
            <a:ext cx="322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. с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11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шаг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3" descr="C:\Documents and Settings\Admin\Рабочий стол\Уроки 5 и 8 класс\дуэль.jpg"/>
          <p:cNvPicPr/>
          <p:nvPr/>
        </p:nvPicPr>
        <p:blipFill>
          <a:blip r:embed="rId2"/>
          <a:stretch/>
        </p:blipFill>
        <p:spPr>
          <a:xfrm>
            <a:off x="4572000" y="3357720"/>
            <a:ext cx="4111560" cy="3095640"/>
          </a:xfrm>
          <a:prstGeom prst="rect">
            <a:avLst/>
          </a:prstGeom>
          <a:ln w="0">
            <a:noFill/>
          </a:ln>
        </p:spPr>
      </p:pic>
      <p:sp>
        <p:nvSpPr>
          <p:cNvPr id="198" name="Прямоугольник 7"/>
          <p:cNvSpPr/>
          <p:nvPr/>
        </p:nvSpPr>
        <p:spPr>
          <a:xfrm>
            <a:off x="2124000" y="703440"/>
            <a:ext cx="653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колько лет работал Пушкин А.С. над романом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Евгений Онегин»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5" descr="C:\Documents and Settings\Admin\Рабочий стол\Уроки 5 и 8 класс\написание.jpg"/>
          <p:cNvPicPr/>
          <p:nvPr/>
        </p:nvPicPr>
        <p:blipFill>
          <a:blip r:embed="rId3"/>
          <a:stretch/>
        </p:blipFill>
        <p:spPr>
          <a:xfrm>
            <a:off x="4732200" y="2457360"/>
            <a:ext cx="3573720" cy="392436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8"/>
          <p:cNvSpPr/>
          <p:nvPr/>
        </p:nvSpPr>
        <p:spPr>
          <a:xfrm>
            <a:off x="1101600" y="2708280"/>
            <a:ext cx="204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  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7 л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68360" y="692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Державин Г.Р. (1743-181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Жуковский В.А. (1783-185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Рылеев К.Ф. (1795-182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Documents and Settings\Admin\Рабочий стол\Уроки 5 и 8 класс\Державин.jpg"/>
          <p:cNvPicPr/>
          <p:nvPr/>
        </p:nvPicPr>
        <p:blipFill>
          <a:blip r:embed="rId1"/>
          <a:stretch/>
        </p:blipFill>
        <p:spPr>
          <a:xfrm>
            <a:off x="5645160" y="3240"/>
            <a:ext cx="2319480" cy="2949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Documents and Settings\Admin\Рабочий стол\Уроки 5 и 8 класс\Рылеев.jpg"/>
          <p:cNvPicPr/>
          <p:nvPr/>
        </p:nvPicPr>
        <p:blipFill>
          <a:blip r:embed="rId2"/>
          <a:stretch/>
        </p:blipFill>
        <p:spPr>
          <a:xfrm>
            <a:off x="5645160" y="3755880"/>
            <a:ext cx="2319480" cy="3102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C:\Documents and Settings\Admin\Рабочий стол\Уроки 5 и 8 класс\ЖУковский.jpg"/>
          <p:cNvPicPr/>
          <p:nvPr/>
        </p:nvPicPr>
        <p:blipFill>
          <a:blip r:embed="rId3"/>
          <a:srcRect l="12612" t="0" r="0" b="0"/>
          <a:stretch/>
        </p:blipFill>
        <p:spPr>
          <a:xfrm>
            <a:off x="490680" y="1989000"/>
            <a:ext cx="24541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24591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X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 Чин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07640" y="1979280"/>
            <a:ext cx="324972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мер-юнк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Поруч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Штабс-капит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Генера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Прямоугольник 3"/>
          <p:cNvSpPr/>
          <p:nvPr/>
        </p:nvSpPr>
        <p:spPr>
          <a:xfrm>
            <a:off x="911880" y="1062000"/>
            <a:ext cx="742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аком чине был муж Татьяны Ларино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2" descr="C:\Documents and Settings\Admin\Рабочий стол\Уроки 5 и 8 класс\генерал1.jpg"/>
          <p:cNvPicPr/>
          <p:nvPr/>
        </p:nvPicPr>
        <p:blipFill>
          <a:blip r:embed="rId1"/>
          <a:srcRect l="0" t="11636" r="0" b="13040"/>
          <a:stretch/>
        </p:blipFill>
        <p:spPr>
          <a:xfrm>
            <a:off x="4299120" y="5589720"/>
            <a:ext cx="3047760" cy="1004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Admin\Рабочий стол\Уроки 5 и 8 класс\штабс-капитан1.jpg"/>
          <p:cNvPicPr/>
          <p:nvPr/>
        </p:nvPicPr>
        <p:blipFill>
          <a:blip r:embed="rId2"/>
          <a:srcRect l="0" t="14833" r="0" b="11079"/>
          <a:stretch/>
        </p:blipFill>
        <p:spPr>
          <a:xfrm>
            <a:off x="4292640" y="4322880"/>
            <a:ext cx="3048120" cy="1030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C:\Documents and Settings\Admin\Рабочий стол\Уроки 5 и 8 класс\поручик.jpg"/>
          <p:cNvPicPr/>
          <p:nvPr/>
        </p:nvPicPr>
        <p:blipFill>
          <a:blip r:embed="rId3"/>
          <a:srcRect l="0" t="16028" r="0" b="7890"/>
          <a:stretch/>
        </p:blipFill>
        <p:spPr>
          <a:xfrm>
            <a:off x="4299120" y="3068640"/>
            <a:ext cx="3047760" cy="993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C:\Documents and Settings\Admin\Рабочий стол\Уроки 5 и 8 класс\камер паж.jpg"/>
          <p:cNvPicPr/>
          <p:nvPr/>
        </p:nvPicPr>
        <p:blipFill>
          <a:blip r:embed="rId4"/>
          <a:srcRect l="5232" t="25187" r="7664" b="51537"/>
          <a:stretch/>
        </p:blipFill>
        <p:spPr>
          <a:xfrm>
            <a:off x="4299120" y="1984320"/>
            <a:ext cx="1541160" cy="7635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C:\Documents and Settings\Admin\Рабочий стол\Уроки 5 и 8 класс\камер паж.jpg"/>
          <p:cNvPicPr/>
          <p:nvPr/>
        </p:nvPicPr>
        <p:blipFill>
          <a:blip r:embed="rId5"/>
          <a:srcRect l="7664" t="51537" r="5232" b="25187"/>
          <a:stretch/>
        </p:blipFill>
        <p:spPr>
          <a:xfrm>
            <a:off x="5865840" y="1984320"/>
            <a:ext cx="1542960" cy="763560"/>
          </a:xfrm>
          <a:prstGeom prst="rect">
            <a:avLst/>
          </a:prstGeom>
          <a:ln w="0">
            <a:noFill/>
          </a:ln>
        </p:spPr>
      </p:pic>
      <p:sp>
        <p:nvSpPr>
          <p:cNvPr id="209" name="Прямоугольник 4"/>
          <p:cNvSpPr/>
          <p:nvPr/>
        </p:nvSpPr>
        <p:spPr>
          <a:xfrm>
            <a:off x="455400" y="5737320"/>
            <a:ext cx="244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. Генера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Прямоугольник 5"/>
          <p:cNvSpPr/>
          <p:nvPr/>
        </p:nvSpPr>
        <p:spPr>
          <a:xfrm>
            <a:off x="932040" y="739800"/>
            <a:ext cx="781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овите чин Пушкина А.С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царском двор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Прямоугольник 6"/>
          <p:cNvSpPr/>
          <p:nvPr/>
        </p:nvSpPr>
        <p:spPr>
          <a:xfrm>
            <a:off x="289080" y="2101680"/>
            <a:ext cx="333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мер-юнке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Прямоугольник 7"/>
          <p:cNvSpPr/>
          <p:nvPr/>
        </p:nvSpPr>
        <p:spPr>
          <a:xfrm>
            <a:off x="2911320" y="243000"/>
            <a:ext cx="622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каком чине вышел в отставку Андрей Гаврилович Дубровский, герой повести Пушкина А.С. «Дубровский»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Прямоугольник 9"/>
          <p:cNvSpPr/>
          <p:nvPr/>
        </p:nvSpPr>
        <p:spPr>
          <a:xfrm>
            <a:off x="702720" y="3195720"/>
            <a:ext cx="250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. Поручи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6" descr="C:\Documents and Settings\Admin\Рабочий стол\Уроки 5 и 8 класс\Мусоргский.jpg"/>
          <p:cNvPicPr/>
          <p:nvPr/>
        </p:nvPicPr>
        <p:blipFill>
          <a:blip r:embed="rId1"/>
          <a:stretch/>
        </p:blipFill>
        <p:spPr>
          <a:xfrm>
            <a:off x="1440" y="4292640"/>
            <a:ext cx="1717920" cy="2146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C:\Documents and Settings\Admin\Рабочий стол\Уроки 5 и 8 класс\Даргомыжский.jpg"/>
          <p:cNvPicPr/>
          <p:nvPr/>
        </p:nvPicPr>
        <p:blipFill>
          <a:blip r:embed="rId2"/>
          <a:stretch/>
        </p:blipFill>
        <p:spPr>
          <a:xfrm>
            <a:off x="1735200" y="3633840"/>
            <a:ext cx="1719360" cy="2158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C:\Documents and Settings\Admin\Рабочий стол\Уроки 5 и 8 класс\Рахманинов.jpg"/>
          <p:cNvPicPr/>
          <p:nvPr/>
        </p:nvPicPr>
        <p:blipFill>
          <a:blip r:embed="rId3"/>
          <a:stretch/>
        </p:blipFill>
        <p:spPr>
          <a:xfrm>
            <a:off x="3454560" y="2766960"/>
            <a:ext cx="1758960" cy="23227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00" y="-36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Музыка. Авторы музыкальных произведений, написанных на тексты Пушкина А.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4560" y="1312920"/>
            <a:ext cx="32418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 Глинка М.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Чайковский П.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Рахманинов С. 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 Даргомыжский А. 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 Мусоргский М. 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3" descr="C:\Documents and Settings\Admin\Рабочий стол\Уроки 5 и 8 класс\Чайковский.jpg"/>
          <p:cNvPicPr/>
          <p:nvPr/>
        </p:nvPicPr>
        <p:blipFill>
          <a:blip r:embed="rId4"/>
          <a:srcRect l="2556" t="1790" r="3124" b="2372"/>
          <a:stretch/>
        </p:blipFill>
        <p:spPr>
          <a:xfrm>
            <a:off x="5213520" y="1916280"/>
            <a:ext cx="1672920" cy="2253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C:\Documents and Settings\Admin\Рабочий стол\Уроки 5 и 8 класс\Глинка.jpg"/>
          <p:cNvPicPr/>
          <p:nvPr/>
        </p:nvPicPr>
        <p:blipFill>
          <a:blip r:embed="rId5"/>
          <a:stretch/>
        </p:blipFill>
        <p:spPr>
          <a:xfrm>
            <a:off x="6958080" y="1125360"/>
            <a:ext cx="1717560" cy="22323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3"/>
          <p:cNvSpPr/>
          <p:nvPr/>
        </p:nvSpPr>
        <p:spPr>
          <a:xfrm>
            <a:off x="5589720" y="516564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овите автор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Прямоугольник 4"/>
          <p:cNvSpPr/>
          <p:nvPr/>
        </p:nvSpPr>
        <p:spPr>
          <a:xfrm>
            <a:off x="3148560" y="5853240"/>
            <a:ext cx="614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манса «Я помню чудное мгновени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Прямоугольник 5"/>
          <p:cNvSpPr/>
          <p:nvPr/>
        </p:nvSpPr>
        <p:spPr>
          <a:xfrm>
            <a:off x="2806920" y="1905120"/>
            <a:ext cx="277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 Глинка М.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Прямоугольник 6"/>
          <p:cNvSpPr/>
          <p:nvPr/>
        </p:nvSpPr>
        <p:spPr>
          <a:xfrm>
            <a:off x="3932280" y="5915160"/>
            <a:ext cx="60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еры «Евгений Онегин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Прямоугольник 7"/>
          <p:cNvSpPr/>
          <p:nvPr/>
        </p:nvSpPr>
        <p:spPr>
          <a:xfrm>
            <a:off x="930600" y="2459160"/>
            <a:ext cx="332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Чайковский П.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Прямоугольник 8"/>
          <p:cNvSpPr/>
          <p:nvPr/>
        </p:nvSpPr>
        <p:spPr>
          <a:xfrm>
            <a:off x="4464000" y="5823000"/>
            <a:ext cx="373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еры «Алек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Прямоугольник 9"/>
          <p:cNvSpPr/>
          <p:nvPr/>
        </p:nvSpPr>
        <p:spPr>
          <a:xfrm>
            <a:off x="108000" y="3467160"/>
            <a:ext cx="334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Рахманинов С. 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Прямоугольник 10"/>
          <p:cNvSpPr/>
          <p:nvPr/>
        </p:nvSpPr>
        <p:spPr>
          <a:xfrm>
            <a:off x="4454640" y="5915160"/>
            <a:ext cx="43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еры «Борис Годунов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Прямоугольник 11"/>
          <p:cNvSpPr/>
          <p:nvPr/>
        </p:nvSpPr>
        <p:spPr>
          <a:xfrm>
            <a:off x="1554840" y="3335400"/>
            <a:ext cx="364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Мусоргский М. 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Прямоугольник 12"/>
          <p:cNvSpPr/>
          <p:nvPr/>
        </p:nvSpPr>
        <p:spPr>
          <a:xfrm>
            <a:off x="4335480" y="5884920"/>
            <a:ext cx="42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манса «Я вас любил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Прямоугольник 13"/>
          <p:cNvSpPr/>
          <p:nvPr/>
        </p:nvSpPr>
        <p:spPr>
          <a:xfrm>
            <a:off x="4100760" y="2751120"/>
            <a:ext cx="40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Даргомыжский А. 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Прямоугольник 14"/>
          <p:cNvSpPr/>
          <p:nvPr/>
        </p:nvSpPr>
        <p:spPr>
          <a:xfrm>
            <a:off x="4575960" y="589932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еры «Пиковая дам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6" dur="indefinite" restart="never" nodeType="tmRoot">
          <p:childTnLst>
            <p:seq>
              <p:cTn id="1217" dur="indefinite" nodeType="mainSeq">
                <p:childTnLst>
                  <p:par>
                    <p:cTn id="1218" nodeType="clickEffect" fill="hold">
                      <p:stCondLst>
                        <p:cond delay="indefinite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nodeType="clickEffect" fill="hold">
                      <p:stCondLst>
                        <p:cond delay="indefinite"/>
                      </p:stCondLst>
                      <p:childTnLst>
                        <p:par>
                          <p:cTn id="1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nodeType="clickEffect" fill="hold">
                      <p:stCondLst>
                        <p:cond delay="indefinite"/>
                      </p:stCondLst>
                      <p:childTnLst>
                        <p:par>
                          <p:cTn id="1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nodeType="clickEffect" fill="hold">
                      <p:stCondLst>
                        <p:cond delay="indefinite"/>
                      </p:stCondLst>
                      <p:childTnLst>
                        <p:par>
                          <p:cTn id="1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nodeType="clickEffect" fill="hold">
                      <p:stCondLst>
                        <p:cond delay="indefinite"/>
                      </p:stCondLst>
                      <p:childTnLst>
                        <p:par>
                          <p:cTn id="1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nodeType="clickEffect" fill="hold">
                      <p:stCondLst>
                        <p:cond delay="indefinite"/>
                      </p:stCondLst>
                      <p:childTnLst>
                        <p:par>
                          <p:cTn id="1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nodeType="clickEffect" fill="hold">
                      <p:stCondLst>
                        <p:cond delay="indefinite"/>
                      </p:stCondLst>
                      <p:childTnLst>
                        <p:par>
                          <p:cTn id="1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nodeType="clickEffect" fill="hold">
                      <p:stCondLst>
                        <p:cond delay="indefinite"/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nodeType="clickEffect" fill="hold">
                      <p:stCondLst>
                        <p:cond delay="indefinite"/>
                      </p:stCondLst>
                      <p:childTnLst>
                        <p:par>
                          <p:cTn id="1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1680" y="2880"/>
            <a:ext cx="4819680" cy="5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XI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священие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08000" y="1477800"/>
            <a:ext cx="3168720" cy="26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Керн А.П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Гончаровой Н.Н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Плетневу П.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Чаадаеву П.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Декабрист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Прямоугольник 1"/>
          <p:cNvSpPr/>
          <p:nvPr/>
        </p:nvSpPr>
        <p:spPr>
          <a:xfrm>
            <a:off x="108000" y="473040"/>
            <a:ext cx="83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у Пушкин А.С. посвятил своё произведени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Прямоугольник 2"/>
          <p:cNvSpPr/>
          <p:nvPr/>
        </p:nvSpPr>
        <p:spPr>
          <a:xfrm>
            <a:off x="3470400" y="1216080"/>
            <a:ext cx="455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ман «Евгений Онегин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4" descr="C:\Documents and Settings\Admin\Рабочий стол\Уроки 5 и 8 класс\Чаадаев.jpg"/>
          <p:cNvPicPr/>
          <p:nvPr/>
        </p:nvPicPr>
        <p:blipFill>
          <a:blip r:embed="rId1"/>
          <a:stretch/>
        </p:blipFill>
        <p:spPr>
          <a:xfrm>
            <a:off x="4186080" y="4367160"/>
            <a:ext cx="1892520" cy="24526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C:\Documents and Settings\Admin\Рабочий стол\Уроки 5 и 8 класс\Керн А.П.jpg"/>
          <p:cNvPicPr/>
          <p:nvPr/>
        </p:nvPicPr>
        <p:blipFill>
          <a:blip r:embed="rId2"/>
          <a:stretch/>
        </p:blipFill>
        <p:spPr>
          <a:xfrm>
            <a:off x="4167360" y="1905120"/>
            <a:ext cx="1904760" cy="2400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C:\Documents and Settings\Admin\Рабочий стол\Уроки 5 и 8 класс\Плетнёв.jpg"/>
          <p:cNvPicPr/>
          <p:nvPr/>
        </p:nvPicPr>
        <p:blipFill>
          <a:blip r:embed="rId3"/>
          <a:stretch/>
        </p:blipFill>
        <p:spPr>
          <a:xfrm>
            <a:off x="1979640" y="4394160"/>
            <a:ext cx="1965240" cy="23576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C:\Documents and Settings\Admin\Рабочий стол\Уроки 5 и 8 класс\декабристы.jpg"/>
          <p:cNvPicPr/>
          <p:nvPr/>
        </p:nvPicPr>
        <p:blipFill>
          <a:blip r:embed="rId4"/>
          <a:stretch/>
        </p:blipFill>
        <p:spPr>
          <a:xfrm>
            <a:off x="6300720" y="4362480"/>
            <a:ext cx="2630520" cy="2421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C:\Documents and Settings\Admin\Рабочий стол\Уроки 5 и 8 класс\Гончарова.jpg"/>
          <p:cNvPicPr/>
          <p:nvPr/>
        </p:nvPicPr>
        <p:blipFill>
          <a:blip r:embed="rId5"/>
          <a:stretch/>
        </p:blipFill>
        <p:spPr>
          <a:xfrm>
            <a:off x="6072120" y="1905120"/>
            <a:ext cx="1935360" cy="2400120"/>
          </a:xfrm>
          <a:prstGeom prst="rect">
            <a:avLst/>
          </a:prstGeom>
          <a:ln w="0">
            <a:noFill/>
          </a:ln>
        </p:spPr>
      </p:pic>
      <p:sp>
        <p:nvSpPr>
          <p:cNvPr id="242" name="Прямоугольник 3"/>
          <p:cNvSpPr/>
          <p:nvPr/>
        </p:nvSpPr>
        <p:spPr>
          <a:xfrm>
            <a:off x="5161320" y="2201760"/>
            <a:ext cx="298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Плетневу П.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Прямоугольник 4"/>
          <p:cNvSpPr/>
          <p:nvPr/>
        </p:nvSpPr>
        <p:spPr>
          <a:xfrm>
            <a:off x="3488040" y="1216080"/>
            <a:ext cx="476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Я помню чудное мгновени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Прямоугольник 5"/>
          <p:cNvSpPr/>
          <p:nvPr/>
        </p:nvSpPr>
        <p:spPr>
          <a:xfrm>
            <a:off x="1320480" y="3059280"/>
            <a:ext cx="22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Керн А.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Прямоугольник 6"/>
          <p:cNvSpPr/>
          <p:nvPr/>
        </p:nvSpPr>
        <p:spPr>
          <a:xfrm>
            <a:off x="3703680" y="9302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Любви, надежды, тихой слав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долго нежил нас обман…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Прямоугольник 7"/>
          <p:cNvSpPr/>
          <p:nvPr/>
        </p:nvSpPr>
        <p:spPr>
          <a:xfrm>
            <a:off x="225720" y="4121280"/>
            <a:ext cx="297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Чаадаеву П.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Прямоугольник 8"/>
          <p:cNvSpPr/>
          <p:nvPr/>
        </p:nvSpPr>
        <p:spPr>
          <a:xfrm>
            <a:off x="2370600" y="1084320"/>
            <a:ext cx="675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Чистейшей прелести чистейший образец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Прямоугольник 9"/>
          <p:cNvSpPr/>
          <p:nvPr/>
        </p:nvSpPr>
        <p:spPr>
          <a:xfrm>
            <a:off x="1593000" y="3533760"/>
            <a:ext cx="352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Гончаровой Н.Н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Прямоугольник 10"/>
          <p:cNvSpPr/>
          <p:nvPr/>
        </p:nvSpPr>
        <p:spPr>
          <a:xfrm>
            <a:off x="3551400" y="86832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Во глубине сибирских ру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раните гордое терпение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Прямоугольник 11"/>
          <p:cNvSpPr/>
          <p:nvPr/>
        </p:nvSpPr>
        <p:spPr>
          <a:xfrm>
            <a:off x="2747160" y="2949480"/>
            <a:ext cx="287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Декабрист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7" dur="indefinite" restart="never" nodeType="tmRoot">
          <p:childTnLst>
            <p:seq>
              <p:cTn id="1558" dur="indefinite" nodeType="mainSeq">
                <p:childTnLst>
                  <p:par>
                    <p:cTn id="1559" nodeType="clickEffect" fill="hold">
                      <p:stCondLst>
                        <p:cond delay="indefinite"/>
                      </p:stCondLst>
                      <p:childTnLst>
                        <p:par>
                          <p:cTn id="1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nodeType="clickEffect" fill="hold">
                      <p:stCondLst>
                        <p:cond delay="indefinite"/>
                      </p:stCondLst>
                      <p:childTnLst>
                        <p:par>
                          <p:cTn id="1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nodeType="clickEffect" fill="hold">
                      <p:stCondLst>
                        <p:cond delay="indefinite"/>
                      </p:stCondLst>
                      <p:childTnLst>
                        <p:par>
                          <p:cTn id="1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nodeType="clickEffect" fill="hold">
                      <p:stCondLst>
                        <p:cond delay="indefinite"/>
                      </p:stCondLst>
                      <p:childTnLst>
                        <p:par>
                          <p:cTn id="1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nodeType="clickEffect" fill="hold">
                      <p:stCondLst>
                        <p:cond delay="indefinite"/>
                      </p:stCondLst>
                      <p:childTnLst>
                        <p:par>
                          <p:cTn id="1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nodeType="clickEffect" fill="hold">
                      <p:stCondLst>
                        <p:cond delay="indefinite"/>
                      </p:stCondLst>
                      <p:childTnLst>
                        <p:par>
                          <p:cTn id="1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nodeType="clickEffect" fill="hold">
                      <p:stCondLst>
                        <p:cond delay="indefinite"/>
                      </p:stCondLst>
                      <p:childTnLst>
                        <p:par>
                          <p:cTn id="1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nodeType="clickEffect" fill="hold">
                      <p:stCondLst>
                        <p:cond delay="indefinite"/>
                      </p:stCondLst>
                      <p:childTnLst>
                        <p:par>
                          <p:cTn id="1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nodeType="clickEffect" fill="hold">
                      <p:stCondLst>
                        <p:cond delay="indefinite"/>
                      </p:stCondLst>
                      <p:childTnLst>
                        <p:par>
                          <p:cTn id="1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2880"/>
            <a:ext cx="8229600" cy="90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унд №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95280" y="907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XII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 Составьте слова из слова </a:t>
            </a: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7200" spc="-1" strike="noStrike">
                <a:solidFill>
                  <a:srgbClr val="ff0000"/>
                </a:solidFill>
                <a:latin typeface="Calibri"/>
              </a:rPr>
              <a:t>Михайловское</a:t>
            </a: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3" descr="C:\Documents and Settings\Admin\Рабочий стол\Уроки 5 и 8 класс\михайловское.jpg"/>
          <p:cNvPicPr/>
          <p:nvPr/>
        </p:nvPicPr>
        <p:blipFill>
          <a:blip r:embed="rId1"/>
          <a:stretch/>
        </p:blipFill>
        <p:spPr>
          <a:xfrm>
            <a:off x="3571920" y="3029040"/>
            <a:ext cx="5715000" cy="38289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C:\Documents and Settings\Admin\Рабочий стол\Уроки 5 и 8 класс\памятник пушкину.jpg"/>
          <p:cNvPicPr/>
          <p:nvPr/>
        </p:nvPicPr>
        <p:blipFill>
          <a:blip r:embed="rId2"/>
          <a:srcRect l="0" t="0" r="37287" b="0"/>
          <a:stretch/>
        </p:blipFill>
        <p:spPr>
          <a:xfrm>
            <a:off x="0" y="3029040"/>
            <a:ext cx="357192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Грибоедов А.С. (1795-182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Пушкин А.С. (1799-183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Лермонтов М.Ю. (1814-1841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Documents and Settings\Admin\Рабочий стол\Уроки 5 и 8 класс\Грибоедов.jpg"/>
          <p:cNvPicPr/>
          <p:nvPr/>
        </p:nvPicPr>
        <p:blipFill>
          <a:blip r:embed="rId1"/>
          <a:stretch/>
        </p:blipFill>
        <p:spPr>
          <a:xfrm>
            <a:off x="5867280" y="-31680"/>
            <a:ext cx="2772000" cy="3044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Documents and Settings\Admin\Рабочий стол\Уроки 5 и 8 класс\Пушкин.jpg"/>
          <p:cNvPicPr/>
          <p:nvPr/>
        </p:nvPicPr>
        <p:blipFill>
          <a:blip r:embed="rId2"/>
          <a:srcRect l="7668" t="0" r="5751" b="8999"/>
          <a:stretch/>
        </p:blipFill>
        <p:spPr>
          <a:xfrm>
            <a:off x="623880" y="1590840"/>
            <a:ext cx="2587680" cy="3203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Documents and Settings\Admin\Рабочий стол\Уроки 5 и 8 класс\Лермонтов.jpg"/>
          <p:cNvPicPr/>
          <p:nvPr/>
        </p:nvPicPr>
        <p:blipFill>
          <a:blip r:embed="rId3"/>
          <a:srcRect l="12672" t="3773" r="12165" b="4159"/>
          <a:stretch/>
        </p:blipFill>
        <p:spPr>
          <a:xfrm>
            <a:off x="6084720" y="3645000"/>
            <a:ext cx="27720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760320" y="260280"/>
            <a:ext cx="72676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из поэтов был одногодками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5191200" y="2249640"/>
            <a:ext cx="338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Рылеев К.Ф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Грибоедов А.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Объект 2"/>
          <p:cNvSpPr/>
          <p:nvPr/>
        </p:nvSpPr>
        <p:spPr>
          <a:xfrm>
            <a:off x="419040" y="907920"/>
            <a:ext cx="82296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из поэтов родился в г. Москв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7"/>
          <p:cNvSpPr/>
          <p:nvPr/>
        </p:nvSpPr>
        <p:spPr>
          <a:xfrm>
            <a:off x="5688000" y="3511440"/>
            <a:ext cx="345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Пушкин А.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Грибоедов А.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. Лермонтов М.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9"/>
          <p:cNvSpPr/>
          <p:nvPr/>
        </p:nvSpPr>
        <p:spPr>
          <a:xfrm>
            <a:off x="371520" y="1724040"/>
            <a:ext cx="429084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ушкин А.С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ержавин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.Р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Жуковский В.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ылеев К.Ф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Грибоедов А.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Лермонтов М.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Documents and Settings\Admin\Рабочий стол\Уроки 5 и 8 класс\Рылеев.jpg"/>
          <p:cNvPicPr/>
          <p:nvPr/>
        </p:nvPicPr>
        <p:blipFill>
          <a:blip r:embed="rId1"/>
          <a:stretch/>
        </p:blipFill>
        <p:spPr>
          <a:xfrm>
            <a:off x="4680" y="1413000"/>
            <a:ext cx="2357640" cy="2884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Documents and Settings\Admin\Рабочий стол\Уроки 5 и 8 класс\Грибоедов.jpg"/>
          <p:cNvPicPr/>
          <p:nvPr/>
        </p:nvPicPr>
        <p:blipFill>
          <a:blip r:embed="rId2"/>
          <a:stretch/>
        </p:blipFill>
        <p:spPr>
          <a:xfrm>
            <a:off x="3073320" y="3203640"/>
            <a:ext cx="2614680" cy="3430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C:\Documents and Settings\Admin\Рабочий стол\Уроки 5 и 8 класс\Пушкин.jpg"/>
          <p:cNvPicPr/>
          <p:nvPr/>
        </p:nvPicPr>
        <p:blipFill>
          <a:blip r:embed="rId3"/>
          <a:stretch/>
        </p:blipFill>
        <p:spPr>
          <a:xfrm>
            <a:off x="6300720" y="333360"/>
            <a:ext cx="2664000" cy="3139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C:\Documents and Settings\Admin\Рабочий стол\Уроки 5 и 8 класс\Лермонтов.jpg"/>
          <p:cNvPicPr/>
          <p:nvPr/>
        </p:nvPicPr>
        <p:blipFill>
          <a:blip r:embed="rId4"/>
          <a:srcRect l="12672" t="3773" r="12165" b="4159"/>
          <a:stretch/>
        </p:blipFill>
        <p:spPr>
          <a:xfrm>
            <a:off x="179280" y="1582560"/>
            <a:ext cx="2772000" cy="3211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3440" y="259920"/>
            <a:ext cx="83901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му из поэтов принадлежат строк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474720" y="1412640"/>
            <a:ext cx="5344920" cy="18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сква… как много в этом зву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сердца русского слилось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 много в нем отозвалось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6012000" y="3100320"/>
            <a:ext cx="28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Пушкин А.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Documents and Settings\Admin\Рабочий стол\Уроки 5 и 8 класс\Москва.jpg"/>
          <p:cNvPicPr/>
          <p:nvPr/>
        </p:nvPicPr>
        <p:blipFill>
          <a:blip r:embed="rId1"/>
          <a:stretch/>
        </p:blipFill>
        <p:spPr>
          <a:xfrm>
            <a:off x="3363840" y="4065480"/>
            <a:ext cx="5762520" cy="279252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4"/>
          <p:cNvSpPr/>
          <p:nvPr/>
        </p:nvSpPr>
        <p:spPr>
          <a:xfrm>
            <a:off x="163440" y="1533600"/>
            <a:ext cx="3311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ушкин А.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ержавин Г.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Жуковский В.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ылеев К.Ф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Грибоедов А.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Лермонтов М.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му из поэтов принадлежат строк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сква, Москва! Люблю тебя как сын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русский, - сильно, пламенно и нежн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3"/>
          <p:cNvSpPr/>
          <p:nvPr/>
        </p:nvSpPr>
        <p:spPr>
          <a:xfrm>
            <a:off x="6080040" y="2924280"/>
            <a:ext cx="310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. Лермонтов М.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Documents and Settings\Admin\Рабочий стол\Уроки 5 и 8 класс\москва 2.jpg"/>
          <p:cNvPicPr/>
          <p:nvPr/>
        </p:nvPicPr>
        <p:blipFill>
          <a:blip r:embed="rId1"/>
          <a:stretch/>
        </p:blipFill>
        <p:spPr>
          <a:xfrm>
            <a:off x="611280" y="2924280"/>
            <a:ext cx="4968720" cy="356220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5"/>
          <p:cNvSpPr/>
          <p:nvPr/>
        </p:nvSpPr>
        <p:spPr>
          <a:xfrm>
            <a:off x="5794200" y="3473280"/>
            <a:ext cx="3313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ушкин А.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ержавин Г.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Жуковский В.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ылеев К.Ф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Грибоедов А.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Лермонтов М.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то благословил Пушкина А.С. на поэтический пут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3"/>
          <p:cNvSpPr/>
          <p:nvPr/>
        </p:nvSpPr>
        <p:spPr>
          <a:xfrm>
            <a:off x="5118120" y="2409840"/>
            <a:ext cx="340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. Державин Г.Р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C:\Documents and Settings\Admin\Рабочий стол\Уроки 5 и 8 класс\Державин.jpg"/>
          <p:cNvPicPr/>
          <p:nvPr/>
        </p:nvPicPr>
        <p:blipFill>
          <a:blip r:embed="rId1"/>
          <a:stretch/>
        </p:blipFill>
        <p:spPr>
          <a:xfrm>
            <a:off x="826920" y="1700280"/>
            <a:ext cx="3600720" cy="457812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5"/>
          <p:cNvSpPr/>
          <p:nvPr/>
        </p:nvSpPr>
        <p:spPr>
          <a:xfrm>
            <a:off x="163440" y="1533600"/>
            <a:ext cx="3760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ушкин А.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ержавин Г.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Жуковский В.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ылеев К.Ф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Грибоедов А.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Лермонтов М.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0840" y="223560"/>
            <a:ext cx="822960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то подарил Пушкину А.С. свой портрет с надписью: «Победителю-ученику от побежденного учителя»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C:\Documents and Settings\Admin\Рабочий стол\Уроки 5 и 8 класс\Жуковский Кипренский .jpg"/>
          <p:cNvPicPr/>
          <p:nvPr/>
        </p:nvPicPr>
        <p:blipFill>
          <a:blip r:embed="rId1"/>
          <a:stretch/>
        </p:blipFill>
        <p:spPr>
          <a:xfrm>
            <a:off x="1116000" y="2421000"/>
            <a:ext cx="3419640" cy="374472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3"/>
          <p:cNvSpPr/>
          <p:nvPr/>
        </p:nvSpPr>
        <p:spPr>
          <a:xfrm>
            <a:off x="5444640" y="3141720"/>
            <a:ext cx="25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Жуковский В.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5"/>
          <p:cNvSpPr/>
          <p:nvPr/>
        </p:nvSpPr>
        <p:spPr>
          <a:xfrm>
            <a:off x="395280" y="3056040"/>
            <a:ext cx="3760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ушкин А.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ержавин Г.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Жуковский В.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ылеев К.Ф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Грибоедов А.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Лермонтов М.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01-09T13:23:09Z</dcterms:modified>
  <cp:revision>34</cp:revision>
  <dc:subject/>
  <dc:title>А.С. Пушкин. Жизнь и творчество. </dc:title>
</cp:coreProperties>
</file>