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123-916C-4105-9AD5-CCCA179A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9CD-AF97-4A76-A946-FD0F061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DF1-8DD8-440D-8416-B00E8FF0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B82-E5FA-4DBD-B05A-9EB42F8B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1A1-5367-42DD-BE25-2DFA8D9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086-9C22-417C-A592-0D729132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8BA-2D10-41CA-93D5-BC21C7C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418-9688-4C7D-8669-B7FCFE01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463-EFF0-48AF-AC37-AC6094E9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163-9FED-44B1-92CE-F58D43D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C24-AE15-405F-8316-D5E7B83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CF8-B1F3-47AF-B709-D59BE94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D60-03DA-421D-B580-83CD4343C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1483920"/>
            <a:ext cx="4319640" cy="24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.С. Пушкин. Жизнь и творчество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72000" y="5013360"/>
            <a:ext cx="36720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Bookman Old Style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Bookman Old Style"/>
              </a:rPr>
              <a:t>Кырнышева Зоя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Уроки 5 и 8 класс\Пушкин.jpg"/>
          <p:cNvPicPr/>
          <p:nvPr/>
        </p:nvPicPr>
        <p:blipFill>
          <a:blip r:embed="rId1"/>
          <a:stretch/>
        </p:blipFill>
        <p:spPr>
          <a:xfrm>
            <a:off x="57240" y="1125360"/>
            <a:ext cx="3863880" cy="50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755640" y="507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ОУ «Благоевская средняя общеобразовательная школа 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ы портре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пинин Василий Андр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пин Илья Ефи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ипренский Орест Адам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Рабочий стол\Уроки 5 и 8 класс\Тропининf.jpg"/>
          <p:cNvPicPr/>
          <p:nvPr/>
        </p:nvPicPr>
        <p:blipFill>
          <a:blip r:embed="rId1"/>
          <a:stretch/>
        </p:blipFill>
        <p:spPr>
          <a:xfrm>
            <a:off x="6935760" y="333360"/>
            <a:ext cx="2057400" cy="26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Admin\Рабочий стол\Уроки 5 и 8 класс\Репин.jpg"/>
          <p:cNvPicPr/>
          <p:nvPr/>
        </p:nvPicPr>
        <p:blipFill>
          <a:blip r:embed="rId2"/>
          <a:stretch/>
        </p:blipFill>
        <p:spPr>
          <a:xfrm>
            <a:off x="4836960" y="2781360"/>
            <a:ext cx="206388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Admin\Рабочий стол\Уроки 5 и 8 класс\Кипренскийf.jpg"/>
          <p:cNvPicPr/>
          <p:nvPr/>
        </p:nvPicPr>
        <p:blipFill>
          <a:blip r:embed="rId3"/>
          <a:stretch/>
        </p:blipFill>
        <p:spPr>
          <a:xfrm>
            <a:off x="684360" y="4321080"/>
            <a:ext cx="18651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из этих художников позировал сам Пушкин А.С.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Рабочий стол\Уроки 5 и 8 класс\Пушкин Тропинин.jpg"/>
          <p:cNvPicPr/>
          <p:nvPr/>
        </p:nvPicPr>
        <p:blipFill>
          <a:blip r:embed="rId1"/>
          <a:stretch/>
        </p:blipFill>
        <p:spPr>
          <a:xfrm>
            <a:off x="4788000" y="1622520"/>
            <a:ext cx="3867120" cy="4651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185760" y="3962520"/>
            <a:ext cx="39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Тропинину В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1160" y="21337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Тропинину В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Репину И.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ипренскому О.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овите художника,  который написал этот портр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4076640"/>
            <a:ext cx="4535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ипренский О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Admin\Рабочий стол\Уроки 5 и 8 класс\Пушкин Кинпренский.jpg"/>
          <p:cNvPicPr/>
          <p:nvPr/>
        </p:nvPicPr>
        <p:blipFill>
          <a:blip r:embed="rId1"/>
          <a:stretch/>
        </p:blipFill>
        <p:spPr>
          <a:xfrm>
            <a:off x="5292720" y="1996920"/>
            <a:ext cx="3336840" cy="4034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250920" y="207504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Тропинин В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Репин И.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Кипренский О.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1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й из данных портретов был написан ран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Admin\Рабочий стол\Уроки 5 и 8 класс\Пушкин Тропинин.jpg"/>
          <p:cNvPicPr/>
          <p:nvPr/>
        </p:nvPicPr>
        <p:blipFill>
          <a:blip r:embed="rId1"/>
          <a:stretch/>
        </p:blipFill>
        <p:spPr>
          <a:xfrm>
            <a:off x="4788000" y="1622520"/>
            <a:ext cx="3867120" cy="46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Рабочий стол\Уроки 5 и 8 класс\Пушкин Кинпренский.jpg"/>
          <p:cNvPicPr/>
          <p:nvPr/>
        </p:nvPicPr>
        <p:blipFill>
          <a:blip r:embed="rId2"/>
          <a:stretch/>
        </p:blipFill>
        <p:spPr>
          <a:xfrm>
            <a:off x="324000" y="1622520"/>
            <a:ext cx="38480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з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етр Яковл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ильгельм Кар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ван Ив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нтон Анто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етр Пав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лександр Михайл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друзей Пушкина А.С. посетил опального поэта в ссылке в Михайловск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35280" y="14130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бъект 2"/>
          <p:cNvSpPr/>
          <p:nvPr/>
        </p:nvSpPr>
        <p:spPr>
          <a:xfrm>
            <a:off x="4572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Admin\Рабочий стол\Уроки 5 и 8 класс\Пущин.jpg"/>
          <p:cNvPicPr/>
          <p:nvPr/>
        </p:nvPicPr>
        <p:blipFill>
          <a:blip r:embed="rId1"/>
          <a:stretch/>
        </p:blipFill>
        <p:spPr>
          <a:xfrm>
            <a:off x="179280" y="1268280"/>
            <a:ext cx="2381400" cy="290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dmin\Рабочий стол\Уроки 5 и 8 класс\Дельвиг.jpg"/>
          <p:cNvPicPr/>
          <p:nvPr/>
        </p:nvPicPr>
        <p:blipFill>
          <a:blip r:embed="rId2"/>
          <a:stretch/>
        </p:blipFill>
        <p:spPr>
          <a:xfrm>
            <a:off x="2558880" y="2682720"/>
            <a:ext cx="2460960" cy="295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Admin\Рабочий стол\Уроки 5 и 8 класс\Горчаков.jpg"/>
          <p:cNvPicPr/>
          <p:nvPr/>
        </p:nvPicPr>
        <p:blipFill>
          <a:blip r:embed="rId3"/>
          <a:stretch/>
        </p:blipFill>
        <p:spPr>
          <a:xfrm>
            <a:off x="5019840" y="3933720"/>
            <a:ext cx="23605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из друзей был гусарским офицер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3827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бъект 2"/>
          <p:cNvSpPr/>
          <p:nvPr/>
        </p:nvSpPr>
        <p:spPr>
          <a:xfrm>
            <a:off x="3419640" y="1598760"/>
            <a:ext cx="548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Admin\Рабочий стол\Уроки 5 и 8 класс\Чаадаев.jpg"/>
          <p:cNvPicPr/>
          <p:nvPr/>
        </p:nvPicPr>
        <p:blipFill>
          <a:blip r:embed="rId1"/>
          <a:stretch/>
        </p:blipFill>
        <p:spPr>
          <a:xfrm>
            <a:off x="539640" y="1546200"/>
            <a:ext cx="259236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dmin\Рабочий стол\Уроки 5 и 8 класс\Каверин.jpg"/>
          <p:cNvPicPr/>
          <p:nvPr/>
        </p:nvPicPr>
        <p:blipFill>
          <a:blip r:embed="rId2"/>
          <a:stretch/>
        </p:blipFill>
        <p:spPr>
          <a:xfrm>
            <a:off x="3400560" y="3508200"/>
            <a:ext cx="2303280" cy="30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кем из лицейских друзей Пушкин стрелялся на дуэ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бъект 2"/>
          <p:cNvSpPr/>
          <p:nvPr/>
        </p:nvSpPr>
        <p:spPr>
          <a:xfrm>
            <a:off x="47880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Documents and Settings\Admin\Рабочий стол\Уроки 5 и 8 класс\Кюхельбекер.jpg"/>
          <p:cNvPicPr/>
          <p:nvPr/>
        </p:nvPicPr>
        <p:blipFill>
          <a:blip r:embed="rId1"/>
          <a:stretch/>
        </p:blipFill>
        <p:spPr>
          <a:xfrm>
            <a:off x="797040" y="1773360"/>
            <a:ext cx="35287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зья мои, прекрасен наш союз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как душа неразделим и вечен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лебим, свободен и беспеч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стался он под сенью дружных му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2"/>
          <p:cNvSpPr/>
          <p:nvPr/>
        </p:nvSpPr>
        <p:spPr>
          <a:xfrm>
            <a:off x="179280" y="1616040"/>
            <a:ext cx="38163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бъект 2"/>
          <p:cNvSpPr/>
          <p:nvPr/>
        </p:nvSpPr>
        <p:spPr>
          <a:xfrm>
            <a:off x="206280" y="2205000"/>
            <a:ext cx="410544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у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у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у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у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друзьям лицеи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1628280"/>
            <a:ext cx="36115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атель, за свои гре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с виду всех трезв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чти свои стих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 мне заснуть скоре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Объект 2"/>
          <p:cNvSpPr/>
          <p:nvPr/>
        </p:nvSpPr>
        <p:spPr>
          <a:xfrm>
            <a:off x="457200" y="1600200"/>
            <a:ext cx="382752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Объект 2"/>
          <p:cNvSpPr/>
          <p:nvPr/>
        </p:nvSpPr>
        <p:spPr>
          <a:xfrm>
            <a:off x="4716360" y="4056120"/>
            <a:ext cx="4000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у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Documents and Settings\Admin\Рабочий стол\Уроки 5 и 8 класс\Кюхельбекер.jpg"/>
          <p:cNvPicPr/>
          <p:nvPr/>
        </p:nvPicPr>
        <p:blipFill>
          <a:blip r:embed="rId1"/>
          <a:stretch/>
        </p:blipFill>
        <p:spPr>
          <a:xfrm>
            <a:off x="484200" y="1281240"/>
            <a:ext cx="36115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унд №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в хронологическом порядке фамилии поэтов и писателей по датам их рож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4920" y="2708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юхельбекер В. 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3851280" y="1436760"/>
            <a:ext cx="54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ы спиш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нись, ленивец сонны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е под кафедрой лежиш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тынью усыпл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бъект 2"/>
          <p:cNvSpPr/>
          <p:nvPr/>
        </p:nvSpPr>
        <p:spPr>
          <a:xfrm>
            <a:off x="3995640" y="3860640"/>
            <a:ext cx="4464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ельвигу А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Admin\Рабочий стол\Уроки 5 и 8 класс\Дельвиг.jpg"/>
          <p:cNvPicPr/>
          <p:nvPr/>
        </p:nvPicPr>
        <p:blipFill>
          <a:blip r:embed="rId1"/>
          <a:stretch/>
        </p:blipFill>
        <p:spPr>
          <a:xfrm>
            <a:off x="179280" y="1844640"/>
            <a:ext cx="3113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17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480" y="2492280"/>
            <a:ext cx="31780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юхельбек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564000" y="1628640"/>
            <a:ext cx="48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варищ, верь: взойдет о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езда пленительного счасть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я вспрянет ото с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 обломках самовлас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ишут наши им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5165640" y="443700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Чаадаеву П.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Documents and Settings\Admin\Рабочий стол\Уроки 5 и 8 класс\Чаадаев.jpg"/>
          <p:cNvPicPr/>
          <p:nvPr/>
        </p:nvPicPr>
        <p:blipFill>
          <a:blip r:embed="rId1"/>
          <a:stretch/>
        </p:blipFill>
        <p:spPr>
          <a:xfrm>
            <a:off x="324000" y="1413000"/>
            <a:ext cx="29527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посвящены следующие строки Пушкина А.С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3480" y="2492280"/>
            <a:ext cx="31780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Чаадаев П. 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юхельбек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 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ущин И.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Дельвиг А.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Каверин П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Горчаков А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564000" y="1628640"/>
            <a:ext cx="48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й первый друг, мой друг бесценны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я судьбу благослов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мой двор уединенн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альный снегом занесенны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й колокольчик оглас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5020560" y="5041800"/>
            <a:ext cx="28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ущину И. 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Documents and Settings\Admin\Рабочий стол\Уроки 5 и 8 класс\Пущин.jpg"/>
          <p:cNvPicPr/>
          <p:nvPr/>
        </p:nvPicPr>
        <p:blipFill>
          <a:blip r:embed="rId1"/>
          <a:stretch/>
        </p:blipFill>
        <p:spPr>
          <a:xfrm>
            <a:off x="250920" y="1882800"/>
            <a:ext cx="30970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20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унд №2.  Твор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н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аль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ль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лон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Мазу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Лезг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Котиль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684360" y="404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танец танцевали на именин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тьяны Лар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5302800" y="31417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Мазур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Documents and Settings\Admin\Рабочий стол\Уроки 5 и 8 класс\мазурка.jpg"/>
          <p:cNvPicPr/>
          <p:nvPr/>
        </p:nvPicPr>
        <p:blipFill>
          <a:blip r:embed="rId1"/>
          <a:stretch/>
        </p:blipFill>
        <p:spPr>
          <a:xfrm>
            <a:off x="826920" y="1717560"/>
            <a:ext cx="3745080" cy="4973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539640" y="115920"/>
            <a:ext cx="819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зыку к каким танцам сочиня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боедов А.С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5148360" y="38815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К вальс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C:\Documents and Settings\Admin\Рабочий стол\Уроки 5 и 8 класс\вальс.jpg"/>
          <p:cNvPicPr/>
          <p:nvPr/>
        </p:nvPicPr>
        <p:blipFill>
          <a:blip r:embed="rId2"/>
          <a:srcRect l="0" t="0" r="0" b="3450"/>
          <a:stretch/>
        </p:blipFill>
        <p:spPr>
          <a:xfrm>
            <a:off x="974880" y="1552680"/>
            <a:ext cx="33559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1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1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1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1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1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1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1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первым пригласил на танец Ольгу Ларин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1724040"/>
            <a:ext cx="2746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негин 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бъект 2"/>
          <p:cNvSpPr/>
          <p:nvPr/>
        </p:nvSpPr>
        <p:spPr>
          <a:xfrm>
            <a:off x="1332000" y="3336840"/>
            <a:ext cx="2746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Documents and Settings\Admin\Рабочий стол\Уроки 5 и 8 класс\мазурка 2.jpg"/>
          <p:cNvPicPr/>
          <p:nvPr/>
        </p:nvPicPr>
        <p:blipFill>
          <a:blip r:embed="rId1"/>
          <a:stretch/>
        </p:blipFill>
        <p:spPr>
          <a:xfrm>
            <a:off x="4788000" y="1557360"/>
            <a:ext cx="3636720" cy="4962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241200" y="185760"/>
            <a:ext cx="88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первым пригласил на танец Татьяну Ларин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1035000" y="416556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C:\Documents and Settings\Admin\Рабочий стол\Уроки 5 и 8 класс\мазурка 3.jpg"/>
          <p:cNvPicPr/>
          <p:nvPr/>
        </p:nvPicPr>
        <p:blipFill>
          <a:blip r:embed="rId2"/>
          <a:srcRect l="4176" t="0" r="14674" b="0"/>
          <a:stretch/>
        </p:blipFill>
        <p:spPr>
          <a:xfrm>
            <a:off x="4932360" y="1631880"/>
            <a:ext cx="39718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">
                                          <p:stCondLst>
                                            <p:cond delay="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" fill="hold">
                                          <p:stCondLst>
                                            <p:cond delay="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" fill="hold">
                                          <p:stCondLst>
                                            <p:cond delay="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" fill="hold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" fill="hold">
                                          <p:stCondLst>
                                            <p:cond delay="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" fill="hold">
                                          <p:stCondLst>
                                            <p:cond delay="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героя, погибшего на дуэ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03640" y="2614680"/>
            <a:ext cx="20275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324000" y="1671480"/>
            <a:ext cx="274608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негин 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Documents and Settings\Admin\Рабочий стол\Уроки 5 и 8 класс\дуэль 2.jpg"/>
          <p:cNvPicPr/>
          <p:nvPr/>
        </p:nvPicPr>
        <p:blipFill>
          <a:blip r:embed="rId1"/>
          <a:stretch/>
        </p:blipFill>
        <p:spPr>
          <a:xfrm>
            <a:off x="3276720" y="2033640"/>
            <a:ext cx="5449680" cy="36273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13680" y="3343320"/>
            <a:ext cx="22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4040" y="46530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390600" y="1000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главного секунданта в дуэли Ленского и Онеги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из героев был в плену у французов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00720" y="22050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негин 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туш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Admin\Рабочий стол\Уроки 5 и 8 класс\война 1812.jpg"/>
          <p:cNvPicPr/>
          <p:nvPr/>
        </p:nvPicPr>
        <p:blipFill>
          <a:blip r:embed="rId1"/>
          <a:stretch/>
        </p:blipFill>
        <p:spPr>
          <a:xfrm>
            <a:off x="0" y="1484280"/>
            <a:ext cx="6157800" cy="45370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6638760" y="364500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Зарец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539640" y="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литературного героя, придуманного Василием Львовичем - дядей Пушкина А.С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C:\Documents and Settings\Admin\Рабочий стол\Уроки 5 и 8 класс\дядя Пушкина.jpg"/>
          <p:cNvPicPr/>
          <p:nvPr/>
        </p:nvPicPr>
        <p:blipFill>
          <a:blip r:embed="rId2"/>
          <a:stretch/>
        </p:blipFill>
        <p:spPr>
          <a:xfrm>
            <a:off x="1447920" y="1467000"/>
            <a:ext cx="3484440" cy="4356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6381720" y="429084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Буя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2060280"/>
            <a:ext cx="3898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я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ал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ук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заки-разбой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Ш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Шахм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826920" y="1052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имая игра Онегина и Ленског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Documents and Settings\Admin\Рабочий стол\Уроки 5 и 8 класс\прятки.jpg"/>
          <p:cNvPicPr/>
          <p:nvPr/>
        </p:nvPicPr>
        <p:blipFill>
          <a:blip r:embed="rId1"/>
          <a:stretch/>
        </p:blipFill>
        <p:spPr>
          <a:xfrm>
            <a:off x="6227640" y="4869000"/>
            <a:ext cx="267660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Admin\Рабочий стол\Уроки 5 и 8 класс\шашки.jpg"/>
          <p:cNvPicPr/>
          <p:nvPr/>
        </p:nvPicPr>
        <p:blipFill>
          <a:blip r:embed="rId2"/>
          <a:stretch/>
        </p:blipFill>
        <p:spPr>
          <a:xfrm>
            <a:off x="2556000" y="16635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Documents and Settings\Admin\Рабочий стол\Уроки 5 и 8 класс\шахматы.jpg"/>
          <p:cNvPicPr/>
          <p:nvPr/>
        </p:nvPicPr>
        <p:blipFill>
          <a:blip r:embed="rId3"/>
          <a:stretch/>
        </p:blipFill>
        <p:spPr>
          <a:xfrm>
            <a:off x="4468680" y="302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\Рабочий стол\Уроки 5 и 8 класс\салочки.jpg"/>
          <p:cNvPicPr/>
          <p:nvPr/>
        </p:nvPicPr>
        <p:blipFill>
          <a:blip r:embed="rId4"/>
          <a:stretch/>
        </p:blipFill>
        <p:spPr>
          <a:xfrm>
            <a:off x="7116840" y="1663560"/>
            <a:ext cx="1809720" cy="25243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1438200" y="378936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 Шахм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785160" y="836640"/>
            <a:ext cx="75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какие игры играла Татьяна Лари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66600" y="325440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тьяна не играла ни в каки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3240" y="188640"/>
            <a:ext cx="4833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Времена г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7480" y="2133720"/>
            <a:ext cx="173808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Ле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с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Вес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Documents and Settings\Admin\Рабочий стол\Уроки 5 и 8 класс\Весна.jpg"/>
          <p:cNvPicPr/>
          <p:nvPr/>
        </p:nvPicPr>
        <p:blipFill>
          <a:blip r:embed="rId1"/>
          <a:stretch/>
        </p:blipFill>
        <p:spPr>
          <a:xfrm>
            <a:off x="0" y="4933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Admin\Рабочий стол\Уроки 5 и 8 класс\ЛЕто.jpg"/>
          <p:cNvPicPr/>
          <p:nvPr/>
        </p:nvPicPr>
        <p:blipFill>
          <a:blip r:embed="rId2"/>
          <a:stretch/>
        </p:blipFill>
        <p:spPr>
          <a:xfrm>
            <a:off x="6629400" y="1419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Admin\Рабочий стол\Уроки 5 и 8 класс\Зима.jpg"/>
          <p:cNvPicPr/>
          <p:nvPr/>
        </p:nvPicPr>
        <p:blipFill>
          <a:blip r:embed="rId3"/>
          <a:stretch/>
        </p:blipFill>
        <p:spPr>
          <a:xfrm>
            <a:off x="2492280" y="4365720"/>
            <a:ext cx="2705040" cy="1685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Documents and Settings\Admin\Рабочий стол\Уроки 5 и 8 класс\Осень.jpg"/>
          <p:cNvPicPr/>
          <p:nvPr/>
        </p:nvPicPr>
        <p:blipFill>
          <a:blip r:embed="rId4"/>
          <a:stretch/>
        </p:blipFill>
        <p:spPr>
          <a:xfrm>
            <a:off x="5211720" y="31669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47880" y="973080"/>
            <a:ext cx="69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любимое время года у Пушкина А.С.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611440" y="21337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Ос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990000" y="9572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любимое время г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Татьяны Лар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5817240" y="284328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З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2577240" y="86832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мое время года у Евгения Онеги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997920" y="2381400"/>
            <a:ext cx="728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alibri"/>
              </a:rPr>
              <a:t>У Евгения Онегина не бы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Calibri"/>
              </a:rPr>
              <a:t>любимого времени г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289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Чис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341000"/>
            <a:ext cx="14508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2411280" y="981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какого расстояния Онегин выстрелил в Ленско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Documents and Settings\Admin\Рабочий стол\Уроки 5 и 8 класс\дуэль 2.jpg"/>
          <p:cNvPicPr/>
          <p:nvPr/>
        </p:nvPicPr>
        <p:blipFill>
          <a:blip r:embed="rId1"/>
          <a:stretch/>
        </p:blipFill>
        <p:spPr>
          <a:xfrm>
            <a:off x="4572000" y="3357720"/>
            <a:ext cx="3699000" cy="246204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264600" y="3819600"/>
            <a:ext cx="33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 с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ша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2259000" y="896760"/>
            <a:ext cx="68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Дантес в Пушкина во время дуэли на речке Чер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6"/>
          <p:cNvSpPr/>
          <p:nvPr/>
        </p:nvSpPr>
        <p:spPr>
          <a:xfrm>
            <a:off x="44280" y="2973240"/>
            <a:ext cx="32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с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ша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C:\Documents and Settings\Admin\Рабочий стол\Уроки 5 и 8 класс\дуэль.jpg"/>
          <p:cNvPicPr/>
          <p:nvPr/>
        </p:nvPicPr>
        <p:blipFill>
          <a:blip r:embed="rId2"/>
          <a:stretch/>
        </p:blipFill>
        <p:spPr>
          <a:xfrm>
            <a:off x="4572000" y="3357720"/>
            <a:ext cx="411156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7"/>
          <p:cNvSpPr/>
          <p:nvPr/>
        </p:nvSpPr>
        <p:spPr>
          <a:xfrm>
            <a:off x="2124000" y="703440"/>
            <a:ext cx="65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лет работал Пушкин А.С. над романо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:\Documents and Settings\Admin\Рабочий стол\Уроки 5 и 8 класс\написание.jpg"/>
          <p:cNvPicPr/>
          <p:nvPr/>
        </p:nvPicPr>
        <p:blipFill>
          <a:blip r:embed="rId3"/>
          <a:stretch/>
        </p:blipFill>
        <p:spPr>
          <a:xfrm>
            <a:off x="4732200" y="2457360"/>
            <a:ext cx="3573720" cy="39243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8"/>
          <p:cNvSpPr/>
          <p:nvPr/>
        </p:nvSpPr>
        <p:spPr>
          <a:xfrm>
            <a:off x="1101600" y="2708280"/>
            <a:ext cx="204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692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ержавин Г.Р. (1743-18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Жуковский В.А. (1783-185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ылеев К.Ф. (1795-18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Admin\Рабочий стол\Уроки 5 и 8 класс\Державин.jpg"/>
          <p:cNvPicPr/>
          <p:nvPr/>
        </p:nvPicPr>
        <p:blipFill>
          <a:blip r:embed="rId1"/>
          <a:stretch/>
        </p:blipFill>
        <p:spPr>
          <a:xfrm>
            <a:off x="5645160" y="3240"/>
            <a:ext cx="2319480" cy="294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Уроки 5 и 8 класс\Рылеев.jpg"/>
          <p:cNvPicPr/>
          <p:nvPr/>
        </p:nvPicPr>
        <p:blipFill>
          <a:blip r:embed="rId2"/>
          <a:stretch/>
        </p:blipFill>
        <p:spPr>
          <a:xfrm>
            <a:off x="5645160" y="3755880"/>
            <a:ext cx="2319480" cy="310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Admin\Рабочий стол\Уроки 5 и 8 класс\ЖУковский.jpg"/>
          <p:cNvPicPr/>
          <p:nvPr/>
        </p:nvPicPr>
        <p:blipFill>
          <a:blip r:embed="rId3"/>
          <a:srcRect l="12612" t="0" r="0" b="0"/>
          <a:stretch/>
        </p:blipFill>
        <p:spPr>
          <a:xfrm>
            <a:off x="490680" y="1989000"/>
            <a:ext cx="2454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2459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Чи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7640" y="1979280"/>
            <a:ext cx="32497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ер-юнк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ру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Штабс-капи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Гене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911880" y="1062000"/>
            <a:ext cx="74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чине был муж Татьяны Лари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C:\Documents and Settings\Admin\Рабочий стол\Уроки 5 и 8 класс\генерал1.jpg"/>
          <p:cNvPicPr/>
          <p:nvPr/>
        </p:nvPicPr>
        <p:blipFill>
          <a:blip r:embed="rId1"/>
          <a:srcRect l="0" t="11636" r="0" b="13040"/>
          <a:stretch/>
        </p:blipFill>
        <p:spPr>
          <a:xfrm>
            <a:off x="4299120" y="5589720"/>
            <a:ext cx="3047760" cy="1004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Admin\Рабочий стол\Уроки 5 и 8 класс\штабс-капитан1.jpg"/>
          <p:cNvPicPr/>
          <p:nvPr/>
        </p:nvPicPr>
        <p:blipFill>
          <a:blip r:embed="rId2"/>
          <a:srcRect l="0" t="14833" r="0" b="11079"/>
          <a:stretch/>
        </p:blipFill>
        <p:spPr>
          <a:xfrm>
            <a:off x="4292640" y="4322880"/>
            <a:ext cx="3048120" cy="1030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Documents and Settings\Admin\Рабочий стол\Уроки 5 и 8 класс\поручик.jpg"/>
          <p:cNvPicPr/>
          <p:nvPr/>
        </p:nvPicPr>
        <p:blipFill>
          <a:blip r:embed="rId3"/>
          <a:srcRect l="0" t="16028" r="0" b="7890"/>
          <a:stretch/>
        </p:blipFill>
        <p:spPr>
          <a:xfrm>
            <a:off x="4299120" y="3068640"/>
            <a:ext cx="3047760" cy="993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Documents and Settings\Admin\Рабочий стол\Уроки 5 и 8 класс\камер паж.jpg"/>
          <p:cNvPicPr/>
          <p:nvPr/>
        </p:nvPicPr>
        <p:blipFill>
          <a:blip r:embed="rId4"/>
          <a:srcRect l="5232" t="25187" r="7664" b="51537"/>
          <a:stretch/>
        </p:blipFill>
        <p:spPr>
          <a:xfrm>
            <a:off x="4299120" y="1984320"/>
            <a:ext cx="1541160" cy="763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Admin\Рабочий стол\Уроки 5 и 8 класс\камер паж.jpg"/>
          <p:cNvPicPr/>
          <p:nvPr/>
        </p:nvPicPr>
        <p:blipFill>
          <a:blip r:embed="rId5"/>
          <a:srcRect l="7664" t="51537" r="5232" b="25187"/>
          <a:stretch/>
        </p:blipFill>
        <p:spPr>
          <a:xfrm>
            <a:off x="5865840" y="1984320"/>
            <a:ext cx="1542960" cy="7635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455400" y="5737320"/>
            <a:ext cx="24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Генера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932040" y="739800"/>
            <a:ext cx="781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чин Пушкина А.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царском дво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289080" y="2101680"/>
            <a:ext cx="33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мер-юнк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2911320" y="243000"/>
            <a:ext cx="622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ком чине вышел в отставку Андрей Гаврилович Дубровский, герой повести Пушкина А.С. «Дубровский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702720" y="319572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руч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C:\Documents and Settings\Admin\Рабочий стол\Уроки 5 и 8 класс\Мусоргский.jpg"/>
          <p:cNvPicPr/>
          <p:nvPr/>
        </p:nvPicPr>
        <p:blipFill>
          <a:blip r:embed="rId1"/>
          <a:stretch/>
        </p:blipFill>
        <p:spPr>
          <a:xfrm>
            <a:off x="1440" y="4292640"/>
            <a:ext cx="1717920" cy="2146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Documents and Settings\Admin\Рабочий стол\Уроки 5 и 8 класс\Даргомыжский.jpg"/>
          <p:cNvPicPr/>
          <p:nvPr/>
        </p:nvPicPr>
        <p:blipFill>
          <a:blip r:embed="rId2"/>
          <a:stretch/>
        </p:blipFill>
        <p:spPr>
          <a:xfrm>
            <a:off x="1735200" y="3633840"/>
            <a:ext cx="1719360" cy="2158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Admin\Рабочий стол\Уроки 5 и 8 класс\Рахманинов.jpg"/>
          <p:cNvPicPr/>
          <p:nvPr/>
        </p:nvPicPr>
        <p:blipFill>
          <a:blip r:embed="rId3"/>
          <a:stretch/>
        </p:blipFill>
        <p:spPr>
          <a:xfrm>
            <a:off x="3454560" y="2766960"/>
            <a:ext cx="1758960" cy="2322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Музыка. Авторы музыкальных произведений, написанных на тексты Пушкина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560" y="1312920"/>
            <a:ext cx="32418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Глинка М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Чайковский П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Рахманинов С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Даргомыжский А.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Мусоргский М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C:\Documents and Settings\Admin\Рабочий стол\Уроки 5 и 8 класс\Чайковский.jpg"/>
          <p:cNvPicPr/>
          <p:nvPr/>
        </p:nvPicPr>
        <p:blipFill>
          <a:blip r:embed="rId4"/>
          <a:srcRect l="2556" t="1790" r="3124" b="2372"/>
          <a:stretch/>
        </p:blipFill>
        <p:spPr>
          <a:xfrm>
            <a:off x="5213520" y="1916280"/>
            <a:ext cx="1672920" cy="2253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Admin\Рабочий стол\Уроки 5 и 8 класс\Глинка.jpg"/>
          <p:cNvPicPr/>
          <p:nvPr/>
        </p:nvPicPr>
        <p:blipFill>
          <a:blip r:embed="rId5"/>
          <a:stretch/>
        </p:blipFill>
        <p:spPr>
          <a:xfrm>
            <a:off x="6958080" y="1125360"/>
            <a:ext cx="1717560" cy="2232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5589720" y="5165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авт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3148560" y="5853240"/>
            <a:ext cx="61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манса «Я помню чудное мгнов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2806920" y="190512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Глинка М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3932280" y="5915160"/>
            <a:ext cx="60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еры «Евгений Онеги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930600" y="245916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Чайковский П.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4464000" y="5823000"/>
            <a:ext cx="37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ы «Але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9"/>
          <p:cNvSpPr/>
          <p:nvPr/>
        </p:nvSpPr>
        <p:spPr>
          <a:xfrm>
            <a:off x="108000" y="34671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Рахманинов С.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0"/>
          <p:cNvSpPr/>
          <p:nvPr/>
        </p:nvSpPr>
        <p:spPr>
          <a:xfrm>
            <a:off x="4454640" y="5915160"/>
            <a:ext cx="43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ы «Борис Годун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11"/>
          <p:cNvSpPr/>
          <p:nvPr/>
        </p:nvSpPr>
        <p:spPr>
          <a:xfrm>
            <a:off x="1554840" y="333540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Мусоргский М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12"/>
          <p:cNvSpPr/>
          <p:nvPr/>
        </p:nvSpPr>
        <p:spPr>
          <a:xfrm>
            <a:off x="4335480" y="58849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манса «Я вас люби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13"/>
          <p:cNvSpPr/>
          <p:nvPr/>
        </p:nvSpPr>
        <p:spPr>
          <a:xfrm>
            <a:off x="4100760" y="275112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Даргомыжский А.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4575960" y="58993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ы «Пиковая дам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1680" y="2880"/>
            <a:ext cx="481968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вящ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8000" y="1477800"/>
            <a:ext cx="316872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Керн А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Гончаровой Н.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летневу П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Чаадаеву П.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Декабрис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108000" y="4730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у Пушкин А.С. посвятил своё произвед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3470400" y="121608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ман «Евгений Онеги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C:\Documents and Settings\Admin\Рабочий стол\Уроки 5 и 8 класс\Чаадаев.jpg"/>
          <p:cNvPicPr/>
          <p:nvPr/>
        </p:nvPicPr>
        <p:blipFill>
          <a:blip r:embed="rId1"/>
          <a:stretch/>
        </p:blipFill>
        <p:spPr>
          <a:xfrm>
            <a:off x="4186080" y="4367160"/>
            <a:ext cx="1892520" cy="24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Рабочий стол\Уроки 5 и 8 класс\Керн А.П.jpg"/>
          <p:cNvPicPr/>
          <p:nvPr/>
        </p:nvPicPr>
        <p:blipFill>
          <a:blip r:embed="rId2"/>
          <a:stretch/>
        </p:blipFill>
        <p:spPr>
          <a:xfrm>
            <a:off x="4167360" y="1905120"/>
            <a:ext cx="190476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Рабочий стол\Уроки 5 и 8 класс\Плетнёв.jpg"/>
          <p:cNvPicPr/>
          <p:nvPr/>
        </p:nvPicPr>
        <p:blipFill>
          <a:blip r:embed="rId3"/>
          <a:stretch/>
        </p:blipFill>
        <p:spPr>
          <a:xfrm>
            <a:off x="1979640" y="4394160"/>
            <a:ext cx="1965240" cy="2357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Рабочий стол\Уроки 5 и 8 класс\декабристы.jpg"/>
          <p:cNvPicPr/>
          <p:nvPr/>
        </p:nvPicPr>
        <p:blipFill>
          <a:blip r:embed="rId4"/>
          <a:stretch/>
        </p:blipFill>
        <p:spPr>
          <a:xfrm>
            <a:off x="6300720" y="4362480"/>
            <a:ext cx="2630520" cy="2421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Рабочий стол\Уроки 5 и 8 класс\Гончарова.jpg"/>
          <p:cNvPicPr/>
          <p:nvPr/>
        </p:nvPicPr>
        <p:blipFill>
          <a:blip r:embed="rId5"/>
          <a:stretch/>
        </p:blipFill>
        <p:spPr>
          <a:xfrm>
            <a:off x="6072120" y="1905120"/>
            <a:ext cx="1935360" cy="24001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3"/>
          <p:cNvSpPr/>
          <p:nvPr/>
        </p:nvSpPr>
        <p:spPr>
          <a:xfrm>
            <a:off x="5161320" y="220176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летневу П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3488040" y="1216080"/>
            <a:ext cx="47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Я помню чудное мгнов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5"/>
          <p:cNvSpPr/>
          <p:nvPr/>
        </p:nvSpPr>
        <p:spPr>
          <a:xfrm>
            <a:off x="1320480" y="3059280"/>
            <a:ext cx="22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ерн А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3703680" y="930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ви, надежды, тихой сла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лго нежил нас обман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225720" y="4121280"/>
            <a:ext cx="29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Чаадаеву П.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370600" y="108432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Чистейшей прелести чистейший образец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9"/>
          <p:cNvSpPr/>
          <p:nvPr/>
        </p:nvSpPr>
        <p:spPr>
          <a:xfrm>
            <a:off x="1593000" y="3533760"/>
            <a:ext cx="35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ончаровой Н.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3551400" y="8683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о глубине сибирских р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аните гордое терпени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2747160" y="294948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Декабрис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88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унд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907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Составьте слова из слова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Михайловско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C:\Documents and Settings\Admin\Рабочий стол\Уроки 5 и 8 класс\михайловское.jpg"/>
          <p:cNvPicPr/>
          <p:nvPr/>
        </p:nvPicPr>
        <p:blipFill>
          <a:blip r:embed="rId1"/>
          <a:stretch/>
        </p:blipFill>
        <p:spPr>
          <a:xfrm>
            <a:off x="3571920" y="3029040"/>
            <a:ext cx="5715000" cy="38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Admin\Рабочий стол\Уроки 5 и 8 класс\памятник пушкину.jpg"/>
          <p:cNvPicPr/>
          <p:nvPr/>
        </p:nvPicPr>
        <p:blipFill>
          <a:blip r:embed="rId2"/>
          <a:srcRect l="0" t="0" r="37287" b="0"/>
          <a:stretch/>
        </p:blipFill>
        <p:spPr>
          <a:xfrm>
            <a:off x="0" y="3029040"/>
            <a:ext cx="3571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Грибоедов А.С. (1795-18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ушкин А.С. (1799-18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Лермонтов М.Ю. (1814-184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\Рабочий стол\Уроки 5 и 8 класс\Грибоедов.jpg"/>
          <p:cNvPicPr/>
          <p:nvPr/>
        </p:nvPicPr>
        <p:blipFill>
          <a:blip r:embed="rId1"/>
          <a:stretch/>
        </p:blipFill>
        <p:spPr>
          <a:xfrm>
            <a:off x="5867280" y="-31680"/>
            <a:ext cx="2772000" cy="304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Рабочий стол\Уроки 5 и 8 класс\Пушкин.jpg"/>
          <p:cNvPicPr/>
          <p:nvPr/>
        </p:nvPicPr>
        <p:blipFill>
          <a:blip r:embed="rId2"/>
          <a:srcRect l="7668" t="0" r="5751" b="8999"/>
          <a:stretch/>
        </p:blipFill>
        <p:spPr>
          <a:xfrm>
            <a:off x="623880" y="1590840"/>
            <a:ext cx="2587680" cy="32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Рабочий стол\Уроки 5 и 8 класс\Лермонтов.jpg"/>
          <p:cNvPicPr/>
          <p:nvPr/>
        </p:nvPicPr>
        <p:blipFill>
          <a:blip r:embed="rId3"/>
          <a:srcRect l="12672" t="3773" r="12165" b="4159"/>
          <a:stretch/>
        </p:blipFill>
        <p:spPr>
          <a:xfrm>
            <a:off x="6084720" y="3645000"/>
            <a:ext cx="27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0320" y="260280"/>
            <a:ext cx="7267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поэтов был одногодкам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191200" y="224964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Рылеев К.Ф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419040" y="90792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поэтов родился в г. Моск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688000" y="351144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Лермонтов М.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71520" y="1724040"/>
            <a:ext cx="42908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Уроки 5 и 8 класс\Рылеев.jpg"/>
          <p:cNvPicPr/>
          <p:nvPr/>
        </p:nvPicPr>
        <p:blipFill>
          <a:blip r:embed="rId1"/>
          <a:stretch/>
        </p:blipFill>
        <p:spPr>
          <a:xfrm>
            <a:off x="4680" y="1413000"/>
            <a:ext cx="2357640" cy="28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Admin\Рабочий стол\Уроки 5 и 8 класс\Грибоедов.jpg"/>
          <p:cNvPicPr/>
          <p:nvPr/>
        </p:nvPicPr>
        <p:blipFill>
          <a:blip r:embed="rId2"/>
          <a:stretch/>
        </p:blipFill>
        <p:spPr>
          <a:xfrm>
            <a:off x="3073320" y="3203640"/>
            <a:ext cx="2614680" cy="343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Admin\Рабочий стол\Уроки 5 и 8 класс\Пушкин.jpg"/>
          <p:cNvPicPr/>
          <p:nvPr/>
        </p:nvPicPr>
        <p:blipFill>
          <a:blip r:embed="rId3"/>
          <a:stretch/>
        </p:blipFill>
        <p:spPr>
          <a:xfrm>
            <a:off x="6300720" y="333360"/>
            <a:ext cx="2664000" cy="31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Admin\Рабочий стол\Уроки 5 и 8 класс\Лермонтов.jpg"/>
          <p:cNvPicPr/>
          <p:nvPr/>
        </p:nvPicPr>
        <p:blipFill>
          <a:blip r:embed="rId4"/>
          <a:srcRect l="12672" t="3773" r="12165" b="4159"/>
          <a:stretch/>
        </p:blipFill>
        <p:spPr>
          <a:xfrm>
            <a:off x="179280" y="1582560"/>
            <a:ext cx="2772000" cy="3211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3440" y="259920"/>
            <a:ext cx="8390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у из поэтов принадлежат стро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74720" y="1412640"/>
            <a:ext cx="534492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ква… как много в этом зв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ердца русского слило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много в нем отозвалос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012000" y="310032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\Рабочий стол\Уроки 5 и 8 класс\Москва.jpg"/>
          <p:cNvPicPr/>
          <p:nvPr/>
        </p:nvPicPr>
        <p:blipFill>
          <a:blip r:embed="rId1"/>
          <a:stretch/>
        </p:blipFill>
        <p:spPr>
          <a:xfrm>
            <a:off x="3363840" y="4065480"/>
            <a:ext cx="5762520" cy="27925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163440" y="1533600"/>
            <a:ext cx="33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у из поэтов принадлежат стро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сква, Москва! Люблю тебя как сы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усский, - сильно, пламенно и не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080040" y="292428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Лермонтов М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\Рабочий стол\Уроки 5 и 8 класс\москва 2.jpg"/>
          <p:cNvPicPr/>
          <p:nvPr/>
        </p:nvPicPr>
        <p:blipFill>
          <a:blip r:embed="rId1"/>
          <a:stretch/>
        </p:blipFill>
        <p:spPr>
          <a:xfrm>
            <a:off x="611280" y="2924280"/>
            <a:ext cx="4968720" cy="35622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5794200" y="3473280"/>
            <a:ext cx="33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благословил Пушкина А.С. на поэтический пу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118120" y="240984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Державин Г.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Уроки 5 и 8 класс\Державин.jpg"/>
          <p:cNvPicPr/>
          <p:nvPr/>
        </p:nvPicPr>
        <p:blipFill>
          <a:blip r:embed="rId1"/>
          <a:stretch/>
        </p:blipFill>
        <p:spPr>
          <a:xfrm>
            <a:off x="826920" y="1700280"/>
            <a:ext cx="3600720" cy="4578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163440" y="1533600"/>
            <a:ext cx="376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0840" y="22356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 подарил Пушкину А.С. свой портрет с надписью: «Победителю-ученику от побежденного учителя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Admin\Рабочий стол\Уроки 5 и 8 класс\Жуковский Кипренский .jpg"/>
          <p:cNvPicPr/>
          <p:nvPr/>
        </p:nvPicPr>
        <p:blipFill>
          <a:blip r:embed="rId1"/>
          <a:stretch/>
        </p:blipFill>
        <p:spPr>
          <a:xfrm>
            <a:off x="1116000" y="2421000"/>
            <a:ext cx="341964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5444640" y="314172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уковский В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395280" y="3056040"/>
            <a:ext cx="376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ржавин Г.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уковский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ылеев К.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ибоедов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ермонтов М.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09T13:23:09Z</dcterms:modified>
  <cp:revision>34</cp:revision>
  <dc:subject/>
  <dc:title>А.С. Пушкин. Жизнь и творчество. </dc:title>
</cp:coreProperties>
</file>