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49A2A-18C2-47A4-AE04-DE8692788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2003F-BDAD-4328-AACF-8F3748D4E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1EC42-495B-4193-A1BE-AE809CD09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DD095-2FA7-46DE-8F51-3A6B913B2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658A9-EBE9-426D-9E83-A016FE77F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85B3B-2BE2-4383-A990-6A9CE50FB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DE858-E6C1-455C-9808-6588EBE94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1C01B-6C8D-4B6E-85E9-2E1114BBF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6559E-761E-4454-AB1A-BC3D5EA57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5FD9D-6F00-4FEA-A226-269FE3943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D5A33-AB88-470A-A37B-5C3402A2C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2B36B-8927-4750-B179-BE2973BFB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0CAC4-D17B-41A1-9AE0-DAB4FA0DF65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42600" y="285840"/>
            <a:ext cx="7815240" cy="310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 u="sng">
                <a:solidFill>
                  <a:srgbClr val="ff0000"/>
                </a:solidFill>
                <a:uFillTx/>
                <a:latin typeface="Calibri"/>
              </a:rPr>
              <a:t>«А на сердце открытая рана»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286080" y="3285720"/>
            <a:ext cx="5143680" cy="235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21 год назад –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15 февраля 1989 года – советские войска покинули Афганиста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C:\Documents and Settings\Admin\Мои документы\Мои рисунки\2010-01-07\i.jpeg85.jpeg"/>
          <p:cNvPicPr/>
          <p:nvPr/>
        </p:nvPicPr>
        <p:blipFill>
          <a:blip r:embed="rId1"/>
          <a:stretch/>
        </p:blipFill>
        <p:spPr>
          <a:xfrm>
            <a:off x="785880" y="357120"/>
            <a:ext cx="1643040" cy="5716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4" descr="C:\Documents and Settings\Admin\Мои документы\Мои рисунки\2010-01-07\i.jpeg98.jpeg"/>
          <p:cNvPicPr/>
          <p:nvPr/>
        </p:nvPicPr>
        <p:blipFill>
          <a:blip r:embed="rId2"/>
          <a:stretch/>
        </p:blipFill>
        <p:spPr>
          <a:xfrm>
            <a:off x="455760" y="2712960"/>
            <a:ext cx="2544480" cy="335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00240" y="274320"/>
            <a:ext cx="5686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0000"/>
                </a:solidFill>
                <a:latin typeface="Calibri"/>
              </a:rPr>
              <a:t>1984 год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2714400" y="1600200"/>
            <a:ext cx="5972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30 апреля – в Панджерском ущелье понёс большие потери 1 батальон 682 – го мотострелкового полк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Октябрь – над Кабулом душманы сбивают транспортный самолёт ИЛ – 76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2" descr="C:\Documents and Settings\Admin\Мои документы\Мои рисунки\2010-01-07\i.jpeg85.jpeg"/>
          <p:cNvPicPr/>
          <p:nvPr/>
        </p:nvPicPr>
        <p:blipFill>
          <a:blip r:embed="rId1"/>
          <a:stretch/>
        </p:blipFill>
        <p:spPr>
          <a:xfrm>
            <a:off x="785880" y="428760"/>
            <a:ext cx="1571400" cy="7142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" descr="C:\Documents and Settings\Admin\Мои документы\Мои рисунки\2010-01-07\i.jpeg86.jpeg"/>
          <p:cNvPicPr/>
          <p:nvPr/>
        </p:nvPicPr>
        <p:blipFill>
          <a:blip r:embed="rId2"/>
          <a:stretch/>
        </p:blipFill>
        <p:spPr>
          <a:xfrm>
            <a:off x="714240" y="4929120"/>
            <a:ext cx="1650960" cy="13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71520" y="274320"/>
            <a:ext cx="56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0000"/>
                </a:solidFill>
                <a:latin typeface="Calibri"/>
              </a:rPr>
              <a:t>1985 год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3000240" y="1600200"/>
            <a:ext cx="5686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21 апреля -  Гибель Мараварской роты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Лето – новый курс Политбюро КЦ КПСС на решение «афганской проблемы»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6 – 17 октября – Шутульская трагедия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2" descr="C:\Documents and Settings\Admin\Мои документы\Мои рисунки\2010-01-07\i.jpeg85.jpeg"/>
          <p:cNvPicPr/>
          <p:nvPr/>
        </p:nvPicPr>
        <p:blipFill>
          <a:blip r:embed="rId1"/>
          <a:stretch/>
        </p:blipFill>
        <p:spPr>
          <a:xfrm>
            <a:off x="714240" y="500040"/>
            <a:ext cx="1571760" cy="7142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" descr="C:\Documents and Settings\Admin\Мои документы\Мои рисунки\2010-01-07\i.jpeg86.jpeg"/>
          <p:cNvPicPr/>
          <p:nvPr/>
        </p:nvPicPr>
        <p:blipFill>
          <a:blip r:embed="rId2"/>
          <a:stretch/>
        </p:blipFill>
        <p:spPr>
          <a:xfrm>
            <a:off x="785880" y="4786200"/>
            <a:ext cx="1650960" cy="13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999880" y="213840"/>
            <a:ext cx="5658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0000"/>
                </a:solidFill>
                <a:latin typeface="Calibri"/>
              </a:rPr>
              <a:t>1986 год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2857680" y="1600200"/>
            <a:ext cx="5829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Февраль – на 27 съезде КПСС  М.С.Горбачёв делает заявление о выработке плана поэтапного вывода войск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28 июля – из Афганистана выведены 6 полков 40 – ой армии (около 7 тысяч человек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3 ноября – выведение войск в течение 2 лет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екабрь – ЦК НДПА провозглашает курс на национальное примирение и выступает за скорейшее прекращение братоубийственной войны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2" descr="C:\Documents and Settings\Admin\Мои документы\Мои рисунки\2010-01-07\i.jpeg85.jpeg"/>
          <p:cNvPicPr/>
          <p:nvPr/>
        </p:nvPicPr>
        <p:blipFill>
          <a:blip r:embed="rId1"/>
          <a:stretch/>
        </p:blipFill>
        <p:spPr>
          <a:xfrm>
            <a:off x="785880" y="428760"/>
            <a:ext cx="1571400" cy="7142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" descr="C:\Documents and Settings\Admin\Мои документы\Мои рисунки\2010-01-07\i.jpeg86.jpeg"/>
          <p:cNvPicPr/>
          <p:nvPr/>
        </p:nvPicPr>
        <p:blipFill>
          <a:blip r:embed="rId2"/>
          <a:stretch/>
        </p:blipFill>
        <p:spPr>
          <a:xfrm>
            <a:off x="714240" y="4786200"/>
            <a:ext cx="1650960" cy="13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714400" y="274320"/>
            <a:ext cx="5972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0000"/>
                </a:solidFill>
                <a:latin typeface="Calibri"/>
              </a:rPr>
              <a:t>1987 год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3142800" y="1600200"/>
            <a:ext cx="5543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2 января – прибытие в Кабул оперативной  группы Министерства обороны СССР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Февраль – операция «Удар» в Кундузе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Февраль – март – операция «Шквал» в Кандагаре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арт – операция – «Гроза» – в Газни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  операция «Круг» в Кабуле и Логаре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ай – операция «Залп» в Логаре, Пактии, Кабуле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 операция «Юг -87» в Кандагаре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2" descr="C:\Documents and Settings\Admin\Мои документы\Мои рисунки\2010-01-07\i.jpeg85.jpeg"/>
          <p:cNvPicPr/>
          <p:nvPr/>
        </p:nvPicPr>
        <p:blipFill>
          <a:blip r:embed="rId1"/>
          <a:stretch/>
        </p:blipFill>
        <p:spPr>
          <a:xfrm>
            <a:off x="642960" y="500040"/>
            <a:ext cx="1571760" cy="7142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" descr="C:\Documents and Settings\Admin\Мои документы\Мои рисунки\2010-01-07\i.jpeg86.jpeg"/>
          <p:cNvPicPr/>
          <p:nvPr/>
        </p:nvPicPr>
        <p:blipFill>
          <a:blip r:embed="rId2"/>
          <a:stretch/>
        </p:blipFill>
        <p:spPr>
          <a:xfrm>
            <a:off x="857160" y="4786200"/>
            <a:ext cx="1650960" cy="13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2000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714760" y="35676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0000"/>
                </a:solidFill>
                <a:latin typeface="Calibri"/>
              </a:rPr>
              <a:t>1988 год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3000240" y="1600200"/>
            <a:ext cx="5686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7 -8 января – бой на высоте 3234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4 апреля – обязательство Советского Союза вывести свой контингент в течение 9 месяцев; США И Пакистан должны были прекратить поддерживать моджахедов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2" descr="C:\Documents and Settings\Admin\Мои документы\Мои рисунки\2010-01-07\i.jpeg85.jpeg"/>
          <p:cNvPicPr/>
          <p:nvPr/>
        </p:nvPicPr>
        <p:blipFill>
          <a:blip r:embed="rId1"/>
          <a:stretch/>
        </p:blipFill>
        <p:spPr>
          <a:xfrm>
            <a:off x="642960" y="500040"/>
            <a:ext cx="1571760" cy="7142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" descr="C:\Documents and Settings\Admin\Мои документы\Мои рисунки\2010-01-07\i.jpeg86.jpeg"/>
          <p:cNvPicPr/>
          <p:nvPr/>
        </p:nvPicPr>
        <p:blipFill>
          <a:blip r:embed="rId2"/>
          <a:stretch/>
        </p:blipFill>
        <p:spPr>
          <a:xfrm>
            <a:off x="857160" y="4857840"/>
            <a:ext cx="1650960" cy="13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714400" y="213840"/>
            <a:ext cx="5972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0000"/>
                </a:solidFill>
                <a:latin typeface="Calibri"/>
              </a:rPr>
              <a:t>1989 год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928960" y="1600200"/>
            <a:ext cx="5757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23 -26 января – операция «Тайфун» ,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следняя советская боевая операция в Афганистане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5 февраля – из Афганистана полностью выведены советские войск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0000"/>
                </a:solidFill>
                <a:uFillTx/>
                <a:latin typeface="Calibri"/>
              </a:rPr>
              <a:t>4 февраля – последнее подразделение Советской Армии покинуло Кабул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Calibri"/>
              </a:rPr>
              <a:t>     </a:t>
            </a:r>
            <a:r>
              <a:rPr b="1" i="1" lang="ru-RU" sz="2000" spc="-1" strike="noStrike" u="sng">
                <a:solidFill>
                  <a:srgbClr val="ff0000"/>
                </a:solidFill>
                <a:uFillTx/>
                <a:latin typeface="Calibri"/>
              </a:rPr>
              <a:t>Выводом войск руководил генера</a:t>
            </a:r>
            <a:r>
              <a:rPr b="1" i="1" lang="ru-RU" sz="2000" spc="-1" strike="noStrike">
                <a:solidFill>
                  <a:srgbClr val="ff0000"/>
                </a:solidFill>
                <a:latin typeface="Calibri"/>
              </a:rPr>
              <a:t>л – </a:t>
            </a:r>
            <a:r>
              <a:rPr b="1" i="1" lang="ru-RU" sz="2000" spc="-1" strike="noStrike" u="sng">
                <a:solidFill>
                  <a:srgbClr val="ff0000"/>
                </a:solidFill>
                <a:uFillTx/>
                <a:latin typeface="Calibri"/>
              </a:rPr>
              <a:t>лейтенант Б.В.Громов. Он последним перешёл пограничную реку Аму – Дарь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2" descr="C:\Documents and Settings\Admin\Мои документы\Мои рисунки\2010-01-07\i.jpeg85.jpeg"/>
          <p:cNvPicPr/>
          <p:nvPr/>
        </p:nvPicPr>
        <p:blipFill>
          <a:blip r:embed="rId1"/>
          <a:stretch/>
        </p:blipFill>
        <p:spPr>
          <a:xfrm>
            <a:off x="642960" y="500040"/>
            <a:ext cx="1571760" cy="7142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2" descr="C:\Documents and Settings\Admin\Мои документы\Мои рисунки\2010-01-07\i.jpeg86.jpeg"/>
          <p:cNvPicPr/>
          <p:nvPr/>
        </p:nvPicPr>
        <p:blipFill>
          <a:blip r:embed="rId2"/>
          <a:stretch/>
        </p:blipFill>
        <p:spPr>
          <a:xfrm>
            <a:off x="714240" y="4786200"/>
            <a:ext cx="1650960" cy="13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2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20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20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Calibri"/>
              </a:rPr>
              <a:t>        </a:t>
            </a:r>
            <a:r>
              <a:rPr b="1" lang="ru-RU" sz="6600" spc="-1" strike="noStrike">
                <a:solidFill>
                  <a:srgbClr val="ff0000"/>
                </a:solidFill>
                <a:latin typeface="Calibri"/>
              </a:rPr>
              <a:t>Потери СССР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457200" y="1600200"/>
          <a:ext cx="8229600" cy="4079880"/>
        </p:xfrm>
        <a:graphic>
          <a:graphicData uri="http://schemas.openxmlformats.org/drawingml/2006/table">
            <a:tbl>
              <a:tblPr/>
              <a:tblGrid>
                <a:gridCol w="3043080"/>
                <a:gridCol w="51865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979 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86 челове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80 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484 челове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81 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298 челове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82 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948 челове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83 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446 челове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84 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343 челове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85 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868 челове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86 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333 челове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87 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215 челове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88 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59 челове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89 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3 человека                      Итого: 13 833 челове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pic>
        <p:nvPicPr>
          <p:cNvPr id="104" name="Picture 2" descr="C:\Documents and Settings\Admin\Мои документы\Мои рисунки\2010-01-07\i.jpeg85.jpeg"/>
          <p:cNvPicPr/>
          <p:nvPr/>
        </p:nvPicPr>
        <p:blipFill>
          <a:blip r:embed="rId1"/>
          <a:stretch/>
        </p:blipFill>
        <p:spPr>
          <a:xfrm>
            <a:off x="642960" y="571680"/>
            <a:ext cx="1333440" cy="57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785680" y="274320"/>
            <a:ext cx="5900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Потери СССР на </a:t>
            </a: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1 </a:t>
            </a: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я</a:t>
            </a: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нваря 1999 года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                                   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Советская Армия -14 427 человек;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-  КГБ                           - 576 человек;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-  МВД                         - 28 человек;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2" descr="C:\Documents and Settings\Admin\Мои документы\Мои рисунки\2010-01-07\i.jpeg85.jpeg"/>
          <p:cNvPicPr/>
          <p:nvPr/>
        </p:nvPicPr>
        <p:blipFill>
          <a:blip r:embed="rId1"/>
          <a:stretch/>
        </p:blipFill>
        <p:spPr>
          <a:xfrm>
            <a:off x="785880" y="500040"/>
            <a:ext cx="1333440" cy="5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2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20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20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276720" y="199980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Афганская война – это крупнейшая внешнеполитическая ошибка советского руководств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2" descr="C:\Documents and Settings\Admin\Мои документы\Мои рисунки\2010-01-07\i.jpeg86.jpeg"/>
          <p:cNvPicPr/>
          <p:nvPr/>
        </p:nvPicPr>
        <p:blipFill>
          <a:blip r:embed="rId1"/>
          <a:stretch/>
        </p:blipFill>
        <p:spPr>
          <a:xfrm>
            <a:off x="428760" y="3071880"/>
            <a:ext cx="2857320" cy="24289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3" descr="C:\Documents and Settings\Admin\Мои документы\Мои рисунки\2010-01-07\i.jpeg85.jpeg"/>
          <p:cNvPicPr/>
          <p:nvPr/>
        </p:nvPicPr>
        <p:blipFill>
          <a:blip r:embed="rId2"/>
          <a:stretch/>
        </p:blipFill>
        <p:spPr>
          <a:xfrm>
            <a:off x="1000080" y="571680"/>
            <a:ext cx="1333440" cy="57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785680" y="274320"/>
            <a:ext cx="5900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Calibri"/>
              </a:rPr>
              <a:t>Члены Политбюро </a:t>
            </a:r>
            <a:br>
              <a:rPr sz="4800"/>
            </a:br>
            <a:r>
              <a:rPr b="0" lang="ru-RU" sz="4800" spc="-1" strike="noStrike">
                <a:solidFill>
                  <a:srgbClr val="ff0000"/>
                </a:solidFill>
                <a:latin typeface="Calibri"/>
              </a:rPr>
              <a:t>ЦК КПСС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C:\Documents and Settings\Admin\Мои документы\Мои рисунки\2010-01-12\Image0164.BMP"/>
          <p:cNvPicPr/>
          <p:nvPr/>
        </p:nvPicPr>
        <p:blipFill>
          <a:blip r:embed="rId1"/>
          <a:stretch/>
        </p:blipFill>
        <p:spPr>
          <a:xfrm>
            <a:off x="642960" y="1714680"/>
            <a:ext cx="2192400" cy="31431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" descr="C:\Documents and Settings\Admin\Мои документы\Мои рисунки\2010-01-12\Image0167.BMP"/>
          <p:cNvPicPr/>
          <p:nvPr/>
        </p:nvPicPr>
        <p:blipFill>
          <a:blip r:embed="rId2"/>
          <a:stretch/>
        </p:blipFill>
        <p:spPr>
          <a:xfrm>
            <a:off x="3643200" y="2928960"/>
            <a:ext cx="2239920" cy="36576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" descr="C:\Documents and Settings\Admin\Мои документы\Мои рисунки\2010-01-12\Image0168.BMP"/>
          <p:cNvPicPr/>
          <p:nvPr/>
        </p:nvPicPr>
        <p:blipFill>
          <a:blip r:embed="rId3"/>
          <a:stretch/>
        </p:blipFill>
        <p:spPr>
          <a:xfrm>
            <a:off x="6643800" y="1714680"/>
            <a:ext cx="1941480" cy="28778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" descr="C:\Documents and Settings\Admin\Мои документы\Мои рисунки\2010-01-07\i.jpeg85.jpeg"/>
          <p:cNvPicPr/>
          <p:nvPr/>
        </p:nvPicPr>
        <p:blipFill>
          <a:blip r:embed="rId4"/>
          <a:stretch/>
        </p:blipFill>
        <p:spPr>
          <a:xfrm>
            <a:off x="1071720" y="500040"/>
            <a:ext cx="1571400" cy="71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857320" y="285480"/>
            <a:ext cx="5871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Calibri"/>
              </a:rPr>
              <a:t>Причина Афганской войн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2" descr="C:\Documents and Settings\Admin\Мои документы\Мои рисунки\2010-01-07\i.jpegло.jpeg"/>
          <p:cNvPicPr/>
          <p:nvPr/>
        </p:nvPicPr>
        <p:blipFill>
          <a:blip r:embed="rId1"/>
          <a:stretch/>
        </p:blipFill>
        <p:spPr>
          <a:xfrm>
            <a:off x="1071720" y="2286000"/>
            <a:ext cx="3717720" cy="2571840"/>
          </a:xfrm>
          <a:prstGeom prst="rect">
            <a:avLst/>
          </a:prstGeom>
          <a:ln w="0">
            <a:noFill/>
          </a:ln>
        </p:spPr>
      </p:pic>
      <p:sp>
        <p:nvSpPr>
          <p:cNvPr id="52" name="TextBox 7"/>
          <p:cNvSpPr/>
          <p:nvPr/>
        </p:nvSpPr>
        <p:spPr>
          <a:xfrm>
            <a:off x="5072040" y="2214720"/>
            <a:ext cx="38577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тремление советского правительства поддержать сторонников социализма в Афганистане, столкнувшихся с оппозици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2" descr="C:\Documents and Settings\Admin\Мои документы\Мои рисунки\2010-01-07\i.jpeg85.jpeg"/>
          <p:cNvPicPr/>
          <p:nvPr/>
        </p:nvPicPr>
        <p:blipFill>
          <a:blip r:embed="rId2"/>
          <a:stretch/>
        </p:blipFill>
        <p:spPr>
          <a:xfrm>
            <a:off x="714240" y="500040"/>
            <a:ext cx="1571760" cy="71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71840" y="274320"/>
            <a:ext cx="6114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Calibri"/>
              </a:rPr>
              <a:t>Решение о вводе войск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357720" y="1571760"/>
            <a:ext cx="54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инято 12 декабря 1979 год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формлено секретным постановлением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ЦК КПСС №176 /125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«К положению в «А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C:\Documents and Settings\Admin\Мои документы\Мои рисунки\2010-01-07\i.jpegке.jpeg"/>
          <p:cNvPicPr/>
          <p:nvPr/>
        </p:nvPicPr>
        <p:blipFill>
          <a:blip r:embed="rId1"/>
          <a:stretch/>
        </p:blipFill>
        <p:spPr>
          <a:xfrm>
            <a:off x="282600" y="2643120"/>
            <a:ext cx="3043080" cy="20001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" descr="C:\Documents and Settings\Admin\Мои документы\Мои рисунки\2010-01-07\i.jpeg85.jpeg"/>
          <p:cNvPicPr/>
          <p:nvPr/>
        </p:nvPicPr>
        <p:blipFill>
          <a:blip r:embed="rId2"/>
          <a:stretch/>
        </p:blipFill>
        <p:spPr>
          <a:xfrm>
            <a:off x="785880" y="500040"/>
            <a:ext cx="1571400" cy="71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785680" y="274320"/>
            <a:ext cx="5900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Calibri"/>
              </a:rPr>
              <a:t>Ход войны по годам</a:t>
            </a:r>
            <a:br>
              <a:rPr sz="4000"/>
            </a:br>
            <a:r>
              <a:rPr b="1" i="1" lang="ru-RU" sz="4000" spc="-1" strike="noStrike">
                <a:solidFill>
                  <a:srgbClr val="ff0000"/>
                </a:solidFill>
                <a:latin typeface="Calibri"/>
              </a:rPr>
              <a:t>1979 год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2499840" y="1600200"/>
            <a:ext cx="6186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9 -12 декабря – прибытие в Афганистан первого «мусульманского батальона»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25 декабря – колонны 40 – ой армии пересекают афганскую границу через реку Аму-Дарья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Хафизулл Амин выразил благодарность советскому руководству и отдал распоряжение об оказании содействия вводимым войска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2" descr="C:\Documents and Settings\Admin\Мои документы\Мои рисунки\2010-01-07\i.jpeg85.jpeg"/>
          <p:cNvPicPr/>
          <p:nvPr/>
        </p:nvPicPr>
        <p:blipFill>
          <a:blip r:embed="rId1"/>
          <a:stretch/>
        </p:blipFill>
        <p:spPr>
          <a:xfrm>
            <a:off x="1071720" y="500040"/>
            <a:ext cx="1571400" cy="7142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" descr="C:\Documents and Settings\Admin\Мои документы\Мои рисунки\2010-01-07\i.jpeg86.jpeg"/>
          <p:cNvPicPr/>
          <p:nvPr/>
        </p:nvPicPr>
        <p:blipFill>
          <a:blip r:embed="rId2"/>
          <a:stretch/>
        </p:blipFill>
        <p:spPr>
          <a:xfrm>
            <a:off x="264960" y="4071960"/>
            <a:ext cx="202104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71520" y="285840"/>
            <a:ext cx="544356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0000"/>
                </a:solidFill>
                <a:latin typeface="Calibri"/>
              </a:rPr>
              <a:t>1980 год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2428560" y="1500120"/>
            <a:ext cx="6257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23 февраля – трагедия в туннеле на перевале Саланг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прель – США объявляет о «прямой и открытой помощи» афганской оппозиции в размере 15 миллионов доллар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9 июня – решение Политбюро ЦК КПСС о выводе из Афганистана танковых ракетных войск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2 августа – прибытиеспецподразделений КГБ СССР «Карпаты»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C:\Documents and Settings\Admin\Мои документы\Мои рисунки\2010-01-07\i.jpeg85.jpeg"/>
          <p:cNvPicPr/>
          <p:nvPr/>
        </p:nvPicPr>
        <p:blipFill>
          <a:blip r:embed="rId1"/>
          <a:stretch/>
        </p:blipFill>
        <p:spPr>
          <a:xfrm>
            <a:off x="642960" y="500040"/>
            <a:ext cx="1571760" cy="7142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" descr="C:\Documents and Settings\Admin\Мои документы\Мои рисунки\2010-01-07\i.jpeg86.jpeg"/>
          <p:cNvPicPr/>
          <p:nvPr/>
        </p:nvPicPr>
        <p:blipFill>
          <a:blip r:embed="rId2"/>
          <a:stretch/>
        </p:blipFill>
        <p:spPr>
          <a:xfrm>
            <a:off x="428760" y="4857840"/>
            <a:ext cx="1650960" cy="13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785680" y="274320"/>
            <a:ext cx="5900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0000"/>
                </a:solidFill>
                <a:latin typeface="Calibri"/>
              </a:rPr>
              <a:t>1981 год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2928960" y="1600200"/>
            <a:ext cx="5757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ентябрь – бои в горном массиве Луркох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29 октября – ввод второго «мусульманского батальона»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екабрь – разгром пункта оппозиции в районе Дарзаб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2" descr="C:\Documents and Settings\Admin\Мои документы\Мои рисунки\2010-01-07\i.jpeg85.jpeg"/>
          <p:cNvPicPr/>
          <p:nvPr/>
        </p:nvPicPr>
        <p:blipFill>
          <a:blip r:embed="rId1"/>
          <a:stretch/>
        </p:blipFill>
        <p:spPr>
          <a:xfrm>
            <a:off x="571680" y="500040"/>
            <a:ext cx="1571400" cy="7142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" descr="C:\Documents and Settings\Admin\Мои документы\Мои рисунки\2010-01-07\i.jpeg86.jpeg"/>
          <p:cNvPicPr/>
          <p:nvPr/>
        </p:nvPicPr>
        <p:blipFill>
          <a:blip r:embed="rId2"/>
          <a:stretch/>
        </p:blipFill>
        <p:spPr>
          <a:xfrm>
            <a:off x="785880" y="4714920"/>
            <a:ext cx="1650960" cy="13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785680" y="285480"/>
            <a:ext cx="5729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0000"/>
                </a:solidFill>
                <a:latin typeface="Calibri"/>
              </a:rPr>
              <a:t>1982 год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2643120" y="1600200"/>
            <a:ext cx="6043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3 ноября – трагедия на перевале Саланг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5 ноября – встреча Ю.Андропова и Зия уль_Хака в Москве. В ходе их беседы обсуждался вопрос о целесообразности пребывания советских войск в Афганистине и  перспективность участия Советского Союза в войне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2" descr="C:\Documents and Settings\Admin\Мои документы\Мои рисунки\2010-01-07\i.jpeg85.jpeg"/>
          <p:cNvPicPr/>
          <p:nvPr/>
        </p:nvPicPr>
        <p:blipFill>
          <a:blip r:embed="rId1"/>
          <a:stretch/>
        </p:blipFill>
        <p:spPr>
          <a:xfrm>
            <a:off x="642960" y="500040"/>
            <a:ext cx="1571760" cy="7142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2" descr="C:\Documents and Settings\Admin\Мои документы\Мои рисунки\2010-01-07\i.jpeg86.jpeg"/>
          <p:cNvPicPr/>
          <p:nvPr/>
        </p:nvPicPr>
        <p:blipFill>
          <a:blip r:embed="rId2"/>
          <a:stretch/>
        </p:blipFill>
        <p:spPr>
          <a:xfrm>
            <a:off x="642960" y="4857840"/>
            <a:ext cx="1650960" cy="13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85680" y="274320"/>
            <a:ext cx="5900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ff0000"/>
                </a:solidFill>
                <a:latin typeface="Calibri"/>
              </a:rPr>
              <a:t>1983 год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3071520" y="1600200"/>
            <a:ext cx="5614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2 января – в Мазари-Шарифе душманы похитили советских специалистов численностью 16 человек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28 марта – встреча делегации ОНН во главе с Пересом де Куэльяром и Д. Кордовесом с Ю.Андроповым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вгуст – работа Д.Кордовеса по подготовке соглашений по мирному урегулированию афганской проблемы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2" descr="C:\Documents and Settings\Admin\Мои документы\Мои рисунки\2010-01-07\i.jpeg86.jpeg"/>
          <p:cNvPicPr/>
          <p:nvPr/>
        </p:nvPicPr>
        <p:blipFill>
          <a:blip r:embed="rId1"/>
          <a:stretch/>
        </p:blipFill>
        <p:spPr>
          <a:xfrm>
            <a:off x="785880" y="4714920"/>
            <a:ext cx="1714320" cy="15001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3" descr="C:\Documents and Settings\Admin\Мои документы\Мои рисунки\2010-01-07\i.jpeg85.jpeg"/>
          <p:cNvPicPr/>
          <p:nvPr/>
        </p:nvPicPr>
        <p:blipFill>
          <a:blip r:embed="rId2"/>
          <a:stretch/>
        </p:blipFill>
        <p:spPr>
          <a:xfrm>
            <a:off x="857160" y="500040"/>
            <a:ext cx="1857600" cy="79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Валя</cp:lastModifiedBy>
  <dcterms:modified xsi:type="dcterms:W3CDTF">2015-02-06T17:43:43Z</dcterms:modified>
  <cp:revision>41</cp:revision>
  <dc:subject/>
  <dc:title>Слайд 1</dc:title>
</cp:coreProperties>
</file>