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B1C-7A94-43D5-8B53-3E38482E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7F1-0FAE-4168-9817-B1F0051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0DF-8C30-4848-92EE-F2883E3C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18-71DD-4F9D-9723-8269D51D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E8D-E3CF-4E33-B6B7-350AE3B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F01-8EC4-4C7A-953B-811B99C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54C-7DE1-450B-A85B-6EE18D88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B05-A698-46E6-9C02-E91BB023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360-CFDD-42F4-BA7D-B23027CC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C46-4AF8-4275-8368-FBBEAB9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F18-2BA4-48F2-BE0C-6268F94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5C9-65E2-4890-9098-83768C15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028-646D-4F60-A669-D9CDD9EFE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81524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libri"/>
              </a:rPr>
              <a:t>«А на сердце открытая ра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285720"/>
            <a:ext cx="514368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1 год назад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5 февраля 1989 года – советские войска покинули Афгани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357120"/>
            <a:ext cx="164304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\Мои документы\Мои рисунки\2010-01-07\i.jpeg98.jpeg"/>
          <p:cNvPicPr/>
          <p:nvPr/>
        </p:nvPicPr>
        <p:blipFill>
          <a:blip r:embed="rId2"/>
          <a:stretch/>
        </p:blipFill>
        <p:spPr>
          <a:xfrm>
            <a:off x="455760" y="2712960"/>
            <a:ext cx="2544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00240" y="274320"/>
            <a:ext cx="568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4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1440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 апреля – в Панджерском ущелье понёс большие потери 1 батальон 682 – го мотострелкового пол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ктябрь – над Кабулом душманы сбивают транспортный самолёт ИЛ – 7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4287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92912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1520" y="27432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5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0024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1 апреля -  Гибель Мараварской р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о – новый курс Политбюро КЦ КПСС на решение «афганской проблемы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 – 17 октября – Шутульская трагед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1424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8588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9880" y="213840"/>
            <a:ext cx="56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6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7680" y="1600200"/>
            <a:ext cx="58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на 27 съезде КПСС  М.С.Горбачёв делает заявление о выработке плана поэтапного вывода войс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8 июля – из Афганистана выведены 6 полков 40 – ой армии (около 7 тысяч человек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 ноября – выведение войск в течение 2 ле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кабрь – ЦК НДПА провозглашает курс на национальное примирение и выступает за скорейшее прекращение братоубийственной войн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42876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7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4280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января – прибытие в Кабул оперативной  группы Министерства обороны ССС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операция «Удар» в Кундуз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враль – март – операция «Шквал» в Кандага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т – операция – «Гроза» – в Га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операция «Круг» в Кабуле и Лога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й – операция «Залп» в Логаре, Пактии, Кабу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операция «Юг -87» в Кандага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85716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14760" y="356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8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0024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 -8 января – бой на высоте 323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 апреля – обязательство Советского Союза вывести свой контингент в течение 9 месяцев; США И Пакистан должны были прекратить поддерживать моджахед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8571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9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-26 января – операция «Тайфун» 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яя советская боевая операция в Афганист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февраля – из Афганистана полностью выведены советские вой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4 февраля – последнее подразделение Советской Армии покинуло Кабу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Выводом войск руководил генера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л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лейтенант Б.В.Громов. Он последним перешёл пограничную реку Аму – Дар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14240" y="478620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отери ССС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079880"/>
        </p:xfrm>
        <a:graphic>
          <a:graphicData uri="http://schemas.openxmlformats.org/drawingml/2006/table">
            <a:tbl>
              <a:tblPr/>
              <a:tblGrid>
                <a:gridCol w="3043080"/>
                <a:gridCol w="5186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7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84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9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4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68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3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5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человека                      Итого: 13 833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71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тери СССР н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варя 1999 го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етская Армия -14 427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 КГБ                           - 576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 МВД                         - 28 челове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785880" y="500040"/>
            <a:ext cx="13334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199980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фганская война – это крупнейшая внешнеполитическая ошибка советского руко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Admin\Мои документы\Мои рисунки\2010-01-07\i.jpeg86.jpeg"/>
          <p:cNvPicPr/>
          <p:nvPr/>
        </p:nvPicPr>
        <p:blipFill>
          <a:blip r:embed="rId1"/>
          <a:stretch/>
        </p:blipFill>
        <p:spPr>
          <a:xfrm>
            <a:off x="428760" y="3071880"/>
            <a:ext cx="28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1000080" y="571680"/>
            <a:ext cx="13334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Члены Политбюро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ЦК КП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Мои документы\Мои рисунки\2010-01-12\Image0164.BMP"/>
          <p:cNvPicPr/>
          <p:nvPr/>
        </p:nvPicPr>
        <p:blipFill>
          <a:blip r:embed="rId1"/>
          <a:stretch/>
        </p:blipFill>
        <p:spPr>
          <a:xfrm>
            <a:off x="642960" y="1714680"/>
            <a:ext cx="2192400" cy="314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Admin\Мои документы\Мои рисунки\2010-01-12\Image0167.BMP"/>
          <p:cNvPicPr/>
          <p:nvPr/>
        </p:nvPicPr>
        <p:blipFill>
          <a:blip r:embed="rId2"/>
          <a:stretch/>
        </p:blipFill>
        <p:spPr>
          <a:xfrm>
            <a:off x="3643200" y="2928960"/>
            <a:ext cx="223992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Admin\Мои документы\Мои рисунки\2010-01-12\Image0168.BMP"/>
          <p:cNvPicPr/>
          <p:nvPr/>
        </p:nvPicPr>
        <p:blipFill>
          <a:blip r:embed="rId3"/>
          <a:stretch/>
        </p:blipFill>
        <p:spPr>
          <a:xfrm>
            <a:off x="6643800" y="1714680"/>
            <a:ext cx="1941480" cy="28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Мои документы\Мои рисунки\2010-01-07\i.jpeg85.jpeg"/>
          <p:cNvPicPr/>
          <p:nvPr/>
        </p:nvPicPr>
        <p:blipFill>
          <a:blip r:embed="rId4"/>
          <a:stretch/>
        </p:blipFill>
        <p:spPr>
          <a:xfrm>
            <a:off x="1071720" y="500040"/>
            <a:ext cx="1571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7320" y="285480"/>
            <a:ext cx="58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Причина Афганской вой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Admin\Мои документы\Мои рисунки\2010-01-07\i.jpegло.jpeg"/>
          <p:cNvPicPr/>
          <p:nvPr/>
        </p:nvPicPr>
        <p:blipFill>
          <a:blip r:embed="rId1"/>
          <a:stretch/>
        </p:blipFill>
        <p:spPr>
          <a:xfrm>
            <a:off x="1071720" y="2286000"/>
            <a:ext cx="371772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072040" y="221472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мление советского правительства поддержать сторонников социализма в Афганистане, столкнувшихся с оппози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714240" y="500040"/>
            <a:ext cx="15717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ешение о вводе войс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57720" y="157176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о 12 декабря 1979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о секретным постановл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К КПСС №176 /12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 положению в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\Мои документы\Мои рисунки\2010-01-07\i.jpegке.jpeg"/>
          <p:cNvPicPr/>
          <p:nvPr/>
        </p:nvPicPr>
        <p:blipFill>
          <a:blip r:embed="rId1"/>
          <a:stretch/>
        </p:blipFill>
        <p:spPr>
          <a:xfrm>
            <a:off x="282600" y="2643120"/>
            <a:ext cx="304308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785880" y="500040"/>
            <a:ext cx="15714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од войны по годам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979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-12 декабря – прибытие в Афганистан первого «мусульманского батальон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5 декабря – колонны 40 – ой армии пересекают афганскую границу через реку Аму-Дарь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физулл Амин выразил благодарность советскому руководству и отдал распоряжение об оказании содействия вводимым войс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264960" y="4071960"/>
            <a:ext cx="2021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1520" y="285840"/>
            <a:ext cx="5443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28560" y="150012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3 февраля – трагедия в туннеле на перевале Салан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рель – США объявляет о «прямой и открытой помощи» афганской оппозиции в размере 15 миллионов долл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 июня – решение Политбюро ЦК КПСС о выводе из Афганистана танковых ракетных войс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вгуста – прибытиеспецподразделений КГБ СССР «Карпаты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4287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1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– бои в горном массиве Лурко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9 октября – ввод второго «мусульманского батальон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кабрь – разгром пункта оппозиции в районе Дарза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571680" y="500040"/>
            <a:ext cx="1571400" cy="71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785880" y="471492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85680" y="285480"/>
            <a:ext cx="57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982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43120" y="1600200"/>
            <a:ext cx="60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ноября – трагедия на перевале Салан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 ноября – встреча Ю.Андропова и Зия уль_Хака в Москве. В ходе их беседы обсуждался вопрос о целесообразности пребывания советских войск в Афганистине и  перспективность участия Советского Союза в вой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Мои документы\Мои рисунки\2010-01-07\i.jpeg85.jpeg"/>
          <p:cNvPicPr/>
          <p:nvPr/>
        </p:nvPicPr>
        <p:blipFill>
          <a:blip r:embed="rId1"/>
          <a:stretch/>
        </p:blipFill>
        <p:spPr>
          <a:xfrm>
            <a:off x="642960" y="500040"/>
            <a:ext cx="1571760" cy="71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Admin\Мои документы\Мои рисунки\2010-01-07\i.jpeg86.jpeg"/>
          <p:cNvPicPr/>
          <p:nvPr/>
        </p:nvPicPr>
        <p:blipFill>
          <a:blip r:embed="rId2"/>
          <a:stretch/>
        </p:blipFill>
        <p:spPr>
          <a:xfrm>
            <a:off x="642960" y="4857840"/>
            <a:ext cx="1650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1983 го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71520" y="1600200"/>
            <a:ext cx="56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января – в Мазари-Шарифе душманы похитили советских специалистов численностью 16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 марта – встреча делегации ОНН во главе с Пересом де Куэльяром и Д. Кордовесом с Ю.Андропов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густ – работа Д.Кордовеса по подготовке соглашений по мирному урегулированию афганск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Мои рисунки\2010-01-07\i.jpeg86.jpeg"/>
          <p:cNvPicPr/>
          <p:nvPr/>
        </p:nvPicPr>
        <p:blipFill>
          <a:blip r:embed="rId1"/>
          <a:stretch/>
        </p:blipFill>
        <p:spPr>
          <a:xfrm>
            <a:off x="785880" y="4714920"/>
            <a:ext cx="1714320" cy="15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\Мои документы\Мои рисунки\2010-01-07\i.jpeg85.jpeg"/>
          <p:cNvPicPr/>
          <p:nvPr/>
        </p:nvPicPr>
        <p:blipFill>
          <a:blip r:embed="rId2"/>
          <a:stretch/>
        </p:blipFill>
        <p:spPr>
          <a:xfrm>
            <a:off x="857160" y="500040"/>
            <a:ext cx="1857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я</cp:lastModifiedBy>
  <dcterms:modified xsi:type="dcterms:W3CDTF">2015-02-06T17:43:43Z</dcterms:modified>
  <cp:revision>41</cp:revision>
  <dc:subject/>
  <dc:title>Слайд 1</dc:title>
</cp:coreProperties>
</file>