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85A-1FC7-4FC8-9E8F-240BBA46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316-5FA5-4E8C-9753-2A4F2D0C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292-3A2F-4D49-B1D2-1D3E1140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EB1-C005-4705-93BD-CE040B37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BA9B-DFF9-4C4B-8133-71654C56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F4BF-5334-49B0-B21A-8A5C447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D9BB-5A70-4D2D-B641-C4B37591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7FC4-DB70-4898-B9FC-B6B0C058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72E1-7505-4DE3-9FFF-3F85B67D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2056-09C6-410A-8A72-E80DA717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D200-5006-45F2-8A19-B8A6B349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9BD-6F19-460B-BC3E-63CF00AE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AEC6-3CC8-4E9F-A9AF-ED9D1BE2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57D4-D6CC-46B0-A7E4-E7668D96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74D-87B7-4A89-9FE7-40BBDACE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D6EE-BFA7-4FC1-AF55-D1C131E2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8ED8-05A5-4982-9B9A-F164B791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E5800-21D7-4564-A87F-1344A700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4F7B-67FD-4B19-95E5-51F2979A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33FC-C462-4E3B-8312-2E3A956D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4479-5106-46A7-A73B-0DE8B798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2788-AF8B-4C89-89A3-030139F4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BB5-C637-47BB-9FE3-DA13DF61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2A84-DA6E-4A0F-9202-AE3368FF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F168-1389-4640-BCE9-EC3DBB0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2F60-0A03-41FD-9E23-FFCC182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5A84-C1C4-432E-AB8C-98B5B09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44C2-60DE-4F42-8F3B-548AE092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EF4D-A8E3-49F2-A7A2-D616320B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64F4-C6C3-41DD-BEAC-28F86DA2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C4BB-5AD6-4F9D-A716-48D96A85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B983-822F-430E-8814-B8B991C1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C846B-EAEB-46E3-B559-69681E2F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614-09B7-485D-BB3A-B3AE1C81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32CF-0ACA-4EB2-A6F2-8CD34738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D6EC7-67ED-4A3E-A424-0C462858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5B6D-BFB6-4110-8354-CE506BAC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ABF7-B56A-419E-9FD3-4C160D7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0DE0-3214-4FD5-83C8-4C5184DB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C11E-BAA3-483A-8235-3DA6DA89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5096-1FA6-41E7-81FC-DF8458C0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4BFA-CC34-4224-B543-BF073B8B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C20A-EF63-4FA6-8190-2A2960A3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876-C6CF-49F2-B7C1-A3BFCEC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146-FA29-45CE-86E9-58C75EC0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43F-B6BC-43BA-8C1A-38981645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DD9-986F-426C-A7F3-61B3D7D2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5DD-4635-4FC5-BBBA-5E137EAA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1995-DCA6-4636-9503-4AEE4BED2F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5798-1F45-4694-B73A-0B0641EBB36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6735-474A-4069-B761-57C8CB09991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0291-A895-400F-AAA1-C9B4DF4795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F:\Documents and Settings\Айка ЖАН\Рабочий стол\Докуметы\Маркетинг картинки\464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566640" y="12600"/>
            <a:ext cx="7864560" cy="360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Картинки\234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7030a0"/>
                </a:solidFill>
                <a:latin typeface="Constantia"/>
              </a:rPr>
              <a:t>Как вы понимаете, быть богатым, жить в богатстве – это замечательно! Богатство не должно быть целью жизни, оно должно приходить к человеку как следствие его постоянного развития, самосовершенствования. Только тогда оно принесет радость и его невозможно будет потеря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F:\Documents and Settings\Айка ЖАН\Рабочий стол\Докуметы\Маркетинг картинки\510166.jpg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«Богатство – обилие материальных ценностей, денег»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wheel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D:\Картинки\ist2_4415349_money_bag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ОГатый - это человек, владеющий разными состояниями, управляющий миром, созидающий, дающий благо. Бог, небо, любовь – воистину небесное, волшебное, божественное чувство. Эти слова близки не только по звучанию (аллитерация), но и по смыслу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760" y="3285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иже перечислены все сферы жизни человека, не только материальные, но и духовные. Они расположены в произвольной форме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ажна каждая из них и все, вместе взят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D:\Картинки\Яблоко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Возьмем для примера такую сферу жизни, как здоровье (причем здоровье как физическое, так и душевное). Здоровье – это состояние, когда вы живете в ладу с собой и с окружающим мир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Благополучная семья, благополучный и процветающий род. Разве это не богатство? Благородные (то есть рождающие благо) и благодарные (дарящие благо) потомки – разве это не счастье для родител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Финансовое, материальное благополучие. Это еще одна составляющая богат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F:\Documents and Settings\Айка ЖАН\Рабочий стол\Докуметы\Маркетинг картинки\TergetsPic.jpg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0040" y="178560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4. Благоприятные взаимоотношения с людьми отражают наше взаимодействие с окружающим миром. «Не имей сто рублей, а имей сто друзей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5. Наличие любимого дела, которое приносит материальное и душевное удовлетворени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6. Наличие родового поместья. Человек счастливый – это тот человек, который является частью целог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D:\Картинки\Дома и интерьер\3501av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8 типов удачи:</a:t>
            </a:r>
            <a:br>
              <a:rPr sz="6000"/>
            </a:b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1. Богатство и процветание – удача в деньг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2. Счастливый брак – удача в люб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3. Хорошие дети, особенно сыновья – удача потомк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4. Хорошее здоровье – удача долгих лет жиз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1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21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23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2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D:\Картинки\--------][1][1]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остойное имя и признание – удача в приобретении авторите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6. Присутствие полезных людей – удача со стороны вла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7. Образование – удача в самосовершенствова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8. Хорошая карьера – удача в достиже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5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55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57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6 0.033 -0.05857 0.058 -0.05857 C 0.095 -0.05857 0.125 -0.02263 0.125 0.02263 C 0.125 0.03727 0.122 0.05058 0.116 0.06257 C 0.117 0.06257 0 0.24227 0 0.24361 C 0 0.24227 -0.117 0.06257 -0.116 0.06257 C -0.122 0.05058 -0.125 0.03727 -0.125 0.02263 C -0.125 -0.02263 -0.095 -0.05857 -0.057 -0.05857 C -0.033 -0.05857 -0.012 -0.02396 0 0 Z">
                                      <p:cBhvr>
                                        <p:cTn id="159" dur="2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ак видим, все сферы жизни взаимосвязаны, как в голографическом образе. Невозможно развиваться однобоко. Если мы будем стремиться только к материальным благам, пострадают все остальные сферы жизни. И блага эти просуществуют недолго. Примеров того в жизни великое множество. Таким образом, люди доводят себя до состояния личностного дефолта. Останавливаются в своем развит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:\Картинки\ее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Первый шаг на пути к БОГатств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Первый шаг на пути к БОГатству – это осознание, что вы уже БОГаты, здесь и сейчас. Вы – ЧЕЛОВЕК, хозяин Земли, всей Вселенной, властелин всех энергий и сущностей вселенских. Нет никого выше и сильнее человека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8:13:20Z</dcterms:created>
  <dc:creator>Айка ЖАН</dc:creator>
  <dc:description/>
  <dc:language>en-US</dc:language>
  <cp:lastModifiedBy>Айка ЖАН</cp:lastModifiedBy>
  <dcterms:modified xsi:type="dcterms:W3CDTF">2011-05-17T06:00:27Z</dcterms:modified>
  <cp:revision>19</cp:revision>
  <dc:subject/>
  <dc:title>Что такое богатство? </dc:title>
</cp:coreProperties>
</file>