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82D-0F2C-472A-8A31-776FE427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20E-A603-4F6A-ACC2-D23E5203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C4B-3B15-4AFE-B3B3-D0B59BA8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6C8-54FB-4E64-89A4-6204A1BA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B4C-35F4-4623-AAE4-CC7C4D27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E7E5-A39A-4674-829F-88F9A29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4C3-A9D8-4956-91E7-4ACAAFE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D2A-3627-4B7C-979B-17ACE47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0B9-7755-4FC3-8E33-E70A4B4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B1D-B7CF-4600-BDC1-3EFD3C7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71B-D816-485D-AD56-47416C4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C3E-FF13-42C0-9025-E63D180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694-BBDE-4B7F-9899-E68B52F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7378-E5F5-48EE-94F0-D0B8B5F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4423-EAEC-42D2-8B9A-3D81C30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1FC-91DD-451F-9BB8-2A8DE367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8C32-0DD7-42A9-9AF3-AF2546A1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14D3-04B0-4580-8749-AB195820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332A-BA96-4416-A1DA-3DBCE17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2C2C-7C66-4215-8691-F793E1F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B3AB-6DFE-48EE-9C45-D1FA792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D84A-A750-4723-8AA5-83E0586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C46-09C2-4F31-9CA5-0008756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AA47-5240-4FB9-8FEA-5D25D09D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526D-BC04-4A15-BCBF-AB9DDA7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4148-702A-4816-8355-32A9BCD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EC34-5D2B-4A61-9BA5-3FCD8BD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0FBB-DD22-4A14-B595-A80DC4D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C7B6-0CAE-4758-BF13-83F0B5B4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E046-AA79-4FB1-B1E2-68144EF9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0118-2A9E-4195-95F5-9993890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8A99-898A-4CA9-AE37-5AE9C88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BDAA-A788-4F33-B6CE-35291B7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FE4-B01A-4DCA-9827-C882380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D22F-696E-43BE-B33B-5ABD067E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BED9-9F95-4836-8427-9FEDCF6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4FFA-7914-46EA-BA1A-6D1495D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2AB3-3AC5-4F22-9655-B05EA3F8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554D-F00F-4E3E-B63B-97DE357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05C6-0B10-4859-B67F-377E9F9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90A8-72AF-43A4-89EF-EF7F211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E817-2743-46D7-B3F6-01FCA5AB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F62C-3F81-4A94-B00B-AA88D66B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BF0-9899-4318-8E98-8115D9C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27A-AA77-4F22-B917-6B8BCC2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F3-1CD2-4019-B927-4844C67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BDD-A9A2-4D42-B20A-ABFB6A4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10F-5FA3-4E95-B153-405BB97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9B0B-5849-491E-8888-F54A7DAE71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8AB-7209-4D31-80B2-BA6352E93D3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3718-A508-4572-94C7-336236E1B2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A1D-31DC-4935-856B-54573A26D38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:\Documents and Settings\Айка ЖАН\Рабочий стол\Докуметы\Маркетинг картинки\46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66640" y="12600"/>
            <a:ext cx="7864560" cy="360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Картинки\234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7030a0"/>
                </a:solidFill>
                <a:latin typeface="Constantia"/>
              </a:rPr>
              <a:t>Как вы понимаете, быть богатым, жить в богатстве – это замечательно! Богатство не должно быть целью жизни, оно должно приходить к человеку как следствие его постоянного развития, самосовершенствования. Только тогда оно принесет радость и его невозможно будет потеря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:\Documents and Settings\Айка ЖАН\Рабочий стол\Докуметы\Маркетинг картинки\510166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«Богатство – обилие материальных ценностей, денег»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D:\Картинки\ist2_4415349_money_ba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ОГатый - это человек, владеющий разными состояниями, управляющий миром, созидающий, дающий благо. Бог, небо, любовь – воистину небесное, волшебное, божественное чувство. Эти слова близки не только по звучанию (аллитерация), но и по смыслу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3285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иже перечислены все сферы жизни человека, не только материальные, но и духовные. Они расположены в произвольной форме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жна каждая из них и все, вместе взят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D:\Картинки\Яблоко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Возьмем для примера такую сферу жизни, как здоровье (причем здоровье как физическое, так и душевное). Здоровье – это состояние, когда вы живете в ладу с собой и с окружающим ми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Благополучная семья, благополучный и процветающий род. Разве это не богатство? Благородные (то есть рождающие благо) и благодарные (дарящие благо) потомки – разве это не счастье для родите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Финансовое, материальное благополучие. Это еще одна составляющая богат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:\Documents and Settings\Айка ЖАН\Рабочий стол\Докуметы\Маркетинг картинки\TergetsPic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1785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4. Благоприятные взаимоотношения с людьми отражают наше взаимодействие с окружающим миром. «Не имей сто рублей, а имей сто друзей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5. Наличие любимого дела, которое приносит материальное и душевное удовлетвор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6. Наличие родового поместья. Человек счастливый – это тот человек, который является частью целог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D:\Картинки\Дома и интерьер\3501av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8 типов удачи:</a:t>
            </a: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1. Богатство и процветание – удача в день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2. Счастливый брак – удача в люб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3. Хорошие дети, особенно сыновья – удача потомк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4. Хорошее здоровье – удача долгих лет жиз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1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1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3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D:\Картинки\--------][1][1]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остойное имя и признание – удача в приобретении авторит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6. Присутствие полезных людей – удача со стороны вл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7. Образование – удача в самосовершенствова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8. Хорошая карьера – удача в достиж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5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9" dur="2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ак видим, все сферы жизни взаимосвязаны, как в голографическом образе. Невозможно развиваться однобоко. Если мы будем стремиться только к материальным благам, пострадают все остальные сферы жизни. И блага эти просуществуют недолго. Примеров того в жизни великое множество. Таким образом, люди доводят себя до состояния личностного дефолта. Останавливаются в своем развит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:\Картинки\ее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Первый шаг на пути к БОГатст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ервый шаг на пути к БОГатству – это осознание, что вы уже БОГаты, здесь и сейчас. Вы – ЧЕЛОВЕК, хозяин Земли, всей Вселенной, властелин всех энергий и сущностей вселенских. Нет никого выше и сильнее человек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8:13:20Z</dcterms:created>
  <dc:creator>Айка ЖАН</dc:creator>
  <dc:description/>
  <dc:language>en-US</dc:language>
  <cp:lastModifiedBy>Айка ЖАН</cp:lastModifiedBy>
  <dcterms:modified xsi:type="dcterms:W3CDTF">2011-05-17T06:00:27Z</dcterms:modified>
  <cp:revision>19</cp:revision>
  <dc:subject/>
  <dc:title>Что такое богатство? </dc:title>
</cp:coreProperties>
</file>