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27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6FB-4A3C-478E-8F91-29942F84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0EE-81D0-4A25-8EDF-4AA91377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BC3-FB1E-4374-B70F-00080167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8D0-1EC1-4C15-96B5-45063698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B64-0BDD-4B86-A13C-596F7730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E4BC-D7EA-4ECE-AA11-176C139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1114-CB94-485D-B5C9-BB2A3625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4C67-7076-4387-9CC4-E549F5C8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B8CB-CA53-4766-B1C8-18C28A3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37AD-6E83-4E55-AAC5-40EEE3C6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B8DB-C831-499A-A58E-5CF218EA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F10-655A-47B3-8D1C-CA38E03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DF0C-4477-4BC7-BB9B-02817C9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D48-61B7-4A48-A188-6991B22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0138-B364-442A-9B28-85081644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8F0-C561-4E46-BA0D-5CD1FD49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15D9-F113-4492-8B36-E432742E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59B2-01CF-4AB9-B47A-E73BEFF8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0F27-790A-489A-9232-E71C4557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7449-1734-4FA7-94F4-0AD3CF71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E2D5-A412-447C-979F-240687A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064C-3F5D-463A-8112-61A6196D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747-4F50-4033-8A0A-7D2CD54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3A74-B3D3-4F1D-9A36-251547B8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20A3-67B7-4460-AC50-6926D57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6BAA-4CBE-4F32-8390-038AB58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2580-59A9-417B-96A9-4ADB58F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175F-CE18-4F41-8B6D-D5C269C9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ABDE-3965-4C9E-971D-C7B804F6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9CCE-849E-4D68-AC7C-6DB90BAE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F161-94BB-474F-A080-26294E5A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04F2-AC39-476A-A5A1-4A9584FC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8E0A-91B9-4BF6-8560-D26B66B4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D99-7AC1-45FD-99FC-91942BE5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0C3D-D15E-4AA7-AA0D-714E85CA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7ACF-248C-4D8C-AC15-247E6A82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52AB-184E-43AE-8108-05828846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B12C-CA7E-454F-BF67-ED3CC2F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25C7-7F06-4A63-8B57-3023E44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6D24-36C7-4E21-B3E1-5A5B05D2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E2DA1-9936-44D4-B57F-E1F29F10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C2A6-CD58-41D5-A8CB-8DC5D0A4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3BBD4-47AA-498C-81FD-7382D96A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0CF-7501-4EC1-8AF0-B3B550F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DD3-029B-4A9F-A3BD-B5FD46EC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34D-1B67-4442-9C78-288811A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A3C-C055-407D-8F8D-7B7EFB68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F47-3193-4D1C-AC5B-D0E7A537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A81-0220-440F-878F-3AB6A33428B7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6DE8-2361-49E0-B12E-1162BAC82347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F84B-0A9F-4922-B91B-0FC8E90C8B13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B27F-248B-498E-ADDD-A9A11BD64AC7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0.jpeg"/><Relationship Id="rId10" Type="http://schemas.openxmlformats.org/officeDocument/2006/relationships/image" Target="../media/image50.jpeg"/><Relationship Id="rId11" Type="http://schemas.openxmlformats.org/officeDocument/2006/relationships/image" Target="../media/image50.jpeg"/><Relationship Id="rId12" Type="http://schemas.openxmlformats.org/officeDocument/2006/relationships/image" Target="../media/image50.jpeg"/><Relationship Id="rId13" Type="http://schemas.openxmlformats.org/officeDocument/2006/relationships/image" Target="../media/image50.jpeg"/><Relationship Id="rId14" Type="http://schemas.openxmlformats.org/officeDocument/2006/relationships/image" Target="../media/image50.jpeg"/><Relationship Id="rId15" Type="http://schemas.openxmlformats.org/officeDocument/2006/relationships/image" Target="../media/image50.jpeg"/><Relationship Id="rId16" Type="http://schemas.openxmlformats.org/officeDocument/2006/relationships/image" Target="../media/image50.jpeg"/><Relationship Id="rId17" Type="http://schemas.openxmlformats.org/officeDocument/2006/relationships/image" Target="../media/image50.jpeg"/><Relationship Id="rId18" Type="http://schemas.openxmlformats.org/officeDocument/2006/relationships/image" Target="../media/image50.jpeg"/><Relationship Id="rId19" Type="http://schemas.openxmlformats.org/officeDocument/2006/relationships/image" Target="../media/image50.jpeg"/><Relationship Id="rId20" Type="http://schemas.openxmlformats.org/officeDocument/2006/relationships/image" Target="../media/image50.jpeg"/><Relationship Id="rId21" Type="http://schemas.openxmlformats.org/officeDocument/2006/relationships/image" Target="../media/image50.jpeg"/><Relationship Id="rId22" Type="http://schemas.openxmlformats.org/officeDocument/2006/relationships/image" Target="../media/image50.jpeg"/><Relationship Id="rId23" Type="http://schemas.openxmlformats.org/officeDocument/2006/relationships/image" Target="../media/image50.jpeg"/><Relationship Id="rId24" Type="http://schemas.openxmlformats.org/officeDocument/2006/relationships/image" Target="../media/image51.jpeg"/><Relationship Id="rId2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81360" y="47577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дьярд Киплин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87280" y="299736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Ливерпульской гавани, всегда по четверг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да уходят в плаванье к далеким берег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дут они в Бразилию, Бразилию, Бразили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я хочу в Бразилию – к далеким берег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755640" y="17002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8000"/>
                </a:solidFill>
                <a:latin typeface="Tahoma"/>
              </a:rPr>
              <a:t>Б</a:t>
            </a:r>
            <a:r>
              <a:rPr b="1" lang="ru-RU" sz="9600" spc="-1" strike="noStrike">
                <a:solidFill>
                  <a:srgbClr val="006600"/>
                </a:solidFill>
                <a:latin typeface="Tahoma"/>
              </a:rPr>
              <a:t>РА</a:t>
            </a:r>
            <a:r>
              <a:rPr b="1" lang="ru-RU" sz="9600" spc="-1" strike="noStrike">
                <a:solidFill>
                  <a:srgbClr val="000000"/>
                </a:solidFill>
                <a:latin typeface="Tahoma"/>
              </a:rPr>
              <a:t>ЗИ</a:t>
            </a:r>
            <a:r>
              <a:rPr b="1" lang="ru-RU" sz="9600" spc="-1" strike="noStrike">
                <a:solidFill>
                  <a:srgbClr val="006600"/>
                </a:solidFill>
                <a:latin typeface="Tahoma"/>
              </a:rPr>
              <a:t>ЛИ</a:t>
            </a:r>
            <a:r>
              <a:rPr b="1" lang="ru-RU" sz="9600" spc="-1" strike="noStrike">
                <a:solidFill>
                  <a:srgbClr val="808000"/>
                </a:solidFill>
                <a:latin typeface="Tahoma"/>
              </a:rPr>
              <a:t>Я</a:t>
            </a:r>
            <a:r>
              <a:rPr b="1" lang="ru-RU" sz="9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rio3s"/>
          <p:cNvPicPr/>
          <p:nvPr/>
        </p:nvPicPr>
        <p:blipFill>
          <a:blip r:embed="rId1"/>
          <a:stretch/>
        </p:blipFill>
        <p:spPr>
          <a:xfrm>
            <a:off x="0" y="5029200"/>
            <a:ext cx="2514600" cy="18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9" name="Picture 6" descr="rio4s"/>
          <p:cNvPicPr/>
          <p:nvPr/>
        </p:nvPicPr>
        <p:blipFill>
          <a:blip r:embed="rId2"/>
          <a:stretch/>
        </p:blipFill>
        <p:spPr>
          <a:xfrm>
            <a:off x="0" y="0"/>
            <a:ext cx="2925720" cy="194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00" name="Picture 7" descr="BRA-RioDeJaneiro-JSteinhart1"/>
          <p:cNvPicPr/>
          <p:nvPr/>
        </p:nvPicPr>
        <p:blipFill>
          <a:blip r:embed="rId3"/>
          <a:stretch/>
        </p:blipFill>
        <p:spPr>
          <a:xfrm>
            <a:off x="7626240" y="4533840"/>
            <a:ext cx="1517760" cy="232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01" name="Picture 8" descr="amazonka_01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5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жунглях водится много разных интересных животных. Большинство из них можно повстречать только в Бразил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257800" y="836640"/>
            <a:ext cx="373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шь кто это? Ну конечно ж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равьед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Как тебе кажется, зачем ему нужна такая смешная и длинная морд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81480" y="2743200"/>
            <a:ext cx="3962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, именно для того, чтобы добывать себе еду – ведь не даром же его назвали муравьед - засовывает мордочку в муравейник и затем, при помощи длинного и узкого языка лакомится своей любимой пищей – бразильскими муравьями - термит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antbear"/>
          <p:cNvPicPr/>
          <p:nvPr/>
        </p:nvPicPr>
        <p:blipFill>
          <a:blip r:embed="rId1"/>
          <a:stretch/>
        </p:blipFill>
        <p:spPr>
          <a:xfrm>
            <a:off x="179280" y="1916280"/>
            <a:ext cx="4851360" cy="363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228600"/>
            <a:ext cx="3886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эт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оссу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т зверек – единственное сумчатое животное, обитающее за пределами Австрал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opossum2"/>
          <p:cNvPicPr/>
          <p:nvPr/>
        </p:nvPicPr>
        <p:blipFill>
          <a:blip r:embed="rId1"/>
          <a:stretch/>
        </p:blipFill>
        <p:spPr>
          <a:xfrm>
            <a:off x="4152960" y="0"/>
            <a:ext cx="4991040" cy="344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0" y="47242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опоссум – сумчатое животное, его малыши некоторое время живут в сумке у мамы, но в отличие от кенгуру, сумка мамы-опоссума очень полотно закрывается, чтобы малыш на выпал, когда мама висит вниз головой на хвосте. Как только малыши немного подрастут они из сумки перебираются к маме на спину, где сидят крепко вцепившись в мамину шер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228600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аждой лапке у опоссума по 5 пальчиков, как у тебя. И задние лапы у него сильнее чем передние, прямо как твои ног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в отличие от тебя у него есть хвост, которым он может цепляться за ветки. Питается опоссум земноводными, насекомыми и растения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нивец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тоже житель Бразил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lenivec2"/>
          <p:cNvPicPr/>
          <p:nvPr/>
        </p:nvPicPr>
        <p:blipFill>
          <a:blip r:embed="rId1"/>
          <a:stretch/>
        </p:blipFill>
        <p:spPr>
          <a:xfrm>
            <a:off x="6045120" y="0"/>
            <a:ext cx="3098880" cy="449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1" name="Text Box 5"/>
          <p:cNvSpPr/>
          <p:nvPr/>
        </p:nvSpPr>
        <p:spPr>
          <a:xfrm>
            <a:off x="0" y="40464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ленивца длинные и тонкие лапы с 3 пальцами с очень длинными когт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0" y="112536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 зверек он не слишком большой – около 50-60 см в длину. У ленивца есть хвост, но маленький – всего около 7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79280" y="2133720"/>
            <a:ext cx="5791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весит ленивец совсем мало - всего 4-5 кг, но зато может поворачивать голову аж на 180 градусов, прямо как со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267080" y="472428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ут ленивцы на опушках леса и по берегам рек. Питаться предпочитают листьями, цветами и плодами растения, которое называется церкопия.                                                   Но помнишь, в зоопарке они с удовольствием ели фрукты и сал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1" descr="lenivec_NG"/>
          <p:cNvPicPr/>
          <p:nvPr/>
        </p:nvPicPr>
        <p:blipFill>
          <a:blip r:embed="rId2"/>
          <a:stretch/>
        </p:blipFill>
        <p:spPr>
          <a:xfrm>
            <a:off x="0" y="3241800"/>
            <a:ext cx="4267080" cy="361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amaz9s"/>
          <p:cNvPicPr/>
          <p:nvPr/>
        </p:nvPicPr>
        <p:blipFill>
          <a:blip r:embed="rId1"/>
          <a:stretch/>
        </p:blipFill>
        <p:spPr>
          <a:xfrm>
            <a:off x="0" y="0"/>
            <a:ext cx="3352680" cy="250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7" name="Text Box 3"/>
          <p:cNvSpPr/>
          <p:nvPr/>
        </p:nvSpPr>
        <p:spPr>
          <a:xfrm>
            <a:off x="3419640" y="1522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пибар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амые большие грызуны в мире. Внешне они очень похожи на морских свинок, но значительно крупнее их. Капибара прекрасно плавают, ныряют и могут оставаться под водой до 15 минут. За это капибар прозвали водосвин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357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пибара – довольно крупное животное. Ее вес может доходить до 50 кг, а рост – до 1 метра. Это размеры довольно крупной соб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0" y="2637000"/>
            <a:ext cx="63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пибара питаются различными водными растениями. В природе у них есть только один враг – это ягуа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987640" y="5013360"/>
            <a:ext cx="554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досвинки очень дружелюбные и их очень легко приручить. А живя рядом с человеком, с удовольствием играют с детьми и соба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kapi1"/>
          <p:cNvPicPr/>
          <p:nvPr/>
        </p:nvPicPr>
        <p:blipFill>
          <a:blip r:embed="rId2"/>
          <a:stretch/>
        </p:blipFill>
        <p:spPr>
          <a:xfrm>
            <a:off x="6516720" y="2133720"/>
            <a:ext cx="2124000" cy="139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62" name="Picture 8" descr="kapi2"/>
          <p:cNvPicPr/>
          <p:nvPr/>
        </p:nvPicPr>
        <p:blipFill>
          <a:blip r:embed="rId3"/>
          <a:stretch/>
        </p:blipFill>
        <p:spPr>
          <a:xfrm>
            <a:off x="250920" y="5084640"/>
            <a:ext cx="2419200" cy="1524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amaz6s"/>
          <p:cNvPicPr/>
          <p:nvPr/>
        </p:nvPicPr>
        <p:blipFill>
          <a:blip r:embed="rId1"/>
          <a:stretch/>
        </p:blipFill>
        <p:spPr>
          <a:xfrm>
            <a:off x="0" y="0"/>
            <a:ext cx="3124080" cy="234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4" name="Text Box 3"/>
          <p:cNvSpPr/>
          <p:nvPr/>
        </p:nvSpPr>
        <p:spPr>
          <a:xfrm>
            <a:off x="3203640" y="0"/>
            <a:ext cx="59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а киск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ло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На первый взгляд она кажется такой же милой, как обычная домашняя кошка. Но на самом деле, она такая же хищница как и ягуар. Только немного поменьш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0" y="2997360"/>
            <a:ext cx="378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лот живет в основном на земле, а не деревьях, как большинство ее родственников – кошачьих, и поэтому ее можно повстречать не только в лесу, но и кустарниковых зарослях. Охотится она в основном по ночам. Любимая добыча – обезьян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ocelot"/>
          <p:cNvPicPr/>
          <p:nvPr/>
        </p:nvPicPr>
        <p:blipFill>
          <a:blip r:embed="rId2"/>
          <a:stretch/>
        </p:blipFill>
        <p:spPr>
          <a:xfrm>
            <a:off x="3809880" y="3341520"/>
            <a:ext cx="5334120" cy="351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amaz12s"/>
          <p:cNvPicPr/>
          <p:nvPr/>
        </p:nvPicPr>
        <p:blipFill>
          <a:blip r:embed="rId1"/>
          <a:stretch/>
        </p:blipFill>
        <p:spPr>
          <a:xfrm>
            <a:off x="0" y="0"/>
            <a:ext cx="3200400" cy="2390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8" name="Text Box 3"/>
          <p:cNvSpPr/>
          <p:nvPr/>
        </p:nvSpPr>
        <p:spPr>
          <a:xfrm>
            <a:off x="0" y="2492280"/>
            <a:ext cx="52196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гу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н тоже представитель семейства кошачьих и прекрасно себя чувствует в бразильских джунглях, где водится довольно много разных животных, на которых он может охотиться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помнишь сказку «Откуда взялись броненосцы»? По мнению ее автора, именно ягуар сыграл главную роль в том, что на свет появилось такое удивительное животное, как броненосец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jaguari"/>
          <p:cNvPicPr/>
          <p:nvPr/>
        </p:nvPicPr>
        <p:blipFill>
          <a:blip r:embed="rId2"/>
          <a:stretch/>
        </p:blipFill>
        <p:spPr>
          <a:xfrm>
            <a:off x="5353200" y="0"/>
            <a:ext cx="3790800" cy="580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bronenosezt"/>
          <p:cNvPicPr/>
          <p:nvPr/>
        </p:nvPicPr>
        <p:blipFill>
          <a:blip r:embed="rId1"/>
          <a:stretch/>
        </p:blipFill>
        <p:spPr>
          <a:xfrm>
            <a:off x="0" y="0"/>
            <a:ext cx="548640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1" name="Text Box 3"/>
          <p:cNvSpPr/>
          <p:nvPr/>
        </p:nvSpPr>
        <p:spPr>
          <a:xfrm>
            <a:off x="5580000" y="0"/>
            <a:ext cx="333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вот и сам </a:t>
            </a: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роненосец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580000" y="1219320"/>
            <a:ext cx="3411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уловище броненосца покрыто пластинками, которые защищают его тело от врагов. А в случае опасности броненосец может свернутся в клубок как ежик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5" descr="bronenosec"/>
          <p:cNvPicPr/>
          <p:nvPr/>
        </p:nvPicPr>
        <p:blipFill>
          <a:blip r:embed="rId2"/>
          <a:stretch/>
        </p:blipFill>
        <p:spPr>
          <a:xfrm>
            <a:off x="6934320" y="5103720"/>
            <a:ext cx="2209680" cy="175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4" name="Text Box 6"/>
          <p:cNvSpPr/>
          <p:nvPr/>
        </p:nvSpPr>
        <p:spPr>
          <a:xfrm>
            <a:off x="0" y="3789360"/>
            <a:ext cx="68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оненосец живет в норах. Питается растениями, мелкими насекомыми и червяками. Живя зоопарке, он с удовольствием ест фрукты, тыкву и салат. У броненосца около 100 зубов, но едва пользуется и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0" y="5638680"/>
            <a:ext cx="68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оненосец – млекопитающее, относящееся к отряду неполнозуб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3059280" y="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ного в Бразилии и разных обезья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0" y="0"/>
            <a:ext cx="2971800" cy="3461400"/>
            <a:chOff x="0" y="0"/>
            <a:chExt cx="2971800" cy="3461400"/>
          </a:xfrm>
        </p:grpSpPr>
        <p:pic>
          <p:nvPicPr>
            <p:cNvPr id="278" name="Picture 2" descr="obezjan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46240" cy="3098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79" name="Text Box 4"/>
            <p:cNvSpPr/>
            <p:nvPr/>
          </p:nvSpPr>
          <p:spPr>
            <a:xfrm>
              <a:off x="0" y="3124080"/>
              <a:ext cx="2971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Паукообразная чернорук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2700360" y="1844640"/>
            <a:ext cx="2971800" cy="3537360"/>
            <a:chOff x="2700360" y="1844640"/>
            <a:chExt cx="2971800" cy="3537360"/>
          </a:xfrm>
        </p:grpSpPr>
        <p:pic>
          <p:nvPicPr>
            <p:cNvPr id="281" name="Picture 5" descr="obezjana belichja"/>
            <p:cNvPicPr/>
            <p:nvPr/>
          </p:nvPicPr>
          <p:blipFill>
            <a:blip r:embed="rId2"/>
            <a:stretch/>
          </p:blipFill>
          <p:spPr>
            <a:xfrm>
              <a:off x="2928960" y="1844640"/>
              <a:ext cx="2718000" cy="3124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82" name="Text Box 6"/>
            <p:cNvSpPr/>
            <p:nvPr/>
          </p:nvSpPr>
          <p:spPr>
            <a:xfrm>
              <a:off x="2700360" y="5044680"/>
              <a:ext cx="2971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беличь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6"/>
          <p:cNvGrpSpPr/>
          <p:nvPr/>
        </p:nvGrpSpPr>
        <p:grpSpPr>
          <a:xfrm>
            <a:off x="5562720" y="620640"/>
            <a:ext cx="3581280" cy="2851920"/>
            <a:chOff x="5562720" y="620640"/>
            <a:chExt cx="3581280" cy="2851920"/>
          </a:xfrm>
        </p:grpSpPr>
        <p:pic>
          <p:nvPicPr>
            <p:cNvPr id="284" name="Picture 7" descr="get_im"/>
            <p:cNvPicPr/>
            <p:nvPr/>
          </p:nvPicPr>
          <p:blipFill>
            <a:blip r:embed="rId3"/>
            <a:stretch/>
          </p:blipFill>
          <p:spPr>
            <a:xfrm>
              <a:off x="5562720" y="620640"/>
              <a:ext cx="3581280" cy="2463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85" name="Text Box 8"/>
            <p:cNvSpPr/>
            <p:nvPr/>
          </p:nvSpPr>
          <p:spPr>
            <a:xfrm>
              <a:off x="6095880" y="3135240"/>
              <a:ext cx="236232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реву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7"/>
          <p:cNvGrpSpPr/>
          <p:nvPr/>
        </p:nvGrpSpPr>
        <p:grpSpPr>
          <a:xfrm>
            <a:off x="5334120" y="3902040"/>
            <a:ext cx="3809880" cy="2928240"/>
            <a:chOff x="5334120" y="3902040"/>
            <a:chExt cx="3809880" cy="2928240"/>
          </a:xfrm>
        </p:grpSpPr>
        <p:pic>
          <p:nvPicPr>
            <p:cNvPr id="287" name="Picture 10" descr="445"/>
            <p:cNvPicPr/>
            <p:nvPr/>
          </p:nvPicPr>
          <p:blipFill>
            <a:blip r:embed="rId4"/>
            <a:stretch/>
          </p:blipFill>
          <p:spPr>
            <a:xfrm>
              <a:off x="5334120" y="3902040"/>
              <a:ext cx="3809880" cy="2629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88" name="Text Box 11"/>
            <p:cNvSpPr/>
            <p:nvPr/>
          </p:nvSpPr>
          <p:spPr>
            <a:xfrm>
              <a:off x="6019920" y="6492960"/>
              <a:ext cx="266688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капуци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18"/>
          <p:cNvGrpSpPr/>
          <p:nvPr/>
        </p:nvGrpSpPr>
        <p:grpSpPr>
          <a:xfrm>
            <a:off x="179280" y="4221000"/>
            <a:ext cx="2592360" cy="2394720"/>
            <a:chOff x="179280" y="4221000"/>
            <a:chExt cx="2592360" cy="2394720"/>
          </a:xfrm>
        </p:grpSpPr>
        <p:pic>
          <p:nvPicPr>
            <p:cNvPr id="290" name="Picture 12" descr="G3"/>
            <p:cNvPicPr/>
            <p:nvPr/>
          </p:nvPicPr>
          <p:blipFill>
            <a:blip r:embed="rId5"/>
            <a:stretch/>
          </p:blipFill>
          <p:spPr>
            <a:xfrm>
              <a:off x="179280" y="4221000"/>
              <a:ext cx="2592360" cy="2062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91" name="Text Box 13"/>
            <p:cNvSpPr/>
            <p:nvPr/>
          </p:nvSpPr>
          <p:spPr>
            <a:xfrm>
              <a:off x="407880" y="6278400"/>
              <a:ext cx="220968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мармозет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ще в Бразилии водятся удивительные птицы. Например, эта крошечна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бр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итающаяся нектаром цветов, совсем как бабоч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3" descr="amaz11s"/>
          <p:cNvPicPr/>
          <p:nvPr/>
        </p:nvPicPr>
        <p:blipFill>
          <a:blip r:embed="rId1"/>
          <a:stretch/>
        </p:blipFill>
        <p:spPr>
          <a:xfrm>
            <a:off x="324000" y="1341360"/>
            <a:ext cx="4066920" cy="30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94" name="Text Box 4"/>
          <p:cNvSpPr/>
          <p:nvPr/>
        </p:nvSpPr>
        <p:spPr>
          <a:xfrm>
            <a:off x="0" y="48006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 птичка самая маленькая в мире – размером она не на много превышает фасолинку. А посмотри какая она красивая – ее за расцветку даже прозвали «летающий драгоценный камень». У этой крошечной птички есть один очень большой рекорд – она делает 80 движений крыльями в секунду. А сколько раз за секунду ты можешь моргнуть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5" descr="kolibri"/>
          <p:cNvPicPr/>
          <p:nvPr/>
        </p:nvPicPr>
        <p:blipFill>
          <a:blip r:embed="rId2"/>
          <a:stretch/>
        </p:blipFill>
        <p:spPr>
          <a:xfrm>
            <a:off x="5867280" y="1413000"/>
            <a:ext cx="2656080" cy="316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ук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 их смешным клювом тоже живут в Бразилии. А знаешь ли ты, что нос тукана будто специально создан, чтобы разбивать орехи, которыми туканы питаются. И хотя он выглядит очень массивным и тяжелым, на самом  деле это вовсе не так – он полый внутри и тукану вовсе не тяжело его нос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3" descr="tukan"/>
          <p:cNvPicPr/>
          <p:nvPr/>
        </p:nvPicPr>
        <p:blipFill>
          <a:blip r:embed="rId1"/>
          <a:stretch/>
        </p:blipFill>
        <p:spPr>
          <a:xfrm>
            <a:off x="2124000" y="1700280"/>
            <a:ext cx="4984920" cy="49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79280" y="189000"/>
          <a:ext cx="2051280" cy="18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205128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3"/>
          <p:cNvSpPr/>
          <p:nvPr/>
        </p:nvSpPr>
        <p:spPr>
          <a:xfrm>
            <a:off x="3492360" y="58770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здесь находится столица Бразилии город Бразили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karta Brazil"/>
          <p:cNvPicPr/>
          <p:nvPr/>
        </p:nvPicPr>
        <p:blipFill>
          <a:blip r:embed="rId3"/>
          <a:stretch/>
        </p:blipFill>
        <p:spPr>
          <a:xfrm>
            <a:off x="4767120" y="228600"/>
            <a:ext cx="4122720" cy="4419720"/>
          </a:xfrm>
          <a:prstGeom prst="rect">
            <a:avLst/>
          </a:prstGeom>
          <a:ln w="0">
            <a:noFill/>
          </a:ln>
        </p:spPr>
      </p:pic>
      <p:sp>
        <p:nvSpPr>
          <p:cNvPr id="206" name="Line 5"/>
          <p:cNvSpPr/>
          <p:nvPr/>
        </p:nvSpPr>
        <p:spPr>
          <a:xfrm flipV="1">
            <a:off x="5943600" y="2819160"/>
            <a:ext cx="1447920" cy="2895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79280" y="2133720"/>
            <a:ext cx="456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давай мы с тобой сегодня отправимся в Бразилию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шь, где она находится? Ого-го как далеко – в другом, Южном полушарии, на континенте, который называется Южная Амери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4343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отри на карту – вот где он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50920" y="494172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ощадь – 8.5 млн км                                     Население – 158 млн ч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V="1">
            <a:off x="3809880" y="1905120"/>
            <a:ext cx="27432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тречаются в Бразилии и совершенно особые растения. Из этого растения делают очень хорошо тебе знакомый продукт – шоколад. И называется дерево соответственно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околадное дерев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Его плоды называются какао-бо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3" descr="shokol_derevo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2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89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дишь, по желобку в мисочку течет какой-то белый сок. Из этого белого сока люди получают каучук, из которого потом делают мячики, автомобильные покрышки и прочие нужные человеку вещи. А помнишь ли ты из чего Знайка сделал свой воздушный шар? Да-да, именно из сока особого растения, которое росло в Цветочном городе и которое умели добывать коротышки. Наверняка их способ добычи был похож на этот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4" descr="kauchuk"/>
          <p:cNvPicPr/>
          <p:nvPr/>
        </p:nvPicPr>
        <p:blipFill>
          <a:blip r:embed="rId1"/>
          <a:stretch/>
        </p:blipFill>
        <p:spPr>
          <a:xfrm>
            <a:off x="2268360" y="2492280"/>
            <a:ext cx="4445280" cy="3314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2" name="Text Box 5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инное дерево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его кора (гевея) – главный источник натурального каучука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джунгли течет самая – самая главная река Южной Америки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МАЗО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karta Brazil"/>
          <p:cNvPicPr/>
          <p:nvPr/>
        </p:nvPicPr>
        <p:blipFill>
          <a:blip r:embed="rId1"/>
          <a:stretch/>
        </p:blipFill>
        <p:spPr>
          <a:xfrm>
            <a:off x="228600" y="2666880"/>
            <a:ext cx="3672000" cy="3936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05" name="Picture 4" descr="amaz4s"/>
          <p:cNvPicPr/>
          <p:nvPr/>
        </p:nvPicPr>
        <p:blipFill>
          <a:blip r:embed="rId2"/>
          <a:stretch/>
        </p:blipFill>
        <p:spPr>
          <a:xfrm>
            <a:off x="4094280" y="1197000"/>
            <a:ext cx="5049720" cy="378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6" name="Line 5"/>
          <p:cNvSpPr/>
          <p:nvPr/>
        </p:nvSpPr>
        <p:spPr>
          <a:xfrm flipH="1">
            <a:off x="1981080" y="914400"/>
            <a:ext cx="23623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4643280" y="3213000"/>
            <a:ext cx="45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азонка – очень интересная река и до сих пор прячет от людей очень много разных секретов. Например, люди долго считали, что Амазонка вторая по длине река в мире, но несколько лет назад исследователи обнаружили, что длина Амазонки более 7000 км, а это значит, что именно она – самая длинная река в мире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brazil_photo_amazonia"/>
          <p:cNvPicPr/>
          <p:nvPr/>
        </p:nvPicPr>
        <p:blipFill>
          <a:blip r:embed="rId1"/>
          <a:stretch/>
        </p:blipFill>
        <p:spPr>
          <a:xfrm>
            <a:off x="5003640" y="189000"/>
            <a:ext cx="3886200" cy="2914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09" name="Picture 5" descr="ljudi i reka"/>
          <p:cNvPicPr/>
          <p:nvPr/>
        </p:nvPicPr>
        <p:blipFill>
          <a:blip r:embed="rId2"/>
          <a:stretch/>
        </p:blipFill>
        <p:spPr>
          <a:xfrm>
            <a:off x="0" y="0"/>
            <a:ext cx="458316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amaz5s"/>
          <p:cNvPicPr/>
          <p:nvPr/>
        </p:nvPicPr>
        <p:blipFill>
          <a:blip r:embed="rId1"/>
          <a:stretch/>
        </p:blipFill>
        <p:spPr>
          <a:xfrm>
            <a:off x="3886200" y="228600"/>
            <a:ext cx="5029200" cy="3772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1" name="Text Box 3"/>
          <p:cNvSpPr/>
          <p:nvPr/>
        </p:nvSpPr>
        <p:spPr>
          <a:xfrm>
            <a:off x="152280" y="0"/>
            <a:ext cx="355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ты думаешь, что здесь сфотографировано? Правда, это выглядит будто набежала тучка и ее тень накрыла часть ре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 на самом деле это вовсе не тень тучки, а то место где Амазонка встречается с рекой Рио-Негро. Вода в Рио Негро такая прозрачная и чистая, что кажется черной. А вот вода Амазонки мутная и желтая из-за того, что ее течение переносит огромное количество ила. Амазонку иногда даже называют «белой» рекой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amazon space"/>
          <p:cNvPicPr/>
          <p:nvPr/>
        </p:nvPicPr>
        <p:blipFill>
          <a:blip r:embed="rId1"/>
          <a:stretch/>
        </p:blipFill>
        <p:spPr>
          <a:xfrm>
            <a:off x="304920" y="457200"/>
            <a:ext cx="556236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4" name="Text Box 3"/>
          <p:cNvSpPr/>
          <p:nvPr/>
        </p:nvSpPr>
        <p:spPr>
          <a:xfrm>
            <a:off x="6172200" y="457200"/>
            <a:ext cx="27432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как из космоса выглядит тоже самое место – слияние Амазонки с ре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о-Негр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ичневая – Амазонка, а черная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о-Нег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Амазонке водится небольшая, но очень хищная рыбк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ИРАНЬ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отри, какие у нее зуб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3" descr="piranja"/>
          <p:cNvPicPr/>
          <p:nvPr/>
        </p:nvPicPr>
        <p:blipFill>
          <a:blip r:embed="rId1"/>
          <a:stretch/>
        </p:blipFill>
        <p:spPr>
          <a:xfrm>
            <a:off x="7020000" y="5516640"/>
            <a:ext cx="1752480" cy="110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17" name="Picture 4" descr="amaz7"/>
          <p:cNvPicPr/>
          <p:nvPr/>
        </p:nvPicPr>
        <p:blipFill>
          <a:blip r:embed="rId2"/>
          <a:stretch/>
        </p:blipFill>
        <p:spPr>
          <a:xfrm>
            <a:off x="1828800" y="1219320"/>
            <a:ext cx="5257800" cy="394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8" name="Text Box 5"/>
          <p:cNvSpPr/>
          <p:nvPr/>
        </p:nvSpPr>
        <p:spPr>
          <a:xfrm>
            <a:off x="250920" y="5589720"/>
            <a:ext cx="604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для человека опасны тольк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вида пираний из 18 извест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0" y="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Амазонке водится небольшая, но очень хищная рыбка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ИРАНЬ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отри, какие у нее зуб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piranja"/>
          <p:cNvPicPr/>
          <p:nvPr/>
        </p:nvPicPr>
        <p:blipFill>
          <a:blip r:embed="rId1"/>
          <a:stretch/>
        </p:blipFill>
        <p:spPr>
          <a:xfrm>
            <a:off x="73915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piranja"/>
          <p:cNvPicPr/>
          <p:nvPr/>
        </p:nvPicPr>
        <p:blipFill>
          <a:blip r:embed="rId2"/>
          <a:stretch/>
        </p:blipFill>
        <p:spPr>
          <a:xfrm>
            <a:off x="70866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piranja"/>
          <p:cNvPicPr/>
          <p:nvPr/>
        </p:nvPicPr>
        <p:blipFill>
          <a:blip r:embed="rId3"/>
          <a:stretch/>
        </p:blipFill>
        <p:spPr>
          <a:xfrm>
            <a:off x="67057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piranja"/>
          <p:cNvPicPr/>
          <p:nvPr/>
        </p:nvPicPr>
        <p:blipFill>
          <a:blip r:embed="rId4"/>
          <a:stretch/>
        </p:blipFill>
        <p:spPr>
          <a:xfrm>
            <a:off x="63244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piranja"/>
          <p:cNvPicPr/>
          <p:nvPr/>
        </p:nvPicPr>
        <p:blipFill>
          <a:blip r:embed="rId5"/>
          <a:stretch/>
        </p:blipFill>
        <p:spPr>
          <a:xfrm>
            <a:off x="59436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piranja"/>
          <p:cNvPicPr/>
          <p:nvPr/>
        </p:nvPicPr>
        <p:blipFill>
          <a:blip r:embed="rId6"/>
          <a:stretch/>
        </p:blipFill>
        <p:spPr>
          <a:xfrm>
            <a:off x="55627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piranja"/>
          <p:cNvPicPr/>
          <p:nvPr/>
        </p:nvPicPr>
        <p:blipFill>
          <a:blip r:embed="rId7"/>
          <a:stretch/>
        </p:blipFill>
        <p:spPr>
          <a:xfrm>
            <a:off x="51814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piranja"/>
          <p:cNvPicPr/>
          <p:nvPr/>
        </p:nvPicPr>
        <p:blipFill>
          <a:blip r:embed="rId8"/>
          <a:stretch/>
        </p:blipFill>
        <p:spPr>
          <a:xfrm>
            <a:off x="47242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piranja"/>
          <p:cNvPicPr/>
          <p:nvPr/>
        </p:nvPicPr>
        <p:blipFill>
          <a:blip r:embed="rId9"/>
          <a:stretch/>
        </p:blipFill>
        <p:spPr>
          <a:xfrm>
            <a:off x="43434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piranja"/>
          <p:cNvPicPr/>
          <p:nvPr/>
        </p:nvPicPr>
        <p:blipFill>
          <a:blip r:embed="rId10"/>
          <a:stretch/>
        </p:blipFill>
        <p:spPr>
          <a:xfrm>
            <a:off x="38862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piranja"/>
          <p:cNvPicPr/>
          <p:nvPr/>
        </p:nvPicPr>
        <p:blipFill>
          <a:blip r:embed="rId11"/>
          <a:stretch/>
        </p:blipFill>
        <p:spPr>
          <a:xfrm>
            <a:off x="33526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piranja"/>
          <p:cNvPicPr/>
          <p:nvPr/>
        </p:nvPicPr>
        <p:blipFill>
          <a:blip r:embed="rId12"/>
          <a:stretch/>
        </p:blipFill>
        <p:spPr>
          <a:xfrm>
            <a:off x="29718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piranja"/>
          <p:cNvPicPr/>
          <p:nvPr/>
        </p:nvPicPr>
        <p:blipFill>
          <a:blip r:embed="rId13"/>
          <a:stretch/>
        </p:blipFill>
        <p:spPr>
          <a:xfrm>
            <a:off x="24382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piranja"/>
          <p:cNvPicPr/>
          <p:nvPr/>
        </p:nvPicPr>
        <p:blipFill>
          <a:blip r:embed="rId14"/>
          <a:stretch/>
        </p:blipFill>
        <p:spPr>
          <a:xfrm>
            <a:off x="19810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piranja"/>
          <p:cNvPicPr/>
          <p:nvPr/>
        </p:nvPicPr>
        <p:blipFill>
          <a:blip r:embed="rId15"/>
          <a:stretch/>
        </p:blipFill>
        <p:spPr>
          <a:xfrm>
            <a:off x="15238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piranja"/>
          <p:cNvPicPr/>
          <p:nvPr/>
        </p:nvPicPr>
        <p:blipFill>
          <a:blip r:embed="rId16"/>
          <a:stretch/>
        </p:blipFill>
        <p:spPr>
          <a:xfrm>
            <a:off x="10666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9" descr="piranja"/>
          <p:cNvPicPr/>
          <p:nvPr/>
        </p:nvPicPr>
        <p:blipFill>
          <a:blip r:embed="rId17"/>
          <a:stretch/>
        </p:blipFill>
        <p:spPr>
          <a:xfrm>
            <a:off x="6858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0" descr="piranja"/>
          <p:cNvPicPr/>
          <p:nvPr/>
        </p:nvPicPr>
        <p:blipFill>
          <a:blip r:embed="rId18"/>
          <a:stretch/>
        </p:blipFill>
        <p:spPr>
          <a:xfrm>
            <a:off x="3049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1" descr="piranja"/>
          <p:cNvPicPr/>
          <p:nvPr/>
        </p:nvPicPr>
        <p:blipFill>
          <a:blip r:embed="rId19"/>
          <a:stretch/>
        </p:blipFill>
        <p:spPr>
          <a:xfrm>
            <a:off x="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2" descr="piranja"/>
          <p:cNvPicPr/>
          <p:nvPr/>
        </p:nvPicPr>
        <p:blipFill>
          <a:blip r:embed="rId20"/>
          <a:stretch/>
        </p:blipFill>
        <p:spPr>
          <a:xfrm>
            <a:off x="-30492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piranja"/>
          <p:cNvPicPr/>
          <p:nvPr/>
        </p:nvPicPr>
        <p:blipFill>
          <a:blip r:embed="rId21"/>
          <a:stretch/>
        </p:blipFill>
        <p:spPr>
          <a:xfrm>
            <a:off x="-53352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piranja"/>
          <p:cNvPicPr/>
          <p:nvPr/>
        </p:nvPicPr>
        <p:blipFill>
          <a:blip r:embed="rId22"/>
          <a:stretch/>
        </p:blipFill>
        <p:spPr>
          <a:xfrm>
            <a:off x="-87624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5" descr="piranja"/>
          <p:cNvPicPr/>
          <p:nvPr/>
        </p:nvPicPr>
        <p:blipFill>
          <a:blip r:embed="rId23"/>
          <a:stretch/>
        </p:blipFill>
        <p:spPr>
          <a:xfrm>
            <a:off x="-13716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6" descr="amaz7"/>
          <p:cNvPicPr/>
          <p:nvPr/>
        </p:nvPicPr>
        <p:blipFill>
          <a:blip r:embed="rId24"/>
          <a:stretch/>
        </p:blipFill>
        <p:spPr>
          <a:xfrm>
            <a:off x="1828800" y="12193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7"/>
          <p:cNvSpPr/>
          <p:nvPr/>
        </p:nvSpPr>
        <p:spPr>
          <a:xfrm>
            <a:off x="0" y="518148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для человека опасны только 4 вида пираний из 18 извест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75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75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75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125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275"/>
                            </p:stCondLst>
                            <p:childTnLst>
                              <p:par>
                                <p:cTn id="1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425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5148360" y="0"/>
            <a:ext cx="3767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дятся в Амазонке и змеи, например, как эта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конда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громный водяной удав, который может вырасти до 8 метров в длину, хотя обычно они бывают длиной в 6-7 мет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0" y="4267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ой удав может напасть и на небольшого тапира, и на неосторожного охотника и даже на самого опасного хищника Южной Америки – ягуара, когда тот переправляется через реку. Но это происходит нечасто, а обычно они питаются небольшими птицами, рыбой и мелкими млекопитающи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5257800" y="228600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конда отлично плавает и ныряет, может подолгу находиться под водой и даже, отдыхая, лежать на дне реки. А на берег они выползают чтобы погреться на теплом песочке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анаконды нет врагов кроме человека и поэтому в лесах Амазонии она чувствует себя просто прекрасн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9" descr="anakonda"/>
          <p:cNvPicPr/>
          <p:nvPr/>
        </p:nvPicPr>
        <p:blipFill>
          <a:blip r:embed="rId1"/>
          <a:stretch/>
        </p:blipFill>
        <p:spPr>
          <a:xfrm>
            <a:off x="250920" y="189000"/>
            <a:ext cx="4800600" cy="31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amazon1"/>
          <p:cNvPicPr/>
          <p:nvPr/>
        </p:nvPicPr>
        <p:blipFill>
          <a:blip r:embed="rId1"/>
          <a:stretch/>
        </p:blipFill>
        <p:spPr>
          <a:xfrm>
            <a:off x="0" y="0"/>
            <a:ext cx="5143680" cy="380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1" name="Text Box 2"/>
          <p:cNvSpPr/>
          <p:nvPr/>
        </p:nvSpPr>
        <p:spPr>
          <a:xfrm>
            <a:off x="5219640" y="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таких хижинах живут коренные жители Амазонии – индейцы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indeici_ritual"/>
          <p:cNvPicPr/>
          <p:nvPr/>
        </p:nvPicPr>
        <p:blipFill>
          <a:blip r:embed="rId2"/>
          <a:stretch/>
        </p:blipFill>
        <p:spPr>
          <a:xfrm>
            <a:off x="4648320" y="3389400"/>
            <a:ext cx="4241520" cy="318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3" name="Picture 5" descr="indeici_tan"/>
          <p:cNvPicPr/>
          <p:nvPr/>
        </p:nvPicPr>
        <p:blipFill>
          <a:blip r:embed="rId3"/>
          <a:stretch/>
        </p:blipFill>
        <p:spPr>
          <a:xfrm>
            <a:off x="2666880" y="1996920"/>
            <a:ext cx="4343400" cy="3265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отри, какой красивый у Бразилии флаг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brazil"/>
          <p:cNvPicPr/>
          <p:nvPr/>
        </p:nvPicPr>
        <p:blipFill>
          <a:blip r:embed="rId1"/>
          <a:stretch/>
        </p:blipFill>
        <p:spPr>
          <a:xfrm>
            <a:off x="1676520" y="1371600"/>
            <a:ext cx="5562360" cy="3895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851280" y="2852640"/>
            <a:ext cx="5105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 с тобой было бы наверно совсем не просто жить в лесу, наполненном самыми разными обитателями да еще и по соседству с хищниками. К тому же без электричества, без машины и без очень многих других вещей к которым мы с тобой привыкли. Но жители Амазонии хорошо приспособились к такой жизни и наверно им было-бы совсем не просто жить так, как живем м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m_12s"/>
          <p:cNvPicPr/>
          <p:nvPr/>
        </p:nvPicPr>
        <p:blipFill>
          <a:blip r:embed="rId1"/>
          <a:stretch/>
        </p:blipFill>
        <p:spPr>
          <a:xfrm>
            <a:off x="250920" y="189000"/>
            <a:ext cx="3809880" cy="286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6" name="Picture 4" descr="im_08s"/>
          <p:cNvPicPr/>
          <p:nvPr/>
        </p:nvPicPr>
        <p:blipFill>
          <a:blip r:embed="rId2"/>
          <a:stretch/>
        </p:blipFill>
        <p:spPr>
          <a:xfrm>
            <a:off x="4572000" y="189000"/>
            <a:ext cx="4038480" cy="26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7" name="Picture 5" descr="im_10s"/>
          <p:cNvPicPr/>
          <p:nvPr/>
        </p:nvPicPr>
        <p:blipFill>
          <a:blip r:embed="rId3"/>
          <a:stretch/>
        </p:blipFill>
        <p:spPr>
          <a:xfrm>
            <a:off x="324000" y="2438280"/>
            <a:ext cx="3315960" cy="441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lenivec_new"/>
          <p:cNvPicPr/>
          <p:nvPr/>
        </p:nvPicPr>
        <p:blipFill>
          <a:blip r:embed="rId1"/>
          <a:stretch/>
        </p:blipFill>
        <p:spPr>
          <a:xfrm>
            <a:off x="0" y="0"/>
            <a:ext cx="1962000" cy="24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9" name="Text Box 2"/>
          <p:cNvSpPr/>
          <p:nvPr/>
        </p:nvSpPr>
        <p:spPr>
          <a:xfrm>
            <a:off x="4800600" y="0"/>
            <a:ext cx="434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видишь, какая интересная и загадочная страна – Бразилия. Сколько там разных и необычных животных можно повстречать, сколько интересных мест можно увидеть ... Когда – нибудь, наверняка, и ты там побываешь и своими глазами увидишь и карнавал в Рио-де-Жанейро, и реку Амазонку с ее прекрасными и загадочными джунглям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BRA-RioDeJaneiro-mregovbr2"/>
          <p:cNvPicPr/>
          <p:nvPr/>
        </p:nvPicPr>
        <p:blipFill>
          <a:blip r:embed="rId2"/>
          <a:stretch/>
        </p:blipFill>
        <p:spPr>
          <a:xfrm>
            <a:off x="1066680" y="2133720"/>
            <a:ext cx="3481560" cy="23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1" name="Picture 4" descr="BRA-RioDeJaneiro-mregovbr3"/>
          <p:cNvPicPr/>
          <p:nvPr/>
        </p:nvPicPr>
        <p:blipFill>
          <a:blip r:embed="rId3"/>
          <a:stretch/>
        </p:blipFill>
        <p:spPr>
          <a:xfrm>
            <a:off x="4343400" y="4025880"/>
            <a:ext cx="416556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2" name="Picture 7" descr="opossum"/>
          <p:cNvPicPr/>
          <p:nvPr/>
        </p:nvPicPr>
        <p:blipFill>
          <a:blip r:embed="rId4"/>
          <a:stretch/>
        </p:blipFill>
        <p:spPr>
          <a:xfrm>
            <a:off x="1447920" y="4114800"/>
            <a:ext cx="2133360" cy="192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3" name="Picture 6" descr="amaz10s"/>
          <p:cNvPicPr/>
          <p:nvPr/>
        </p:nvPicPr>
        <p:blipFill>
          <a:blip r:embed="rId5"/>
          <a:stretch/>
        </p:blipFill>
        <p:spPr>
          <a:xfrm>
            <a:off x="0" y="4267080"/>
            <a:ext cx="1600200" cy="2206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4" name="Picture 8" descr="amaz13s"/>
          <p:cNvPicPr/>
          <p:nvPr/>
        </p:nvPicPr>
        <p:blipFill>
          <a:blip r:embed="rId6"/>
          <a:stretch/>
        </p:blipFill>
        <p:spPr>
          <a:xfrm>
            <a:off x="2971800" y="5748480"/>
            <a:ext cx="1486080" cy="110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5" name="Picture 9" descr="amaz8s"/>
          <p:cNvPicPr/>
          <p:nvPr/>
        </p:nvPicPr>
        <p:blipFill>
          <a:blip r:embed="rId7"/>
          <a:stretch/>
        </p:blipFill>
        <p:spPr>
          <a:xfrm>
            <a:off x="1676520" y="762120"/>
            <a:ext cx="1981080" cy="147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6" name="Picture 10" descr="im_02s"/>
          <p:cNvPicPr/>
          <p:nvPr/>
        </p:nvPicPr>
        <p:blipFill>
          <a:blip r:embed="rId8"/>
          <a:stretch/>
        </p:blipFill>
        <p:spPr>
          <a:xfrm>
            <a:off x="3200400" y="0"/>
            <a:ext cx="1600200" cy="104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457200" y="3276720"/>
            <a:ext cx="396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ьшинство жителей современной Бразилии это индейцы и потомки приплывших туда много-много лет назад европейцев. Говорят в Бразилии на португальском язы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9" descr="kids"/>
          <p:cNvPicPr/>
          <p:nvPr/>
        </p:nvPicPr>
        <p:blipFill>
          <a:blip r:embed="rId1"/>
          <a:stretch/>
        </p:blipFill>
        <p:spPr>
          <a:xfrm>
            <a:off x="4989600" y="304920"/>
            <a:ext cx="3840120" cy="586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5" name="Picture 10" descr="men"/>
          <p:cNvPicPr/>
          <p:nvPr/>
        </p:nvPicPr>
        <p:blipFill>
          <a:blip r:embed="rId2"/>
          <a:stretch/>
        </p:blipFill>
        <p:spPr>
          <a:xfrm>
            <a:off x="457200" y="304920"/>
            <a:ext cx="3962520" cy="2590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Most"/>
          <p:cNvPicPr/>
          <p:nvPr/>
        </p:nvPicPr>
        <p:blipFill>
          <a:blip r:embed="rId1"/>
          <a:stretch/>
        </p:blipFill>
        <p:spPr>
          <a:xfrm>
            <a:off x="4419720" y="3289320"/>
            <a:ext cx="4724280" cy="35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7" name="Text Box 3"/>
          <p:cNvSpPr/>
          <p:nvPr/>
        </p:nvSpPr>
        <p:spPr>
          <a:xfrm>
            <a:off x="250920" y="357336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мотри, какой интересный и красивый мост в этом городе! Он носит имя одного из бывших президентов Бразилии – Жусулину Кубичка де Оливей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800600" y="304920"/>
            <a:ext cx="43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столица Бразилии, город Бразилиа. Этот город совсем молодой, его построили специально для того, чтобы перенести столицу из очень большого и тесного города Рио-де-Жанейро подальше, вглубь страны всего 50-60 лет наза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BRA-Brasilia4"/>
          <p:cNvPicPr/>
          <p:nvPr/>
        </p:nvPicPr>
        <p:blipFill>
          <a:blip r:embed="rId2"/>
          <a:stretch/>
        </p:blipFill>
        <p:spPr>
          <a:xfrm>
            <a:off x="0" y="0"/>
            <a:ext cx="4803840" cy="332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RioDeJ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52280" y="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Рио-де-Жанейро  все равно самый большой и, наверно, самый интересный город в Бразилии. Он находится на самом берегу Атлантического океа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651640" y="4724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громная статуя Иисуса Христа как-будто парит над городом и будто охраняет е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Iisus"/>
          <p:cNvPicPr/>
          <p:nvPr/>
        </p:nvPicPr>
        <p:blipFill>
          <a:blip r:embed="rId2"/>
          <a:stretch/>
        </p:blipFill>
        <p:spPr>
          <a:xfrm>
            <a:off x="2050920" y="4149720"/>
            <a:ext cx="2857680" cy="21589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1"/>
          <p:cNvGrpSpPr/>
          <p:nvPr/>
        </p:nvGrpSpPr>
        <p:grpSpPr>
          <a:xfrm>
            <a:off x="7178760" y="0"/>
            <a:ext cx="1965240" cy="2108160"/>
            <a:chOff x="7178760" y="0"/>
            <a:chExt cx="1965240" cy="2108160"/>
          </a:xfrm>
        </p:grpSpPr>
        <p:pic>
          <p:nvPicPr>
            <p:cNvPr id="225" name="Picture 6" descr="karta Brazil"/>
            <p:cNvPicPr/>
            <p:nvPr/>
          </p:nvPicPr>
          <p:blipFill>
            <a:blip r:embed="rId3"/>
            <a:stretch/>
          </p:blipFill>
          <p:spPr>
            <a:xfrm>
              <a:off x="7178760" y="0"/>
              <a:ext cx="196524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9"/>
            <p:cNvSpPr/>
            <p:nvPr/>
          </p:nvSpPr>
          <p:spPr>
            <a:xfrm>
              <a:off x="8610480" y="1523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Line 7"/>
          <p:cNvSpPr/>
          <p:nvPr/>
        </p:nvSpPr>
        <p:spPr>
          <a:xfrm>
            <a:off x="5334120" y="1066680"/>
            <a:ext cx="3276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ый год в Рио-де-Жанейро проходит самый известный в мире карнавал. Посмотреть на него приезжают люди со всего св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0" y="4022640"/>
            <a:ext cx="38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мотри, какие красивые костюмы. Представляешь, к этому празднику начинают готовится за год – мастерят костюмы и маски, разучивают новые танцы. А когда наступает время – веселятся, поют и танцуют целую неделю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karnaval3"/>
          <p:cNvPicPr/>
          <p:nvPr/>
        </p:nvPicPr>
        <p:blipFill>
          <a:blip r:embed="rId1"/>
          <a:stretch/>
        </p:blipFill>
        <p:spPr>
          <a:xfrm>
            <a:off x="0" y="765000"/>
            <a:ext cx="5181480" cy="3197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1" name="Picture 5" descr="karnaval"/>
          <p:cNvPicPr/>
          <p:nvPr/>
        </p:nvPicPr>
        <p:blipFill>
          <a:blip r:embed="rId2"/>
          <a:stretch/>
        </p:blipFill>
        <p:spPr>
          <a:xfrm>
            <a:off x="4191120" y="3540240"/>
            <a:ext cx="4952880" cy="331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ьшую часть Бразилии занимает густой-прегустой вечнозеленый лес. Люди называют такой лес джунгли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620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того, чтобы понять насколько эти деревья высокие присмотрись внимательно к этой фотографии. Сможешь ли ты найти на ней три небольшие обезьян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jungle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91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jungle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6" name="Text Box 3"/>
          <p:cNvSpPr/>
          <p:nvPr/>
        </p:nvSpPr>
        <p:spPr>
          <a:xfrm>
            <a:off x="11430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они где прячу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 flipH="1">
            <a:off x="4800240" y="685800"/>
            <a:ext cx="152280" cy="3886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4572000" y="609480"/>
            <a:ext cx="380880" cy="3581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4419720" y="914400"/>
            <a:ext cx="457200" cy="228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1:20Z</dcterms:created>
  <dc:creator>wl</dc:creator>
  <dc:description/>
  <dc:language>en-US</dc:language>
  <cp:lastModifiedBy>Алексей Пастухов</cp:lastModifiedBy>
  <dcterms:modified xsi:type="dcterms:W3CDTF">2015-02-06T13:46:14Z</dcterms:modified>
  <cp:revision>50</cp:revision>
  <dc:subject/>
  <dc:title>PowerPoint Presentation</dc:title>
</cp:coreProperties>
</file>