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3B07-BEBA-437A-BC0B-D4E476C66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D4F9-9406-4FDB-AA53-A9C5FC35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FB62-EE0A-41A7-8E0F-D4D605BBB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A10B-4976-4AAF-BF23-56B10C81F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4E91-01F2-4A90-B060-635125DF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06DB-1FAD-454A-9671-EF689F8E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70BD-BE56-4E17-8196-0ED250C4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8CB5-063D-4B56-A126-38469D83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D39C-B120-40A1-A26D-48E027D2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1762-2F53-4E66-A1EC-3333ACE7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8ADD-ADC2-4E69-845D-5AD13FBA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11CC-2A49-4EB5-A6EB-FAE4C1F8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8280"/>
            </a:gs>
            <a:gs pos="50000">
              <a:srgbClr val="ffffff"/>
            </a:gs>
            <a:gs pos="100000">
              <a:srgbClr val="d282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06D1-9F81-4629-A07F-02E9F37E73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« Дети, бегущие от грозы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Прямоугольник 4" descr=""/>
          <p:cNvPicPr/>
          <p:nvPr/>
        </p:nvPicPr>
        <p:blipFill>
          <a:blip r:embed="rId1"/>
          <a:stretch/>
        </p:blipFill>
        <p:spPr>
          <a:xfrm>
            <a:off x="420840" y="542880"/>
            <a:ext cx="8442000" cy="2760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е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ниво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е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жали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зат</a:t>
            </a: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я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нуло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осл</a:t>
            </a: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е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ительная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ос</a:t>
            </a: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а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дила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уд</a:t>
            </a: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и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вительное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лук</a:t>
            </a: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о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шк</a:t>
            </a: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о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роб</a:t>
            </a: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о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рм</a:t>
            </a: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о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тал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ров</a:t>
            </a: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о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рч</a:t>
            </a: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а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л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о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лн</a:t>
            </a: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и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я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о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и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рали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испуга</a:t>
            </a: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нн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ые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тр</a:t>
            </a: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е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вожны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356000" y="1267920"/>
            <a:ext cx="4608720" cy="54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1. В лес за грибам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2. Приближение гроз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3. Начало гроз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4. Скорее домо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7" descr="дети 3"/>
          <p:cNvPicPr/>
          <p:nvPr/>
        </p:nvPicPr>
        <p:blipFill>
          <a:blip r:embed="rId1"/>
          <a:stretch/>
        </p:blipFill>
        <p:spPr>
          <a:xfrm>
            <a:off x="0" y="0"/>
            <a:ext cx="41068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Прямоугольник 3" descr=""/>
          <p:cNvPicPr/>
          <p:nvPr/>
        </p:nvPicPr>
        <p:blipFill>
          <a:blip r:embed="rId1"/>
          <a:stretch/>
        </p:blipFill>
        <p:spPr>
          <a:xfrm>
            <a:off x="-6480" y="-176040"/>
            <a:ext cx="9156960" cy="1109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портрет "/>
          <p:cNvPicPr/>
          <p:nvPr/>
        </p:nvPicPr>
        <p:blipFill>
          <a:blip r:embed="rId2"/>
          <a:stretch/>
        </p:blipFill>
        <p:spPr>
          <a:xfrm>
            <a:off x="971640" y="907920"/>
            <a:ext cx="2898720" cy="43927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468360" y="558972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Я не зарыл своего богом данного таланта в землю, но и не использовал его в той мере, в какой мог бы. Я слишком любил жизнь, и это мешало мне всецело отдаться искусству." (Маковский К.Е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портрет 2"/>
          <p:cNvPicPr/>
          <p:nvPr/>
        </p:nvPicPr>
        <p:blipFill>
          <a:blip r:embed="rId3"/>
          <a:stretch/>
        </p:blipFill>
        <p:spPr>
          <a:xfrm>
            <a:off x="4356000" y="907920"/>
            <a:ext cx="4351320" cy="4392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дети 3"/>
          <p:cNvPicPr/>
          <p:nvPr/>
        </p:nvPicPr>
        <p:blipFill>
          <a:blip r:embed="rId1"/>
          <a:stretch/>
        </p:blipFill>
        <p:spPr>
          <a:xfrm>
            <a:off x="324000" y="115920"/>
            <a:ext cx="3938400" cy="6580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4427640" y="5157720"/>
            <a:ext cx="4537080" cy="1008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Georgia"/>
              </a:rPr>
              <a:t>«Дети, бегущие от грозы</a:t>
            </a:r>
            <a:r>
              <a:rPr b="1" lang="ru-RU" sz="2800" spc="-1" strike="noStrike">
                <a:solidFill>
                  <a:srgbClr val="800080"/>
                </a:solidFill>
                <a:latin typeface="Georgi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"/>
          <p:cNvPicPr/>
          <p:nvPr/>
        </p:nvPicPr>
        <p:blipFill>
          <a:blip r:embed="rId2"/>
          <a:stretch/>
        </p:blipFill>
        <p:spPr>
          <a:xfrm>
            <a:off x="179280" y="0"/>
            <a:ext cx="5184720" cy="4246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"/>
          <p:cNvPicPr/>
          <p:nvPr/>
        </p:nvPicPr>
        <p:blipFill>
          <a:blip r:embed="rId3"/>
          <a:stretch/>
        </p:blipFill>
        <p:spPr>
          <a:xfrm>
            <a:off x="179280" y="2781360"/>
            <a:ext cx="5508720" cy="3892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4"/>
          <a:stretch/>
        </p:blipFill>
        <p:spPr>
          <a:xfrm>
            <a:off x="1835280" y="2637000"/>
            <a:ext cx="2441520" cy="2663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"/>
          <p:cNvPicPr/>
          <p:nvPr/>
        </p:nvPicPr>
        <p:blipFill>
          <a:blip r:embed="rId5"/>
          <a:stretch/>
        </p:blipFill>
        <p:spPr>
          <a:xfrm>
            <a:off x="0" y="0"/>
            <a:ext cx="3708360" cy="2717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"/>
          <p:cNvPicPr/>
          <p:nvPr/>
        </p:nvPicPr>
        <p:blipFill>
          <a:blip r:embed="rId6"/>
          <a:stretch/>
        </p:blipFill>
        <p:spPr>
          <a:xfrm>
            <a:off x="0" y="1700280"/>
            <a:ext cx="3271680" cy="4653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4032360" cy="3649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1042920" y="4221000"/>
            <a:ext cx="2054160" cy="223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3"/>
          <a:stretch/>
        </p:blipFill>
        <p:spPr>
          <a:xfrm>
            <a:off x="4643280" y="3933720"/>
            <a:ext cx="3384720" cy="2671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4"/>
          <a:stretch/>
        </p:blipFill>
        <p:spPr>
          <a:xfrm>
            <a:off x="5076720" y="476280"/>
            <a:ext cx="3024360" cy="2800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826920" y="765000"/>
            <a:ext cx="7848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 u="sng">
                <a:solidFill>
                  <a:srgbClr val="660066"/>
                </a:solidFill>
                <a:uFillTx/>
                <a:latin typeface="Times New Roman"/>
              </a:rPr>
              <a:t> </a:t>
            </a:r>
            <a:r>
              <a:rPr b="1" i="1" lang="ru-RU" sz="6000" spc="-1" strike="noStrike" u="sng">
                <a:solidFill>
                  <a:srgbClr val="660066"/>
                </a:solidFill>
                <a:uFillTx/>
                <a:latin typeface="Times New Roman"/>
              </a:rPr>
              <a:t>Составление план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Times New Roman"/>
              </a:rPr>
              <a:t>1. В лес за грибам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Times New Roman"/>
              </a:rPr>
              <a:t>2. Приближение грозы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Times New Roman"/>
              </a:rPr>
              <a:t>3. Начало грозы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Times New Roman"/>
              </a:rPr>
              <a:t>4. Скорее домой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179280" y="18900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504d"/>
                </a:solidFill>
                <a:latin typeface="Georgia"/>
              </a:rPr>
              <a:t>Лексико-орфографическая подготовка</a:t>
            </a:r>
            <a:r>
              <a:rPr b="0" lang="ru-RU" sz="3600" spc="-1" strike="noStrike">
                <a:solidFill>
                  <a:srgbClr val="c0504d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50920" y="2205000"/>
            <a:ext cx="8893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Times New Roman"/>
              </a:rPr>
              <a:t>1-я часть:</a:t>
            </a: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 удивительное лето, ласковое, теплое солнце, пошли по грибы, взяли лукошко, отправились в дальний лес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684360" y="836640"/>
            <a:ext cx="79912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Times New Roman"/>
              </a:rPr>
              <a:t>2-я часть:</a:t>
            </a: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 лениво пробежал ветерок, проворчал, пробормотал первый гром, тучи постепенно заволокли, затянули, закрыли, повисли над землей, темное, огромное, грозное покрывал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539640" y="620640"/>
            <a:ext cx="8209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Times New Roman"/>
              </a:rPr>
              <a:t>3-я часть:</a:t>
            </a: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 тяжелые взрывы ухали за горизонтом, мелькали вспышки молний, молнии яркие, ослепительные, огненные, гроза шумела, набирала сил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468360" y="907920"/>
            <a:ext cx="82072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Times New Roman"/>
              </a:rPr>
              <a:t>4-я часть:</a:t>
            </a: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 бросили собирать, быстро бежали, посадила братца на спину, лица испуганные, тревожные, детям боязно, страшно, ребятишки, дети, брат с сестрой, он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13:49:05Z</dcterms:created>
  <dc:creator>XTreme</dc:creator>
  <dc:description/>
  <dc:language>en-US</dc:language>
  <cp:lastModifiedBy>УЧИТЕЛЬ</cp:lastModifiedBy>
  <dcterms:modified xsi:type="dcterms:W3CDTF">2014-04-12T21:23:34Z</dcterms:modified>
  <cp:revision>8</cp:revision>
  <dc:subject/>
  <dc:title>Слайд 1</dc:title>
</cp:coreProperties>
</file>