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720-740C-4105-8914-02285611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656-06C3-49E5-9A77-3B0F6885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AE0-4147-4E95-AC48-AFCD84E4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AB7-DC23-447B-B1B9-34B5D1A2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4A9-6CD0-446D-96CB-3313C43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76A-E9D4-42AB-810B-2668AD3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470-1292-4E80-B558-0A1C36F4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7C6-747C-46C4-B021-F115C19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6CE-D2D7-4274-8299-D0843606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766-119E-4450-9CCB-6B72C1B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E28-289A-412A-A7B7-94B0D1A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AA9-8DD5-4677-806C-7883A82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8280"/>
            </a:gs>
            <a:gs pos="50000">
              <a:srgbClr val="ffffff"/>
            </a:gs>
            <a:gs pos="100000">
              <a:srgbClr val="d282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A91-61BD-4B21-8390-BC3BBC0B8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 Дети, бегущие от гроз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542880"/>
            <a:ext cx="844200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ив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ал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зат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у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л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ительна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с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л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д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ительно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ук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м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а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в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ч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ал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спуга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н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ы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ож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56000" y="1267920"/>
            <a:ext cx="46087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. В лес за гриб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2. Приближение гро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3. Начало гроз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4. Скорее дом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дети 3"/>
          <p:cNvPicPr/>
          <p:nvPr/>
        </p:nvPicPr>
        <p:blipFill>
          <a:blip r:embed="rId1"/>
          <a:stretch/>
        </p:blipFill>
        <p:spPr>
          <a:xfrm>
            <a:off x="0" y="0"/>
            <a:ext cx="4106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портрет "/>
          <p:cNvPicPr/>
          <p:nvPr/>
        </p:nvPicPr>
        <p:blipFill>
          <a:blip r:embed="rId2"/>
          <a:stretch/>
        </p:blipFill>
        <p:spPr>
          <a:xfrm>
            <a:off x="971640" y="907920"/>
            <a:ext cx="28987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5589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Я не зарыл своего богом данного таланта в землю, но и не использовал его в той мере, в какой мог бы. Я слишком любил жизнь, и это мешало мне всецело отдаться искусству." (Маковский К.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портрет 2"/>
          <p:cNvPicPr/>
          <p:nvPr/>
        </p:nvPicPr>
        <p:blipFill>
          <a:blip r:embed="rId3"/>
          <a:stretch/>
        </p:blipFill>
        <p:spPr>
          <a:xfrm>
            <a:off x="4356000" y="907920"/>
            <a:ext cx="43513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дети 3"/>
          <p:cNvPicPr/>
          <p:nvPr/>
        </p:nvPicPr>
        <p:blipFill>
          <a:blip r:embed="rId1"/>
          <a:stretch/>
        </p:blipFill>
        <p:spPr>
          <a:xfrm>
            <a:off x="324000" y="115920"/>
            <a:ext cx="3938400" cy="6580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427640" y="5157720"/>
            <a:ext cx="453708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«Дети, бегущие от грозы</a:t>
            </a:r>
            <a:r>
              <a:rPr b="1" lang="ru-RU" sz="2800" spc="-1" strike="noStrike">
                <a:solidFill>
                  <a:srgbClr val="80008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179280" y="0"/>
            <a:ext cx="5184720" cy="424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5508720" cy="389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4"/>
          <a:stretch/>
        </p:blipFill>
        <p:spPr>
          <a:xfrm>
            <a:off x="1835280" y="2637000"/>
            <a:ext cx="2441520" cy="26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3708360" cy="271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tretch/>
        </p:blipFill>
        <p:spPr>
          <a:xfrm>
            <a:off x="0" y="1700280"/>
            <a:ext cx="327168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32360" cy="364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2054160" cy="223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5076720" y="476280"/>
            <a:ext cx="3024360" cy="28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826920" y="765000"/>
            <a:ext cx="78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i="1" lang="ru-RU" sz="6000" spc="-1" strike="noStrike" u="sng">
                <a:solidFill>
                  <a:srgbClr val="660066"/>
                </a:solidFill>
                <a:uFillTx/>
                <a:latin typeface="Times New Roman"/>
              </a:rPr>
              <a:t>Составление пла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1. В лес за гриб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2. Приближение гроз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3. Начало гроз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4. Скорее домой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Georgia"/>
              </a:rPr>
              <a:t>Лексико-орфографическая подготовка</a:t>
            </a:r>
            <a:r>
              <a:rPr b="0" lang="ru-RU" sz="3600" spc="-1" strike="noStrike">
                <a:solidFill>
                  <a:srgbClr val="c0504d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20500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1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удивительное лето, ласковое, теплое солнце, пошли по грибы, взяли лукошко, отправились в дальний ле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836640"/>
            <a:ext cx="7991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2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лениво пробежал ветерок, проворчал, пробормотал первый гром, тучи постепенно заволокли, затянули, закрыли, повисли над землей, темное, огромное, грозное покрыв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9640" y="620640"/>
            <a:ext cx="820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3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тяжелые взрывы ухали за горизонтом, мелькали вспышки молний, молнии яркие, ослепительные, огненные, гроза шумела, набирала си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90792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imes New Roman"/>
              </a:rPr>
              <a:t>4-я часть: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бросили собирать, быстро бежали, посадила братца на спину, лица испуганные, тревожные, детям боязно, страшно, ребятишки, дети, брат с сестрой, о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49:05Z</dcterms:created>
  <dc:creator>XTreme</dc:creator>
  <dc:description/>
  <dc:language>en-US</dc:language>
  <cp:lastModifiedBy>УЧИТЕЛЬ</cp:lastModifiedBy>
  <dcterms:modified xsi:type="dcterms:W3CDTF">2014-04-12T21:23:34Z</dcterms:modified>
  <cp:revision>8</cp:revision>
  <dc:subject/>
  <dc:title>Слайд 1</dc:title>
</cp:coreProperties>
</file>