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3CD-B936-488E-A545-3166C85C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232-7D91-4666-BF7B-0723D17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9A4-B6AE-4F79-9321-A08F86E8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27A-5AAD-4E76-85D4-FDFA6B8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BAE-017B-4D95-AF45-4234ACE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AF6-8480-46D1-B367-104F5A89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628-5C08-4852-B809-CBD3B570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403-B611-4D13-97EB-BD2BA46F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4EB-738A-4E4F-B046-188ADC7A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29A-5DC7-4C9A-853A-919E221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CCE-6B80-4349-9E30-70D64C58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D76-D50E-40D8-AF5F-2F0D3B05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6BE-3EA9-4E57-85DB-CDC6B0D8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80000"/>
                </a:solidFill>
                <a:latin typeface="Times New Roman"/>
              </a:rPr>
              <a:t>Педагогический сов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134136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«Дифференциация учебного процесса как приоритетный способ управления социально-ориентированным уроком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900000" y="450864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Форма проведения: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педагогическая дискуссия.</a:t>
            </a:r>
            <a:br>
              <a:rPr sz="2800"/>
            </a:b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Участники: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педагогический коллектив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школы №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1" descr="25a5a9e62947"/>
          <p:cNvPicPr/>
          <p:nvPr/>
        </p:nvPicPr>
        <p:blipFill>
          <a:blip r:embed="rId2"/>
          <a:stretch/>
        </p:blipFill>
        <p:spPr>
          <a:xfrm>
            <a:off x="0" y="1341360"/>
            <a:ext cx="21621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56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80000"/>
                </a:solidFill>
                <a:latin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72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Выявить основные проблемы и противоречия в организации дифференцированного обучения учащихся в условиях перехода к профильному обучению, и предложить пути их реш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832363"/>
          <p:cNvPicPr/>
          <p:nvPr/>
        </p:nvPicPr>
        <p:blipFill>
          <a:blip r:embed="rId2"/>
          <a:stretch/>
        </p:blipFill>
        <p:spPr>
          <a:xfrm>
            <a:off x="0" y="0"/>
            <a:ext cx="1941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8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692360" y="1125360"/>
            <a:ext cx="70563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Актуализировать проблемы внедрения инновационных методов обуче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Проанализировать и обобщить причины неуспеваемости учащихс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Обсудить проблемы повышения качества знаний учащихся с позиции дифференцированного обуче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Наметить конкретные пути по совершенствованию методики дифференцированного подхода к обучению на всех этапах уро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uchitel"/>
          <p:cNvPicPr/>
          <p:nvPr/>
        </p:nvPicPr>
        <p:blipFill>
          <a:blip r:embed="rId2"/>
          <a:stretch/>
        </p:blipFill>
        <p:spPr>
          <a:xfrm>
            <a:off x="324000" y="404640"/>
            <a:ext cx="13716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187280" y="333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80000"/>
                </a:solidFill>
                <a:latin typeface="Times New Roman"/>
              </a:rPr>
              <a:t>Подготовка педсовет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11280" y="1197000"/>
            <a:ext cx="648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Распоряжение к подготовке и проведению педсове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рганизация работы творческих лабораторий в рамках методических комиссий и методических объедин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роведение блиц - опроса по теме педсове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дготовка домашнего задания- отбор материалов для выступления на педсовете и участию в педагогической дискусс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рганизация работы творческой группы по подготовке психолого-педагогического мониторинг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Составление проекта решения пед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0_80d41_ef2158f2_L"/>
          <p:cNvPicPr/>
          <p:nvPr/>
        </p:nvPicPr>
        <p:blipFill>
          <a:blip r:embed="rId2"/>
          <a:stretch/>
        </p:blipFill>
        <p:spPr>
          <a:xfrm>
            <a:off x="7020000" y="450864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0000"/>
                </a:solidFill>
                <a:latin typeface="Times New Roman"/>
              </a:rPr>
              <a:t>План проведения педсо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Организационный момен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едсовет проводится в форме педагогической диску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зультаты предварительного блиц- опроса «Дифференциация обучения в школе – «за» или «против»?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(отв. Коваль Н.П - психо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381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8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48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480000"/>
                </a:solidFill>
                <a:uFillTx/>
                <a:latin typeface="Times New Roman"/>
              </a:rPr>
              <a:t>Практическая часть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Доклад: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Дифференцированное направление – как одно из направлений использования личностно-ориентированного обучения учащихся в условиях профильного образования» (отв. зам.директора по УВР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Акинфиева Г.В.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Дискуссия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Дифференцированное обучение- это безусловно положительное явление?» ( обсуждение темы педсовета по вопросам домашнего задания, отв. руководители МК и МО)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Практикум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Защита положительных и отрицательных аспектов дифференцированного обучения 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Содоклад 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Психолого-педагогическая диагностика успеха дифференцированного обучения» (отв. Коваль Н.П.- психолог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Екатерина</cp:lastModifiedBy>
  <dcterms:modified xsi:type="dcterms:W3CDTF">2012-11-15T18:16:00Z</dcterms:modified>
  <cp:revision>19</cp:revision>
  <dc:subject/>
  <dc:title>Слайд 1</dc:title>
</cp:coreProperties>
</file>