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6.jpeg" ContentType="image/jpe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0648-4826-484B-B2C3-E3CF4F15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8912-F552-449A-9922-CCF419DE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01C-870A-42F8-8776-B2C530CF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F46B-321B-44E4-AE9E-3E3AEB07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3784-465B-45C5-B65F-3F02B366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F379-41C1-4C35-BDDC-F583B234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4031-1CBE-42FC-969A-293E64D7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231B-9703-461B-A57C-0F43A01E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C6EF-2B8E-4674-93F4-31A84BD8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51E1-44DE-4191-81B3-9792769D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2BA9-1AA4-4F16-BA91-77B397E3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5209-BFFF-48BC-A43F-3B8C52DBF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F3A8-0AFE-4D53-8974-FE86E665E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561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480000"/>
                </a:solidFill>
                <a:latin typeface="Times New Roman"/>
              </a:rPr>
              <a:t>Педагогический сове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8920" y="1341360"/>
            <a:ext cx="62643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«Дифференциация учебного процесса как приоритетный способ управления социально-ориентированным уроком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20"/>
          <p:cNvSpPr/>
          <p:nvPr/>
        </p:nvSpPr>
        <p:spPr>
          <a:xfrm>
            <a:off x="900000" y="4508640"/>
            <a:ext cx="741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800000"/>
                </a:solidFill>
                <a:uFillTx/>
                <a:latin typeface="Times New Roman"/>
              </a:rPr>
              <a:t>Форма проведения: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педагогическая дискуссия.</a:t>
            </a:r>
            <a:br>
              <a:rPr sz="2800"/>
            </a:br>
            <a:r>
              <a:rPr b="1" lang="en-US" sz="2800" spc="-1" strike="noStrike" u="sng">
                <a:solidFill>
                  <a:srgbClr val="800000"/>
                </a:solidFill>
                <a:uFillTx/>
                <a:latin typeface="Times New Roman"/>
              </a:rPr>
              <a:t>Участники: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 педагогический коллектив </a:t>
            </a: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школы №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1" descr="25a5a9e62947"/>
          <p:cNvPicPr/>
          <p:nvPr/>
        </p:nvPicPr>
        <p:blipFill>
          <a:blip r:embed="rId2"/>
          <a:stretch/>
        </p:blipFill>
        <p:spPr>
          <a:xfrm>
            <a:off x="0" y="1341360"/>
            <a:ext cx="216216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5614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480000"/>
                </a:solidFill>
                <a:latin typeface="Times New Roman"/>
              </a:rPr>
              <a:t>Цель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32000" y="1412640"/>
            <a:ext cx="720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Выявить основные проблемы и противоречия в организации дифференцированного обучения учащихся в условиях перехода к профильному обучению, и предложить пути их решени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6" descr="832363"/>
          <p:cNvPicPr/>
          <p:nvPr/>
        </p:nvPicPr>
        <p:blipFill>
          <a:blip r:embed="rId2"/>
          <a:stretch/>
        </p:blipFill>
        <p:spPr>
          <a:xfrm>
            <a:off x="0" y="0"/>
            <a:ext cx="19414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200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480000"/>
                </a:solidFill>
                <a:latin typeface="Times New Roman"/>
              </a:rPr>
              <a:t>Задачи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692360" y="1125360"/>
            <a:ext cx="705636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Актуализировать проблемы внедрения инновационных методов обучения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Проанализировать и обобщить причины неуспеваемости учащихся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Обсудить проблемы повышения качества знаний учащихся с позиции дифференцированного обучения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Наметить конкретные пути по совершенствованию методики дифференцированного подхода к обучению на всех этапах урок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" descr="uchitel"/>
          <p:cNvPicPr/>
          <p:nvPr/>
        </p:nvPicPr>
        <p:blipFill>
          <a:blip r:embed="rId2"/>
          <a:stretch/>
        </p:blipFill>
        <p:spPr>
          <a:xfrm>
            <a:off x="324000" y="404640"/>
            <a:ext cx="137160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187280" y="333360"/>
            <a:ext cx="70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480000"/>
                </a:solidFill>
                <a:latin typeface="Times New Roman"/>
              </a:rPr>
              <a:t>Подготовка педсовета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611280" y="1197000"/>
            <a:ext cx="648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Распоряжение к подготовке и проведению педсове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Организация работы творческих лабораторий в рамках методических комиссий и методических объединений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Проведение блиц - опроса по теме педсове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Подготовка домашнего задания- отбор материалов для выступления на педсовете и участию в педагогической дискусси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Организация работы творческой группы по подготовке психолого-педагогического мониторинг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Составление проекта решения педсов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0_80d41_ef2158f2_L"/>
          <p:cNvPicPr/>
          <p:nvPr/>
        </p:nvPicPr>
        <p:blipFill>
          <a:blip r:embed="rId2"/>
          <a:stretch/>
        </p:blipFill>
        <p:spPr>
          <a:xfrm>
            <a:off x="7020000" y="450864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80000"/>
                </a:solidFill>
                <a:latin typeface="Times New Roman"/>
              </a:rPr>
              <a:t>План проведения педсове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00"/>
                </a:solidFill>
                <a:uFillTx/>
                <a:latin typeface="Times New Roman"/>
              </a:rPr>
              <a:t>Организационный момен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Педсовет проводится в форме педагогической дискусс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Результаты предварительного блиц- опроса «Дифференциация обучения в школе – «за» или «против»?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(отв. Коваль Н.П - психолог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443640" y="1341360"/>
            <a:ext cx="238140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80000"/>
                </a:solidFill>
                <a:latin typeface="Times New Roman"/>
              </a:rPr>
              <a:t>2.</a:t>
            </a:r>
            <a:r>
              <a:rPr b="0" lang="en-US" sz="2600" spc="-1" strike="noStrike">
                <a:solidFill>
                  <a:srgbClr val="48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480000"/>
                </a:solidFill>
                <a:uFillTx/>
                <a:latin typeface="Times New Roman"/>
              </a:rPr>
              <a:t>Практическая часть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Доклад:</a:t>
            </a:r>
            <a:r>
              <a:rPr b="0" i="1" lang="en-US" sz="2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800000"/>
                </a:solidFill>
                <a:latin typeface="Times New Roman"/>
              </a:rPr>
              <a:t>«Дифференцированное направление – как одно из направлений использования личностно-ориентированного обучения учащихся в условиях профильного образования» (отв. зам.директора по УВР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Акинфиева Г.В.</a:t>
            </a:r>
            <a:r>
              <a:rPr b="0" lang="en-US" sz="2600" spc="-1" strike="noStrike">
                <a:solidFill>
                  <a:srgbClr val="800000"/>
                </a:solidFill>
                <a:latin typeface="Times New Roman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Дискуссия: </a:t>
            </a:r>
            <a:r>
              <a:rPr b="0" lang="en-US" sz="2600" spc="-1" strike="noStrike">
                <a:solidFill>
                  <a:srgbClr val="800000"/>
                </a:solidFill>
                <a:latin typeface="Times New Roman"/>
              </a:rPr>
              <a:t>«Дифференцированное обучение- это безусловно положительное явление?» ( обсуждение темы педсовета по вопросам домашнего задания, отв. руководители МК и МО)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Практикум: </a:t>
            </a:r>
            <a:r>
              <a:rPr b="0" lang="en-US" sz="2600" spc="-1" strike="noStrike">
                <a:solidFill>
                  <a:srgbClr val="800000"/>
                </a:solidFill>
                <a:latin typeface="Times New Roman"/>
              </a:rPr>
              <a:t>«Защита положительных и отрицательных аспектов дифференцированного обучения »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800000"/>
                </a:solidFill>
                <a:latin typeface="Times New Roman"/>
              </a:rPr>
              <a:t>Содоклад : </a:t>
            </a:r>
            <a:r>
              <a:rPr b="0" lang="en-US" sz="2600" spc="-1" strike="noStrike">
                <a:solidFill>
                  <a:srgbClr val="800000"/>
                </a:solidFill>
                <a:latin typeface="Times New Roman"/>
              </a:rPr>
              <a:t>«Психолого-педагогическая диагностика успеха дифференцированного обучения» (отв. Коваль Н.П.- психолог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Екатерина</cp:lastModifiedBy>
  <dcterms:modified xsi:type="dcterms:W3CDTF">2012-11-15T18:16:00Z</dcterms:modified>
  <cp:revision>19</cp:revision>
  <dc:subject/>
  <dc:title>Слайд 1</dc:title>
</cp:coreProperties>
</file>