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CA67-DC0F-496A-88C9-B429CF5E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DA99-3181-40EB-B7C2-7E14572D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F278-D1E7-4576-B4E1-802550CD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ECCC-B31B-4BD3-89D3-62A4A2A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B8E-9197-4ED4-91A2-0C749FC7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4180-69A8-4C69-8BE7-4C8EA67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7E1-ED77-472F-B175-3E6F8B4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37C0-4804-4C29-A2EA-30DB040F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A65-6AA7-4AD1-93D4-B276E9F9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1A5E-3E2C-49CD-986E-935CBF6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3101-C108-4E5F-B06F-B5D84BB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15DA-5753-434A-B480-E3B1FFD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A72-9CD3-4B05-A98A-4DF9AB9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481F-9D38-4A78-BD53-CA173EA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091F-4061-41F7-AD7E-4EC7382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7B68-C3DB-4EDD-A712-C6C1A937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9966-6E11-4F56-AFC9-D297293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ACBE-957A-41B9-8CCB-39A6EFD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BD07-BE68-441D-8C62-4507C35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6889-971B-41A9-A2B0-EF480454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F2F2-D2E0-41DB-A221-BE04B24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C565-C776-437A-A2E7-C0A41EF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DF68-0C80-4098-B419-C092161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A5E6-A96B-41DD-8926-A3DCD3AE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959F-1CD1-4CED-9F4C-670E2FA12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0B5-69B7-410C-B2D8-8F351442D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e5ff"/>
                </a:solidFill>
                <a:latin typeface="Monotype Corsiva"/>
              </a:rPr>
              <a:t>Доброе дело клас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2565000"/>
            <a:ext cx="8591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МОУ Инзенская средняя общеобразовательная школа №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10 «Б» клас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Инза. 2012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Итак, имена героев известны. Материалы, это подтверждающие, хранятся в нашей школ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В 2006 году ученики встречались с местными властями, получили их обещания восстановить мемориальную доск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Прошло 6 лет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Захоронение на центральной площади города по-прежнему безымян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ш класс в рамках акции «Доброе дело» поставил перед собой задачу вновь привлечь внимание учащихся нашей школы, общественности, властей к проблеме  безымянного захоронения на центральной площади нашего города  и добиться восстановления мемориальной дос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ы назвали это дело «Забытые имен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7000"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 же  делать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сти социальный опрос среди учащихся нашей школы о проблеме безымянного захоро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сти лекторий «Забытые имена» для учащихся нашей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править письмо в районную газету «Вперед» с обращением к обще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третиться с представителями власти с просьбой оказания содействия в установлении мемориальной дос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то будет делать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дение социального опроса- Поваров Вла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бор и подготовка устного материала для лектория – Хозянина Анастасия, Лыдина Ма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готовка компьютерной презентации, сопровождающей лекторий – Лыдин Николай, Горничнов Серг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готовка письма в газету «Вперед» - Никифорова Елена и Онищенко Екатери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ганизация встречи с представителями власти – Калмыкова Татьяна, Симоненко Юрий  при помощи классного руководителя Старостиной Ю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отосъемка- Дворцов Макси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8000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ы действуем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ли социальный опрос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про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). Как Вы считаете, важно ли в настоящее время знать историю своего города? 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). Слышали ли Вы о захоронении на центральной площади города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). Вы знаете, кто там захоронен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. Считаете ли Вы необходимым восстановление имен захороненных и установление мемориальной доски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зульта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рошено 295 человек ( учащиеся 7-11 к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90 чел., нет – 5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0 чел, нет – 266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1 чел., нет – 294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90 чел., нет – 5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вод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) Большинство учащихся считают важным знать историю своего города (99,8 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) Большинство учащихся не слышали о безымянном захоронении (99, 4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) Большинство не знают имен захороненных (99,9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99,8 % необходимым считают восстановление имен захороненны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54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дготовили и провели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екторий  «Забытые име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8000" y="0"/>
            <a:ext cx="4356000" cy="66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писали письмо в редакцию районной газеты «Вперед», в котором мы обратились к общественности с просьбой оказать содействие в установлении мемориальной доски на обелиске над безымянным захоронени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исьмо «Имена героев» было опубликовано в рубрике «Почта редакции» в № 5 (10599) от 3 февраля 2012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19080">
            <a:solidFill>
              <a:srgbClr val="000514"/>
            </a:solidFill>
            <a:miter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стретились с представителями влас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Народ умирает, когда становится населением. А населением он становится тогда, когда забывает свою историю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Ф. Абрамов (русский писатель)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9000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427280" y="260280"/>
            <a:ext cx="4716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 обсудили проблему безымянного захоронения на центральной площади города с главой Администрации МО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.А.Федотовы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лавой муниципального образования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.Н.Рауткины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чальником организационно-правового отдела Администрации МО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.В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убо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94440" cy="61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очень рады, что представители власти живо заинтересовались поставленной проблем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услышали обещание обсудить этот вопрос на ближайшем заседании Совета депутатов и не только выделить средства на установку мемориальной доски, но и вынести на обсуждение общественности вопрос создания  на центральной площади города мемориальной зоны либо перезахоронения героев гражданской вой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strips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, со своей стороны обещаем, что будем продолжать работу над поставленной задачей и реализовывать предложения, которые мы получили от представителей вла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планируем разместить известную нам информацию на  официальном сайте  Администрации МО «Инзенское городское поселение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должить работу лектория «Забытые имена» в стенах школы , а также для более широкой обще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гласить Инзенское телевидение с целью привлечение внимания к этой проблеме самого широкого круга жителей нашего гор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Дело еще не завершено. 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Многое ещё предстоит сделат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колько дел - и те и э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ного разных дел на свет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то тебе дела чужие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инимайся за своё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руд народу отдавай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усть цветёт родимый край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чатся песни- те и эт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ного песен есть на свет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то тебе чужие песни,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й родную от душ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рай цветёт, когда на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сню прадедов поё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8000">
    <p:wedg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68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68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благодарим нашего классного руководителя Старостину Ю.А., а также родителей Лыдину Е.В., Федорову Н.В., Поварову С.В., Потавчеву И.В., Горничнову Г.В. И др. за помощь и понимание в реализации нашего «Доброго дел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наша страна  развивалась, двигалась вперед, необходимо помнить о прошлом свое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не остаемся в стороне. Нам интересна история своего города, кра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м интересны судьбы людей, когда-либо живших и живущих ны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Ин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01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Стремительно движется время. Бег его не остановить, не повернуть вспять. Но  можно замедлить его движение, оставляя  в памяти народной его легендарные события ,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  собирая по крупицам в одно большое целое – наше прошлое, а значит и наше будущее.</a:t>
            </a:r>
            <a:r>
              <a:rPr b="1" i="1" lang="en-US" sz="4000" spc="-1" strike="noStrike">
                <a:solidFill>
                  <a:srgbClr val="a886e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4000"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Ин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9280" y="228240"/>
            <a:ext cx="39528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Каждый день по дороге в школу мы идём по центральной площади нашего города мимо могил, расположенных на территории  памятника В. И. Ленину.</a:t>
            </a:r>
            <a:r>
              <a:rPr b="0" lang="en-US" sz="2800" spc="-1" strike="noStrike">
                <a:solidFill>
                  <a:srgbClr val="a886e0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40482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то же там похоронен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Чьи эти безымянные могилы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то эти люди, захороненные на привокзальной площади города?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9000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Этот вопрос уже задавали себе ребята нашей школы в 2006 году. 10 «А» класс под руководством Е.Ю.Лебедевой  решил узнать имена этих люд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Была проделана огромная работа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Они  обращались в архивы, делали запросы, встречались со старожилами го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 2006 году ребята узнал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нформация Ульяновского областного отделения всероссийского общества охраны памятников истории и культу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 захоронении известно следующе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марте 1919 г. в нем  похоронены бойцы    Петроградского железнодорожного отряда, стоявшего в Инзе, погибшие при подавлении контрреволюционного кулацкого восстания: петроградские рабочие Николай Сивяков, Василий Давыдов и житель с. Аргаш Дружин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же, в братской могиле захоронены 4 капсулы  с прахом инзенцев - героев Гражданской войн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положительно, один из них – красноармеец Петр Рыж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7000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22136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же в этой могиле похоронен Евко Николай Федорович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иколай Федорович Евко долгое время являлся начальником Локомотивного депо ст. Инза, а также был участником гражданской войны 1917 – 1922 годов. Этот человек был застрелен на центральной  площади нашего города террористами во главе с некто Черновым. Так как Николай Федорович непосредственно участвовал в войне. 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ложил большой вклад в формирование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нзенской стрелковой дивизии под командованием Я.Лациса, то его, как почетного гражданина города, похоронили н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центральной площади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нзы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де позднее был воздвигнут памятник В. И. Ленин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19560" cy="5977080"/>
          </a:xfrm>
          <a:prstGeom prst="rect">
            <a:avLst/>
          </a:prstGeom>
          <a:ln w="0">
            <a:noFill/>
          </a:ln>
        </p:spPr>
      </p:pic>
    </p:spTree>
  </p:cSld>
  <p:transition advTm="30000"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11:54Z</dcterms:created>
  <dc:creator>User</dc:creator>
  <dc:description/>
  <dc:language>en-US</dc:language>
  <cp:lastModifiedBy>User</cp:lastModifiedBy>
  <dcterms:modified xsi:type="dcterms:W3CDTF">2015-02-06T20:34:56Z</dcterms:modified>
  <cp:revision>7</cp:revision>
  <dc:subject/>
  <dc:title>Доброе дело класса</dc:title>
</cp:coreProperties>
</file>