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15.png" ContentType="image/png"/>
  <Override PartName="/ppt/media/image3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FD97E8-5835-4996-AF96-26D6E74E5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623157-D21F-4525-9465-CC8CA3985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3B0281-117E-4AC7-98A2-F6833C5F7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95C385-0ED0-4229-A303-D61DA371D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8C0AC-EE01-4436-83E3-894267515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E7BA4-CF62-48E8-835A-434316DED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524DC-F43D-49E5-8339-618202D09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F1056-D4DB-46C1-8FA3-06E99422B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5351D-CE69-49D1-BDA5-B7783968F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2516E-6FC8-4C0C-AB6C-5DBB3154D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A334A-04EF-4BBA-A08D-F6768023B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7158F1-17CB-4E25-96B1-BD7E56D35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E5BBD-CFB9-4DFF-A060-9DDB155CE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4A784-D74D-478B-904E-4352B4CBA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FA7AB-C620-440D-B998-6B8B81344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13D2E-05B1-4074-AD20-E4CD4E18E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33410-844B-430C-B7AF-3BB78CD2B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B709AB-D669-413C-914E-14EC2EF90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6BCE0F-F17B-42BA-85BF-090D8DE51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91DD6C-8266-415A-9564-F391FD6AD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7E38FD-8596-44C9-802B-EEEBB1868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DFB4E9-1F77-4314-9A10-2745DD572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E19DB3-9DDD-4FAC-BD96-6B9D1F5DE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8F302F-5C30-467D-BA52-1C30F3590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ADCC6-8F31-4B5C-9EEF-872D7753482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1B6E7-1D68-443F-8934-8089B61C183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24000" y="90792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5e5ff"/>
                </a:solidFill>
                <a:latin typeface="Monotype Corsiva"/>
              </a:rPr>
              <a:t>Доброе дело класса</a:t>
            </a:r>
            <a:endParaRPr b="1" lang="en-US" sz="7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1320" y="2565000"/>
            <a:ext cx="85914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otype Corsiva"/>
              </a:rPr>
              <a:t>МОУ Инзенская средняя общеобразовательная школа № 4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Monotype Corsiva"/>
              </a:rPr>
              <a:t>10 «Б» класс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otype Corsiva"/>
              </a:rPr>
              <a:t>Инза. 2012 г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advTm="7000"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98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98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898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898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0256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68360" y="404280"/>
            <a:ext cx="8136000" cy="619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cc"/>
                </a:solidFill>
                <a:latin typeface="Garamond"/>
              </a:rPr>
              <a:t>Итак, имена героев известны. Материалы, это подтверждающие, хранятся в нашей школе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cc"/>
                </a:solidFill>
                <a:latin typeface="Garamond"/>
              </a:rPr>
              <a:t>В 2006 году ученики встречались с местными властями, получили их обещания восстановить мемориальную доску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cc"/>
                </a:solidFill>
                <a:latin typeface="Garamond"/>
              </a:rPr>
              <a:t>Прошло 6 лет…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cc"/>
                </a:solidFill>
                <a:latin typeface="Garamond"/>
              </a:rPr>
              <a:t>Захоронение на центральной площади города по-прежнему безымянно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advTm="19000">
    <p:push dir="r"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2" dur="8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3" dur="8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4" dur="8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4" dur="8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5" dur="8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6" dur="8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301680" y="691920"/>
            <a:ext cx="8540640" cy="54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Наш класс в рамках акции «Доброе дело» поставил перед собой задачу вновь привлечь внимание учащихся нашей школы, общественности, властей к проблеме  безымянного захоронения на центральной площади нашего города  и добиться восстановления мемориальной доски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Мы назвали это дело «Забытые имена»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advTm="17000">
    <p:strips dir="rd"/>
  </p:transition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Что  же  делать?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Провести социальный опрос среди учащихся нашей школы о проблеме безымянного захоронения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Провести лекторий «Забытые имена» для учащихся нашей школы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Направить письмо в районную газету «Вперед» с обращением к общественности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Встретиться с представителями власти с просьбой оказания содействия в установлении мемориальной доски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advTm="19000">
    <p:wedge/>
  </p:transition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0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768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2" dur="768" fill="hold"/>
                                        <p:tgtEl>
                                          <p:spTgt spid="12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6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64" dur="768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6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66" dur="768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6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Кто будет делать?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79280" y="765000"/>
            <a:ext cx="878544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Проведение социального опроса- Поваров Влад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Сбор и подготовка устного материала для лектория – Хозянина Анастасия, Лыдина Мария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Подготовка компьютерной презентации, сопровождающей лекторий – Лыдин Николай, Горничнов Сергей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Подготовка письма в газету «Вперед» - Никифорова Елена и Онищенко Екатерина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Организация встречи с представителями власти – Калмыкова Татьяна, Симоненко Юрий  при помощи классного руководителя Старостиной Ю.А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Фотосъемка- Дворцов Максим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advTm="28000">
    <p:wedge/>
  </p:transition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0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768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3" dur="768" fill="hold"/>
                                        <p:tgtEl>
                                          <p:spTgt spid="12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0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05" dur="768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0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07" dur="768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0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5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39640" y="2708280"/>
            <a:ext cx="8229600" cy="12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Мы действуем.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0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7920"/>
            <a:ext cx="9144000" cy="685008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937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2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Провели социальный опрос.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595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55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Вопросы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5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1). Как Вы считаете, важно ли в настоящее время знать историю своего города?  (да, нет.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5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2). Слышали ли Вы о захоронении на центральной площади города? (да, нет.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5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3). Вы знаете, кто там захоронен? (да, нет.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5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4). Считаете ли Вы необходимым восстановление имен захороненных и установление мемориальной доски? (да, нет.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5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Результаты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5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Опрошено 295 человек ( учащиеся 7-11 кл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54400" indent="-5544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Garamond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Да – 290 чел., нет – 5 чел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54400" indent="-5544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Garamond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Да – 20 чел, нет – 266 чел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54400" indent="-5544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Garamond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Да – 1 чел., нет – 294 чел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54400" indent="-5544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Garamond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Да – 290 чел., нет – 5 чел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5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Выводы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5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1) Большинство учащихся считают важным знать историю своего города (99,8 %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5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2) Большинство учащихся не слышали о безымянном захоронении (99, 4%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5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3) Большинство не знают имен захороненных (99,9%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5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4)99,8 % необходимым считают восстановление имен захороненных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advTm="54000">
    <p:wipe dir="d"/>
  </p:transition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0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898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898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10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898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898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10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898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10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898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1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898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1000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898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10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898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1000"/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898" fill="hold"/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1000"/>
                                        <p:tgtEl>
                                          <p:spTgt spid="1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1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898" fill="hold"/>
                                        <p:tgtEl>
                                          <p:spTgt spid="1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1000"/>
                                        <p:tgtEl>
                                          <p:spTgt spid="1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1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898" fill="hold"/>
                                        <p:tgtEl>
                                          <p:spTgt spid="1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1000"/>
                                        <p:tgtEl>
                                          <p:spTgt spid="1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1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898" fill="hold"/>
                                        <p:tgtEl>
                                          <p:spTgt spid="1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3" dur="1000"/>
                                        <p:tgtEl>
                                          <p:spTgt spid="13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13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898" fill="hold"/>
                                        <p:tgtEl>
                                          <p:spTgt spid="13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" dur="1000"/>
                                        <p:tgtEl>
                                          <p:spTgt spid="13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13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898" fill="hold"/>
                                        <p:tgtEl>
                                          <p:spTgt spid="13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9" dur="1000"/>
                                        <p:tgtEl>
                                          <p:spTgt spid="13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13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898" fill="hold"/>
                                        <p:tgtEl>
                                          <p:spTgt spid="13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7" dur="1000"/>
                                        <p:tgtEl>
                                          <p:spTgt spid="13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3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898" fill="hold"/>
                                        <p:tgtEl>
                                          <p:spTgt spid="13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95280" y="1699920"/>
            <a:ext cx="8229600" cy="30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Подготовили и провели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лекторий  «Забытые имена»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4680"/>
            <a:ext cx="9144000" cy="68533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0" y="7920"/>
            <a:ext cx="9144000" cy="685008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008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4"/>
          <a:stretch/>
        </p:blipFill>
        <p:spPr>
          <a:xfrm>
            <a:off x="0" y="7920"/>
            <a:ext cx="9144000" cy="6850080"/>
          </a:xfrm>
          <a:prstGeom prst="rect">
            <a:avLst/>
          </a:prstGeom>
          <a:ln w="0">
            <a:noFill/>
          </a:ln>
        </p:spPr>
      </p:pic>
    </p:spTree>
  </p:cSld>
  <p:transition advTm="14000">
    <p:push dir="r"/>
  </p:transition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4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4788000" y="0"/>
            <a:ext cx="4356000" cy="667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Написали письмо в редакцию районной газеты «Вперед», в котором мы обратились к общественности с просьбой оказать содействие в установлении мемориальной доски на обелиске над безымянным захоронением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Письмо «Имена героев» было опубликовано в рубрике «Почта редакции» в № 5 (10599) от 3 февраля 2012 г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53080" cy="6858000"/>
          </a:xfrm>
          <a:prstGeom prst="rect">
            <a:avLst/>
          </a:prstGeom>
          <a:ln w="19080">
            <a:solidFill>
              <a:srgbClr val="000514"/>
            </a:solidFill>
            <a:miter/>
          </a:ln>
        </p:spPr>
      </p:pic>
    </p:spTree>
  </p:cSld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9640" y="242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Встретились с представителями власти.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4680"/>
            <a:ext cx="9144000" cy="6850080"/>
          </a:xfrm>
          <a:prstGeom prst="rect">
            <a:avLst/>
          </a:prstGeom>
          <a:ln w="0">
            <a:noFill/>
          </a:ln>
        </p:spPr>
      </p:pic>
    </p:spTree>
  </p:cSld>
  <p:transition advTm="4000">
    <p:strips dir="rd"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68360" y="1196640"/>
            <a:ext cx="8424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Monotype Corsiva"/>
              </a:rPr>
              <a:t>Народ умирает, когда становится населением. А населением он становится тогда, когда забывает свою историю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otype Corsiv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otype Corsiva"/>
              </a:rPr>
              <a:t>                         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Monotype Corsiva"/>
              </a:rPr>
              <a:t>Ф. Абрамов (русский писатель).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advTm="9000">
    <p:wipe dir="d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" dur="8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" dur="8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" dur="8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" dur="8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" dur="8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" dur="8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4427280" y="260280"/>
            <a:ext cx="471636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Мы  обсудили проблему безымянного захоронения на центральной площади города с главой Администрации МО «Инзенское городское поселение»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В.А.Федотовым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,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главой муниципального образования «Инзенское городское поселение»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С.Н.Рауткиным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,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начальником организационно-правового отдела Администрации МО «Инзенское городское поселение»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А.В.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Зубок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179280" y="333360"/>
            <a:ext cx="4294440" cy="6192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6" dur="indefinite" restart="never" nodeType="tmRoot">
          <p:childTnLst>
            <p:seq>
              <p:cTn id="557" dur="indefinite" nodeType="mainSeq">
                <p:childTnLst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395280" y="475920"/>
            <a:ext cx="829152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 algn="ctr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Мы очень рады, что представители власти живо заинтересовались поставленной проблемой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 algn="ctr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Мы услышали обещание обсудить этот вопрос на ближайшем заседании Совета депутатов и не только выделить средства на установку мемориальной доски, но и вынести на обсуждение общественности вопрос создания  на центральной площади города мемориальной зоны либо перезахоронения героев гражданской войны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advTm="19000">
    <p:strips dir="rd"/>
  </p:transition>
  <p:timing>
    <p:tnLst>
      <p:par>
        <p:cTn id="576" dur="indefinite" restart="never" nodeType="tmRoot">
          <p:childTnLst>
            <p:seq>
              <p:cTn id="577" dur="indefinite" nodeType="mainSeq">
                <p:childTnLst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457200" y="188640"/>
            <a:ext cx="822960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Мы , со своей стороны обещаем, что будем продолжать работу над поставленной задачей и реализовывать предложения, которые мы получили от представителей власти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 algn="ctr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Мы планируем разместить известную нам информацию на  официальном сайте  Администрации МО «Инзенское городское поселение»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 algn="ctr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Продолжить работу лектория «Забытые имена» в стенах школы , а также для более широкой общественности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 algn="ctr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Пригласить Инзенское телевидение с целью привлечение внимания к этой проблеме самого широкого круга жителей нашего города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588" dur="indefinite" restart="never" nodeType="tmRoot">
          <p:childTnLst>
            <p:seq>
              <p:cTn id="589" dur="indefinite" nodeType="mainSeq">
                <p:childTnLst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e5ff"/>
                </a:solidFill>
                <a:latin typeface="Garamond"/>
              </a:rPr>
              <a:t>Дело еще не завершено. </a:t>
            </a:r>
            <a:br>
              <a:rPr sz="4400"/>
            </a:br>
            <a:r>
              <a:rPr b="0" lang="en-US" sz="4400" spc="-1" strike="noStrike">
                <a:solidFill>
                  <a:srgbClr val="e5e5ff"/>
                </a:solidFill>
                <a:latin typeface="Garamond"/>
              </a:rPr>
              <a:t>Многое ещё предстоит сделать.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628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Сколько дел - и те и эти,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Много разных дел на свете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Что тебе дела чужие –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Принимайся за своё!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Труд народу отдавай-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Пусть цветёт родимый край!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Мчатся песни- те и эти,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Много песен есть на свете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Что тебе чужие песни,-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Пой родную от души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Край цветёт, когда народ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Песню прадедов поёт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advTm="18000">
    <p:wedge/>
  </p:transition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0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768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21" dur="768" fill="hold"/>
                                        <p:tgtEl>
                                          <p:spTgt spid="14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2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3" dur="768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2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25" dur="768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2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1" dur="10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2" dur="1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1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6" dur="10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7" dur="10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1" dur="10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2" dur="10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10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6" dur="100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7" dur="10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10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1" dur="1000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10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6" dur="1000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7" dur="10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10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3" dur="1000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4" dur="1000" fill="hold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1000" fill="hold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8" dur="1000"/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9" dur="1000" fill="hold"/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1000" fill="hold"/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3" dur="1000"/>
                                        <p:tgtEl>
                                          <p:spTgt spid="1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4" dur="1000" fill="hold"/>
                                        <p:tgtEl>
                                          <p:spTgt spid="1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1000" fill="hold"/>
                                        <p:tgtEl>
                                          <p:spTgt spid="1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8" dur="1000"/>
                                        <p:tgtEl>
                                          <p:spTgt spid="1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9" dur="1000" fill="hold"/>
                                        <p:tgtEl>
                                          <p:spTgt spid="1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1000" fill="hold"/>
                                        <p:tgtEl>
                                          <p:spTgt spid="1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3" dur="1000"/>
                                        <p:tgtEl>
                                          <p:spTgt spid="1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4" dur="1000" fill="hold"/>
                                        <p:tgtEl>
                                          <p:spTgt spid="1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1000" fill="hold"/>
                                        <p:tgtEl>
                                          <p:spTgt spid="1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8" dur="1000"/>
                                        <p:tgtEl>
                                          <p:spTgt spid="1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9" dur="1000" fill="hold"/>
                                        <p:tgtEl>
                                          <p:spTgt spid="1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1000" fill="hold"/>
                                        <p:tgtEl>
                                          <p:spTgt spid="1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Мы благодарим нашего классного руководителя Старостину Ю.А., а также родителей Лыдину Е.В., Федорову Н.В., Поварову С.В., Потавчеву И.В., Горничнову Г.В. И др. за помощь и понимание в реализации нашего «Доброго дела»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691" dur="indefinite" restart="never" nodeType="tmRoot">
          <p:childTnLst>
            <p:seq>
              <p:cTn id="692" dur="indefinite" nodeType="mainSeq">
                <p:childTnLst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9640" y="242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Спасибо за внимание!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p:transition advTm="2000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301680" y="1196640"/>
            <a:ext cx="854064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Чтобы наша страна  развивалась, двигалась вперед, необходимо помнить о прошлом своего народа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Мы не остаемся в стороне. Нам интересна история своего города, края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Нам интересны судьбы людей, когда-либо живших и живущих ныне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Инз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9280" y="907920"/>
            <a:ext cx="820116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886e0"/>
                </a:solidFill>
                <a:latin typeface="Garamond"/>
              </a:rPr>
              <a:t>Стремительно движется время. Бег его не остановить, не повернуть вспять. Но  можно замедлить его движение, оставляя  в памяти народной его легендарные события ,</a:t>
            </a:r>
            <a:br>
              <a:rPr sz="3600"/>
            </a:br>
            <a:r>
              <a:rPr b="1" lang="en-US" sz="3600" spc="-1" strike="noStrike">
                <a:solidFill>
                  <a:srgbClr val="a886e0"/>
                </a:solidFill>
                <a:latin typeface="Garamond"/>
              </a:rPr>
              <a:t>   собирая по крупицам в одно большое целое – наше прошлое, а значит и наше будущее.</a:t>
            </a:r>
            <a:r>
              <a:rPr b="1" i="1" lang="en-US" sz="4000" spc="-1" strike="noStrike">
                <a:solidFill>
                  <a:srgbClr val="a886e0"/>
                </a:solidFill>
                <a:latin typeface="Garamond"/>
              </a:rPr>
              <a:t> </a:t>
            </a:r>
            <a:br>
              <a:rPr sz="4000"/>
            </a:b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p:transition advTm="14000">
    <p:push dir="r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Инз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859280" y="228240"/>
            <a:ext cx="3952800" cy="622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a886e0"/>
                </a:solidFill>
                <a:latin typeface="Garamond"/>
              </a:rPr>
              <a:t>	</a:t>
            </a:r>
            <a:r>
              <a:rPr b="1" i="1" lang="en-US" sz="3600" spc="-1" strike="noStrike">
                <a:solidFill>
                  <a:srgbClr val="a886e0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a886e0"/>
                </a:solidFill>
                <a:latin typeface="Garamond"/>
              </a:rPr>
              <a:t>Каждый день по дороге в школу мы идём по центральной площади нашего города мимо могил, расположенных на территории  памятника В. И. Ленину.</a:t>
            </a:r>
            <a:r>
              <a:rPr b="0" lang="en-US" sz="2800" spc="-1" strike="noStrike">
                <a:solidFill>
                  <a:srgbClr val="a886e0"/>
                </a:solidFill>
                <a:latin typeface="Monotype Corsiva"/>
              </a:rPr>
              <a:t> 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539640" y="692280"/>
            <a:ext cx="4048200" cy="540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3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4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301680" y="907920"/>
            <a:ext cx="8540640" cy="519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aramond"/>
              </a:rPr>
              <a:t>Кто же там похоронен? 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aramond"/>
              </a:rPr>
              <a:t>Чьи эти безымянные могилы?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4800" spc="-1" strike="noStrike">
                <a:solidFill>
                  <a:srgbClr val="ffffff"/>
                </a:solidFill>
                <a:latin typeface="Garamond"/>
              </a:rPr>
              <a:t>Кто эти люди, захороненные на привокзальной площади города?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Monotype Corsiv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advTm="9000">
    <p:strips dir="rd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Monotype Corsiva"/>
              </a:rPr>
              <a:t>Этот вопрос уже задавали себе ребята нашей школы в 2006 году. 10 «А» класс под руководством Е.Ю.Лебедевой  решил узнать имена этих людей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otype Corsiva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Monotype Corsiva"/>
              </a:rPr>
              <a:t>Была проделана огромная работа.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otype Corsiva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Monotype Corsiva"/>
              </a:rPr>
              <a:t>Они  обращались в архивы, делали запросы, встречались со старожилами города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0" y="7920"/>
            <a:ext cx="9144000" cy="685008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75640"/>
          </a:xfrm>
          <a:prstGeom prst="rect">
            <a:avLst/>
          </a:prstGeom>
          <a:ln w="0">
            <a:noFill/>
          </a:ln>
        </p:spPr>
      </p:pic>
    </p:spTree>
  </p:cSld>
  <p:transition advTm="23000">
    <p:wipe dir="d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898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898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898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В 2006 году ребята узнали.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5280" y="980640"/>
            <a:ext cx="835344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Информация Ульяновского областного отделения всероссийского общества охраны памятников истории и культуры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О захоронении известно следующее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В марте 1919 г. в нем  похоронены бойцы    Петроградского железнодорожного отряда, стоявшего в Инзе, погибшие при подавлении контрреволюционного кулацкого восстания: петроградские рабочие Николай Сивяков, Василий Давыдов и житель с. Аргаш Дружинин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Также, в братской могиле захоронены 4 капсулы  с прахом инзенцев - героев Гражданской войны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предположительно, один из них – красноармеец Петр Рыжих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advTm="27000">
    <p:strips dir="rd"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643280" y="475920"/>
            <a:ext cx="4221360" cy="59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Также в этой могиле похоронен Евко Николай Федорович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     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Николай Федорович Евко долгое время являлся начальником Локомотивного депо ст. Инза, а также был участником гражданской войны 1917 – 1922 годов. Этот человек был застрелен на центральной  площади нашего города террористами во главе с некто Черновым. Так как Николай Федорович непосредственно участвовал в войне. и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вложил большой вклад в формирование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Инзенской стрелковой дивизии под командованием Я.Лациса, то его, как почетного гражданина города, похоронили на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центральной площади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Инзы,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где позднее был воздвигнут памятник В. И. Ленину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324000" y="404640"/>
            <a:ext cx="4219560" cy="5977080"/>
          </a:xfrm>
          <a:prstGeom prst="rect">
            <a:avLst/>
          </a:prstGeom>
          <a:ln w="0">
            <a:noFill/>
          </a:ln>
        </p:spPr>
      </p:pic>
    </p:spTree>
  </p:cSld>
  <p:transition advTm="30000">
    <p:strips dir="rd"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5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7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0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8T21:11:54Z</dcterms:created>
  <dc:creator>User</dc:creator>
  <dc:description/>
  <dc:language>en-US</dc:language>
  <cp:lastModifiedBy>User</cp:lastModifiedBy>
  <dcterms:modified xsi:type="dcterms:W3CDTF">2015-02-06T20:34:56Z</dcterms:modified>
  <cp:revision>7</cp:revision>
  <dc:subject/>
  <dc:title>Доброе дело класса</dc:title>
</cp:coreProperties>
</file>