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DF6B-735F-439D-99F1-384D6EEDBB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E167-6A6F-487E-9FD5-4FD0FED149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E078-646F-44BC-AEA7-9DE0F2093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E530-AEB7-4B54-A710-407E9340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C785-A226-43ED-BF9B-DC440D0CB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F66F-6753-44EB-B20E-E17AD54B0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510C-B347-4F34-AA17-7DE3D5BC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2C9E-572A-402C-A886-2913504D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CE6A-CBE1-41B3-A74E-DEB63A94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DD8D-9D8C-45B1-9BDA-67131F86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99A1-CC52-43DA-B4F4-CA288649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4F25-FFD2-44CC-87F4-7E4D84CC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316F-E86D-4433-BD30-C6E4AAEE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8F50-C82E-440E-9DBE-F798DD96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CF8D-B479-4765-B87F-4B093B62A9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500040" y="1357200"/>
            <a:ext cx="8358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Прямоугольник 6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27388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333720" y="928800"/>
            <a:ext cx="83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люстрации  взяты  из книги  К.Чуковского «Мойдоды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285840" y="2428920"/>
            <a:ext cx="883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ю состав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КОУ СОШ «Рамонский лицей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икова Татьяна Геннад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3860280" y="521496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3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4" descr="мойдодыр1.bmp"/>
          <p:cNvPicPr/>
          <p:nvPr/>
        </p:nvPicPr>
        <p:blipFill>
          <a:blip r:embed="rId1">
            <a:lum contrast="28000"/>
          </a:blip>
          <a:stretch/>
        </p:blipFill>
        <p:spPr>
          <a:xfrm>
            <a:off x="4282920" y="0"/>
            <a:ext cx="4861080" cy="6572160"/>
          </a:xfrm>
          <a:prstGeom prst="rect">
            <a:avLst/>
          </a:prstGeom>
          <a:ln w="0">
            <a:noFill/>
          </a:ln>
        </p:spPr>
      </p:pic>
      <p:sp>
        <p:nvSpPr>
          <p:cNvPr id="51" name="Блок-схема: перфолента 2"/>
          <p:cNvSpPr/>
          <p:nvPr/>
        </p:nvSpPr>
        <p:spPr>
          <a:xfrm>
            <a:off x="0" y="-428760"/>
            <a:ext cx="4929120" cy="7572600"/>
          </a:xfrm>
          <a:prstGeom prst="flowChartPunchedTap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800080"/>
                </a:solidFill>
                <a:latin typeface="Calibri"/>
                <a:ea typeface="Times New Roman"/>
              </a:rPr>
              <a:t>       </a:t>
            </a:r>
            <a:r>
              <a:rPr b="0" lang="ru-RU" sz="3400" spc="-1" strike="noStrike">
                <a:solidFill>
                  <a:srgbClr val="1f497d"/>
                </a:solidFill>
                <a:latin typeface="Calibri"/>
                <a:ea typeface="Times New Roman"/>
              </a:rPr>
              <a:t>Здравствуйте, ребята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1f497d"/>
                </a:solidFill>
                <a:latin typeface="Calibri"/>
                <a:ea typeface="Times New Roman"/>
              </a:rPr>
              <a:t>    </a:t>
            </a:r>
            <a:r>
              <a:rPr b="0" lang="ru-RU" sz="3400" spc="-1" strike="noStrike">
                <a:solidFill>
                  <a:srgbClr val="1f497d"/>
                </a:solidFill>
                <a:latin typeface="Calibri"/>
                <a:ea typeface="Times New Roman"/>
              </a:rPr>
              <a:t>Все Чуковского читали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1f497d"/>
                </a:solidFill>
                <a:latin typeface="Calibri"/>
                <a:ea typeface="Times New Roman"/>
              </a:rPr>
              <a:t>    </a:t>
            </a:r>
            <a:r>
              <a:rPr b="0" lang="ru-RU" sz="3400" spc="-1" strike="noStrike">
                <a:solidFill>
                  <a:srgbClr val="1f497d"/>
                </a:solidFill>
                <a:latin typeface="Calibri"/>
                <a:ea typeface="Times New Roman"/>
              </a:rPr>
              <a:t>И меня же вы узнали: Я – Великий Умывальник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1f497d"/>
                </a:solidFill>
                <a:latin typeface="Calibri"/>
                <a:ea typeface="Times New Roman"/>
              </a:rPr>
              <a:t>  </a:t>
            </a:r>
            <a:r>
              <a:rPr b="0" lang="ru-RU" sz="3400" spc="-1" strike="noStrike">
                <a:solidFill>
                  <a:srgbClr val="1f497d"/>
                </a:solidFill>
                <a:latin typeface="Calibri"/>
                <a:ea typeface="Times New Roman"/>
              </a:rPr>
              <a:t>Знаменитый Мойдодыр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1f497d"/>
                </a:solidFill>
                <a:latin typeface="Calibri"/>
                <a:ea typeface="Times New Roman"/>
              </a:rPr>
              <a:t>    </a:t>
            </a:r>
            <a:r>
              <a:rPr b="0" lang="ru-RU" sz="3400" spc="-1" strike="noStrike">
                <a:solidFill>
                  <a:srgbClr val="1f497d"/>
                </a:solidFill>
                <a:latin typeface="Calibri"/>
                <a:ea typeface="Times New Roman"/>
              </a:rPr>
              <a:t>Умывальников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1f497d"/>
                </a:solidFill>
                <a:latin typeface="Calibri"/>
                <a:ea typeface="Times New Roman"/>
              </a:rPr>
              <a:t>    </a:t>
            </a:r>
            <a:r>
              <a:rPr b="0" lang="ru-RU" sz="3400" spc="-1" strike="noStrike">
                <a:solidFill>
                  <a:srgbClr val="1f497d"/>
                </a:solidFill>
                <a:latin typeface="Calibri"/>
                <a:ea typeface="Times New Roman"/>
              </a:rPr>
              <a:t>начальник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1f497d"/>
                </a:solidFill>
                <a:latin typeface="Calibri"/>
                <a:ea typeface="Times New Roman"/>
              </a:rPr>
              <a:t>    </a:t>
            </a:r>
            <a:r>
              <a:rPr b="0" lang="ru-RU" sz="3400" spc="-1" strike="noStrike">
                <a:solidFill>
                  <a:srgbClr val="1f497d"/>
                </a:solidFill>
                <a:latin typeface="Calibri"/>
                <a:ea typeface="Times New Roman"/>
              </a:rPr>
              <a:t>и   мочалок командир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2286000" y="285840"/>
            <a:ext cx="422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Правило №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Волна 2" descr=""/>
          <p:cNvPicPr/>
          <p:nvPr/>
        </p:nvPicPr>
        <p:blipFill>
          <a:blip r:embed="rId1"/>
          <a:stretch/>
        </p:blipFill>
        <p:spPr>
          <a:xfrm>
            <a:off x="407880" y="706320"/>
            <a:ext cx="8182080" cy="315936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1022760" y="1928880"/>
            <a:ext cx="751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Calibri"/>
              </a:rPr>
              <a:t>Ежедневно вставай в одно и то же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376092"/>
                </a:solidFill>
                <a:latin typeface="Calibri"/>
              </a:rPr>
              <a:t>и делай заряд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Волна 4"/>
          <p:cNvSpPr/>
          <p:nvPr/>
        </p:nvSpPr>
        <p:spPr>
          <a:xfrm>
            <a:off x="285840" y="4286160"/>
            <a:ext cx="8286840" cy="2571840"/>
          </a:xfrm>
          <a:custGeom>
            <a:avLst/>
            <a:gdLst>
              <a:gd name="textAreaLeft" fmla="*/ 0 w 8286840"/>
              <a:gd name="textAreaRight" fmla="*/ 8286840 w 8286840"/>
              <a:gd name="textAreaTop" fmla="*/ 642960 h 2571840"/>
              <a:gd name="textAreaBottom" fmla="*/ 1928880 h 25718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1000080" y="5143680"/>
            <a:ext cx="763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Утром надо умываться, чистить зубы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мыть уши и ше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3143160" y="3714840"/>
            <a:ext cx="32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Правило №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4" descr="Грязнулька.bmp"/>
          <p:cNvPicPr/>
          <p:nvPr/>
        </p:nvPicPr>
        <p:blipFill>
          <a:blip r:embed="rId1">
            <a:lum contrast="28000"/>
          </a:blip>
          <a:stretch/>
        </p:blipFill>
        <p:spPr>
          <a:xfrm>
            <a:off x="3983040" y="0"/>
            <a:ext cx="516096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Блок-схема: процесс 2"/>
          <p:cNvSpPr/>
          <p:nvPr/>
        </p:nvSpPr>
        <p:spPr>
          <a:xfrm>
            <a:off x="0" y="0"/>
            <a:ext cx="4214880" cy="6858000"/>
          </a:xfrm>
          <a:prstGeom prst="flowChartProcess">
            <a:avLst/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Ах – ах – ах! Какое плать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Да ведь не на что смотре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Я б такое не над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У меня – другое дел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От борща пятно большо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Вот сметана, вот жаркое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Вот мороженое 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Это в луже посид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Это клей, а здесь черни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Согласитесь, очень ми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Я наряд свой обожа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На другой не променя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3"/>
          <p:cNvSpPr/>
          <p:nvPr/>
        </p:nvSpPr>
        <p:spPr>
          <a:xfrm>
            <a:off x="714240" y="142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Правило №3;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Блок-схема: перфолента 1"/>
          <p:cNvSpPr/>
          <p:nvPr/>
        </p:nvSpPr>
        <p:spPr>
          <a:xfrm>
            <a:off x="357120" y="0"/>
            <a:ext cx="7858080" cy="5000760"/>
          </a:xfrm>
          <a:prstGeom prst="flowChartPunchedTape">
            <a:avLst/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1571760" y="1428840"/>
            <a:ext cx="5643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Всегда мой руки перед едой, после работы, после посещения туалета и после игры с животны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Блок-схема: перфолента 2"/>
          <p:cNvSpPr/>
          <p:nvPr/>
        </p:nvSpPr>
        <p:spPr>
          <a:xfrm>
            <a:off x="714240" y="4143240"/>
            <a:ext cx="7429680" cy="2428920"/>
          </a:xfrm>
          <a:prstGeom prst="flowChartPunchedTap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1428840" y="4857840"/>
            <a:ext cx="55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Ухаживай за ногт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Блок-схема: перфолента 1"/>
          <p:cNvSpPr/>
          <p:nvPr/>
        </p:nvSpPr>
        <p:spPr>
          <a:xfrm>
            <a:off x="214200" y="0"/>
            <a:ext cx="8643960" cy="4643280"/>
          </a:xfrm>
          <a:prstGeom prst="flowChartPunchedTape">
            <a:avLst/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Блок-схема: перфолента 2"/>
          <p:cNvSpPr/>
          <p:nvPr/>
        </p:nvSpPr>
        <p:spPr>
          <a:xfrm>
            <a:off x="357120" y="3071880"/>
            <a:ext cx="8429760" cy="3786120"/>
          </a:xfrm>
          <a:prstGeom prst="flowChartPunchedTap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ctr" pos="34560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857160" y="285840"/>
            <a:ext cx="35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Правило №5;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95440" y="1500120"/>
            <a:ext cx="7337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Перед сном нужно проветрить комна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умыться, почистить зуб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519840" y="4214880"/>
            <a:ext cx="680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Пользуйся носовым платко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следи, чтобы нос был всегда чист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Блок-схема: перфолента 1"/>
          <p:cNvSpPr/>
          <p:nvPr/>
        </p:nvSpPr>
        <p:spPr>
          <a:xfrm>
            <a:off x="428760" y="0"/>
            <a:ext cx="8358120" cy="4429080"/>
          </a:xfrm>
          <a:prstGeom prst="flowChartPunchedTape">
            <a:avLst/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2057400" indent="-228600"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457200"/>
                <a:tab algn="ctr" pos="34560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Блок-схема: перфолента 2"/>
          <p:cNvSpPr/>
          <p:nvPr/>
        </p:nvSpPr>
        <p:spPr>
          <a:xfrm>
            <a:off x="214200" y="4000680"/>
            <a:ext cx="8643960" cy="2857320"/>
          </a:xfrm>
          <a:prstGeom prst="flowChartPunchedTape">
            <a:avLst/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457200"/>
                <a:tab algn="ctr" pos="34560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642960" y="1357200"/>
            <a:ext cx="77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ctr" pos="34560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  <a:ea typeface="Times New Roman"/>
              </a:rPr>
              <a:t>Содержи в порядке воло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ctr" pos="34560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  <a:ea typeface="Times New Roman"/>
              </a:rPr>
              <a:t>Они должны быть аккурат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ctr" pos="34560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  <a:ea typeface="Times New Roman"/>
              </a:rPr>
              <a:t>подстрижены или заплетены в ко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785880" y="4857840"/>
            <a:ext cx="700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ctr" pos="34560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  <a:ea typeface="Times New Roman"/>
              </a:rPr>
              <a:t>При кашле и чихании отворачива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ctr" pos="34560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  <a:ea typeface="Times New Roman"/>
              </a:rPr>
              <a:t>прикрывая р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1071720" y="0"/>
            <a:ext cx="39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Правило №7;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0" y="1270440"/>
            <a:ext cx="5286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34560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Я увидел свой портр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560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Отошёл – портрета нет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560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2714760" y="2213640"/>
            <a:ext cx="5929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ctr" pos="34560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ctr" pos="34560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3214800" y="2722320"/>
            <a:ext cx="5214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34560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  <a:ea typeface="Times New Roman"/>
              </a:rPr>
              <a:t>Лёг карман и карау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560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  <a:ea typeface="Times New Roman"/>
              </a:rPr>
              <a:t>Рёву, плаксу и грязну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560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  <a:ea typeface="Times New Roman"/>
              </a:rPr>
              <a:t>Им утру потоки слёз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560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  <a:ea typeface="Times New Roman"/>
              </a:rPr>
              <a:t>Не забуду и про н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285840" y="4579920"/>
            <a:ext cx="5572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34560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Целых 25 зуб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560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Для кудрей и хохол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560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И под каждым под зуб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560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Лягут волосы рядком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2857680" y="428760"/>
            <a:ext cx="42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933c"/>
                </a:solidFill>
                <a:latin typeface="Calibri"/>
              </a:rPr>
              <a:t>Загад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5143680" y="5143680"/>
            <a:ext cx="328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Зерка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Носовой пла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Расчё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7.85945E-007 L -0.04722 -0.45076 E">
                                      <p:cBhvr>
                                        <p:cTn id="156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604 -0.19903 E">
                                      <p:cBhvr>
                                        <p:cTn id="160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1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 -0.0506 0.075 -0.08255 0.125 -0.08255 C 0.175 -0.08255 0.22 -0.0506 0.25 0 C 0.22 0.0506 0.175 0.08255 0.125 0.08255 C 0.075 0.08255 0.03 0.0506 0 0 Z">
                                      <p:cBhvr>
                                        <p:cTn id="164" dur="2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4" descr="Чистый типа.bmp"/>
          <p:cNvPicPr/>
          <p:nvPr/>
        </p:nvPicPr>
        <p:blipFill>
          <a:blip r:embed="rId1">
            <a:lum contrast="28000"/>
          </a:blip>
          <a:stretch/>
        </p:blipFill>
        <p:spPr>
          <a:xfrm>
            <a:off x="0" y="0"/>
            <a:ext cx="510696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Вертикальный свиток 2"/>
          <p:cNvSpPr/>
          <p:nvPr/>
        </p:nvSpPr>
        <p:spPr>
          <a:xfrm>
            <a:off x="3143160" y="0"/>
            <a:ext cx="7000920" cy="6858000"/>
          </a:xfrm>
          <a:prstGeom prst="vertic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ctr" pos="34560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Times New Roman"/>
              </a:rPr>
              <a:t>           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Да здравствует мыло душистое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560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       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и полотенце пушисто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560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       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И зубной порошок, и густо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560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       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гребешок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560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        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Давайте же мыться, плескаться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560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        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Купаться, нырять, кувыркатьс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560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                     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В ушате, корыте, лохани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560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                     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В реке, ручейке, океан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560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                     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И в ванне, и в бане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560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                      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Всегда и везде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560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Times New Roman"/>
              </a:rPr>
              <a:t>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Вечная слава воде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ontinent</cp:lastModifiedBy>
  <dcterms:modified xsi:type="dcterms:W3CDTF">2014-12-30T19:16:00Z</dcterms:modified>
  <cp:revision>18</cp:revision>
  <dc:subject/>
  <dc:title>Слайд 1</dc:title>
</cp:coreProperties>
</file>