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31C-4FD2-4DFE-A2D1-E62155CB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520-2366-4214-94C8-4C8A6173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91D-6247-491D-B837-B4C59F41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703-A9CC-4F08-92F2-8665EF5B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2F84-7056-415A-9603-4E4EEBDF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49B9-8DCB-4A5C-AE42-46A4374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9CB1-9749-4F83-B166-42070D4B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50E4-569D-4377-8B7C-865272E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3FC4-B06D-4717-BB9A-92E3E49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1D57-3F22-4B53-ABBE-8836994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25D-7CA6-4751-8E64-FEF580B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66F-FBA9-4144-A12C-764817A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B77F-F2F6-4C61-88DD-619CAF7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849-3806-42F7-83DE-1E7D02A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A1DE-3B77-4059-BBE0-33DB354F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921F-2507-41B1-9FDB-C2CE4F4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A591-8D6C-45D5-8932-06D8BCB0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C8536-7FB9-4D25-81EC-2606BA4C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ACE72-88A8-4595-A1A4-CEBA21B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9582C-F386-43CE-87D6-1B1F34A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D0EAB-3E90-4569-B5BB-3B3B67A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74313-9A2A-47D8-984A-2D6F361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29C-DFE3-4003-9960-2967151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66636-99F8-4852-B73E-8C5E256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C7F4C-E356-4339-A9B5-15D60438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51F7E-6440-4C2D-B81E-717EE17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0EF7F-0203-4916-B9E2-D0AA1CD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1685E-4989-4F74-9285-A1D0D370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B7394-F18C-4BBE-A51B-DB054E0A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4DFF0-CBA8-4006-8DA8-54D55DCD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7330-2676-44E3-85F5-43659AD5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D107-0F59-40C5-B7B5-63D2CC0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60EE-CE60-4C7C-AA36-EC699056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45E-CAFE-41AA-8E04-0994D19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CC71-B8CE-426B-9A4E-44194435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3BF8-AE51-425D-8759-98A3C30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601D-6CAD-44D8-8DE9-8F0D96E8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D6FD-F0B9-4B2B-90B6-EBE8893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7B61-E754-40F9-9ADA-3B06E0D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6780-79D6-467C-A009-692454E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3707-3492-40B2-9F36-2ED98E4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27D6-1ECD-450B-A5D3-5936A153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8637-1A14-4523-961A-BB090A81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731B6-BBF4-43C6-B795-D437F127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EC8-3383-4EE3-81C6-F5F53C4B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65122-CC1A-47FD-9AF9-B0DB279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69AAA-0A36-4A5D-A7C5-9305098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90B7B-1B6B-4655-A43D-71BD37E3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489C0-6E85-44F6-AD54-E50A070A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8390D-FA54-4FE9-80CE-37A70838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A4206-5F0D-4DFD-BAE0-A18A27A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EC9ED-042E-42BE-8C24-0B07077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0964A-61AD-4DE0-86D8-275AA60B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23C21-5491-4311-A608-C6C3152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AB5A5-D86D-4197-AE08-373BC70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6A0-FA98-449D-A9B2-83FEA018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CA9F5-42B5-4AF0-8FFA-411B9DE7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DDA32-E221-444F-89C4-BF31792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21B88-5BF4-4A78-9FC1-8B9DAB2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8B2F9-F710-4470-A8E5-01F816F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748AA-AD9F-4A2F-9BA5-CAF7BDE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3B34A-EB48-46F1-8088-4AE823D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36E7C-6590-4636-A16D-3F9983EE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EEA3B-47E1-4A88-B398-192A4EE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9A357-D184-4ABC-ABB6-5551822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B4765-7FF6-4C89-81D5-813C997F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F75-31A6-4193-8E70-4DDCBD4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39078-3213-4351-B2BD-86A54A8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0445D-37A6-4483-9E86-91C0F49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8676D-7D10-47AC-A4BE-9FF73FAC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93F21-A11B-4679-9217-E060F352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C7D8E-7FDB-4E55-961A-08D7F047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F2054-1FAE-4221-A533-4D18BD70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8D647-9EAD-4E06-8F0F-BAE90C62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9A746-DF83-41EB-BE5E-64D26850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2486A-99C9-45FB-9E94-56C0F0C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CF970-5778-4E8B-B2C3-32D4FA7F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052-2184-4C57-9683-D830ED4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72185-4905-4A98-81AC-5D48E32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7673C-2447-4C55-9751-FE3E582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088CE-2C8D-4192-B035-071C2E8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8782B-B331-4641-8058-0C4E2236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ED3FD-7B5E-4B28-BB81-05AC02DA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CF6-3E1F-48CD-A7E7-B39A7E5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5DC7-BB6A-4EB3-9097-CCF4678B3A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20CE-7087-487C-BD58-0905B82BBA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6D51-1265-4C1C-AC3D-115DBC1E60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BB00-9F0A-4DBD-90C6-73E02149F7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678-4C0A-4957-AF53-DAF90F9C08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6BD-17D7-4502-9B02-6C3A24AE19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E92D-69D1-4488-9141-58E85DA80E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1" i="1" lang="ru-RU" sz="8000" spc="-1" strike="noStrike">
                <a:solidFill>
                  <a:srgbClr val="00b050"/>
                </a:solidFill>
                <a:latin typeface="Century Schoolbook"/>
              </a:rPr>
              <a:t>ДВИЖЕНИЕ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еница 8 б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БОУ гимназии №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батникова Мар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ь Наумова Т.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ПАРАЛЛЕЛЬНЫЙ ПЕРЕНОС И ЕГО СВОЙСТ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51920" y="11426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араллельный перенос определяется как преобразование, при котором точки смещаются в одном и том же направлении на одно и то же расстояние. При параллельном переносе точки смещаются по параллельным (или совпадающим) прямым на одно и то же расстояние. При параллельном переносе прямая переходит в параллельную прямую (или в себ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Фигура, имеющая форму буквы L 5"/>
          <p:cNvSpPr/>
          <p:nvPr/>
        </p:nvSpPr>
        <p:spPr>
          <a:xfrm>
            <a:off x="2057400" y="5029200"/>
            <a:ext cx="838080" cy="1447920"/>
          </a:xfrm>
          <a:prstGeom prst="pie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Фигура, имеющая форму буквы L 6"/>
          <p:cNvSpPr/>
          <p:nvPr/>
        </p:nvSpPr>
        <p:spPr>
          <a:xfrm>
            <a:off x="3581280" y="4343400"/>
            <a:ext cx="838440" cy="1447920"/>
          </a:xfrm>
          <a:prstGeom prst="pie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 flipV="1">
            <a:off x="2057400" y="4343040"/>
            <a:ext cx="160020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ая соединительная линия 10"/>
          <p:cNvSpPr/>
          <p:nvPr/>
        </p:nvSpPr>
        <p:spPr>
          <a:xfrm flipV="1">
            <a:off x="2514600" y="4495320"/>
            <a:ext cx="15238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ая соединительная линия 12"/>
          <p:cNvSpPr/>
          <p:nvPr/>
        </p:nvSpPr>
        <p:spPr>
          <a:xfrm flipV="1">
            <a:off x="2057400" y="5181120"/>
            <a:ext cx="152388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ая соединительная линия 14"/>
          <p:cNvSpPr/>
          <p:nvPr/>
        </p:nvSpPr>
        <p:spPr>
          <a:xfrm flipV="1">
            <a:off x="2514600" y="5333760"/>
            <a:ext cx="14479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6e5a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entury Schoolbook"/>
              </a:rPr>
              <a:t>СОНАПРАВЛЕННОСТЬ ПОЛУПРЯМЫХ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37720"/>
            <a:ext cx="89154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Две  полупрямые называются одинаково направленными или сонаправленными, если совмещаются параллельным переносом. Если полупрямые а и в одинаково направлены и полупрямые в и с одинаково направлены, то полупрямые а и с тоже одинаково направле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Две полупрямые называются противоположно направленными, если каждая из них одинаково направлена с полупрямой, дополнительной к друг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2133720" y="6400800"/>
            <a:ext cx="4952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ая соединительная линия 8"/>
          <p:cNvSpPr/>
          <p:nvPr/>
        </p:nvSpPr>
        <p:spPr>
          <a:xfrm flipH="1">
            <a:off x="3124080" y="4952880"/>
            <a:ext cx="609840" cy="144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H="1">
            <a:off x="5410080" y="4952880"/>
            <a:ext cx="6098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Schoolbook"/>
              </a:rPr>
              <a:t>РАВЕНСТВО ФИГУР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5192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Две фигуры называются равными, если они движением переводятся одна в другую. Для обозначения равенства фигур используется обычный знак равенства. Запись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F=F`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означает, что фигура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F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равна фигуре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 F`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венство треугольников, определяемое через  их совмещение движением, и равенство, как мы его понимали до сих пор, выражают одно и то ж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-360"/>
            <a:ext cx="838188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Century Schoolbook"/>
              </a:rPr>
              <a:t>Это интересно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282d"/>
                </a:solidFill>
                <a:latin typeface="Century Schoolbook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часть математики, первоначальным предметом которой являются пространственные отношения и формы тел. Геометрия изучает пространственные отношения и формы, отвлекаясь от прочих свойств реальных предметов (плотность, вес, цвет и т. д.). В последующем  развитии предметом геометрии становятся также и другие отношения и формы действительности, сходные с пространственными. В современном  общем смысле геометрия объемлет любые отношения и формы, которые возникают при рассмотрении однородных объектов, явлений, событий вне  их конкретного содержания и которые оказываются сходными с обычны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тояния между функциями, отвлекаясь от того, каковы специальные  свойства этих функций и какие реальные процессы эти функции  описываю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-360" y="0"/>
            <a:ext cx="9448920" cy="6858000"/>
          </a:xfrm>
          <a:prstGeom prst="rect">
            <a:avLst/>
          </a:prstGeom>
          <a:gradFill rotWithShape="0">
            <a:gsLst>
              <a:gs pos="0">
                <a:srgbClr val="ffccb7"/>
              </a:gs>
              <a:gs pos="100000">
                <a:srgbClr val="ffe5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никновение геометрии относится к глубокой древности. Оно было обусловлено    практическими потребностями (измерением земельных участков, объемов тел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ейшие геометрические сведения и понятия были известны еще древним египтянам. Геометрические утверждения формулировались тогда в виде правил, логические доказательства которых либо отсутствовали, либо были примитивными. Начиная с 7 века до нашей эры и до 1 века нашей эры, развитие геометрии происходило в  основном в Древней Греции. Здесь накапливались сведения о  метрических соотношениях в треугольниках, измерениях площадей и объемов, пропорциях и подобии фигур, конических сечениях, задачах на  построение. В то время появились уже сравнительно строгие логические доказательства геометрических утверждений. Собранием известных фактов геометрии и их логической систематизацией явились «Начала» Евклида. В этом сочинении были сформулированы основные положения  (аксиомы) геометрии, из которых при помощи логических рассуждений выводились различные свойства простейших фигур на плоскости и в пространств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-360" y="0"/>
            <a:ext cx="883908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впервые сложились основы аксиоматического метода. Развитие астрономии и геодезии привело к созданию плоской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ерической тригонометрии. Дальнейшее развитие геометрии, вплоть до 17 века, происходило не столь интенсивно. Возрождение наук и искусств в Европе  способствовало развитию геометрии. Теория перспективы, задача которой состояла в изображении тел на плоскости, была в центре внимания художников и архитекторов. Эта потребность привела к зарождению проективной геометрии – раздела геометрии, в котором изучаются свойства фигур, инвариантные относительно так называемых проективных преобразова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712440"/>
            <a:ext cx="81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..Истина оставалась навеки скрытой от рода человеческого, если бы Математика, которая занимается не целями, а только сущностями и свойствами фигур, не указала людям иного образца истин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. Спино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еометрия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отличная логик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ж. Берк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ДВИЖЕНИЕ:</a:t>
            </a:r>
            <a:br>
              <a:rPr sz="2700"/>
            </a:b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Преобразование  фигу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Свойства дви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Симметрия относительно прям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направленность полупрям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венство фигу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ДВИЖ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образование одной фигуры в другую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движение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если оно сохраняет расстояние между точками, т. е. переводит любые две точки Х и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дной фигуры в точки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X`, Y`,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ругой фигуры так, что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XY=X`Y`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-360"/>
            <a:ext cx="838188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еобразование фигу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сли каждую точку данной фигуры сместить каким-нибудь образом, то мы получим новую фигуру. Говорят, что эта фигура получена преобразованием из данн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Фигура, имеющая форму буквы L 5"/>
          <p:cNvSpPr/>
          <p:nvPr/>
        </p:nvSpPr>
        <p:spPr>
          <a:xfrm>
            <a:off x="2133720" y="3581280"/>
            <a:ext cx="1143000" cy="1905120"/>
          </a:xfrm>
          <a:prstGeom prst="pie">
            <a:avLst/>
          </a:prstGeom>
          <a:solidFill>
            <a:srgbClr val="f8282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Фигура, имеющая форму буквы L 7"/>
          <p:cNvSpPr/>
          <p:nvPr/>
        </p:nvSpPr>
        <p:spPr>
          <a:xfrm rot="2920200">
            <a:off x="5229000" y="3671280"/>
            <a:ext cx="1066680" cy="1828800"/>
          </a:xfrm>
          <a:prstGeom prst="pie">
            <a:avLst/>
          </a:prstGeom>
          <a:solidFill>
            <a:srgbClr val="7030a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СВОЙСТВА ДВИ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90360"/>
            <a:ext cx="8229600" cy="5483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чки, лежащие на прямой, при движении переходят в точки, лежащие на прямой, и сохраняется порядок их взаимного располож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 движении прямые переходят в прямые, полупрямые- в полупрямые, отрезки- в отрез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 движении сохраняются углы между полупрям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                                    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ая соединительная линия 12"/>
          <p:cNvSpPr/>
          <p:nvPr/>
        </p:nvSpPr>
        <p:spPr>
          <a:xfrm flipH="1">
            <a:off x="1676520" y="3962520"/>
            <a:ext cx="1295280" cy="19047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Прямая соединительная линия 19"/>
          <p:cNvSpPr/>
          <p:nvPr/>
        </p:nvSpPr>
        <p:spPr>
          <a:xfrm flipH="1">
            <a:off x="5105520" y="4419000"/>
            <a:ext cx="2286000" cy="15238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Schoolbook"/>
              </a:rPr>
              <a:t>СИММЕТРИЯ ОТНОСИТЕЛЬНО ТОЧК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380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Преобразование фигуры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в фигуру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`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, при котором каждая её точка Х переходит в точку Х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`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, симметричную относительно данной точки О, называется 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преобразованием симметрии относительно точки О. 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Если преобразование симметрии относительно точки О переводит фигуру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 в себя, то она называется 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центрально-симметричной,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а точка О называется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 центром симметр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7" name="Group 2"/>
          <p:cNvGrpSpPr/>
          <p:nvPr/>
        </p:nvGrpSpPr>
        <p:grpSpPr>
          <a:xfrm>
            <a:off x="609120" y="4419360"/>
            <a:ext cx="2820240" cy="1676880"/>
            <a:chOff x="609120" y="4419360"/>
            <a:chExt cx="2820240" cy="1676880"/>
          </a:xfrm>
        </p:grpSpPr>
        <p:cxnSp>
          <p:nvCxnSpPr>
            <p:cNvPr id="368" name="AutoShape 3"/>
            <p:cNvCxnSpPr/>
            <p:nvPr/>
          </p:nvCxnSpPr>
          <p:spPr>
            <a:xfrm>
              <a:off x="1305720" y="4419360"/>
              <a:ext cx="212400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69" name="AutoShape 4"/>
            <p:cNvCxnSpPr/>
            <p:nvPr/>
          </p:nvCxnSpPr>
          <p:spPr>
            <a:xfrm flipH="1">
              <a:off x="2732400" y="4419720"/>
              <a:ext cx="6969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0" name="AutoShape 5"/>
            <p:cNvCxnSpPr/>
            <p:nvPr/>
          </p:nvCxnSpPr>
          <p:spPr>
            <a:xfrm flipH="1">
              <a:off x="609120" y="6095520"/>
              <a:ext cx="212400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1" name="AutoShape 6"/>
            <p:cNvCxnSpPr/>
            <p:nvPr/>
          </p:nvCxnSpPr>
          <p:spPr>
            <a:xfrm flipH="1">
              <a:off x="609120" y="4419720"/>
              <a:ext cx="6969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2" name="AutoShape 7"/>
            <p:cNvCxnSpPr/>
            <p:nvPr/>
          </p:nvCxnSpPr>
          <p:spPr>
            <a:xfrm>
              <a:off x="1305360" y="4419720"/>
              <a:ext cx="142740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3" name="AutoShape 8"/>
            <p:cNvCxnSpPr/>
            <p:nvPr/>
          </p:nvCxnSpPr>
          <p:spPr>
            <a:xfrm flipH="1">
              <a:off x="609120" y="4419720"/>
              <a:ext cx="282024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4" name="AutoShape 9"/>
            <p:cNvCxnSpPr/>
            <p:nvPr/>
          </p:nvCxnSpPr>
          <p:spPr>
            <a:xfrm>
              <a:off x="1716480" y="4419720"/>
              <a:ext cx="6285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375" name="Блок-схема: сопоставление 18"/>
          <p:cNvSpPr/>
          <p:nvPr/>
        </p:nvSpPr>
        <p:spPr>
          <a:xfrm rot="16200000">
            <a:off x="4495680" y="4419360"/>
            <a:ext cx="2210040" cy="1904760"/>
          </a:xfrm>
          <a:prstGeom prst="flowChartCollate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583"/>
                </a:solidFill>
                <a:latin typeface="Century Schoolbook"/>
              </a:rPr>
              <a:t>СИММЕТРИЯ ОТНОСИТЕЛЬНО ПРЯМО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599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Преобразование фигуры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F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в фигуру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F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при котором каждая её точка Х переходит в точку Х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симметричную относительно данной прямой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g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преобразованием симметрии относительно прямой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.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При этом фигуры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F 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и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 F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называю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симметричными относительно прямой 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.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Если преобразование симметрии относительно прямой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g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переводит фигуру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F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в себя, то эта фигура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симметричной относительно прямой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,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а прямая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осью симметрии фигур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Фигура, имеющая форму буквы L 3"/>
          <p:cNvSpPr/>
          <p:nvPr/>
        </p:nvSpPr>
        <p:spPr>
          <a:xfrm>
            <a:off x="1447920" y="4495680"/>
            <a:ext cx="1218960" cy="1905120"/>
          </a:xfrm>
          <a:prstGeom prst="pie">
            <a:avLst/>
          </a:prstGeom>
          <a:solidFill>
            <a:srgbClr val="00b0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Прямая соединительная линия 5"/>
          <p:cNvSpPr/>
          <p:nvPr/>
        </p:nvSpPr>
        <p:spPr>
          <a:xfrm flipH="1">
            <a:off x="2819520" y="4189320"/>
            <a:ext cx="1440" cy="2668680"/>
          </a:xfrm>
          <a:prstGeom prst="line">
            <a:avLst/>
          </a:prstGeom>
          <a:ln w="540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Фигура, имеющая форму буквы L 8"/>
          <p:cNvSpPr/>
          <p:nvPr/>
        </p:nvSpPr>
        <p:spPr>
          <a:xfrm>
            <a:off x="3200400" y="4419720"/>
            <a:ext cx="1143000" cy="1981080"/>
          </a:xfrm>
          <a:prstGeom prst="pie">
            <a:avLst/>
          </a:prstGeom>
          <a:solidFill>
            <a:srgbClr val="00b0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ая соединительная линия 10"/>
          <p:cNvSpPr/>
          <p:nvPr/>
        </p:nvSpPr>
        <p:spPr>
          <a:xfrm>
            <a:off x="1143000" y="5029200"/>
            <a:ext cx="3276720" cy="144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gradFill rotWithShape="0">
            <a:gsLst>
              <a:gs pos="0">
                <a:srgbClr val="c00e80"/>
              </a:gs>
              <a:gs pos="100000">
                <a:srgbClr val="ffe5d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ПОВОРО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761760"/>
            <a:ext cx="8839080" cy="6095880"/>
          </a:xfrm>
          <a:prstGeom prst="rect">
            <a:avLst/>
          </a:prstGeom>
          <a:solidFill>
            <a:srgbClr val="c00e80">
              <a:alpha val="6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оротом плоскости около данной точки называется такое движение, при котором каждый луч, исходящий из этой точки, поворачивается на один и тот же угол в одном и том же направлении.  Это значит, что если при повороте около точки О точка Х переходит в точку 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 лучи ОХ и О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бразуют один и тот же угол, какова бы ни была точка Х. Этот угол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глом поворота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образование фигур при повороте плоскости так же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воро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Фигура, имеющая форму буквы L 3"/>
          <p:cNvSpPr/>
          <p:nvPr/>
        </p:nvSpPr>
        <p:spPr>
          <a:xfrm rot="16769400">
            <a:off x="2283840" y="4862160"/>
            <a:ext cx="990720" cy="13716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Прямая соединительная линия 5"/>
          <p:cNvSpPr/>
          <p:nvPr/>
        </p:nvSpPr>
        <p:spPr>
          <a:xfrm flipH="1" flipV="1">
            <a:off x="1371600" y="5790960"/>
            <a:ext cx="3124080" cy="533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ая соединительная линия 7"/>
          <p:cNvSpPr/>
          <p:nvPr/>
        </p:nvSpPr>
        <p:spPr>
          <a:xfrm flipV="1">
            <a:off x="4494960" y="3887280"/>
            <a:ext cx="1800" cy="2436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Фигура, имеющая форму буквы L 9"/>
          <p:cNvSpPr/>
          <p:nvPr/>
        </p:nvSpPr>
        <p:spPr>
          <a:xfrm>
            <a:off x="4495680" y="3962520"/>
            <a:ext cx="990720" cy="13716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5-02-06T18:03:32Z</dcterms:modified>
  <cp:revision>27</cp:revision>
  <dc:subject/>
  <dc:title>Движение</dc:title>
</cp:coreProperties>
</file>