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F6E-CE17-4C12-A5AF-D2C978C0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338-A59E-4094-9F60-BAB7D4E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BCE-8602-42FD-8DA8-C0C5FA9B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66C-7BBB-4C7D-9D4D-C0BB1C3C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5FA0-20CB-4D18-856E-6CD0D940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AE06-8894-42E8-B175-71B7FC36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2CE6-24F3-415D-9829-D8E1778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280F-95BB-47A7-9E8B-A03063A5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CBB-FADF-4DBD-91F9-E0883F9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4672-306F-48F1-AC93-0D83D29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8219-318A-47ED-96DF-7C1111EB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19B-B72D-4817-8B9E-3A66775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F70E-CF60-467C-88DF-C7980CA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D8E6-BAB8-430B-A08E-568D420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BF69-532F-48B4-A04A-82B5F37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833-3B12-49EF-905E-6CB6AE0B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493-273B-4BCC-AB97-E8C843E2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1CC2F-4547-40E1-A75D-9BCECC0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3A008-27EC-4EE5-9994-F0D4781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2E21A-7EAE-45B1-8380-D8FD53A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E1972-27CB-4109-A75E-94387C14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0D972-A8D7-401D-A281-514D936A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095-24E5-4F60-99F2-0BECB36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83789-63F1-4240-ACE7-148E5F36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CCA47-0709-4616-8619-760931F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C84F2-B238-42E3-84A2-FEC0059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844E8-23A5-4CDC-83D3-7D708E4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136D-C10D-4587-809A-5BD3DA47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3A399-BEB7-496E-AB36-9250D72E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6557A-142C-4AA1-B150-48C1C385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F122-A117-4435-865C-C75AF527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313D-C156-41C8-BB73-92EA2F3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12A9-04B4-425D-89A6-85AED2F2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320-6C20-4958-A966-E5BDECE0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65C8-DEBB-4733-9B5C-1BFB0BB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2E9E-6F52-40DA-B4D3-03AAE25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1D70-5E80-4082-9708-305F3BE1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B9FA-36CE-4465-BCEE-E1B3484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5F06-7D78-4055-A364-0BE7740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2586-9ADF-445E-9623-4CD8193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1E8A-A746-440C-8EC7-051FDEE5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80E9-C908-4774-B6BE-AB19CE19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6230-EA61-4BCF-B690-836173BE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AB240-A6E4-46D4-8DB9-39EA439D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BB0-95F2-4D36-AD5D-2FC5BAF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95C36-FF18-468C-B088-3FD37E8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DE91B-469D-4E19-B601-DDFD547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F05D2-7ECD-49BF-B468-738A205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698E3-4A44-44BD-A49E-68A612F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D1D9E-B460-4B8E-90F8-7D18E0D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3AA9D-E7D6-432D-AAA5-7710F11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158F5-26EC-4C45-A792-CE00EEC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10776-EEF7-4047-8868-64BE3E7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5C779-77D3-4C0A-93AF-CCA390F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DC516-BE42-484D-AC81-51D85DA5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FB2-E576-4B41-A16D-D1A0828A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64E96-8175-453D-A02E-94CF028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24CD4-030E-4732-8788-B16C6E1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5C904-E53F-4EB6-94BD-3FD435D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7B714-D18D-4CA6-9A19-666A42B5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1F23D-7DED-4073-9EDE-58E0CDA9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EA59E-1C6F-4127-9591-11715276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BDF08-5BAF-4F80-9D3C-4236031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4D45E-9E5D-4097-BEE4-960D6EA9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7962E-7D68-4AD6-AC97-3E6F530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507D2-EC19-4D54-9CA3-3128AF4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F58-D60A-4875-8B95-6ECD1B7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FD142-3826-4265-8461-AA40502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95D16-DBF3-4F4B-8889-3D88F21E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1F2C2-EE62-4976-A236-1670E0E3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3A5DF-88CE-4772-896D-6B52BF4C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0F86E-E54D-4ED0-BB3A-AA8E17B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4EFD5-584E-4344-B72C-3D0A28C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F4861-A3A0-4FC5-8E6B-CF99071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823BB-F255-4C3F-B7C4-9875D59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82925-746D-460D-8E81-1965378D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C32F4-BD01-4191-BDF5-C5347E05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29C-AFE4-4B85-A051-937BC4C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9821B-F0C9-4E13-B508-C48AD28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9B6D5-A004-47C8-BC7C-7A9370E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F4717-1D3E-4D1B-A348-4EEE909F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6F116-733B-4BB4-9558-0F7A3B9E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680C6-18B1-48AC-8538-930EF660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4F3-5D7B-4468-A4B5-7A2DCC1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CCDA-C1FC-4390-92C9-20167B8389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733-FDE5-4E6C-B278-1A8861FB5A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6504-9A17-45E3-A0E7-1ED503B760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39A6-152B-4F42-BF2F-2A9A2D8D7D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9A8-2549-476C-B59D-E2D89F699D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4D7D-598C-4B2F-B185-FA974FF7C9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BE5-DB68-4CB3-A161-AF3E6CD788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r>
              <a:rPr b="1" i="1" lang="ru-RU" sz="8000" spc="-1" strike="noStrike">
                <a:solidFill>
                  <a:srgbClr val="00b050"/>
                </a:solidFill>
                <a:latin typeface="Century Schoolbook"/>
              </a:rPr>
              <a:t>ДВИЖЕНИЕ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еница 8 б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БОУ гимназии №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батникова Мар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читель Наумова Т.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ПАРАЛЛЕЛЬНЫЙ ПЕРЕНОС И ЕГО СВОЙСТ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51920" y="11426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араллельный перенос определяется как преобразование, при котором точки смещаются в одном и том же направлении на одно и то же расстояние. При параллельном переносе точки смещаются по параллельным (или совпадающим) прямым на одно и то же расстояние. При параллельном переносе прямая переходит в параллельную прямую (или в себ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Фигура, имеющая форму буквы L 5"/>
          <p:cNvSpPr/>
          <p:nvPr/>
        </p:nvSpPr>
        <p:spPr>
          <a:xfrm>
            <a:off x="2057400" y="5029200"/>
            <a:ext cx="838080" cy="1447920"/>
          </a:xfrm>
          <a:prstGeom prst="pie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Фигура, имеющая форму буквы L 6"/>
          <p:cNvSpPr/>
          <p:nvPr/>
        </p:nvSpPr>
        <p:spPr>
          <a:xfrm>
            <a:off x="3581280" y="4343400"/>
            <a:ext cx="838440" cy="1447920"/>
          </a:xfrm>
          <a:prstGeom prst="pie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 flipV="1">
            <a:off x="2057400" y="4343040"/>
            <a:ext cx="160020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ая соединительная линия 10"/>
          <p:cNvSpPr/>
          <p:nvPr/>
        </p:nvSpPr>
        <p:spPr>
          <a:xfrm flipV="1">
            <a:off x="2514600" y="4495320"/>
            <a:ext cx="152388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ая соединительная линия 12"/>
          <p:cNvSpPr/>
          <p:nvPr/>
        </p:nvSpPr>
        <p:spPr>
          <a:xfrm flipV="1">
            <a:off x="2057400" y="5181120"/>
            <a:ext cx="152388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ая соединительная линия 14"/>
          <p:cNvSpPr/>
          <p:nvPr/>
        </p:nvSpPr>
        <p:spPr>
          <a:xfrm flipV="1">
            <a:off x="2514600" y="5333760"/>
            <a:ext cx="14479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6e5a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entury Schoolbook"/>
              </a:rPr>
              <a:t>СОНАПРАВЛЕННОСТЬ ПОЛУПРЯМЫХ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37720"/>
            <a:ext cx="89154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Две  полупрямые называются одинаково направленными или сонаправленными, если совмещаются параллельным переносом. Если полупрямые а и в одинаково направлены и полупрямые в и с одинаково направлены, то полупрямые а и с тоже одинаково направле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Две полупрямые называются противоположно направленными, если каждая из них одинаково направлена с полупрямой, дополнительной к друг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2133720" y="6400800"/>
            <a:ext cx="4952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ая соединительная линия 8"/>
          <p:cNvSpPr/>
          <p:nvPr/>
        </p:nvSpPr>
        <p:spPr>
          <a:xfrm flipH="1">
            <a:off x="3124080" y="4952880"/>
            <a:ext cx="609840" cy="144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H="1">
            <a:off x="5410080" y="4952880"/>
            <a:ext cx="6098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Schoolbook"/>
              </a:rPr>
              <a:t>РАВЕНСТВО ФИГУР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5192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Две фигуры называются равными, если они движением переводятся одна в другую. Для обозначения равенства фигур используется обычный знак равенства. Запись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F=F`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означает, что фигура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F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равна фигуре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 F`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венство треугольников, определяемое через  их совмещение движением, и равенство, как мы его понимали до сих пор, выражают одно и то ж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-360"/>
            <a:ext cx="838188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Century Schoolbook"/>
              </a:rPr>
              <a:t>Это интересно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282d"/>
                </a:solidFill>
                <a:latin typeface="Century Schoolbook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часть математики, первоначальным предметом которой являются пространственные отношения и формы тел. Геометрия изучает пространственные отношения и формы, отвлекаясь от прочих свойств реальных предметов (плотность, вес, цвет и т. д.). В последующем  развитии предметом геометрии становятся также и другие отношения и формы действительности, сходные с пространственными. В современном  общем смысле геометрия объемлет любые отношения и формы, которые возникают при рассмотрении однородных объектов, явлений, событий вне  их конкретного содержания и которые оказываются сходными с обычны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тояния между функциями, отвлекаясь от того, каковы специальные  свойства этих функций и какие реальные процессы эти функции  описываю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-360" y="0"/>
            <a:ext cx="9448920" cy="6858000"/>
          </a:xfrm>
          <a:prstGeom prst="rect">
            <a:avLst/>
          </a:prstGeom>
          <a:gradFill rotWithShape="0">
            <a:gsLst>
              <a:gs pos="0">
                <a:srgbClr val="ffccb7"/>
              </a:gs>
              <a:gs pos="100000">
                <a:srgbClr val="ffe5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никновение геометрии относится к глубокой древности. Оно было обусловлено    практическими потребностями (измерением земельных участков, объемов тел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ейшие геометрические сведения и понятия были известны еще древним египтянам. Геометрические утверждения формулировались тогда в виде правил, логические доказательства которых либо отсутствовали, либо были примитивными. Начиная с 7 века до нашей эры и до 1 века нашей эры, развитие геометрии происходило в  основном в Древней Греции. Здесь накапливались сведения о  метрических соотношениях в треугольниках, измерениях площадей и объемов, пропорциях и подобии фигур, конических сечениях, задачах на  построение. В то время появились уже сравнительно строгие логические доказательства геометрических утверждений. Собранием известных фактов геометрии и их логической систематизацией явились «Начала» Евклида. В этом сочинении были сформулированы основные положения  (аксиомы) геометрии, из которых при помощи логических рассуждений выводились различные свойства простейших фигур на плоскости и в пространств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-360" y="0"/>
            <a:ext cx="883908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впервые сложились основы аксиоматического метода. Развитие астрономии и геодезии привело к созданию плоской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ерической тригонометрии. Дальнейшее развитие геометрии, вплоть до 17 века, происходило не столь интенсивно. Возрождение наук и искусств в Европе  способствовало развитию геометрии. Теория перспективы, задача которой состояла в изображении тел на плоскости, была в центре внимания художников и архитекторов. Эта потребность привела к зарождению проективной геометрии – раздела геометрии, в котором изучаются свойства фигур, инвариантные относительно так называемых проективных преобразова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712440"/>
            <a:ext cx="81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..Истина оставалась навеки скрытой от рода человеческого, если бы Математика, которая занимается не целями, а только сущностями и свойствами фигур, не указала людям иного образца истины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. Спино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Геометрия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отличная логик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ж. Беркл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ДВИЖЕНИЕ:</a:t>
            </a:r>
            <a:br>
              <a:rPr sz="2700"/>
            </a:b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Преобразование  фигу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Свойства дви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Симметрия относительно прям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Поворо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направленность полупрям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венство фигу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ДВИЖ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образование одной фигуры в другую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движением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, если оно сохраняет расстояние между точками, т. е. переводит любые две точки Х и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одной фигуры в точки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X`, Y`,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ругой фигуры так, что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XY=X`Y`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-360"/>
            <a:ext cx="838188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еобразование фигу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сли каждую точку данной фигуры сместить каким-нибудь образом, то мы получим новую фигуру. Говорят, что эта фигура получена преобразованием из данн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Фигура, имеющая форму буквы L 5"/>
          <p:cNvSpPr/>
          <p:nvPr/>
        </p:nvSpPr>
        <p:spPr>
          <a:xfrm>
            <a:off x="2133720" y="3581280"/>
            <a:ext cx="1143000" cy="1905120"/>
          </a:xfrm>
          <a:prstGeom prst="pie">
            <a:avLst/>
          </a:prstGeom>
          <a:solidFill>
            <a:srgbClr val="f8282d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Фигура, имеющая форму буквы L 7"/>
          <p:cNvSpPr/>
          <p:nvPr/>
        </p:nvSpPr>
        <p:spPr>
          <a:xfrm rot="2920200">
            <a:off x="5229000" y="3671280"/>
            <a:ext cx="1066680" cy="1828800"/>
          </a:xfrm>
          <a:prstGeom prst="pie">
            <a:avLst/>
          </a:prstGeom>
          <a:solidFill>
            <a:srgbClr val="7030a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СВОЙСТВА ДВИЖ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90360"/>
            <a:ext cx="8229600" cy="5483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чки, лежащие на прямой, при движении переходят в точки, лежащие на прямой, и сохраняется порядок их взаимного располож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 движении прямые переходят в прямые, полупрямые- в полупрямые, отрезки- в отрез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 движении сохраняются углы между полупрям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                                    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ая соединительная линия 12"/>
          <p:cNvSpPr/>
          <p:nvPr/>
        </p:nvSpPr>
        <p:spPr>
          <a:xfrm flipH="1">
            <a:off x="1676520" y="3962520"/>
            <a:ext cx="1295280" cy="19047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Прямая соединительная линия 19"/>
          <p:cNvSpPr/>
          <p:nvPr/>
        </p:nvSpPr>
        <p:spPr>
          <a:xfrm flipH="1">
            <a:off x="5105520" y="4419000"/>
            <a:ext cx="2286000" cy="15238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Schoolbook"/>
              </a:rPr>
              <a:t>СИММЕТРИЯ ОТНОСИТЕЛЬНО ТОЧК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380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Преобразование фигуры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в фигуру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`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, при котором каждая её точка Х переходит в точку Х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`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, симметричную относительно данной точки О, называется 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преобразованием симметрии относительно точки О. 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Если преобразование симметрии относительно точки О переводит фигуру </a:t>
            </a:r>
            <a:r>
              <a:rPr b="0" lang="en-US" sz="2200" spc="-1" strike="noStrike">
                <a:solidFill>
                  <a:srgbClr val="ffffff"/>
                </a:solidFill>
                <a:latin typeface="Century Schoolbook"/>
              </a:rPr>
              <a:t>F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 в себя, то она называется 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центрально-симметричной,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а точка О называется</a:t>
            </a:r>
            <a:r>
              <a:rPr b="0" i="1" lang="ru-RU" sz="2200" spc="-1" strike="noStrike">
                <a:solidFill>
                  <a:srgbClr val="ffffff"/>
                </a:solidFill>
                <a:latin typeface="Century Schoolbook"/>
              </a:rPr>
              <a:t> центром симметр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7" name="Group 2"/>
          <p:cNvGrpSpPr/>
          <p:nvPr/>
        </p:nvGrpSpPr>
        <p:grpSpPr>
          <a:xfrm>
            <a:off x="609120" y="4419360"/>
            <a:ext cx="2820240" cy="1676880"/>
            <a:chOff x="609120" y="4419360"/>
            <a:chExt cx="2820240" cy="1676880"/>
          </a:xfrm>
        </p:grpSpPr>
        <p:cxnSp>
          <p:nvCxnSpPr>
            <p:cNvPr id="368" name="AutoShape 3"/>
            <p:cNvCxnSpPr/>
            <p:nvPr/>
          </p:nvCxnSpPr>
          <p:spPr>
            <a:xfrm>
              <a:off x="1305720" y="4419360"/>
              <a:ext cx="212400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69" name="AutoShape 4"/>
            <p:cNvCxnSpPr/>
            <p:nvPr/>
          </p:nvCxnSpPr>
          <p:spPr>
            <a:xfrm flipH="1">
              <a:off x="2732400" y="4419720"/>
              <a:ext cx="6969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0" name="AutoShape 5"/>
            <p:cNvCxnSpPr/>
            <p:nvPr/>
          </p:nvCxnSpPr>
          <p:spPr>
            <a:xfrm flipH="1">
              <a:off x="609120" y="6095520"/>
              <a:ext cx="212400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1" name="AutoShape 6"/>
            <p:cNvCxnSpPr/>
            <p:nvPr/>
          </p:nvCxnSpPr>
          <p:spPr>
            <a:xfrm flipH="1">
              <a:off x="609120" y="4419720"/>
              <a:ext cx="6969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2" name="AutoShape 7"/>
            <p:cNvCxnSpPr/>
            <p:nvPr/>
          </p:nvCxnSpPr>
          <p:spPr>
            <a:xfrm>
              <a:off x="1305360" y="4419720"/>
              <a:ext cx="142740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3" name="AutoShape 8"/>
            <p:cNvCxnSpPr/>
            <p:nvPr/>
          </p:nvCxnSpPr>
          <p:spPr>
            <a:xfrm flipH="1">
              <a:off x="609120" y="4419720"/>
              <a:ext cx="282024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374" name="AutoShape 9"/>
            <p:cNvCxnSpPr/>
            <p:nvPr/>
          </p:nvCxnSpPr>
          <p:spPr>
            <a:xfrm>
              <a:off x="1716480" y="4419720"/>
              <a:ext cx="628560" cy="16768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375" name="Блок-схема: сопоставление 18"/>
          <p:cNvSpPr/>
          <p:nvPr/>
        </p:nvSpPr>
        <p:spPr>
          <a:xfrm rot="16200000">
            <a:off x="4495680" y="4419360"/>
            <a:ext cx="2210040" cy="1904760"/>
          </a:xfrm>
          <a:prstGeom prst="flowChartCollate">
            <a:avLst/>
          </a:pr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4583"/>
                </a:solidFill>
                <a:latin typeface="Century Schoolbook"/>
              </a:rPr>
              <a:t>СИММЕТРИЯ ОТНОСИТЕЛЬНО ПРЯМО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599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Преобразование фигуры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F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в фигуру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F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при котором каждая её точка Х переходит в точку Х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симметричную относительно данной прямой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g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,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преобразованием симметрии относительно прямой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.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При этом фигуры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F 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и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  F`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называю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симметричными относительно прямой 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.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Если преобразование симметрии относительно прямой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g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переводит фигуру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F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в себя, то эта фигура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симметричной относительно прямой </a:t>
            </a:r>
            <a:r>
              <a:rPr b="0" i="1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, 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а прямая </a:t>
            </a:r>
            <a:r>
              <a:rPr b="0" lang="en-US" sz="2200" spc="-1" strike="noStrike">
                <a:solidFill>
                  <a:srgbClr val="244583"/>
                </a:solidFill>
                <a:latin typeface="Century Schoolbook"/>
              </a:rPr>
              <a:t>g</a:t>
            </a:r>
            <a:r>
              <a:rPr b="0" lang="ru-RU" sz="2200" spc="-1" strike="noStrike">
                <a:solidFill>
                  <a:srgbClr val="244583"/>
                </a:solidFill>
                <a:latin typeface="Century Schoolbook"/>
              </a:rPr>
              <a:t> называется </a:t>
            </a:r>
            <a:r>
              <a:rPr b="0" i="1" lang="ru-RU" sz="2200" spc="-1" strike="noStrike">
                <a:solidFill>
                  <a:srgbClr val="244583"/>
                </a:solidFill>
                <a:latin typeface="Century Schoolbook"/>
              </a:rPr>
              <a:t>осью симметрии фигур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Фигура, имеющая форму буквы L 3"/>
          <p:cNvSpPr/>
          <p:nvPr/>
        </p:nvSpPr>
        <p:spPr>
          <a:xfrm>
            <a:off x="1447920" y="4495680"/>
            <a:ext cx="1218960" cy="1905120"/>
          </a:xfrm>
          <a:prstGeom prst="pie">
            <a:avLst/>
          </a:prstGeom>
          <a:solidFill>
            <a:srgbClr val="00b0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Прямая соединительная линия 5"/>
          <p:cNvSpPr/>
          <p:nvPr/>
        </p:nvSpPr>
        <p:spPr>
          <a:xfrm flipH="1">
            <a:off x="2819520" y="4189320"/>
            <a:ext cx="1440" cy="2668680"/>
          </a:xfrm>
          <a:prstGeom prst="line">
            <a:avLst/>
          </a:prstGeom>
          <a:ln w="540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Фигура, имеющая форму буквы L 8"/>
          <p:cNvSpPr/>
          <p:nvPr/>
        </p:nvSpPr>
        <p:spPr>
          <a:xfrm>
            <a:off x="3200400" y="4419720"/>
            <a:ext cx="1143000" cy="1981080"/>
          </a:xfrm>
          <a:prstGeom prst="pie">
            <a:avLst/>
          </a:prstGeom>
          <a:solidFill>
            <a:srgbClr val="00b0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ая соединительная линия 10"/>
          <p:cNvSpPr/>
          <p:nvPr/>
        </p:nvSpPr>
        <p:spPr>
          <a:xfrm>
            <a:off x="1143000" y="5029200"/>
            <a:ext cx="3276720" cy="144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gradFill rotWithShape="0">
            <a:gsLst>
              <a:gs pos="0">
                <a:srgbClr val="c00e80"/>
              </a:gs>
              <a:gs pos="100000">
                <a:srgbClr val="ffe5d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ПОВОРО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761760"/>
            <a:ext cx="8839080" cy="6095880"/>
          </a:xfrm>
          <a:prstGeom prst="rect">
            <a:avLst/>
          </a:prstGeom>
          <a:solidFill>
            <a:srgbClr val="c00e80">
              <a:alpha val="6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оротом плоскости около данной точки называется такое движение, при котором каждый луч, исходящий из этой точки, поворачивается на один и тот же угол в одном и том же направлении.  Это значит, что если при повороте около точки О точка Х переходит в точку 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 лучи ОХ и О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бразуют один и тот же угол, какова бы ни была точка Х. Этот угол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глом поворота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образование фигур при повороте плоскости так же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воро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Фигура, имеющая форму буквы L 3"/>
          <p:cNvSpPr/>
          <p:nvPr/>
        </p:nvSpPr>
        <p:spPr>
          <a:xfrm rot="16769400">
            <a:off x="2283840" y="4862160"/>
            <a:ext cx="990720" cy="13716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Прямая соединительная линия 5"/>
          <p:cNvSpPr/>
          <p:nvPr/>
        </p:nvSpPr>
        <p:spPr>
          <a:xfrm flipH="1" flipV="1">
            <a:off x="1371600" y="5790960"/>
            <a:ext cx="3124080" cy="533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ая соединительная линия 7"/>
          <p:cNvSpPr/>
          <p:nvPr/>
        </p:nvSpPr>
        <p:spPr>
          <a:xfrm flipV="1">
            <a:off x="4494960" y="3887280"/>
            <a:ext cx="1800" cy="2436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Фигура, имеющая форму буквы L 9"/>
          <p:cNvSpPr/>
          <p:nvPr/>
        </p:nvSpPr>
        <p:spPr>
          <a:xfrm>
            <a:off x="4495680" y="3962520"/>
            <a:ext cx="990720" cy="13716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5-02-06T18:03:32Z</dcterms:modified>
  <cp:revision>27</cp:revision>
  <dc:subject/>
  <dc:title>Движение</dc:title>
</cp:coreProperties>
</file>