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54.gif" ContentType="image/gif"/>
  <Override PartName="/ppt/media/image28.png" ContentType="image/png"/>
  <Override PartName="/ppt/media/image7.jpeg" ContentType="image/jpeg"/>
  <Override PartName="/ppt/media/image31.wmf" ContentType="image/x-wmf"/>
  <Override PartName="/ppt/media/image5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4.wmf" ContentType="image/x-wmf"/>
  <Override PartName="/ppt/media/image49.png" ContentType="image/png"/>
  <Override PartName="/ppt/media/image41.png" ContentType="image/png"/>
  <Override PartName="/ppt/media/image9.wmf" ContentType="image/x-wmf"/>
  <Override PartName="/ppt/media/image46.png" ContentType="image/png"/>
  <Override PartName="/ppt/media/image35.wmf" ContentType="image/x-wmf"/>
  <Override PartName="/ppt/media/image12.gif" ContentType="image/gif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52.jpeg" ContentType="image/jpeg"/>
  <Override PartName="/ppt/media/image33.wmf" ContentType="image/x-wmf"/>
  <Override PartName="/ppt/media/image8.png" ContentType="image/png"/>
  <Override PartName="/ppt/media/image38.png" ContentType="image/png"/>
  <Override PartName="/ppt/media/image11.png" ContentType="image/png"/>
  <Override PartName="/ppt/media/image51.wmf" ContentType="image/x-wmf"/>
  <Override PartName="/ppt/media/image6.png" ContentType="image/png"/>
  <Override PartName="/ppt/media/image14.wmf" ContentType="image/x-wmf"/>
  <Override PartName="/ppt/media/image53.png" ContentType="image/png"/>
  <Override PartName="/ppt/media/image13.gif" ContentType="image/gif"/>
  <Override PartName="/ppt/media/image36.gif" ContentType="image/gif"/>
  <Override PartName="/ppt/media/image29.png" ContentType="image/png"/>
  <Override PartName="/ppt/media/image32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396-F716-467E-8231-8E8C95D5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AE5-9A3F-4CE0-9CC5-FD18024B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90DE0-8B57-4B6C-B77B-1E957FD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8BF7D-24C6-4DDC-94A4-3CAA6D0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F1552-0700-4BA2-B903-0818A41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EC145-B6A0-4786-A977-74AD04D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D59F2-78AF-4834-94DF-8B58E0B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10A84-44CF-45AB-AB9A-D83FEBD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E4D02-A37E-460B-B213-4C98CF78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456D2-665B-4494-AD41-6E686C3A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0A814-10F6-42C2-A4AA-926B64D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AE7-0248-41F6-ADD9-08905D0A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8FF-55B9-4CAA-B0E7-D655322C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EBE9-A825-431A-A56B-BC31F61F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8BE-B348-4330-B230-784D0BE3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6E6-C792-45B6-AD2F-B3C78AF9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34A-C5EE-4533-9749-7EB6067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220-7F0F-40CF-9F4A-8CBAFA8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69F-CC1A-4B60-B312-23E979A2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58A-D73F-4873-96B3-CA90B90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F1B-CB32-431C-A9C5-5A904284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92E-7585-4239-BD09-EDFFB05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F7B5-5256-4B4C-B9E4-E95D692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F384-D061-4141-A3A2-F187A90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2C0-76A2-4BCF-9C08-07353127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E430-5B86-4291-893E-97DF2941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2A5E-E8F3-445E-9D5B-0BC2FC5B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E318-425D-4537-A523-F51EE5F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A0CB-5BAA-4B6C-A241-ED3C06C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5206-CCE2-4C78-97B0-545C12F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065F-B32B-439A-AC06-23466FC2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996-65A3-4A11-BCB1-E218E84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16E6-88DC-41D4-AB1A-CAEA5EE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D626-11CF-4AD9-B7F9-6A063BC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345A-EBC8-4D13-A9C2-28E582E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4ED9-1E65-44E4-B8D8-AD8B2C5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5ACC-0D3C-4233-BCC6-4D2EE0D5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CCAD-ED7F-4D2F-8D50-A86F1D7F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D08D-F531-413D-A86D-BBEB6536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C449-870F-4AAB-B414-7490817E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C72A-BFD8-4A1C-AAD2-BE889ED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849F-5E44-4EAA-A753-A31047E2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3B7-891E-46AA-9EAA-15767749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9AC2-89AC-4370-B5F5-2103895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835F-B8C9-485F-9600-53F90FD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2318-3EE8-4DFF-B390-839045C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7422-0D83-4655-98FB-ABFA093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D7BB-B3D8-401F-AA85-BAB3069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03E9-F2C5-4905-8534-D85D0B0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4415-163A-4056-96B0-0608209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463A-E9DB-41A2-A3A2-A18C135B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D0CA-F81B-410C-87BE-4F71E22E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B3D6-4E02-49CD-B74C-5D400E84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C37-707A-4399-9EA9-913D2155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E647-3B23-4640-AE5E-4836D6C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8189-4832-4A80-B0E2-DBA8C2D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11E7-7599-4198-8171-A0AC654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C270B-DDAE-4796-9CD9-2A15820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1EC21-BA56-4C9D-8E65-14220A9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98DF-6DB6-459F-9325-739FE35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100E-2D92-4EC1-A7F7-8D8CE0D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F59E-BF0F-45A3-BB87-6FDEFC4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DEC9-5FBD-4164-AA38-41D69B7C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99E8C-FD2A-439B-B0FF-7DAE5BA0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B6E-25FB-4669-8119-3C68D4B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92F4-AC4F-410F-AC58-918F716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A6C7-4F59-48F0-8152-B204022D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7222C-1174-4F43-9EC0-EDD3369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1830-BD37-4F17-9F02-5209B17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9235-836A-4927-99E0-8AED190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9136-0A22-43A0-840D-F6DAA6D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7201-31B9-4E45-B9DA-DE336CB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9237-15AD-4215-97C8-E6155DB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4541-929D-471E-A1EF-9C69209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2AC9D-B6D8-4ABA-858B-4A654C1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303-4336-42A2-A40A-5E00102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8A94-0C04-4B92-BBFE-B6B130B3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48E0-96B6-438B-919C-9AD9622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C249-258B-4D7B-A430-D09F3ACC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8506-CEB6-4379-9F7B-18D9829E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D3B8-7981-463E-8EBA-7804EC7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8F6D-FEF1-478C-8B74-27D56EC9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C5CE-C8DD-46F4-9BE8-168DFA6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8F76-AC27-49D3-A4B2-3592234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8A2E-AAF8-407A-9F4F-CF8FF067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429D-F67A-488B-B8F6-2D12384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8E8-A420-494B-85C0-032FEF2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5FD1-37B9-4780-BADE-273BF13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B2C0-02A3-4A75-A763-722F322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FA33-AD18-4D57-BA28-F8C9EBE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C750B-3634-41E3-BD9F-2DBD76C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FB5B-4B45-4390-BB1C-E53EC80A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8794-7A4B-43FD-8ABD-388376E3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CBDF-F58F-4B23-99B1-B96324D8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60082-F38B-4B3C-8E28-72339A4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B3D1-D423-4A03-BEE1-19D234D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5E57-D024-458C-AC37-689C55E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2D5-AB1D-4795-8135-76DB85C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C6F2-328D-45FF-857F-B6B40CD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2FA7-2817-4469-A5E8-8F9B8F4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871A8-0F51-489E-8267-4CE178D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8DCE-942C-4A39-AF09-B9362DB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AB50-5A77-4E80-A97D-A6C11E5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DA2BD-C8CC-4190-B68B-6EBE326C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92A2-D9B8-4AB5-890B-7DFC7D5B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96EE2-D887-4DAC-BD61-72119884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3240F-099D-4D4D-A143-EE6957E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FE58A-43BA-4047-9E0A-C850DB0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B49-E502-4FFF-86DF-31FCF4D7CD2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C729-2F53-4FE3-9101-EFFBB482C60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6AC-CA68-4C7F-9D79-8CF329BA446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805-2DD5-4926-9F62-CA61179BF53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6223-A429-46D5-9523-667396CC361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5F02-30D6-4F6F-A360-FA7C49EA257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687-1AE9-4722-80B5-CA28685F4EC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915D-C609-419B-BCC2-858F2BC7CFB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FD5-7D62-4685-B033-23346D1FA66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hyperlink" Target="file:///&#1044;&#1080;&#1076;&#1072;&#1082;&#1090;&#1080;&#1095;&#1077;&#1089;&#1082;&#1080;&#1081;%20&#1084;&#1072;&#1090;&#1077;&#1088;&#1080;&#1072;&#1083;.xls" TargetMode="External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gif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208080"/>
            <a:ext cx="697356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080 Чему учат в школе.mp3" descr=""/>
          <p:cNvPicPr/>
          <p:nvPr/>
        </p:nvPicPr>
        <p:blipFill>
          <a:blip r:embed="rId2"/>
          <a:stretch/>
        </p:blipFill>
        <p:spPr>
          <a:xfrm>
            <a:off x="4572000" y="235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z068_top[1]"/>
          <p:cNvPicPr/>
          <p:nvPr/>
        </p:nvPicPr>
        <p:blipFill>
          <a:blip r:embed="rId3"/>
          <a:stretch/>
        </p:blipFill>
        <p:spPr>
          <a:xfrm>
            <a:off x="285840" y="3357720"/>
            <a:ext cx="864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865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42840" y="36360"/>
            <a:ext cx="8955000" cy="20545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99980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1" i="1" lang="ru-RU" sz="3500" spc="-1" strike="noStrike">
                <a:solidFill>
                  <a:srgbClr val="7030a0"/>
                </a:solidFill>
                <a:latin typeface="Franklin Gothic Book"/>
              </a:rPr>
              <a:t>Потрогайте руки друг друга. 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  </a:t>
            </a: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Что можно о них сказать?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1" i="1" lang="ru-RU" sz="3500" spc="-1" strike="noStrike">
                <a:solidFill>
                  <a:srgbClr val="00b050"/>
                </a:solidFill>
                <a:latin typeface="Franklin Gothic Book"/>
              </a:rPr>
              <a:t>Пожмите дружески руки друг другу. 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  </a:t>
            </a: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Что вы чувствуете?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53" name="Рисунок 4" descr="F:\CLIPART8\J0343309.WMF"/>
          <p:cNvPicPr/>
          <p:nvPr/>
        </p:nvPicPr>
        <p:blipFill>
          <a:blip r:embed="rId2"/>
          <a:stretch/>
        </p:blipFill>
        <p:spPr>
          <a:xfrm>
            <a:off x="5143680" y="3857760"/>
            <a:ext cx="2143080" cy="26431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5" descr="F:\CLIPART7\J0324618.WMF"/>
          <p:cNvPicPr/>
          <p:nvPr/>
        </p:nvPicPr>
        <p:blipFill>
          <a:blip r:embed="rId3"/>
          <a:stretch/>
        </p:blipFill>
        <p:spPr>
          <a:xfrm>
            <a:off x="7072200" y="785880"/>
            <a:ext cx="179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56760" y="785520"/>
            <a:ext cx="82803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1. Один за всех и все за одного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2. Уважайте друг друга и помогайте друг другу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3. Радуйтесь вместе с друзьями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4. Не обижайте друзей и всех, кто вас окружает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5. Не оставляйте друзей в беде, не подводите их, не предавайте, не обманывайте, не нарушайте своих обещаний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6. Берегите друзей, ведь друга потерять 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легко. Старый друг лучше новых двух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6" name="WordArt 4"/>
          <p:cNvSpPr txBox="1"/>
          <p:nvPr/>
        </p:nvSpPr>
        <p:spPr>
          <a:xfrm>
            <a:off x="1857240" y="214200"/>
            <a:ext cx="478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законы дружбы:</a:t>
            </a:r>
            <a:endParaRPr b="1" i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7" name="Picture 2" descr="H:\кАРТИНКИ\Из мультфильмов\POOHPIG.JPG"/>
          <p:cNvPicPr/>
          <p:nvPr/>
        </p:nvPicPr>
        <p:blipFill>
          <a:blip r:embed="rId1"/>
          <a:stretch/>
        </p:blipFill>
        <p:spPr>
          <a:xfrm>
            <a:off x="7215120" y="4000680"/>
            <a:ext cx="17146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pic>
        <p:nvPicPr>
          <p:cNvPr id="459" name="Прямоугольник 4" descr=""/>
          <p:cNvPicPr/>
          <p:nvPr/>
        </p:nvPicPr>
        <p:blipFill>
          <a:blip r:embed="rId1"/>
          <a:stretch/>
        </p:blipFill>
        <p:spPr>
          <a:xfrm>
            <a:off x="853920" y="1494000"/>
            <a:ext cx="7412040" cy="4101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C:\Documents and Settings\Администратор\Рабочий стол\Анимации\анимашки\Cartoon Animals\AN018.GIF"/>
          <p:cNvPicPr/>
          <p:nvPr/>
        </p:nvPicPr>
        <p:blipFill>
          <a:blip r:embed="rId2"/>
          <a:stretch/>
        </p:blipFill>
        <p:spPr>
          <a:xfrm>
            <a:off x="6286680" y="0"/>
            <a:ext cx="2357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4000" y="2786040"/>
            <a:ext cx="86407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663300"/>
                </a:solidFill>
                <a:latin typeface="Garamond"/>
              </a:rPr>
              <a:t>Товарищ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- человек, близкий кому-нибудь по общности взглядов, деятельности, условий жизни…»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663300"/>
                </a:solidFill>
                <a:latin typeface="Garamond"/>
              </a:rPr>
              <a:t>Друг</a:t>
            </a:r>
            <a:r>
              <a:rPr b="1" i="1" lang="ru-RU" sz="3200" spc="-1" strike="noStrike">
                <a:solidFill>
                  <a:srgbClr val="ac66bb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- тот, кто связан с кем-нибудь дружбой» 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С.И. Ожегов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826920" y="47628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WordArt 21"/>
          <p:cNvSpPr txBox="1"/>
          <p:nvPr/>
        </p:nvSpPr>
        <p:spPr>
          <a:xfrm>
            <a:off x="500040" y="404640"/>
            <a:ext cx="59436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г, товарищ. Это кто?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5" name="Рисунок 8" descr="F:\CLIPART8\J0343319.WMF"/>
          <p:cNvPicPr/>
          <p:nvPr/>
        </p:nvPicPr>
        <p:blipFill>
          <a:blip r:embed="rId3"/>
          <a:stretch/>
        </p:blipFill>
        <p:spPr>
          <a:xfrm>
            <a:off x="6429240" y="714240"/>
            <a:ext cx="242892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054240" y="-6480"/>
            <a:ext cx="5699160" cy="1451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428640" y="500040"/>
            <a:ext cx="535788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–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близкие отношения основанные на взаимном доверии,    привязанности, общности интересов»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8" name="WordArt 6"/>
          <p:cNvSpPr txBox="1"/>
          <p:nvPr/>
        </p:nvSpPr>
        <p:spPr>
          <a:xfrm>
            <a:off x="395280" y="333360"/>
            <a:ext cx="3166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жба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2" descr="C:\Documents and Settings\Администратор\Рабочий стол\Анимации\анимашки\KIDS\AN137.GIF"/>
          <p:cNvPicPr/>
          <p:nvPr/>
        </p:nvPicPr>
        <p:blipFill>
          <a:blip r:embed="rId4"/>
          <a:stretch/>
        </p:blipFill>
        <p:spPr>
          <a:xfrm>
            <a:off x="6500880" y="3571920"/>
            <a:ext cx="2071800" cy="2914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Администратор\Рабочий стол\Анимации\анимашки\KIDS\AN138.GIF"/>
          <p:cNvPicPr/>
          <p:nvPr/>
        </p:nvPicPr>
        <p:blipFill>
          <a:blip r:embed="rId5"/>
          <a:stretch/>
        </p:blipFill>
        <p:spPr>
          <a:xfrm flipH="1">
            <a:off x="928440" y="3571920"/>
            <a:ext cx="282420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8"/>
          <p:cNvSpPr/>
          <p:nvPr/>
        </p:nvSpPr>
        <p:spPr>
          <a:xfrm>
            <a:off x="357120" y="64296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ебята, оцените себя! В каждом утверждении вместо слов 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НАСТОЯЩИЙ ДРУГ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ставьте короткое слово 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. Ну как, получается? Прочитайте нам 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428760" y="2071800"/>
            <a:ext cx="835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ac66bb"/>
                </a:solidFill>
                <a:latin typeface="Franklin Gothic Book"/>
              </a:rPr>
              <a:t>это тот, кто никогда не обманывает своего друг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это тот, кто не пожалеет поделиться  со своим другом всем, что сам имеет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b13f9a"/>
                </a:solidFill>
                <a:latin typeface="Franklin Gothic Book"/>
              </a:rPr>
              <a:t>это тот, кто не станет смеяться над бедой или неудачей своего друг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это тот, с кем всегда интересно и никогда не скучн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ac66bb"/>
                </a:solidFill>
                <a:latin typeface="Franklin Gothic Book"/>
              </a:rPr>
              <a:t>это тот, кто постарается защитить от обидчика.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Рисунок 3" descr="F:\CLIPART8\J0343395.WMF"/>
          <p:cNvPicPr/>
          <p:nvPr/>
        </p:nvPicPr>
        <p:blipFill>
          <a:blip r:embed="rId1"/>
          <a:stretch/>
        </p:blipFill>
        <p:spPr>
          <a:xfrm>
            <a:off x="7500960" y="4857840"/>
            <a:ext cx="1438200" cy="17809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F:\CLIPART6\J0297557.WMF"/>
          <p:cNvPicPr/>
          <p:nvPr/>
        </p:nvPicPr>
        <p:blipFill>
          <a:blip r:embed="rId2"/>
          <a:stretch/>
        </p:blipFill>
        <p:spPr>
          <a:xfrm>
            <a:off x="7934400" y="571680"/>
            <a:ext cx="1209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3"/>
          <p:cNvSpPr txBox="1"/>
          <p:nvPr/>
        </p:nvSpPr>
        <p:spPr>
          <a:xfrm>
            <a:off x="285840" y="2143080"/>
            <a:ext cx="8566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пословицы о дружбе вы знаете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285920" y="4286160"/>
            <a:ext cx="478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de66"/>
                </a:solidFill>
                <a:uFillTx/>
                <a:latin typeface="Franklin Gothic Book"/>
                <a:hlinkClick r:id="rId3"/>
              </a:rPr>
              <a:t>Объясни пословицу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7" name="Рисунок 4" descr="F:\CLIPART8\J0343363.WMF"/>
          <p:cNvPicPr/>
          <p:nvPr/>
        </p:nvPicPr>
        <p:blipFill>
          <a:blip r:embed="rId4"/>
          <a:stretch/>
        </p:blipFill>
        <p:spPr>
          <a:xfrm>
            <a:off x="928800" y="428760"/>
            <a:ext cx="2071440" cy="17240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5" descr="F:\CLIPART8\J0343361.WMF"/>
          <p:cNvPicPr/>
          <p:nvPr/>
        </p:nvPicPr>
        <p:blipFill>
          <a:blip r:embed="rId5"/>
          <a:stretch/>
        </p:blipFill>
        <p:spPr>
          <a:xfrm>
            <a:off x="6000840" y="42148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6" descr="F:\CLIPART8\J0343329.WMF"/>
          <p:cNvPicPr/>
          <p:nvPr/>
        </p:nvPicPr>
        <p:blipFill>
          <a:blip r:embed="rId6"/>
          <a:stretch/>
        </p:blipFill>
        <p:spPr>
          <a:xfrm>
            <a:off x="642960" y="4143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7" descr="F:\CLIPART8\J0343397.WMF"/>
          <p:cNvPicPr/>
          <p:nvPr/>
        </p:nvPicPr>
        <p:blipFill>
          <a:blip r:embed="rId7"/>
          <a:stretch/>
        </p:blipFill>
        <p:spPr>
          <a:xfrm>
            <a:off x="6286680" y="28584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1279440"/>
            <a:ext cx="7515000" cy="6717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6" descr=""/>
          <p:cNvPicPr/>
          <p:nvPr/>
        </p:nvPicPr>
        <p:blipFill>
          <a:blip r:embed="rId2"/>
          <a:stretch/>
        </p:blipFill>
        <p:spPr>
          <a:xfrm>
            <a:off x="-646200" y="2054160"/>
            <a:ext cx="7583400" cy="108576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7" descr=""/>
          <p:cNvPicPr/>
          <p:nvPr/>
        </p:nvPicPr>
        <p:blipFill>
          <a:blip r:embed="rId3"/>
          <a:stretch/>
        </p:blipFill>
        <p:spPr>
          <a:xfrm>
            <a:off x="-933480" y="4425840"/>
            <a:ext cx="8156520" cy="66384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8" descr=""/>
          <p:cNvPicPr/>
          <p:nvPr/>
        </p:nvPicPr>
        <p:blipFill>
          <a:blip r:embed="rId4"/>
          <a:stretch/>
        </p:blipFill>
        <p:spPr>
          <a:xfrm>
            <a:off x="-433440" y="2828880"/>
            <a:ext cx="6370560" cy="7192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9" descr=""/>
          <p:cNvPicPr/>
          <p:nvPr/>
        </p:nvPicPr>
        <p:blipFill>
          <a:blip r:embed="rId5"/>
          <a:stretch/>
        </p:blipFill>
        <p:spPr>
          <a:xfrm>
            <a:off x="706320" y="66600"/>
            <a:ext cx="7731360" cy="9208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10" descr=""/>
          <p:cNvPicPr/>
          <p:nvPr/>
        </p:nvPicPr>
        <p:blipFill>
          <a:blip r:embed="rId6"/>
          <a:stretch/>
        </p:blipFill>
        <p:spPr>
          <a:xfrm>
            <a:off x="-365040" y="3713040"/>
            <a:ext cx="7229520" cy="66384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11" descr=""/>
          <p:cNvPicPr/>
          <p:nvPr/>
        </p:nvPicPr>
        <p:blipFill>
          <a:blip r:embed="rId7"/>
          <a:stretch/>
        </p:blipFill>
        <p:spPr>
          <a:xfrm>
            <a:off x="-6480" y="5194440"/>
            <a:ext cx="6510600" cy="693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H:\кАРТИНКИ\Картинки из интернета\Рисунок7.gif"/>
          <p:cNvPicPr/>
          <p:nvPr/>
        </p:nvPicPr>
        <p:blipFill>
          <a:blip r:embed="rId8"/>
          <a:stretch/>
        </p:blipFill>
        <p:spPr>
          <a:xfrm>
            <a:off x="6143760" y="3929040"/>
            <a:ext cx="2535120" cy="214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H:\кАРТИНКИ\Картинки из интернета\Рисунок8.gif"/>
          <p:cNvPicPr/>
          <p:nvPr/>
        </p:nvPicPr>
        <p:blipFill>
          <a:blip r:embed="rId9"/>
          <a:stretch/>
        </p:blipFill>
        <p:spPr>
          <a:xfrm>
            <a:off x="6357960" y="1285920"/>
            <a:ext cx="2000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95120" y="128520"/>
            <a:ext cx="8955360" cy="13827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" descr="F:\CLIPART6\J0297523.WMF"/>
          <p:cNvPicPr/>
          <p:nvPr/>
        </p:nvPicPr>
        <p:blipFill>
          <a:blip r:embed="rId2"/>
          <a:stretch/>
        </p:blipFill>
        <p:spPr>
          <a:xfrm>
            <a:off x="3643200" y="1857240"/>
            <a:ext cx="1928880" cy="20336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F:\CLIPART6\J0297555.WMF"/>
          <p:cNvPicPr/>
          <p:nvPr/>
        </p:nvPicPr>
        <p:blipFill>
          <a:blip r:embed="rId3"/>
          <a:stretch/>
        </p:blipFill>
        <p:spPr>
          <a:xfrm>
            <a:off x="571680" y="1500120"/>
            <a:ext cx="2143080" cy="20955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F:\CLIPART8\J0343321.WMF"/>
          <p:cNvPicPr/>
          <p:nvPr/>
        </p:nvPicPr>
        <p:blipFill>
          <a:blip r:embed="rId4"/>
          <a:stretch/>
        </p:blipFill>
        <p:spPr>
          <a:xfrm>
            <a:off x="6357960" y="1571760"/>
            <a:ext cx="2000160" cy="18381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6" descr="F:\CLIPART8\J0343317.WMF"/>
          <p:cNvPicPr/>
          <p:nvPr/>
        </p:nvPicPr>
        <p:blipFill>
          <a:blip r:embed="rId5"/>
          <a:stretch/>
        </p:blipFill>
        <p:spPr>
          <a:xfrm>
            <a:off x="785880" y="4572000"/>
            <a:ext cx="2023920" cy="17287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F:\CLIPART8\J0343401.WMF"/>
          <p:cNvPicPr/>
          <p:nvPr/>
        </p:nvPicPr>
        <p:blipFill>
          <a:blip r:embed="rId6"/>
          <a:stretch/>
        </p:blipFill>
        <p:spPr>
          <a:xfrm>
            <a:off x="6715080" y="3857760"/>
            <a:ext cx="2190960" cy="2000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Documents and Settings\Администратор\Рабочий стол\Анимации\анимашки\KIDS\AN087.GIF"/>
          <p:cNvPicPr/>
          <p:nvPr/>
        </p:nvPicPr>
        <p:blipFill>
          <a:blip r:embed="rId7"/>
          <a:stretch/>
        </p:blipFill>
        <p:spPr>
          <a:xfrm>
            <a:off x="4357800" y="4572000"/>
            <a:ext cx="1735200" cy="201780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10" descr=""/>
          <p:cNvPicPr/>
          <p:nvPr/>
        </p:nvPicPr>
        <p:blipFill>
          <a:blip r:embed="rId8"/>
          <a:stretch/>
        </p:blipFill>
        <p:spPr>
          <a:xfrm>
            <a:off x="523800" y="1139760"/>
            <a:ext cx="1573200" cy="120168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1" descr=""/>
          <p:cNvPicPr/>
          <p:nvPr/>
        </p:nvPicPr>
        <p:blipFill>
          <a:blip r:embed="rId9"/>
          <a:stretch/>
        </p:blipFill>
        <p:spPr>
          <a:xfrm>
            <a:off x="2670120" y="1285920"/>
            <a:ext cx="1577880" cy="120168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2" descr=""/>
          <p:cNvPicPr/>
          <p:nvPr/>
        </p:nvPicPr>
        <p:blipFill>
          <a:blip r:embed="rId10"/>
          <a:stretch/>
        </p:blipFill>
        <p:spPr>
          <a:xfrm>
            <a:off x="5310360" y="785880"/>
            <a:ext cx="1577880" cy="120168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3" descr=""/>
          <p:cNvPicPr/>
          <p:nvPr/>
        </p:nvPicPr>
        <p:blipFill>
          <a:blip r:embed="rId11"/>
          <a:stretch/>
        </p:blipFill>
        <p:spPr>
          <a:xfrm>
            <a:off x="23760" y="3925800"/>
            <a:ext cx="1579680" cy="120024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4" descr=""/>
          <p:cNvPicPr/>
          <p:nvPr/>
        </p:nvPicPr>
        <p:blipFill>
          <a:blip r:embed="rId12"/>
          <a:stretch/>
        </p:blipFill>
        <p:spPr>
          <a:xfrm>
            <a:off x="3456000" y="3998880"/>
            <a:ext cx="1579680" cy="120168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5" descr=""/>
          <p:cNvPicPr/>
          <p:nvPr/>
        </p:nvPicPr>
        <p:blipFill>
          <a:blip r:embed="rId13"/>
          <a:stretch/>
        </p:blipFill>
        <p:spPr>
          <a:xfrm>
            <a:off x="5668920" y="3213000"/>
            <a:ext cx="1579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4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955000" cy="1455480"/>
          </a:xfrm>
          <a:prstGeom prst="rect">
            <a:avLst/>
          </a:prstGeom>
          <a:ln w="0">
            <a:noFill/>
          </a:ln>
        </p:spPr>
      </p:pic>
      <p:pic>
        <p:nvPicPr>
          <p:cNvPr id="444" name="075 Улыбка.mp3" descr=""/>
          <p:cNvPicPr/>
          <p:nvPr/>
        </p:nvPicPr>
        <p:blipFill>
          <a:blip r:embed="rId2"/>
          <a:stretch/>
        </p:blipFill>
        <p:spPr>
          <a:xfrm>
            <a:off x="4457880" y="3000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H:\кАРТИНКИ\Новое\wapos_ru_3486g.gif"/>
          <p:cNvPicPr/>
          <p:nvPr/>
        </p:nvPicPr>
        <p:blipFill>
          <a:blip r:embed="rId3"/>
          <a:stretch/>
        </p:blipFill>
        <p:spPr>
          <a:xfrm>
            <a:off x="5429160" y="2071800"/>
            <a:ext cx="3353040" cy="396216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  <p:pic>
        <p:nvPicPr>
          <p:cNvPr id="446" name="Picture 3" descr="H:\кАРТИНКИ\Из мультфильмов\ELFSQU_3.JPG"/>
          <p:cNvPicPr/>
          <p:nvPr/>
        </p:nvPicPr>
        <p:blipFill>
          <a:blip r:embed="rId4"/>
          <a:stretch/>
        </p:blipFill>
        <p:spPr>
          <a:xfrm>
            <a:off x="428760" y="1928880"/>
            <a:ext cx="32860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21110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2855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Franklin Gothic Book"/>
              </a:rPr>
              <a:t>Улыбнитесь друг другу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3200" spc="-1" strike="noStrike">
                <a:solidFill>
                  <a:srgbClr val="00b050"/>
                </a:solidFill>
                <a:latin typeface="Franklin Gothic Book"/>
              </a:rPr>
              <a:t>примите такое выражение лица, какое должно быть у дружелюбно настроенного человека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какое выражение лица бывает у враждебно настроенного человека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49" name="Picture 5" descr="F:\CLIPART8\J0343197.WMF"/>
          <p:cNvPicPr/>
          <p:nvPr/>
        </p:nvPicPr>
        <p:blipFill>
          <a:blip r:embed="rId2"/>
          <a:stretch/>
        </p:blipFill>
        <p:spPr>
          <a:xfrm>
            <a:off x="6072120" y="528624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F:\CLIPART8\J0343199.WMF"/>
          <p:cNvPicPr/>
          <p:nvPr/>
        </p:nvPicPr>
        <p:blipFill>
          <a:blip r:embed="rId3"/>
          <a:stretch/>
        </p:blipFill>
        <p:spPr>
          <a:xfrm>
            <a:off x="6000840" y="30002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7:29:29Z</dcterms:created>
  <dc:creator>User</dc:creator>
  <dc:description/>
  <dc:language>en-US</dc:language>
  <cp:lastModifiedBy>Ильгина</cp:lastModifiedBy>
  <dcterms:modified xsi:type="dcterms:W3CDTF">2011-03-25T08:06:19Z</dcterms:modified>
  <cp:revision>34</cp:revision>
  <dc:subject/>
  <dc:title>Слайд 1</dc:title>
</cp:coreProperties>
</file>