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.jpeg" ContentType="image/jpeg"/>
  <Override PartName="/ppt/media/image10.png" ContentType="image/png"/>
  <Override PartName="/ppt/media/image50.wmf" ContentType="image/x-wmf"/>
  <Override PartName="/ppt/media/image54.gif" ContentType="image/gif"/>
  <Override PartName="/ppt/media/image28.png" ContentType="image/png"/>
  <Override PartName="/ppt/media/image7.jpeg" ContentType="image/jpeg"/>
  <Override PartName="/ppt/media/image31.wmf" ContentType="image/x-wmf"/>
  <Override PartName="/ppt/media/image5.png" ContentType="image/png"/>
  <Override PartName="/ppt/media/image26.png" ContentType="image/png"/>
  <Override PartName="/ppt/media/image3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16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34.wmf" ContentType="image/x-wmf"/>
  <Override PartName="/ppt/media/image49.png" ContentType="image/png"/>
  <Override PartName="/ppt/media/image41.png" ContentType="image/png"/>
  <Override PartName="/ppt/media/image9.wmf" ContentType="image/x-wmf"/>
  <Override PartName="/ppt/media/image46.png" ContentType="image/png"/>
  <Override PartName="/ppt/media/image35.wmf" ContentType="image/x-wmf"/>
  <Override PartName="/ppt/media/image12.gif" ContentType="image/gif"/>
  <Override PartName="/ppt/media/image47.wmf" ContentType="image/x-wmf"/>
  <Override PartName="/ppt/media/image37.png" ContentType="image/png"/>
  <Override PartName="/ppt/media/image48.wmf" ContentType="image/x-wmf"/>
  <Override PartName="/ppt/media/image30.png" ContentType="image/png"/>
  <Override PartName="/ppt/media/image52.jpeg" ContentType="image/jpeg"/>
  <Override PartName="/ppt/media/image33.wmf" ContentType="image/x-wmf"/>
  <Override PartName="/ppt/media/image8.png" ContentType="image/png"/>
  <Override PartName="/ppt/media/image38.png" ContentType="image/png"/>
  <Override PartName="/ppt/media/image11.png" ContentType="image/png"/>
  <Override PartName="/ppt/media/image51.wmf" ContentType="image/x-wmf"/>
  <Override PartName="/ppt/media/image6.png" ContentType="image/png"/>
  <Override PartName="/ppt/media/image14.wmf" ContentType="image/x-wmf"/>
  <Override PartName="/ppt/media/image53.png" ContentType="image/png"/>
  <Override PartName="/ppt/media/image13.gif" ContentType="image/gif"/>
  <Override PartName="/ppt/media/image36.gif" ContentType="image/gif"/>
  <Override PartName="/ppt/media/image29.png" ContentType="image/png"/>
  <Override PartName="/ppt/media/image32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8E9A-533C-4CB5-ACB9-587A55E1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C324-803A-48F3-B85A-B70FC140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7A0FA-074B-4B96-ACE1-AF3FBFEC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BF96F-0143-449D-AD1A-B8B39F6D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3A110-A2E4-4C74-9645-D2916C2C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78395-66D8-4279-BE84-58CD9A68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8A1E4-3384-4B4B-8686-349EE323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11147-47A2-46C4-BD4A-36189EAB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2B7D7-A62E-489C-9AB4-297B8884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674AE-9984-4DAE-8037-643026D8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88991-E469-4E64-B635-E609AB3F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477D-5A5D-4856-A84A-4AB61D09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D0F7-7405-459C-A863-57D1EFCB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B954-01BB-47E4-9745-16EA8C92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F97A-880B-4E5E-A1E8-D7698FF1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C1AB-F70F-4C98-9DB4-E9A3FE29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21F0-B96C-4B63-A6E2-931C2C0D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1271-C9FA-401C-A0A9-623D5BE3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6871-EB5E-4C62-AAFE-9A27BB94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352D-4B11-43D5-ADF1-4D5EF0C3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79D4-F71E-451F-BDA2-B9C124B4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FE03-A5BE-4BAF-B6AC-4DEA9E6E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5239-8E4D-4BAC-8670-E31114CB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C416-0482-4B5F-B5D6-B1AE6C2F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70DE-8DFD-4D91-BA43-4E4A43A7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E85E-2BF5-4A27-AF39-68DD3AF9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2D1C1-C16B-4905-BFA2-E5ED46B1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1A12A-FB6F-42EA-BB03-55516042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A5A37-90F9-4BD8-A0E5-C6ABB255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79172-49C3-4E34-A1E0-3F7F16C7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E4D2C-8805-461E-832C-41B99084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0DBE-FA16-49E7-A6DC-9E65C11C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23E80-68EF-4DE2-BE28-F53A92AD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02F5E-4FF9-4ACE-AB15-B6CCB267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C832C-325C-4043-AF38-E0B4A775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82828-9BDD-42C0-8A30-71904A77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C201E-9282-455A-93DC-F7F00BA9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8DBBA-41B3-487C-A0D8-42E12D93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E9093-D761-4AE7-AFCE-536D70E4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CDB62-1E36-4226-ACDC-65A0EF9A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AE8F6-5376-457D-9533-7E17CCB6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FAB90-C111-4E2C-A33D-401FA117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E78D-E04B-406E-9604-77622473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5E195-1F86-4C57-94F5-7DBA7626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D7C2B-E4FD-4CC0-BC07-85CB8F69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23212-0D10-49AF-98ED-D27C6CBD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9F2AA-68B3-4954-A38B-094C4802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42587-E42B-41E3-B00D-5D797DB0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8C8E9-B756-4EDF-B43C-B54086D7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C1FDD-7122-488E-9AC3-1290F0A0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25AD7-9B70-45EC-B6AC-E04CF21A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B0201-1B1B-4042-9FC9-7DC1CAB5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70C8E-AACC-43C2-8ECB-96EA06F7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040D-EA34-499B-BDB6-4EEE5348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ECA10-2FA6-45D0-BFFA-85EF1C0C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B00C0-6069-48B7-80EE-703B1B6E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09B6E-E7AA-4F43-8DA2-705D8240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BD1DA-B160-429B-B8D7-E31022BB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6D76C-CCDB-456D-9F6D-BFD2A5FB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6AF0D-F8F8-4A79-8B9F-ED9BC2B3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DF11B-14A5-442C-A49F-04B19A37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A95E3-5006-4297-B8A1-A8AD80AF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2BEF4-A964-48DA-ABDF-AEB3D447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F0599-6746-4A61-986A-E6B21160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CD20-599D-46EC-BAAB-5C7AA3A4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21A6F-3093-47EA-B563-5A81A0DF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EC521-A106-4E31-9CEF-4EBD7B17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8E820-71F3-482B-A3AA-EA0C0567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3A1FC-4992-4494-A440-D1CBBDC8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2F4AD-51A7-4A15-B6DD-8D597BF9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6B05A-10EE-4F87-AF2A-54C4F731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F6068-CB7C-43B0-827E-F943D5C3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624A0-B337-4660-9E3D-632E8D57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116BB-FDA2-4AB6-8392-59D397AC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2DEBE-2DD1-4F23-B4F5-D236068D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B2F-18F5-4345-A798-83B82D20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0F8F2-586E-4791-A7DD-D4D84D93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65748-856E-4A8C-A29C-43287CA7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0C5C8-5D23-4E01-A858-6B9E461F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764CF-EAA5-4B44-A335-84E1A219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C75FD-28EA-4F87-8EBB-FDF2BFDB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3DE40-4D72-46A0-95EF-45E0C992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64EB6-5C3A-4A87-9505-5E915930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520EC-E966-4F9F-BD4C-BA4CD212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82DF1-E334-419E-B523-6CF3B1E5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5E4EE-F532-472E-AE00-90B28FBC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998-F8DC-4B7A-9CE2-729827AD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AE4B0-4847-4042-9B51-3776E1F9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0D663-5F25-4682-87A1-6E585993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C3434-7C52-4C0C-89C2-49A2CD63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E77C1-DBDE-4410-B50A-30C99C4A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4AE59-7750-4737-A692-8C701DC6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74288-A09A-44B6-B2A5-F8A5053D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1904B-EBB5-4FC6-A6AA-9D90A46D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9010E-6D3D-49BF-8547-0EB41BBF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E9D15-7927-4BA0-A23D-3314B663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BB798-67D8-4A17-9023-31FEA6C7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EE79-7646-45C1-99E8-6CFCD47F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B2E4F-2B2C-407A-8619-A77A6576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2E642-2728-4FCB-8EB3-9685E72B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2E2E3-5529-44C6-ADD8-1221566C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5806E-C2B6-44E8-9FD0-7072184E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29944-E532-4BFF-AB43-4A8CF943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E6B80-901F-4381-AF5F-E2E69D00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F2336-177E-4763-A15E-6FB6EC4D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224EC-1050-4716-94D5-C910D2B0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EA058-B17B-4254-91EB-67722C9B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AC1CC-5A96-48DD-A94B-CFD5F501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DB1A-B3C9-48B0-A2BA-C0D4BF8989B3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B710-AACA-49F0-8055-D1087FE0298B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4229-6E8C-436D-84A9-6CDC13F14082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e7e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AE7C-673D-457E-AB38-B516BBD373E5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A6FB-6FA1-4F4C-BFF9-2271C9EE579A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BB7C-1FB9-47AA-89C6-667335708F8B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8BFB-3AB4-4B76-8122-6B3849EBFAEA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C75D-8366-4893-A6BC-027B9D379CDA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7D30-FFFD-44AA-9505-2CC1D53C7368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hyperlink" Target="file:///&#1044;&#1080;&#1076;&#1072;&#1082;&#1090;&#1080;&#1095;&#1077;&#1089;&#1082;&#1080;&#1081;%20&#1084;&#1072;&#1090;&#1077;&#1088;&#1080;&#1072;&#1083;.xls" TargetMode="External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gif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6.png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Прямоугольник 4" descr=""/>
          <p:cNvPicPr/>
          <p:nvPr/>
        </p:nvPicPr>
        <p:blipFill>
          <a:blip r:embed="rId1"/>
          <a:stretch/>
        </p:blipFill>
        <p:spPr>
          <a:xfrm>
            <a:off x="1133640" y="208080"/>
            <a:ext cx="6973560" cy="2286000"/>
          </a:xfrm>
          <a:prstGeom prst="rect">
            <a:avLst/>
          </a:prstGeom>
          <a:ln w="0">
            <a:noFill/>
          </a:ln>
        </p:spPr>
      </p:pic>
      <p:pic>
        <p:nvPicPr>
          <p:cNvPr id="400" name="080 Чему учат в школе.mp3" descr=""/>
          <p:cNvPicPr/>
          <p:nvPr/>
        </p:nvPicPr>
        <p:blipFill>
          <a:blip r:embed="rId2"/>
          <a:stretch/>
        </p:blipFill>
        <p:spPr>
          <a:xfrm>
            <a:off x="4572000" y="235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iz068_top[1]"/>
          <p:cNvPicPr/>
          <p:nvPr/>
        </p:nvPicPr>
        <p:blipFill>
          <a:blip r:embed="rId3"/>
          <a:stretch/>
        </p:blipFill>
        <p:spPr>
          <a:xfrm>
            <a:off x="285840" y="3357720"/>
            <a:ext cx="86439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7865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42840" y="36360"/>
            <a:ext cx="8955000" cy="205452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457200" y="199980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- </a:t>
            </a:r>
            <a:r>
              <a:rPr b="1" i="1" lang="ru-RU" sz="3500" spc="-1" strike="noStrike">
                <a:solidFill>
                  <a:srgbClr val="7030a0"/>
                </a:solidFill>
                <a:latin typeface="Franklin Gothic Book"/>
              </a:rPr>
              <a:t>Потрогайте руки друг друга. </a:t>
            </a:r>
            <a:endParaRPr b="0" lang="en-US" sz="35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876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b13f9a"/>
                </a:solidFill>
                <a:latin typeface="Franklin Gothic Book"/>
              </a:rPr>
              <a:t>  </a:t>
            </a:r>
            <a:r>
              <a:rPr b="1" i="1" lang="ru-RU" sz="3500" spc="-1" strike="noStrike">
                <a:solidFill>
                  <a:srgbClr val="b13f9a"/>
                </a:solidFill>
                <a:latin typeface="Franklin Gothic Book"/>
              </a:rPr>
              <a:t>Что можно о них сказать?</a:t>
            </a:r>
            <a:endParaRPr b="0" lang="en-US" sz="35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876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b13f9a"/>
                </a:solidFill>
                <a:latin typeface="Franklin Gothic Book"/>
              </a:rPr>
              <a:t>- </a:t>
            </a:r>
            <a:r>
              <a:rPr b="1" i="1" lang="ru-RU" sz="3500" spc="-1" strike="noStrike">
                <a:solidFill>
                  <a:srgbClr val="00b050"/>
                </a:solidFill>
                <a:latin typeface="Franklin Gothic Book"/>
              </a:rPr>
              <a:t>Пожмите дружески руки друг другу. </a:t>
            </a:r>
            <a:endParaRPr b="0" lang="en-US" sz="35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876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b13f9a"/>
                </a:solidFill>
                <a:latin typeface="Franklin Gothic Book"/>
              </a:rPr>
              <a:t>  </a:t>
            </a:r>
            <a:r>
              <a:rPr b="1" i="1" lang="ru-RU" sz="3500" spc="-1" strike="noStrike">
                <a:solidFill>
                  <a:srgbClr val="b13f9a"/>
                </a:solidFill>
                <a:latin typeface="Franklin Gothic Book"/>
              </a:rPr>
              <a:t>Что вы чувствуете?</a:t>
            </a:r>
            <a:endParaRPr b="0" lang="en-US" sz="35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53" name="Рисунок 4" descr="F:\CLIPART8\J0343309.WMF"/>
          <p:cNvPicPr/>
          <p:nvPr/>
        </p:nvPicPr>
        <p:blipFill>
          <a:blip r:embed="rId2"/>
          <a:stretch/>
        </p:blipFill>
        <p:spPr>
          <a:xfrm>
            <a:off x="5143680" y="3857760"/>
            <a:ext cx="2143080" cy="264312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5" descr="F:\CLIPART7\J0324618.WMF"/>
          <p:cNvPicPr/>
          <p:nvPr/>
        </p:nvPicPr>
        <p:blipFill>
          <a:blip r:embed="rId3"/>
          <a:stretch/>
        </p:blipFill>
        <p:spPr>
          <a:xfrm>
            <a:off x="7072200" y="785880"/>
            <a:ext cx="1790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356760" y="785520"/>
            <a:ext cx="828036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13f9a"/>
                </a:solidFill>
                <a:latin typeface="Franklin Gothic Book"/>
              </a:rPr>
              <a:t>1. Один за всех и все за одного.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13f9a"/>
                </a:solidFill>
                <a:latin typeface="Franklin Gothic Book"/>
              </a:rPr>
              <a:t>2. Уважайте друг друга и помогайте друг другу.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13f9a"/>
                </a:solidFill>
                <a:latin typeface="Franklin Gothic Book"/>
              </a:rPr>
              <a:t>3. Радуйтесь вместе с друзьями.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13f9a"/>
                </a:solidFill>
                <a:latin typeface="Franklin Gothic Book"/>
              </a:rPr>
              <a:t>4. Не обижайте друзей и всех, кто вас окружает.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13f9a"/>
                </a:solidFill>
                <a:latin typeface="Franklin Gothic Book"/>
              </a:rPr>
              <a:t>5. Не оставляйте друзей в беде, не подводите их, не предавайте, не обманывайте, не нарушайте своих обещаний.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13f9a"/>
                </a:solidFill>
                <a:latin typeface="Franklin Gothic Book"/>
              </a:rPr>
              <a:t>6. Берегите друзей, ведь друга потерять 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13f9a"/>
                </a:solidFill>
                <a:latin typeface="Franklin Gothic Book"/>
              </a:rPr>
              <a:t>легко. Старый друг лучше новых двух.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56" name="WordArt 4"/>
          <p:cNvSpPr txBox="1"/>
          <p:nvPr/>
        </p:nvSpPr>
        <p:spPr>
          <a:xfrm>
            <a:off x="1857240" y="214200"/>
            <a:ext cx="4786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70c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новные законы дружбы:</a:t>
            </a:r>
            <a:endParaRPr b="1" i="1" lang="en-US" sz="1800" spc="1" strike="noStrike">
              <a:ln w="0">
                <a:noFill/>
              </a:ln>
              <a:solidFill>
                <a:srgbClr val="0070c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7" name="Picture 2" descr="H:\кАРТИНКИ\Из мультфильмов\POOHPIG.JPG"/>
          <p:cNvPicPr/>
          <p:nvPr/>
        </p:nvPicPr>
        <p:blipFill>
          <a:blip r:embed="rId1"/>
          <a:stretch/>
        </p:blipFill>
        <p:spPr>
          <a:xfrm>
            <a:off x="7215120" y="4000680"/>
            <a:ext cx="17146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77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77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77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77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77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77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3" dur="77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770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77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770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77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pic>
        <p:nvPicPr>
          <p:cNvPr id="459" name="Прямоугольник 4" descr=""/>
          <p:cNvPicPr/>
          <p:nvPr/>
        </p:nvPicPr>
        <p:blipFill>
          <a:blip r:embed="rId1"/>
          <a:stretch/>
        </p:blipFill>
        <p:spPr>
          <a:xfrm>
            <a:off x="853920" y="1494000"/>
            <a:ext cx="7412040" cy="41018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" descr="C:\Documents and Settings\Администратор\Рабочий стол\Анимации\анимашки\Cartoon Animals\AN018.GIF"/>
          <p:cNvPicPr/>
          <p:nvPr/>
        </p:nvPicPr>
        <p:blipFill>
          <a:blip r:embed="rId2"/>
          <a:stretch/>
        </p:blipFill>
        <p:spPr>
          <a:xfrm>
            <a:off x="6286680" y="0"/>
            <a:ext cx="23572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24000" y="2786040"/>
            <a:ext cx="864072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Garamond"/>
              </a:rPr>
              <a:t>«</a:t>
            </a:r>
            <a:r>
              <a:rPr b="1" i="1" lang="ru-RU" sz="3200" spc="-1" strike="noStrike">
                <a:solidFill>
                  <a:srgbClr val="663300"/>
                </a:solidFill>
                <a:latin typeface="Garamond"/>
              </a:rPr>
              <a:t>Товарищ </a:t>
            </a:r>
            <a:r>
              <a:rPr b="1" lang="ru-RU" sz="3200" spc="-1" strike="noStrike">
                <a:solidFill>
                  <a:srgbClr val="cc3300"/>
                </a:solidFill>
                <a:latin typeface="Garamond"/>
              </a:rPr>
              <a:t>- человек, близкий кому-нибудь по общности взглядов, деятельности, условий жизни…»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Garamond"/>
              </a:rPr>
              <a:t>«</a:t>
            </a:r>
            <a:r>
              <a:rPr b="1" i="1" lang="ru-RU" sz="3200" spc="-1" strike="noStrike">
                <a:solidFill>
                  <a:srgbClr val="663300"/>
                </a:solidFill>
                <a:latin typeface="Garamond"/>
              </a:rPr>
              <a:t>Друг</a:t>
            </a:r>
            <a:r>
              <a:rPr b="1" i="1" lang="ru-RU" sz="3200" spc="-1" strike="noStrike">
                <a:solidFill>
                  <a:srgbClr val="ac66bb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Garamond"/>
              </a:rPr>
              <a:t>- тот, кто связан с кем-нибудь дружбой» 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Garamond"/>
              </a:rPr>
              <a:t>                                                    </a:t>
            </a:r>
            <a:r>
              <a:rPr b="1" lang="ru-RU" sz="3200" spc="-1" strike="noStrike">
                <a:solidFill>
                  <a:srgbClr val="cc3300"/>
                </a:solidFill>
                <a:latin typeface="Garamond"/>
              </a:rPr>
              <a:t>С.И. Ожегов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3" name="Text Box 19"/>
          <p:cNvSpPr/>
          <p:nvPr/>
        </p:nvSpPr>
        <p:spPr>
          <a:xfrm>
            <a:off x="826920" y="47628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4" name="WordArt 21"/>
          <p:cNvSpPr txBox="1"/>
          <p:nvPr/>
        </p:nvSpPr>
        <p:spPr>
          <a:xfrm>
            <a:off x="500040" y="404640"/>
            <a:ext cx="5943600" cy="10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руг, товарищ. Это кто?</a:t>
            </a:r>
            <a:endParaRPr b="0" lang="en-US" sz="1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5" name="Рисунок 8" descr="F:\CLIPART8\J0343319.WMF"/>
          <p:cNvPicPr/>
          <p:nvPr/>
        </p:nvPicPr>
        <p:blipFill>
          <a:blip r:embed="rId3"/>
          <a:stretch/>
        </p:blipFill>
        <p:spPr>
          <a:xfrm>
            <a:off x="6429240" y="714240"/>
            <a:ext cx="2428920" cy="17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3054240" y="-6480"/>
            <a:ext cx="5699160" cy="145116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3428640" y="500040"/>
            <a:ext cx="535788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aramond"/>
              </a:rPr>
              <a:t>– </a:t>
            </a:r>
            <a:r>
              <a:rPr b="1" lang="ru-RU" sz="3200" spc="-1" strike="noStrike">
                <a:solidFill>
                  <a:srgbClr val="cc3300"/>
                </a:solidFill>
                <a:latin typeface="Garamond"/>
              </a:rPr>
              <a:t>близкие отношения основанные на взаимном доверии,    привязанности, общности интересов»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8" name="WordArt 6"/>
          <p:cNvSpPr txBox="1"/>
          <p:nvPr/>
        </p:nvSpPr>
        <p:spPr>
          <a:xfrm>
            <a:off x="395280" y="333360"/>
            <a:ext cx="3166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ружба</a:t>
            </a:r>
            <a:endParaRPr b="1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9" name="Picture 2" descr="C:\Documents and Settings\Администратор\Рабочий стол\Анимации\анимашки\KIDS\AN137.GIF"/>
          <p:cNvPicPr/>
          <p:nvPr/>
        </p:nvPicPr>
        <p:blipFill>
          <a:blip r:embed="rId4"/>
          <a:stretch/>
        </p:blipFill>
        <p:spPr>
          <a:xfrm>
            <a:off x="6500880" y="3571920"/>
            <a:ext cx="2071800" cy="29145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Администратор\Рабочий стол\Анимации\анимашки\KIDS\AN138.GIF"/>
          <p:cNvPicPr/>
          <p:nvPr/>
        </p:nvPicPr>
        <p:blipFill>
          <a:blip r:embed="rId5"/>
          <a:stretch/>
        </p:blipFill>
        <p:spPr>
          <a:xfrm flipH="1">
            <a:off x="928440" y="3571920"/>
            <a:ext cx="2824200" cy="25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8"/>
          <p:cNvSpPr/>
          <p:nvPr/>
        </p:nvSpPr>
        <p:spPr>
          <a:xfrm>
            <a:off x="357120" y="642960"/>
            <a:ext cx="79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Ребята, оцените себя! В каждом утверждении вместо слов </a:t>
            </a:r>
            <a:r>
              <a:rPr b="1" lang="ru-RU" sz="2400" spc="-1" strike="noStrike">
                <a:solidFill>
                  <a:srgbClr val="ff3300"/>
                </a:solidFill>
                <a:latin typeface="Garamond"/>
              </a:rPr>
              <a:t>НАСТОЯЩИЙ ДРУГ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поставьте короткое слово </a:t>
            </a:r>
            <a:r>
              <a:rPr b="1" lang="ru-RU" sz="2400" spc="-1" strike="noStrike">
                <a:solidFill>
                  <a:srgbClr val="ff3300"/>
                </a:solidFill>
                <a:latin typeface="Garamond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. Ну как, получается? Прочитайте нам …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428760" y="2071800"/>
            <a:ext cx="835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Franklin Gothic Book"/>
              </a:rPr>
              <a:t>Настоящий друг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Franklin Gothic Book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2000" spc="-1" strike="noStrike">
                <a:solidFill>
                  <a:srgbClr val="ac66bb"/>
                </a:solidFill>
                <a:latin typeface="Franklin Gothic Book"/>
              </a:rPr>
              <a:t>это тот, кто никогда не обманывает своего друга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Franklin Gothic Book"/>
              </a:rPr>
              <a:t>Настоящий друг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Franklin Gothic Book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Franklin Gothic Book"/>
              </a:rPr>
              <a:t>это тот, кто не пожалеет поделиться  со своим другом всем, что сам имеет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Franklin Gothic Book"/>
              </a:rPr>
              <a:t>Настоящий друг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Franklin Gothic Book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b13f9a"/>
                </a:solidFill>
                <a:latin typeface="Franklin Gothic Book"/>
              </a:rPr>
              <a:t>это тот, кто не станет смеяться над бедой или неудачей своего друга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Franklin Gothic Book"/>
              </a:rPr>
              <a:t>Настоящий друг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Franklin Gothic Book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Franklin Gothic Book"/>
              </a:rPr>
              <a:t>это тот, с кем всегда интересно и никогда не скучно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Franklin Gothic Book"/>
              </a:rPr>
              <a:t>Настоящий друг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Franklin Gothic Book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ac66bb"/>
                </a:solidFill>
                <a:latin typeface="Franklin Gothic Book"/>
              </a:rPr>
              <a:t>это тот, кто постарается защитить от обидчика.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3" name="Рисунок 3" descr="F:\CLIPART8\J0343395.WMF"/>
          <p:cNvPicPr/>
          <p:nvPr/>
        </p:nvPicPr>
        <p:blipFill>
          <a:blip r:embed="rId1"/>
          <a:stretch/>
        </p:blipFill>
        <p:spPr>
          <a:xfrm>
            <a:off x="7500960" y="4857840"/>
            <a:ext cx="1438200" cy="178092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4" descr="F:\CLIPART6\J0297557.WMF"/>
          <p:cNvPicPr/>
          <p:nvPr/>
        </p:nvPicPr>
        <p:blipFill>
          <a:blip r:embed="rId2"/>
          <a:stretch/>
        </p:blipFill>
        <p:spPr>
          <a:xfrm>
            <a:off x="7934400" y="571680"/>
            <a:ext cx="12096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WordArt 3"/>
          <p:cNvSpPr txBox="1"/>
          <p:nvPr/>
        </p:nvSpPr>
        <p:spPr>
          <a:xfrm>
            <a:off x="285840" y="2143080"/>
            <a:ext cx="85662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ие пословицы о дружбе вы знаете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1285920" y="4286160"/>
            <a:ext cx="4786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de66"/>
                </a:solidFill>
                <a:uFillTx/>
                <a:latin typeface="Franklin Gothic Book"/>
                <a:hlinkClick r:id="rId3"/>
              </a:rPr>
              <a:t>Объясни пословицу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7" name="Рисунок 4" descr="F:\CLIPART8\J0343363.WMF"/>
          <p:cNvPicPr/>
          <p:nvPr/>
        </p:nvPicPr>
        <p:blipFill>
          <a:blip r:embed="rId4"/>
          <a:stretch/>
        </p:blipFill>
        <p:spPr>
          <a:xfrm>
            <a:off x="928800" y="428760"/>
            <a:ext cx="2071440" cy="172404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5" descr="F:\CLIPART8\J0343361.WMF"/>
          <p:cNvPicPr/>
          <p:nvPr/>
        </p:nvPicPr>
        <p:blipFill>
          <a:blip r:embed="rId5"/>
          <a:stretch/>
        </p:blipFill>
        <p:spPr>
          <a:xfrm>
            <a:off x="6000840" y="4214880"/>
            <a:ext cx="2643120" cy="228600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6" descr="F:\CLIPART8\J0343329.WMF"/>
          <p:cNvPicPr/>
          <p:nvPr/>
        </p:nvPicPr>
        <p:blipFill>
          <a:blip r:embed="rId6"/>
          <a:stretch/>
        </p:blipFill>
        <p:spPr>
          <a:xfrm>
            <a:off x="642960" y="4143240"/>
            <a:ext cx="2571840" cy="214344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7" descr="F:\CLIPART8\J0343397.WMF"/>
          <p:cNvPicPr/>
          <p:nvPr/>
        </p:nvPicPr>
        <p:blipFill>
          <a:blip r:embed="rId7"/>
          <a:stretch/>
        </p:blipFill>
        <p:spPr>
          <a:xfrm>
            <a:off x="6286680" y="285840"/>
            <a:ext cx="20714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Прямоугольник 3" descr=""/>
          <p:cNvPicPr/>
          <p:nvPr/>
        </p:nvPicPr>
        <p:blipFill>
          <a:blip r:embed="rId1"/>
          <a:stretch/>
        </p:blipFill>
        <p:spPr>
          <a:xfrm>
            <a:off x="-291960" y="1279440"/>
            <a:ext cx="7515000" cy="671760"/>
          </a:xfrm>
          <a:prstGeom prst="rect">
            <a:avLst/>
          </a:prstGeom>
          <a:ln w="0">
            <a:noFill/>
          </a:ln>
        </p:spPr>
      </p:pic>
      <p:pic>
        <p:nvPicPr>
          <p:cNvPr id="422" name="Прямоугольник 6" descr=""/>
          <p:cNvPicPr/>
          <p:nvPr/>
        </p:nvPicPr>
        <p:blipFill>
          <a:blip r:embed="rId2"/>
          <a:stretch/>
        </p:blipFill>
        <p:spPr>
          <a:xfrm>
            <a:off x="-646200" y="2054160"/>
            <a:ext cx="7583400" cy="1085760"/>
          </a:xfrm>
          <a:prstGeom prst="rect">
            <a:avLst/>
          </a:prstGeom>
          <a:ln w="0">
            <a:noFill/>
          </a:ln>
        </p:spPr>
      </p:pic>
      <p:pic>
        <p:nvPicPr>
          <p:cNvPr id="423" name="Прямоугольник 7" descr=""/>
          <p:cNvPicPr/>
          <p:nvPr/>
        </p:nvPicPr>
        <p:blipFill>
          <a:blip r:embed="rId3"/>
          <a:stretch/>
        </p:blipFill>
        <p:spPr>
          <a:xfrm>
            <a:off x="-933480" y="4425840"/>
            <a:ext cx="8156520" cy="663840"/>
          </a:xfrm>
          <a:prstGeom prst="rect">
            <a:avLst/>
          </a:prstGeom>
          <a:ln w="0">
            <a:noFill/>
          </a:ln>
        </p:spPr>
      </p:pic>
      <p:pic>
        <p:nvPicPr>
          <p:cNvPr id="424" name="Прямоугольник 8" descr=""/>
          <p:cNvPicPr/>
          <p:nvPr/>
        </p:nvPicPr>
        <p:blipFill>
          <a:blip r:embed="rId4"/>
          <a:stretch/>
        </p:blipFill>
        <p:spPr>
          <a:xfrm>
            <a:off x="-433440" y="2828880"/>
            <a:ext cx="6370560" cy="71928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оугольник 9" descr=""/>
          <p:cNvPicPr/>
          <p:nvPr/>
        </p:nvPicPr>
        <p:blipFill>
          <a:blip r:embed="rId5"/>
          <a:stretch/>
        </p:blipFill>
        <p:spPr>
          <a:xfrm>
            <a:off x="706320" y="66600"/>
            <a:ext cx="7731360" cy="920880"/>
          </a:xfrm>
          <a:prstGeom prst="rect">
            <a:avLst/>
          </a:prstGeom>
          <a:ln w="0">
            <a:noFill/>
          </a:ln>
        </p:spPr>
      </p:pic>
      <p:pic>
        <p:nvPicPr>
          <p:cNvPr id="426" name="Прямоугольник 10" descr=""/>
          <p:cNvPicPr/>
          <p:nvPr/>
        </p:nvPicPr>
        <p:blipFill>
          <a:blip r:embed="rId6"/>
          <a:stretch/>
        </p:blipFill>
        <p:spPr>
          <a:xfrm>
            <a:off x="-365040" y="3713040"/>
            <a:ext cx="7229520" cy="66384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оугольник 11" descr=""/>
          <p:cNvPicPr/>
          <p:nvPr/>
        </p:nvPicPr>
        <p:blipFill>
          <a:blip r:embed="rId7"/>
          <a:stretch/>
        </p:blipFill>
        <p:spPr>
          <a:xfrm>
            <a:off x="-6480" y="5194440"/>
            <a:ext cx="6510600" cy="6937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H:\кАРТИНКИ\Картинки из интернета\Рисунок7.gif"/>
          <p:cNvPicPr/>
          <p:nvPr/>
        </p:nvPicPr>
        <p:blipFill>
          <a:blip r:embed="rId8"/>
          <a:stretch/>
        </p:blipFill>
        <p:spPr>
          <a:xfrm>
            <a:off x="6143760" y="3929040"/>
            <a:ext cx="2535120" cy="21430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H:\кАРТИНКИ\Картинки из интернета\Рисунок8.gif"/>
          <p:cNvPicPr/>
          <p:nvPr/>
        </p:nvPicPr>
        <p:blipFill>
          <a:blip r:embed="rId9"/>
          <a:stretch/>
        </p:blipFill>
        <p:spPr>
          <a:xfrm>
            <a:off x="6357960" y="1285920"/>
            <a:ext cx="200016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195120" y="128520"/>
            <a:ext cx="8955360" cy="138276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3" descr="F:\CLIPART6\J0297523.WMF"/>
          <p:cNvPicPr/>
          <p:nvPr/>
        </p:nvPicPr>
        <p:blipFill>
          <a:blip r:embed="rId2"/>
          <a:stretch/>
        </p:blipFill>
        <p:spPr>
          <a:xfrm>
            <a:off x="3643200" y="1857240"/>
            <a:ext cx="1928880" cy="203364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4" descr="F:\CLIPART6\J0297555.WMF"/>
          <p:cNvPicPr/>
          <p:nvPr/>
        </p:nvPicPr>
        <p:blipFill>
          <a:blip r:embed="rId3"/>
          <a:stretch/>
        </p:blipFill>
        <p:spPr>
          <a:xfrm>
            <a:off x="571680" y="1500120"/>
            <a:ext cx="2143080" cy="209556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5" descr="F:\CLIPART8\J0343321.WMF"/>
          <p:cNvPicPr/>
          <p:nvPr/>
        </p:nvPicPr>
        <p:blipFill>
          <a:blip r:embed="rId4"/>
          <a:stretch/>
        </p:blipFill>
        <p:spPr>
          <a:xfrm>
            <a:off x="6357960" y="1571760"/>
            <a:ext cx="2000160" cy="183816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6" descr="F:\CLIPART8\J0343317.WMF"/>
          <p:cNvPicPr/>
          <p:nvPr/>
        </p:nvPicPr>
        <p:blipFill>
          <a:blip r:embed="rId5"/>
          <a:stretch/>
        </p:blipFill>
        <p:spPr>
          <a:xfrm>
            <a:off x="785880" y="4572000"/>
            <a:ext cx="2023920" cy="172872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7" descr="F:\CLIPART8\J0343401.WMF"/>
          <p:cNvPicPr/>
          <p:nvPr/>
        </p:nvPicPr>
        <p:blipFill>
          <a:blip r:embed="rId6"/>
          <a:stretch/>
        </p:blipFill>
        <p:spPr>
          <a:xfrm>
            <a:off x="6715080" y="3857760"/>
            <a:ext cx="2190960" cy="20001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Documents and Settings\Администратор\Рабочий стол\Анимации\анимашки\KIDS\AN087.GIF"/>
          <p:cNvPicPr/>
          <p:nvPr/>
        </p:nvPicPr>
        <p:blipFill>
          <a:blip r:embed="rId7"/>
          <a:stretch/>
        </p:blipFill>
        <p:spPr>
          <a:xfrm>
            <a:off x="4357800" y="4572000"/>
            <a:ext cx="1735200" cy="2017800"/>
          </a:xfrm>
          <a:prstGeom prst="rect">
            <a:avLst/>
          </a:prstGeom>
          <a:ln w="0">
            <a:noFill/>
          </a:ln>
        </p:spPr>
      </p:pic>
      <p:pic>
        <p:nvPicPr>
          <p:cNvPr id="437" name="Прямоугольник 10" descr=""/>
          <p:cNvPicPr/>
          <p:nvPr/>
        </p:nvPicPr>
        <p:blipFill>
          <a:blip r:embed="rId8"/>
          <a:stretch/>
        </p:blipFill>
        <p:spPr>
          <a:xfrm>
            <a:off x="523800" y="1139760"/>
            <a:ext cx="1573200" cy="1201680"/>
          </a:xfrm>
          <a:prstGeom prst="rect">
            <a:avLst/>
          </a:prstGeom>
          <a:ln w="0">
            <a:noFill/>
          </a:ln>
        </p:spPr>
      </p:pic>
      <p:pic>
        <p:nvPicPr>
          <p:cNvPr id="438" name="Прямоугольник 11" descr=""/>
          <p:cNvPicPr/>
          <p:nvPr/>
        </p:nvPicPr>
        <p:blipFill>
          <a:blip r:embed="rId9"/>
          <a:stretch/>
        </p:blipFill>
        <p:spPr>
          <a:xfrm>
            <a:off x="2670120" y="1285920"/>
            <a:ext cx="1577880" cy="1201680"/>
          </a:xfrm>
          <a:prstGeom prst="rect">
            <a:avLst/>
          </a:prstGeom>
          <a:ln w="0">
            <a:noFill/>
          </a:ln>
        </p:spPr>
      </p:pic>
      <p:pic>
        <p:nvPicPr>
          <p:cNvPr id="439" name="Прямоугольник 12" descr=""/>
          <p:cNvPicPr/>
          <p:nvPr/>
        </p:nvPicPr>
        <p:blipFill>
          <a:blip r:embed="rId10"/>
          <a:stretch/>
        </p:blipFill>
        <p:spPr>
          <a:xfrm>
            <a:off x="5310360" y="785880"/>
            <a:ext cx="1577880" cy="1201680"/>
          </a:xfrm>
          <a:prstGeom prst="rect">
            <a:avLst/>
          </a:prstGeom>
          <a:ln w="0">
            <a:noFill/>
          </a:ln>
        </p:spPr>
      </p:pic>
      <p:pic>
        <p:nvPicPr>
          <p:cNvPr id="440" name="Прямоугольник 13" descr=""/>
          <p:cNvPicPr/>
          <p:nvPr/>
        </p:nvPicPr>
        <p:blipFill>
          <a:blip r:embed="rId11"/>
          <a:stretch/>
        </p:blipFill>
        <p:spPr>
          <a:xfrm>
            <a:off x="23760" y="3925800"/>
            <a:ext cx="1579680" cy="1200240"/>
          </a:xfrm>
          <a:prstGeom prst="rect">
            <a:avLst/>
          </a:prstGeom>
          <a:ln w="0">
            <a:noFill/>
          </a:ln>
        </p:spPr>
      </p:pic>
      <p:pic>
        <p:nvPicPr>
          <p:cNvPr id="441" name="Прямоугольник 14" descr=""/>
          <p:cNvPicPr/>
          <p:nvPr/>
        </p:nvPicPr>
        <p:blipFill>
          <a:blip r:embed="rId12"/>
          <a:stretch/>
        </p:blipFill>
        <p:spPr>
          <a:xfrm>
            <a:off x="3456000" y="3998880"/>
            <a:ext cx="1579680" cy="1201680"/>
          </a:xfrm>
          <a:prstGeom prst="rect">
            <a:avLst/>
          </a:prstGeom>
          <a:ln w="0">
            <a:noFill/>
          </a:ln>
        </p:spPr>
      </p:pic>
      <p:pic>
        <p:nvPicPr>
          <p:cNvPr id="442" name="Прямоугольник 15" descr=""/>
          <p:cNvPicPr/>
          <p:nvPr/>
        </p:nvPicPr>
        <p:blipFill>
          <a:blip r:embed="rId13"/>
          <a:stretch/>
        </p:blipFill>
        <p:spPr>
          <a:xfrm>
            <a:off x="5668920" y="3213000"/>
            <a:ext cx="15796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4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4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4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4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4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4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23760" y="208080"/>
            <a:ext cx="8955000" cy="1455480"/>
          </a:xfrm>
          <a:prstGeom prst="rect">
            <a:avLst/>
          </a:prstGeom>
          <a:ln w="0">
            <a:noFill/>
          </a:ln>
        </p:spPr>
      </p:pic>
      <p:pic>
        <p:nvPicPr>
          <p:cNvPr id="444" name="075 Улыбка.mp3" descr=""/>
          <p:cNvPicPr/>
          <p:nvPr/>
        </p:nvPicPr>
        <p:blipFill>
          <a:blip r:embed="rId2"/>
          <a:stretch/>
        </p:blipFill>
        <p:spPr>
          <a:xfrm>
            <a:off x="4457880" y="30002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H:\кАРТИНКИ\Новое\wapos_ru_3486g.gif"/>
          <p:cNvPicPr/>
          <p:nvPr/>
        </p:nvPicPr>
        <p:blipFill>
          <a:blip r:embed="rId3"/>
          <a:stretch/>
        </p:blipFill>
        <p:spPr>
          <a:xfrm>
            <a:off x="5429160" y="2071800"/>
            <a:ext cx="3353040" cy="3962160"/>
          </a:xfrm>
          <a:prstGeom prst="rect">
            <a:avLst/>
          </a:prstGeom>
          <a:ln w="9360">
            <a:solidFill>
              <a:srgbClr val="b83d68"/>
            </a:solidFill>
            <a:miter/>
          </a:ln>
        </p:spPr>
      </p:pic>
      <p:pic>
        <p:nvPicPr>
          <p:cNvPr id="446" name="Picture 3" descr="H:\кАРТИНКИ\Из мультфильмов\ELFSQU_3.JPG"/>
          <p:cNvPicPr/>
          <p:nvPr/>
        </p:nvPicPr>
        <p:blipFill>
          <a:blip r:embed="rId4"/>
          <a:stretch/>
        </p:blipFill>
        <p:spPr>
          <a:xfrm>
            <a:off x="428760" y="1928880"/>
            <a:ext cx="328608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21110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298440" y="371520"/>
            <a:ext cx="8699400" cy="13842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304920" y="1285560"/>
            <a:ext cx="8686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Franklin Gothic Book"/>
              </a:rPr>
              <a:t>               </a:t>
            </a:r>
            <a:r>
              <a:rPr b="1" i="1" lang="ru-RU" sz="4000" spc="-1" strike="noStrike">
                <a:solidFill>
                  <a:srgbClr val="0070c0"/>
                </a:solidFill>
                <a:latin typeface="Franklin Gothic Book"/>
              </a:rPr>
              <a:t>Улыбнитесь друг другу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- </a:t>
            </a:r>
            <a:r>
              <a:rPr b="0" lang="ru-RU" sz="3200" spc="-1" strike="noStrike">
                <a:solidFill>
                  <a:srgbClr val="00b050"/>
                </a:solidFill>
                <a:latin typeface="Franklin Gothic Book"/>
              </a:rPr>
              <a:t>примите такое выражение лица, какое должно быть у дружелюбно настроенного человека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- </a:t>
            </a: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какое выражение лица бывает у враждебно настроенного человека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49" name="Picture 5" descr="F:\CLIPART8\J0343197.WMF"/>
          <p:cNvPicPr/>
          <p:nvPr/>
        </p:nvPicPr>
        <p:blipFill>
          <a:blip r:embed="rId2"/>
          <a:stretch/>
        </p:blipFill>
        <p:spPr>
          <a:xfrm>
            <a:off x="6072120" y="5286240"/>
            <a:ext cx="1643040" cy="13575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7" descr="F:\CLIPART8\J0343199.WMF"/>
          <p:cNvPicPr/>
          <p:nvPr/>
        </p:nvPicPr>
        <p:blipFill>
          <a:blip r:embed="rId3"/>
          <a:stretch/>
        </p:blipFill>
        <p:spPr>
          <a:xfrm>
            <a:off x="6000840" y="3000240"/>
            <a:ext cx="1714320" cy="1428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7:29:29Z</dcterms:created>
  <dc:creator>User</dc:creator>
  <dc:description/>
  <dc:language>en-US</dc:language>
  <cp:lastModifiedBy>Ильгина</cp:lastModifiedBy>
  <dcterms:modified xsi:type="dcterms:W3CDTF">2011-03-25T08:06:19Z</dcterms:modified>
  <cp:revision>34</cp:revision>
  <dc:subject/>
  <dc:title>Слайд 1</dc:title>
</cp:coreProperties>
</file>