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279-FB3B-447C-9BA2-8A9079FA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6C5-2A9A-4881-A0F2-86B0D69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C76-ADAE-4315-9F8E-69A907F8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976-CB67-496C-9847-F2698880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380-1D28-43BB-855F-D610A455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BD4-8E9B-495B-8357-CEEB92D2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645-1BB2-487F-A1A4-1FEDAC03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F65-6DF4-412E-ACFA-1386908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EED-EDE7-4BAB-951F-54452D60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3AC-B49E-40C4-A454-B8BF0E50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693-F715-434A-A759-B15687C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4E5-1863-48F7-B240-5968434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188-24C1-4558-ACCE-596BE54900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en-US" sz="6600" spc="-1" strike="noStrike">
                <a:solidFill>
                  <a:srgbClr val="000000"/>
                </a:solidFill>
                <a:latin typeface="Calibri"/>
              </a:rPr>
              <a:t>Who wants to be a millionaire?</a:t>
            </a: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In what country do men wear skir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Sco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7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) Where are the tombs of many British kings and queens and other famous people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in the Tower of London;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in Westminster Abbe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on the river bank;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in the Cemetry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17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The third round  «London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)Whan can you see in Trafalgar squ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Nelson stat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Queen mem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King mem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Michael Gorbachev mem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17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) What is a Picadilly Circu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a circus ;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a squa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a street;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hous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What is the Tower of London no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p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 mus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for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)The name of the Palace where the Queen lives i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White 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Winsor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Buckingham Pa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7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. The fourth round «London’s traditions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43040" y="650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3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kills the ravens;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is the main raven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feeds the  ravens;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looks at rav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856880" y="571320"/>
            <a:ext cx="67993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1) The Raven Master is the pers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who 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pigeon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The cats;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squirrels;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rav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856880" y="571320"/>
            <a:ext cx="64119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2)  The legend says that with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hem The Tower will F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59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The  first round «Geography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040" y="64292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12.30a.m;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12 o’ clock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11.30a.m;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t 10 o’cl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85600" y="0"/>
            <a:ext cx="735804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) The Changing of the Guard takes place at Buckingham Palace every day at _________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)When can you see the flag over the Queen’s Pal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when she is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when she is at h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hen she is abr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when she has a pa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. The fifth round «London‘s parks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5840" y="4071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 Where is London‘s zo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Regent’s park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t. James’ park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Hyde pa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Central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Where can you see everything you wan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Central park;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Hyde  park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Regent’s park;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St. James ’park;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Where can you see pelicans and duck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Hyde  park;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t. James‘  pa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Central park;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 Regent’s par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428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. The sixth round «The British character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428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 About 44% of the population spend time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dancing;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gardening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sing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cooking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428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The British love of compromise is the  of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 physical geography;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Histor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Biology;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Ma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The British go for their holidays or just on a day trip to 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fr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sia 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Seasid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Mosc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England is in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 Everyone in Britain dreams of living in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a cottage;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a block of flat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a detached hous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 big private ho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. The seventh round «Nature in Britain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60008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 No place in Britain is more than 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50 miles;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75 mi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10 miles;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200m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Britain has a rich, fertile country side  which is famous for its 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canyons;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desert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deep green colour;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severe drou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Mountainous areas are found in Great Britain only in 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in the  sout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in the Southeast;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in  the west and in the south ;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in the north and the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 The main passenger  ports and airports are in the _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in the Wes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in the Southeast; ;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in the North;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 in the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oper Black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6126120"/>
            <a:ext cx="82296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The capital of Great Britain i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Card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 Edinbur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The name of the river in London i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Av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Sev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he N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The Th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Great Britain is divided int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5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2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3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4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The second round «History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) London is  more than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one thousand years old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three thousand years old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two thousand years old;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four thousand years 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Sir Cristopher Wren built 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The Tower of Lond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Parlia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Westminster Abb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St. Paul’s Cathed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Имя</cp:lastModifiedBy>
  <dcterms:modified xsi:type="dcterms:W3CDTF">2015-02-04T07:21:48Z</dcterms:modified>
  <cp:revision>15</cp:revision>
  <dc:subject/>
  <dc:title>Презентация PowerPoint</dc:title>
</cp:coreProperties>
</file>