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C037-1B82-4E02-ACD1-44DB3D723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2AC1-2A0E-439E-9117-A2F2E6BA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8A40-EAFF-4B1D-B36F-C367EA01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B6A6-CACA-4D78-B089-10435B53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4A92-A152-4F09-A08A-F3152A46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04A0-6F5E-4157-9C82-79F404E5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E80D-EF94-44B2-A08A-EA734FA3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93E3-DD10-406A-8BA9-DCD05601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AA11-55A2-47E8-B4A8-0F075501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E115-7FC9-4641-BDD3-F90B1BB5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E0D6-C5FD-47AA-B4B4-5AE90686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18BE-F757-4DF2-8E9D-FAFCAD04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DC4A-7782-474A-9D6B-599406CFE2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i="1" lang="en-US" sz="6600" spc="-1" strike="noStrike">
                <a:solidFill>
                  <a:srgbClr val="000000"/>
                </a:solidFill>
                <a:latin typeface="Calibri"/>
              </a:rPr>
              <a:t>Who wants to be a millionaire?</a:t>
            </a:r>
            <a:r>
              <a:rPr b="1" i="1" lang="ru-RU" sz="66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3642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)In what country do men wear skirt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En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Scot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W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172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) Where are the tombs of many British kings and queens and other famous people?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in the Tower of London;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in Westminster Abbey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on the river bank;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in the Cemetry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717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. The third round  «London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)Whan can you see in Trafalgar squ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Nelson stat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Queen memo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King memo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Michael Gorbachev memo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7172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) What is a Picadilly Circus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 a circus ;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 a square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a street;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a hous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717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)What is the Tower of London now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a pri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a h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a muse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a fort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4)The name of the Palace where the Queen lives is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the Tower of Lond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the White H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the Winsor pal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the Buckingham Pal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7172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4. The fourth round «London’s traditions»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43040" y="650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3572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kills the ravens;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is the main raven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feeds the  ravens;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looks at rave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1856880" y="571320"/>
            <a:ext cx="67993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1) The Raven Master is the pers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who ________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91440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The pigeon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 The cats;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The squirrels;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The rave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856880" y="571320"/>
            <a:ext cx="641196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2)  The legend says that without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them The Tower will Fa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859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 The  first round «Geography»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00040" y="642924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12.30a.m;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12 o’ clock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11.30a.m;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at 10 o’clo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785600" y="0"/>
            <a:ext cx="7358040" cy="23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) The Changing of the Guard takes place at Buckingham Palace every day at _________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4)When can you see the flag over the Queen’s Palac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when she is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when she is at h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when she is abr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when she has a par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5. The fifth round «London‘s parks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5840" y="4071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) Where is London‘s zoo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Regent’s park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St. James’ park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Hyde park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 Central pa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428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) Where can you see everything you want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Central park;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Hyde  park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Regent’s park;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St. James ’park;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7172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) Where can you see pelicans and ducks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Hyde  park;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St. James‘  park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Central park;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 Regent’s park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4280" y="292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6. The sixth round «The British character»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428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) About 44% of the population spend time ________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dancing;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gardening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singing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cooking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428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) The British love of compromise is the  of ________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144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the  physical geography;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History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Biology;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Mat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428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) The British go for their holidays or just on a day trip to _______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7168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Afric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Asia 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The Seasid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Mosc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)England is in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Af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Ame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A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4) Everyone in Britain dreams of living in ________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144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a cottage;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a block of flats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a detached hous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a big private hou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71720" y="292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7. The seventh round «Nature in Britain»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600084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) No place in Britain is more than _______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50 miles;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75 mi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10 miles;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200mi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) Britain has a rich, fertile country side  which is famous for its ________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1440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canyons;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deserts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deep green colour;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severe drough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) Mountainous areas are found in Great Britain only in _________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1440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in the  south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 in the Southeast;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in  the west and in the south ;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in the north and the we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4) The main passenger  ports and airports are in the _________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14400" y="1974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in the West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in the Southeast; ;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in the North;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 in the Ea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299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oper Black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6126120"/>
            <a:ext cx="822960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)The capital of Great Britain i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Par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Cardi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Lond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 Edinbur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)The name of the river in London is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The Av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The Sev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The N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The Tha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4)Great Britain is divided int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5pa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2pa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3pa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4pa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. The second round «History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14400" y="571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) London is  more than 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one thousand years old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three thousand years old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two thousand years old;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four thousand years o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424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14400" y="571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)Sir Cristopher Wren built 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The Tower of Lond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The Parlia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Westminster Abbe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St. Paul’s Cathed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7:39:51Z</dcterms:created>
  <dc:creator>Катенок</dc:creator>
  <dc:description/>
  <dc:language>en-US</dc:language>
  <cp:lastModifiedBy>Имя</cp:lastModifiedBy>
  <dcterms:modified xsi:type="dcterms:W3CDTF">2015-02-04T07:21:48Z</dcterms:modified>
  <cp:revision>15</cp:revision>
  <dc:subject/>
  <dc:title>Презентация PowerPoint</dc:title>
</cp:coreProperties>
</file>