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D24A-190A-48BB-BA16-646AB75C4B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037348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C645-AF56-4B4E-82D4-D5C4C7B2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9728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5A76-4DDD-4B02-8893-DFC56294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7312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8940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7312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8940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63DF-CAFD-4980-BF1A-54B5DD6D2F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F650C-6AB9-4D51-8A07-FEB88169E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709800"/>
            <a:ext cx="3005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6D9B7-3060-4D6A-8148-4E26031D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005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5FCB7-B970-4BD0-B429-CE17A98C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A83C7-2688-4572-B26F-D51306DB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B974C-2520-4116-95FA-41F77154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528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5C5E8-DDCB-4A74-ABF5-CDE0D4D3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A3B3B-6B37-4F39-9028-3EC1BFA5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709800"/>
            <a:ext cx="3005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74D9-E6FA-45EC-9603-3CB80E01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9728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39658-32C4-4EC9-8912-A7C02A12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F9523-8999-48C2-9739-C78E2A0B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037348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C35EA-8D7E-474D-B65E-0AE7C777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99728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C9CAF-FC17-4ECE-8EBA-86D49533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7312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89400" y="152352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47312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489400" y="20373480"/>
            <a:ext cx="96732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13E89-C2F4-436A-B26B-C903BEE038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005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F238-649E-48FA-B0A7-2700532C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A12E-86C9-4AD8-8CBB-6D566900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DD13-2FC5-4A8B-954D-876223BA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528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3BC2-91AE-4221-919A-690D5118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8462-B47F-4413-94EB-1B1BB047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7280" y="2037348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5927-BD55-4BF6-AC28-705AA401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97280" y="1523520"/>
            <a:ext cx="1466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0373480"/>
            <a:ext cx="3005280" cy="172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C8C1-7ED0-4DEC-B292-D44990F4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240"/>
            <a:ext cx="8226360" cy="182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B26EB-64E7-462D-89F7-F05794AB316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300528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Четвё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100000"/>
              </a:lnSpc>
              <a:spcBef>
                <a:spcPts val="437"/>
              </a:spcBef>
              <a:spcAft>
                <a:spcPts val="1426"/>
              </a:spcAft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buClr>
                <a:srgbClr val="ffffff"/>
              </a:buClr>
              <a:buSzPct val="75000"/>
              <a:buFont typeface="Wingdings 2" charset="2"/>
              <a:buChar char="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0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3.2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924680" y="6416640"/>
            <a:ext cx="758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26EC0A0-6129-4410-858B-6BA19C5C8EBB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536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Lucida Sans"/>
              </a:rPr>
              <a:t>МЧС России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50920" y="5517720"/>
            <a:ext cx="511956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"/>
              </a:rPr>
              <a:t>Проект по окружающему миру ученицы 3 класс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"/>
              </a:rPr>
              <a:t>Филичкиной По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03640" y="1521000"/>
            <a:ext cx="2539800" cy="34020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549360"/>
            <a:ext cx="3384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ногда для вызова спасателей достаточно и таких ситуаций, которые могут произойти в любой момент с каждым из нас. Женщина вышла на балкон повесить выстиранное белье, а дверь порывом ветра случайно защелкнулась. Она была дома одна. Помочь ей никто не мог. Холодным осенним днем женщина оказалась на холодном балконе в легком платье. Кто-то из соседей услышал ее и вызвал спас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4681440" cy="35146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549360"/>
            <a:ext cx="30956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пасателям пришлось сначала вскрывать металлическую входную дверь, а затем и балконную. Женщина, к счастью, не простудилась, ведь спасатели провели всю операцию быстро и уме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174840" cy="4256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2360" y="549360"/>
            <a:ext cx="3240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пасатели – бесстрашные люди, которые всегда оказываются в самых опасных местах нашей планеты. Спасатель – профессия особенн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51280" y="836640"/>
            <a:ext cx="4465800" cy="28083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4824360" cy="3216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2360" y="981000"/>
            <a:ext cx="3024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Стихийные бедствия не зависят от человека и предсказать их очень трудно. А бывает, что стечение людских ошибок приводит к авиакатастрофе, кораблекрушению, аварии на большом заводе. Следствием небрежности и несоблюдения правил безопасности могут возникнуть пожары, охватывающие большие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76680" y="1816200"/>
            <a:ext cx="490680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1339920"/>
            <a:ext cx="3311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Справиться своими силами, в одиночку в таких обстоятельствах невозможно. Для этого надо большое количество людей, которые будут оказывать помощь, много специальной техники и разных специалистов. Для руководства такими спасательными операциями в нашем правительстве создали  специальное министе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575160" y="1547640"/>
            <a:ext cx="5111640" cy="33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2360" y="1197000"/>
            <a:ext cx="345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1268280"/>
            <a:ext cx="35276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пасатель – профессия героическая. Когда человек попадает в беду, ему нужна помощь окружающих. Часто эта помощь необходима, потому что не хватает собственных сил, иногда человек не может долго настроить себя на борьбу с бедой, переживает неприятные последствия происшедш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260280"/>
            <a:ext cx="3672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акие же подразделения включает в себя МЧС? Это и Пожарно-спасательные силы, и авиация МЧС, и служба спасения на водах и множество других подразделений. Транспортная авиация МЧС доставляла гуманитарную помощь в разные страны: Японию, Афганистан, Сербию, Колумбию, Грецию. С её помощью вывозили больных, раненных, лишённых крова людей, тушили пожары, высаживали десант спасателей в труднодоступные рай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68720" y="333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0" y="3056040"/>
            <a:ext cx="489600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8000" y="333360"/>
            <a:ext cx="3240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аше время для спасательных работ после схода лавин для поиска пострадавших под завалами, а также после землетрясений и других природных катастроф чаще всего применяются немецкие овчарки. Они лучше всего адаптируются в экстремальных погодных условиях, а также поддаются даже самой жесткой дрессиров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75160" y="1474920"/>
            <a:ext cx="5111640" cy="34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89000"/>
            <a:ext cx="3600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спасении на водах используются ньюфаундленды, которые способны работать даже в условиях очень сильного шторма. Они прекрасно держаться на воде и понимают свое важное предназначение. Сенбернары специализируются на спасении альпинистов и горнолыж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Если поиски пропавших ведутся на суше, собака может тремя способами сообщить, что она нашла человека: подать голос, взять что-либо у спасенного и вернуться с подмогой, находиться между хозяином и пострадавш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444920" cy="29862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3983040" cy="29862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549360"/>
            <a:ext cx="30243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амым сложным считается поиск людей под обломками. Собака должна четко улавливать человеческий запах от массы других и обнаруживать пострадавшего из-под обломков толщиной в ме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ри спасении на водах собаки подплывают к утопающему в специальном жилете. Пострадавший добирается до берега, опираясь на пса. Если же пострадавший без сознания, то спаситель тянет его на сушу за ру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51280" y="235080"/>
            <a:ext cx="4978440" cy="3311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3954600" cy="26640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5120" y="212760"/>
            <a:ext cx="302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А нередко и сами животные нуждаются в помощи спасате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51280" y="217440"/>
            <a:ext cx="3887640" cy="27068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1979640"/>
            <a:ext cx="3527640" cy="26431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580000" y="2637000"/>
            <a:ext cx="3311640" cy="24843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440000" y="3875040"/>
            <a:ext cx="3678120" cy="206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543560" y="4792680"/>
            <a:ext cx="2727360" cy="206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