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62D2-9C30-4B40-B040-11210A1D8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037348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9062-1F10-4812-A930-E7EB400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9728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C3E3-3072-4D2A-8311-389446B7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7312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940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7312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8940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50DB-838F-4969-BB81-2FAD44E1ED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5C40E-BD2A-4378-9E2D-949604B01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709800"/>
            <a:ext cx="3005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A9FF2-CD33-483F-8D2B-1340B478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5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5E7E2-B0F8-448D-AA62-B91279BB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4E3A2-2FF8-4D46-BE4B-9255501F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7D1E7-5339-4903-9A13-40F49748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528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2CFF1-6E88-497F-89DE-A0A98447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76283-336B-48FA-8845-EAA29208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709800"/>
            <a:ext cx="3005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65F5-8B7A-44CF-BE3C-8EC75DD7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9728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27807-C162-4F2A-9800-3DD66A20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C4345-7700-474E-838F-6A1BF8D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037348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18640-12FA-4FF5-BE7B-EAA563C3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99728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0C4E7-F90F-4CC2-A628-A2BD532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7312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8940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47312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8940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E2723-9EA9-465C-BA4C-DDA6321A9D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5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EFBD-3C64-45C3-9FCD-9D2CFE42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9380-F20E-4EF0-8E46-4869FEEC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329B-2950-412C-949F-7D10B73C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528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FB5F-2B40-42C1-98E8-9CE8633F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68F2-7B24-4EE1-B877-C25859BF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728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BF29-638B-478E-8C87-00E375A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4A5E-7F83-4DED-ABE0-E847F9EF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240"/>
            <a:ext cx="8226360" cy="182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FF404-B9D0-48B1-8E1D-5F7B4F3F7B5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3005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Четвё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437"/>
              </a:spcBef>
              <a:spcAft>
                <a:spcPts val="1426"/>
              </a:spcAft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ffffff"/>
              </a:buClr>
              <a:buSzPct val="75000"/>
              <a:buFont typeface="Wingdings 2" charset="2"/>
              <a:buChar char="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0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3.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924680" y="6416640"/>
            <a:ext cx="758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9D7ECB0-B4B8-4917-BFAD-76517706B651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536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Lucida Sans"/>
              </a:rPr>
              <a:t>МЧС России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50920" y="5517720"/>
            <a:ext cx="511956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"/>
              </a:rPr>
              <a:t>Проект по окружающему миру ученицы 3 класс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"/>
              </a:rPr>
              <a:t>Филичкиной По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03640" y="1521000"/>
            <a:ext cx="2539800" cy="34020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549360"/>
            <a:ext cx="3384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ногда для вызова спасателей достаточно и таких ситуаций, которые могут произойти в любой момент с каждым из нас. Женщина вышла на балкон повесить выстиранное белье, а дверь порывом ветра случайно защелкнулась. Она была дома одна. Помочь ей никто не мог. Холодным осенним днем женщина оказалась на холодном балконе в легком платье. Кто-то из соседей услышал ее и вызвал спас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4681440" cy="35146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549360"/>
            <a:ext cx="30956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пасателям пришлось сначала вскрывать металлическую входную дверь, а затем и балконную. Женщина, к счастью, не простудилась, ведь спасатели провели всю операцию быстро и уме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174840" cy="4256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2360" y="549360"/>
            <a:ext cx="3240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пасатели – бесстрашные люди, которые всегда оказываются в самых опасных местах нашей планеты. Спасатель – профессия особенн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51280" y="836640"/>
            <a:ext cx="4465800" cy="28083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4824360" cy="3216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2360" y="981000"/>
            <a:ext cx="3024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тихийные бедствия не зависят от человека и предсказать их очень трудно. А бывает, что стечение людских ошибок приводит к авиакатастрофе, кораблекрушению, аварии на большом заводе. Следствием небрежности и несоблюдения правил безопасности могут возникнуть пожары, охватывающие большие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76680" y="1816200"/>
            <a:ext cx="490680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1339920"/>
            <a:ext cx="3311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правиться своими силами, в одиночку в таких обстоятельствах невозможно. Для этого надо большое количество людей, которые будут оказывать помощь, много специальной техники и разных специалистов. Для руководства такими спасательными операциями в нашем правительстве создали  специальное министе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75160" y="1547640"/>
            <a:ext cx="5111640" cy="33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2360" y="1197000"/>
            <a:ext cx="345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1268280"/>
            <a:ext cx="3527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пасатель – профессия героическая. Когда человек попадает в беду, ему нужна помощь окружающих. Часто эта помощь необходима, потому что не хватает собственных сил, иногда человек не может долго настроить себя на борьбу с бедой, переживает неприятные последствия происшедш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260280"/>
            <a:ext cx="3672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акие же подразделения включает в себя МЧС? Это и Пожарно-спасательные силы, и авиация МЧС, и служба спасения на водах и множество других подразделений. Транспортная авиация МЧС доставляла гуманитарную помощь в разные страны: Японию, Афганистан, Сербию, Колумбию, Грецию. С её помощью вывозили больных, раненных, лишённых крова людей, тушили пожары, высаживали десант спасателей в труднодоступные рай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8720" y="333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0" y="3056040"/>
            <a:ext cx="48960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8000" y="333360"/>
            <a:ext cx="324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аше время для спасательных работ после схода лавин для поиска пострадавших под завалами, а также после землетрясений и других природных катастроф чаще всего применяются немецкие овчарки. Они лучше всего адаптируются в экстремальных погодных условиях, а также поддаются даже самой жесткой дрессиров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75160" y="1474920"/>
            <a:ext cx="5111640" cy="34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89000"/>
            <a:ext cx="3600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спасении на водах используются ньюфаундленды, которые способны работать даже в условиях очень сильного шторма. Они прекрасно держаться на воде и понимают свое важное предназначение. Сенбернары специализируются на спасении альпинистов и горнолыж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Если поиски пропавших ведутся на суше, собака может тремя способами сообщить, что она нашла человека: подать голос, взять что-либо у спасенного и вернуться с подмогой, находиться между хозяином и пострадав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444920" cy="29862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983040" cy="29862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549360"/>
            <a:ext cx="30243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амым сложным считается поиск людей под обломками. Собака должна четко улавливать человеческий запах от массы других и обнаруживать пострадавшего из-под обломков толщиной в 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ри спасении на водах собаки подплывают к утопающему в специальном жилете. Пострадавший добирается до берега, опираясь на пса. Если же пострадавший без сознания, то спаситель тянет его на сушу за ру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51280" y="235080"/>
            <a:ext cx="4978440" cy="3311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3954600" cy="26640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5120" y="212760"/>
            <a:ext cx="302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А нередко и сами животные нуждаются в помощи спасате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51280" y="217440"/>
            <a:ext cx="3887640" cy="27068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1979640"/>
            <a:ext cx="3527640" cy="2643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580000" y="2637000"/>
            <a:ext cx="3311640" cy="24843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440000" y="3875040"/>
            <a:ext cx="3678120" cy="206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543560" y="4792680"/>
            <a:ext cx="2727360" cy="206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