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C0C-E9B0-4227-B914-211494AE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863-0C0E-4A14-BA2D-8D1C9E50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3C2-7528-4BB4-B97F-22836163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859-2CE1-4663-BBB1-4D16B06E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348-EDFE-41C9-8CEA-E7A9E1A6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745-6CF0-4910-A3A6-D89A1F43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754-E894-47A1-B9EA-5B6C0228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BA3-E9EA-4D97-B47D-0DC5EA3C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F34-094F-4769-B734-278C84C5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59D-24DE-4502-A52E-32F9974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87E-C9D9-479E-845D-22E6FAF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F77-C622-4E62-825E-D325140F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D3B3-2D6A-4C62-B872-D328E3F29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даль за бой, медаль за тру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5714640"/>
            <a:ext cx="83296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ту выполнил ученик 7 «В» класса Косоруков Ники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уководитель: Громадюк Т.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2_o_1368078065.gif"/>
          <p:cNvPicPr/>
          <p:nvPr/>
        </p:nvPicPr>
        <p:blipFill>
          <a:blip r:embed="rId1"/>
          <a:stretch/>
        </p:blipFill>
        <p:spPr>
          <a:xfrm>
            <a:off x="2143080" y="2143080"/>
            <a:ext cx="4797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я Бабушка Гасина Евгения Егоровна накануне войны получила паспорт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6" descr="паспорт 1940г.jpg"/>
          <p:cNvPicPr/>
          <p:nvPr/>
        </p:nvPicPr>
        <p:blipFill>
          <a:blip r:embed="rId1"/>
          <a:stretch/>
        </p:blipFill>
        <p:spPr>
          <a:xfrm>
            <a:off x="1071720" y="1857240"/>
            <a:ext cx="6858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57520" y="213840"/>
            <a:ext cx="36147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 все люди нашей страны с первых дней войны она мечтала пойти на фронт. Но судьба распорядилась так, что ее желание победить было необходимо проявить в тыл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L:\15 ноября Саратов. Семинар\2\медали.jpg"/>
          <p:cNvPicPr/>
          <p:nvPr/>
        </p:nvPicPr>
        <p:blipFill>
          <a:blip r:embed="rId1"/>
          <a:stretch/>
        </p:blipFill>
        <p:spPr>
          <a:xfrm>
            <a:off x="285840" y="142920"/>
            <a:ext cx="3219480" cy="4681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старше (2).jpg"/>
          <p:cNvPicPr/>
          <p:nvPr/>
        </p:nvPicPr>
        <p:blipFill>
          <a:blip r:embed="rId2"/>
          <a:stretch/>
        </p:blipFill>
        <p:spPr>
          <a:xfrm>
            <a:off x="3643200" y="1429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235728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лагодарен своей бабушке за то, что она спасла для меня и моих друзе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1:21:57Z</dcterms:created>
  <dc:creator>Zalman</dc:creator>
  <dc:description/>
  <dc:language>en-US</dc:language>
  <cp:lastModifiedBy>Zalman</cp:lastModifiedBy>
  <dcterms:modified xsi:type="dcterms:W3CDTF">2015-02-06T17:33:04Z</dcterms:modified>
  <cp:revision>14</cp:revision>
  <dc:subject/>
  <dc:title>Школьный конкурс презентаций  «Фронтовики, наденьте ордена!»</dc:title>
</cp:coreProperties>
</file>