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6EC-7DFB-44D0-9004-AE290F11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5D5-17AC-48B7-B52F-EC6DE53B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6E6-7FEA-4BCE-9E4D-CD193AEF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6FE-9A67-4C59-9AA3-9B3D5C1C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FD1-D0C9-4C22-BA20-7A1396BE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353-E9A2-4BD7-ACE1-40DB8BD1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B86-76A0-4E58-89F2-78F0BD14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7FF-4AC6-4CBA-886A-2659BF2D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C7A-B7C2-4CBF-8C36-09028FC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630-FB47-4EB4-9D13-D966C0B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D7D-E8F9-4DA7-A720-4780F5E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FD7-9B1C-4B51-99D5-9D5DCEE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B839-107D-44A8-A96C-4088EAFCD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даль за бой, медаль за тру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5714640"/>
            <a:ext cx="83296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у выполнил ученик 7 «В» класса Косоруков Ники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уководитель: Громадюк Т.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_o_1368078065.gif"/>
          <p:cNvPicPr/>
          <p:nvPr/>
        </p:nvPicPr>
        <p:blipFill>
          <a:blip r:embed="rId1"/>
          <a:stretch/>
        </p:blipFill>
        <p:spPr>
          <a:xfrm>
            <a:off x="2143080" y="2143080"/>
            <a:ext cx="4797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я Бабушка Гасина Евгения Егоровна накануне войны получила паспорт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паспорт 1940г.jpg"/>
          <p:cNvPicPr/>
          <p:nvPr/>
        </p:nvPicPr>
        <p:blipFill>
          <a:blip r:embed="rId1"/>
          <a:stretch/>
        </p:blipFill>
        <p:spPr>
          <a:xfrm>
            <a:off x="1071720" y="1857240"/>
            <a:ext cx="6858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57520" y="213840"/>
            <a:ext cx="3614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се люди нашей страны с первых дней войны она мечтала пойти на фронт. Но судьба распорядилась так, что ее желание победить было необходимо проявить в тыл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L:\15 ноября Саратов. Семинар\2\медали.jpg"/>
          <p:cNvPicPr/>
          <p:nvPr/>
        </p:nvPicPr>
        <p:blipFill>
          <a:blip r:embed="rId1"/>
          <a:stretch/>
        </p:blipFill>
        <p:spPr>
          <a:xfrm>
            <a:off x="285840" y="142920"/>
            <a:ext cx="3219480" cy="4681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старше (2).jpg"/>
          <p:cNvPicPr/>
          <p:nvPr/>
        </p:nvPicPr>
        <p:blipFill>
          <a:blip r:embed="rId2"/>
          <a:stretch/>
        </p:blipFill>
        <p:spPr>
          <a:xfrm>
            <a:off x="3643200" y="1429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35728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лагодарен своей бабушке за то, что она спасла для меня и моих друзе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1:21:57Z</dcterms:created>
  <dc:creator>Zalman</dc:creator>
  <dc:description/>
  <dc:language>en-US</dc:language>
  <cp:lastModifiedBy>Zalman</cp:lastModifiedBy>
  <dcterms:modified xsi:type="dcterms:W3CDTF">2015-02-06T17:33:04Z</dcterms:modified>
  <cp:revision>14</cp:revision>
  <dc:subject/>
  <dc:title>Школьный конкурс презентаций  «Фронтовики, наденьте ордена!»</dc:title>
</cp:coreProperties>
</file>