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9FFB-E8BA-439A-84EF-77506335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44F6-56DA-4D1C-BE01-FB74D235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DFD-3C0E-4FCA-9B88-5ECBEE7C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108-2A33-4C62-95DD-6AEC9DCA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6F2-A813-4ABC-8C11-EDD81CB4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979C-5957-4830-AE49-2F4F99EF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BABA-B19A-421E-A943-73E054F9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D89-0A72-409B-8778-79C2F272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57E-547B-4C7E-8C3D-C9F4D8D9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9198-994C-4263-8A41-9DB2FCD9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AE6-FC87-4C6C-84CF-B5A974F6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D89-E6F6-4C26-8EFE-FCD2BF36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1C95-690C-4174-BFC1-7E1B44DBEE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best-dem.ru/velikaya-otechestvennaya-vojna-1941-1945-57-foto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даль за бой, медаль за тр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00680" y="4714920"/>
            <a:ext cx="4900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полнила Кожухина Полина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еница 7 «В» класс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У СОШ № 3 города Ершо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_o_1368078065.gif"/>
          <p:cNvPicPr/>
          <p:nvPr/>
        </p:nvPicPr>
        <p:blipFill>
          <a:blip r:embed="rId1"/>
          <a:stretch/>
        </p:blipFill>
        <p:spPr>
          <a:xfrm>
            <a:off x="357120" y="1857240"/>
            <a:ext cx="351144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то-то защищал нашу землю от врага с оружием в руках, а кто-то работая у станка, обеспечивая фронт всем необходимы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15.jpg"/>
          <p:cNvPicPr/>
          <p:nvPr/>
        </p:nvPicPr>
        <p:blipFill>
          <a:blip r:embed="rId1"/>
          <a:stretch/>
        </p:blipFill>
        <p:spPr>
          <a:xfrm>
            <a:off x="190440" y="2786040"/>
            <a:ext cx="3952800" cy="27860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img15.jpg"/>
          <p:cNvPicPr/>
          <p:nvPr/>
        </p:nvPicPr>
        <p:blipFill>
          <a:blip r:embed="rId2"/>
          <a:srcRect l="0" t="15628" r="0" b="2110"/>
          <a:stretch/>
        </p:blipFill>
        <p:spPr>
          <a:xfrm>
            <a:off x="4572000" y="2714760"/>
            <a:ext cx="4394160" cy="28573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500040" y="621504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best-dem.ru/velikaya-otechestvennaya-vojna-1941-1945-57-foto.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прабабушка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нько Анна Яковле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2" descr="_20150206_22124701.jpg"/>
          <p:cNvPicPr/>
          <p:nvPr/>
        </p:nvPicPr>
        <p:blipFill>
          <a:blip r:embed="rId1"/>
          <a:stretch/>
        </p:blipFill>
        <p:spPr>
          <a:xfrm>
            <a:off x="785880" y="1785960"/>
            <a:ext cx="3382920" cy="47862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4214880" y="214308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Эдуард Аса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нь побе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нь победы. И в огнях салют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дто гром: - Запомните наве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в сраженьях каждую минут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, буквально каждую минут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гибало десять человек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понять и как осмыслить э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ять крепких, бодрых, молодых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ных веры, радости и свет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живых, отчаянно живых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любого где-то дом иль хат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-то сад, река, знакомый смех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ь, жена... А если неженаты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 девчонка - лучшая из все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6T19:19:40Z</dcterms:created>
  <dc:creator>Zalman</dc:creator>
  <dc:description/>
  <dc:language>en-US</dc:language>
  <cp:lastModifiedBy>Zalman</cp:lastModifiedBy>
  <dcterms:modified xsi:type="dcterms:W3CDTF">2015-02-06T19:25:56Z</dcterms:modified>
  <cp:revision>2</cp:revision>
  <dc:subject/>
  <dc:title>Медаль за бой, медаль за труд</dc:title>
</cp:coreProperties>
</file>