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FC3-DD26-4751-A38F-6A325BA3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68B-CD08-4EFA-A49D-DB5F4DF5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89A-7BFE-41C3-8D45-18FB2479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BA3-6F0D-4990-96AF-4B48504B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EEF-07A6-4FB3-BB01-FBAFA310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50B-4D5A-4F6D-8E22-17262F41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DC0-02FE-4256-A2AC-66085172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41C-DBDE-4C6F-BD9B-ABF4B4A6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53E-660D-4CDD-95DB-B1E6B72A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1A6-03CB-4B09-ADD5-4EA2686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554-FAAE-431E-A2FA-DC415C18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9E4-0484-4092-8CF7-AAF9D0C3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3857-0BCC-4764-B8E0-C195246D3E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best-dem.ru/velikaya-otechestvennaya-vojna-1941-1945-57-foto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даль за бой, медаль за тр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00680" y="4714920"/>
            <a:ext cx="490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олнила Кожухина Полина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еница 7 «В» класс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У СОШ № 3 города Ерш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_o_1368078065.gif"/>
          <p:cNvPicPr/>
          <p:nvPr/>
        </p:nvPicPr>
        <p:blipFill>
          <a:blip r:embed="rId1"/>
          <a:stretch/>
        </p:blipFill>
        <p:spPr>
          <a:xfrm>
            <a:off x="357120" y="1857240"/>
            <a:ext cx="351144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то-то защищал нашу землю от врага с оружием в руках, а кто-то работая у станка, обеспечивая фронт всем необходимы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15.jpg"/>
          <p:cNvPicPr/>
          <p:nvPr/>
        </p:nvPicPr>
        <p:blipFill>
          <a:blip r:embed="rId1"/>
          <a:stretch/>
        </p:blipFill>
        <p:spPr>
          <a:xfrm>
            <a:off x="190440" y="2786040"/>
            <a:ext cx="3952800" cy="27860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img15.jpg"/>
          <p:cNvPicPr/>
          <p:nvPr/>
        </p:nvPicPr>
        <p:blipFill>
          <a:blip r:embed="rId2"/>
          <a:srcRect l="0" t="15628" r="0" b="2110"/>
          <a:stretch/>
        </p:blipFill>
        <p:spPr>
          <a:xfrm>
            <a:off x="4572000" y="2714760"/>
            <a:ext cx="4394160" cy="28573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500040" y="621504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best-dem.ru/velikaya-otechestvennaya-vojna-1941-1945-57-foto.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прабабуш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нько Анна Яковл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_20150206_22124701.jpg"/>
          <p:cNvPicPr/>
          <p:nvPr/>
        </p:nvPicPr>
        <p:blipFill>
          <a:blip r:embed="rId1"/>
          <a:stretch/>
        </p:blipFill>
        <p:spPr>
          <a:xfrm>
            <a:off x="785880" y="1785960"/>
            <a:ext cx="33829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4214880" y="21430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дуард Аса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поб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победы. И в огнях салют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то гром: - Запомните наве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 сраженьях каждую мину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буквально каждую минут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гибало десять челове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понять и как осмыслить э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ять крепких, бодрых, молодых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ных веры, радости и свет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живых, отчаянно живых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любого где-то дом иль хат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-то сад, река, знакомый смех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ь, жена... А если неженат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девчонка - лучшая из все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19:19:40Z</dcterms:created>
  <dc:creator>Zalman</dc:creator>
  <dc:description/>
  <dc:language>en-US</dc:language>
  <cp:lastModifiedBy>Zalman</cp:lastModifiedBy>
  <dcterms:modified xsi:type="dcterms:W3CDTF">2015-02-06T19:25:56Z</dcterms:modified>
  <cp:revision>2</cp:revision>
  <dc:subject/>
  <dc:title>Медаль за бой, медаль за труд</dc:title>
</cp:coreProperties>
</file>