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25.gif" ContentType="image/gif"/>
  <Override PartName="/ppt/media/image17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55C-37E4-4A8F-88E5-1E855360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523-E20C-4651-B58E-1FA3BDE9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B6F-66DD-4C0D-96AE-9B2216E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9B5-807B-484D-8C54-387AA0AF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0ED-73D0-412D-892C-B2A1338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B33-07B6-4DEC-BF90-F8B57618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997-6CBB-49A6-B1A7-ED4FA5E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6B8-9EA4-45F6-AC95-F525063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D50-86B3-495C-8D2B-18C14EC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E4B-E3FC-4204-8C5A-33A879B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571-D1F6-400F-AE42-20C4AC2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F62-C41A-43A4-A42E-965EC02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26C-C7AA-4430-BE82-2046106118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1681800">
            <a:off x="539280" y="1412640"/>
            <a:ext cx="89312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73200"/>
                <a:gd name="adj2" fmla="val 52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евер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2" name="Picture 5" descr="anima165"/>
          <p:cNvPicPr/>
          <p:nvPr/>
        </p:nvPicPr>
        <p:blipFill>
          <a:blip r:embed="rId5"/>
          <a:stretch/>
        </p:blipFill>
        <p:spPr>
          <a:xfrm>
            <a:off x="7596360" y="260280"/>
            <a:ext cx="12855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земля"/>
          <p:cNvPicPr/>
          <p:nvPr/>
        </p:nvPicPr>
        <p:blipFill>
          <a:blip r:embed="rId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директор"/>
          <p:cNvPicPr/>
          <p:nvPr/>
        </p:nvPicPr>
        <p:blipFill>
          <a:blip r:embed="rId7"/>
          <a:stretch/>
        </p:blipFill>
        <p:spPr>
          <a:xfrm>
            <a:off x="250920" y="189000"/>
            <a:ext cx="1357200" cy="90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"/>
          <p:cNvPicPr/>
          <p:nvPr/>
        </p:nvPicPr>
        <p:blipFill>
          <a:blip r:embed="rId8"/>
          <a:stretch/>
        </p:blipFill>
        <p:spPr>
          <a:xfrm>
            <a:off x="179280" y="2852640"/>
            <a:ext cx="2160720" cy="16225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  <p:pic>
        <p:nvPicPr>
          <p:cNvPr id="46" name="Picture 45" descr=""/>
          <p:cNvPicPr/>
          <p:nvPr/>
        </p:nvPicPr>
        <p:blipFill>
          <a:blip r:embed="rId9"/>
          <a:stretch/>
        </p:blipFill>
        <p:spPr>
          <a:xfrm>
            <a:off x="1908000" y="4149720"/>
            <a:ext cx="2229120" cy="16765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  <p:pic>
        <p:nvPicPr>
          <p:cNvPr id="47" name="Picture 46" descr=""/>
          <p:cNvPicPr/>
          <p:nvPr/>
        </p:nvPicPr>
        <p:blipFill>
          <a:blip r:embed="rId10"/>
          <a:stretch/>
        </p:blipFill>
        <p:spPr>
          <a:xfrm>
            <a:off x="3995640" y="5075280"/>
            <a:ext cx="2305080" cy="17287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87280" y="189000"/>
            <a:ext cx="64818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Географические задач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981000"/>
            <a:ext cx="842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 Северную Америку и Евразию называют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еверными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атериками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Как  вы думаете, по каким признакам эти достаточно разные по своим природным особенностям материки объединяются под общим названи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9640" y="2997360"/>
            <a:ext cx="842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Object 8"/>
          <p:cNvGraphicFramePr/>
          <p:nvPr/>
        </p:nvGraphicFramePr>
        <p:xfrm>
          <a:off x="611280" y="2781360"/>
          <a:ext cx="273672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81360"/>
                    <a:ext cx="27367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9"/>
          <p:cNvSpPr/>
          <p:nvPr/>
        </p:nvSpPr>
        <p:spPr>
          <a:xfrm>
            <a:off x="539640" y="234936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л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м к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47640" y="256536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116000" y="2060640"/>
            <a:ext cx="831708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2.Площадь Северной Америки меньше площади Африки (см.диаграмму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днако Северная Америка значите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евосходит Африку по разнообразию П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ясните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) в чём проявляется это превосходств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) что является его причин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rot="18361800">
            <a:off x="6480000" y="4617360"/>
            <a:ext cx="1081080" cy="1008000"/>
          </a:xfrm>
          <a:prstGeom prst="triangle">
            <a:avLst>
              <a:gd name="adj" fmla="val 680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 rot="11712000">
            <a:off x="7019640" y="5860800"/>
            <a:ext cx="860400" cy="996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55640" y="4869000"/>
            <a:ext cx="6121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Своими очертаниями Северная Америка, как и Южная Америка напоминает треугольник, но развернутый своим широким основанием к Северному Ледовитому океану(См. рис.).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ы географические следствия этой особенности ФГП материка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6516720" y="4869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6588000" y="5661000"/>
            <a:ext cx="1224000" cy="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6659640" y="5950080"/>
            <a:ext cx="144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87708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/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164360" y="609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/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12000" y="551664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ев. троп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7667640" y="46530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ев. полярный кру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8101080" y="580536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кват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684360" y="40464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Из истории открытия, исследования и освоения матер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79280" y="177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вропейцы несколько раз открывали для себя Североамериканский материк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95280" y="214308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468360" y="2708280"/>
            <a:ext cx="201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395280" y="28526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коло 1000 лет наз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1332000" y="3357720"/>
            <a:ext cx="215640" cy="288720"/>
          </a:xfrm>
          <a:prstGeom prst="downArrow">
            <a:avLst>
              <a:gd name="adj1" fmla="val 50000"/>
              <a:gd name="adj2" fmla="val 3347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468360" y="3716280"/>
            <a:ext cx="20145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684360" y="37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икин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1187280" y="2133720"/>
            <a:ext cx="540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25892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1332000" y="422100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468360" y="4653000"/>
            <a:ext cx="2087640" cy="165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24000" y="4653000"/>
            <a:ext cx="237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Эйрик Рыжи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о. Гренланд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Лейв Удачливый -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п – ов Лабра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29"/>
          <p:cNvSpPr/>
          <p:nvPr/>
        </p:nvSpPr>
        <p:spPr>
          <a:xfrm>
            <a:off x="4143240" y="207180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780000" y="2205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140360" y="2205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3348000" y="2781360"/>
            <a:ext cx="201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3276720" y="29242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2 октября 1492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4"/>
          <p:cNvSpPr/>
          <p:nvPr/>
        </p:nvSpPr>
        <p:spPr>
          <a:xfrm>
            <a:off x="428472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5" descr="Колумб"/>
          <p:cNvPicPr/>
          <p:nvPr/>
        </p:nvPicPr>
        <p:blipFill>
          <a:blip r:embed="rId3"/>
          <a:stretch/>
        </p:blipFill>
        <p:spPr>
          <a:xfrm>
            <a:off x="3851280" y="4869000"/>
            <a:ext cx="1044720" cy="1199880"/>
          </a:xfrm>
          <a:prstGeom prst="rect">
            <a:avLst/>
          </a:prstGeom>
          <a:ln w="0">
            <a:noFill/>
          </a:ln>
        </p:spPr>
      </p:pic>
      <p:sp>
        <p:nvSpPr>
          <p:cNvPr id="87" name="WordArt 37"/>
          <p:cNvSpPr txBox="1"/>
          <p:nvPr/>
        </p:nvSpPr>
        <p:spPr>
          <a:xfrm rot="1578600">
            <a:off x="2556000" y="3933720"/>
            <a:ext cx="338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02000"/>
                </a:gradFill>
                <a:latin typeface="Arial"/>
              </a:rPr>
              <a:t>Христофор Колум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02000"/>
              </a:gradFill>
              <a:latin typeface="Arial"/>
              <a:ea typeface="Arial"/>
            </a:endParaRPr>
          </a:p>
        </p:txBody>
      </p:sp>
      <p:sp>
        <p:nvSpPr>
          <p:cNvPr id="88" name="Oval 38"/>
          <p:cNvSpPr/>
          <p:nvPr/>
        </p:nvSpPr>
        <p:spPr>
          <a:xfrm>
            <a:off x="6948360" y="2133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7020000" y="2276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6227640" y="2852640"/>
            <a:ext cx="201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73272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17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2"/>
          <p:cNvSpPr/>
          <p:nvPr/>
        </p:nvSpPr>
        <p:spPr>
          <a:xfrm>
            <a:off x="781200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3"/>
          <p:cNvSpPr/>
          <p:nvPr/>
        </p:nvSpPr>
        <p:spPr>
          <a:xfrm>
            <a:off x="644364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5"/>
          <p:cNvSpPr txBox="1"/>
          <p:nvPr/>
        </p:nvSpPr>
        <p:spPr>
          <a:xfrm>
            <a:off x="5651640" y="3933720"/>
            <a:ext cx="30258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ликая Северная экспеди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6443640" y="465300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7812000" y="465300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8"/>
          <p:cNvSpPr/>
          <p:nvPr/>
        </p:nvSpPr>
        <p:spPr>
          <a:xfrm>
            <a:off x="5651640" y="4941720"/>
            <a:ext cx="3241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итус Берин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корабле «Святой Пётр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Алексей Чир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корабле «Святой Павел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ткрыли Русскую Амери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0" descr="книга-свеча"/>
          <p:cNvPicPr/>
          <p:nvPr/>
        </p:nvPicPr>
        <p:blipFill>
          <a:blip r:embed="rId4"/>
          <a:stretch/>
        </p:blipFill>
        <p:spPr>
          <a:xfrm>
            <a:off x="2987640" y="587700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7164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"Колумбы российские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1484280"/>
            <a:ext cx="8496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ские землепроходцы и промышленники, агенты основанной на территории материк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Российско-Американской торговой компани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брали обширные сведения об Аляске и северо-западном побережье материка, провели топографическую съемку многих территорий, составили большие этнографические коллекции предметов быта и хозяйства обитавших там племен. Купец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ригорий Шелех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сновал поселение на о.Кадьяк, открыл торговую компанию, организовал промыслы, вёл регулярную торговлю с местными жителями, способствуя исследованию и освоению Аляски.Он оставил свои записи об Америке, которые были изданы под названием «Странствия». За его вклад в исследования Америки Шелехова даже называл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оссийским Колумб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м же правителем Русской Америки, простиравшейся вдоль северо-западного побережья материка до самого п-ова Калифорния, был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лександр Баран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Благодаря ему была основана своеобразная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столица» Русской Америки – Ново-Архангель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книги-свеча"/>
          <p:cNvPicPr/>
          <p:nvPr/>
        </p:nvPicPr>
        <p:blipFill>
          <a:blip r:embed="rId3"/>
          <a:stretch/>
        </p:blipFill>
        <p:spPr>
          <a:xfrm>
            <a:off x="324000" y="5589720"/>
            <a:ext cx="1079280" cy="83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BOOK008"/>
          <p:cNvPicPr/>
          <p:nvPr/>
        </p:nvPicPr>
        <p:blipFill>
          <a:blip r:embed="rId4"/>
          <a:stretch/>
        </p:blipFill>
        <p:spPr>
          <a:xfrm>
            <a:off x="7956720" y="5707080"/>
            <a:ext cx="1008000" cy="77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2"/>
          <p:cNvSpPr/>
          <p:nvPr/>
        </p:nvSpPr>
        <p:spPr>
          <a:xfrm>
            <a:off x="0" y="1817640"/>
            <a:ext cx="388944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584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403280" y="404640"/>
            <a:ext cx="648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Рельеф, строение, полезные ископаемы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5" name="Freeform 6"/>
          <p:cNvSpPr/>
          <p:nvPr/>
        </p:nvSpPr>
        <p:spPr>
          <a:xfrm rot="21182400">
            <a:off x="178920" y="1699920"/>
            <a:ext cx="2629080" cy="1466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2771640" y="2637000"/>
            <a:ext cx="1152720" cy="2035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8"/>
          <p:cNvSpPr/>
          <p:nvPr/>
        </p:nvSpPr>
        <p:spPr>
          <a:xfrm rot="21069600">
            <a:off x="971640" y="3789000"/>
            <a:ext cx="1123920" cy="21906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0" y="2276640"/>
            <a:ext cx="1003320" cy="17413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2340000" y="4653000"/>
            <a:ext cx="1195200" cy="16970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24"/>
          <p:cNvSpPr/>
          <p:nvPr/>
        </p:nvSpPr>
        <p:spPr>
          <a:xfrm rot="877800">
            <a:off x="2124000" y="6092640"/>
            <a:ext cx="1639800" cy="4507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>
            <a:off x="250920" y="2276640"/>
            <a:ext cx="3090600" cy="3843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 rot="4422600">
            <a:off x="-34920" y="4073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о р д и л ь е р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111600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197964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108000" y="6021360"/>
            <a:ext cx="26636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–  Большой 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– Мексиканское нагорь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39"/>
          <p:cNvSpPr txBox="1"/>
          <p:nvPr/>
        </p:nvSpPr>
        <p:spPr>
          <a:xfrm rot="4069200">
            <a:off x="913320" y="4136040"/>
            <a:ext cx="1535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ликие 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43"/>
          <p:cNvSpPr txBox="1"/>
          <p:nvPr/>
        </p:nvSpPr>
        <p:spPr>
          <a:xfrm>
            <a:off x="1979640" y="3860640"/>
            <a:ext cx="11523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WordArt 45"/>
          <p:cNvSpPr txBox="1"/>
          <p:nvPr/>
        </p:nvSpPr>
        <p:spPr>
          <a:xfrm rot="20733000">
            <a:off x="2268360" y="4941720"/>
            <a:ext cx="93672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ксикан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зм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Oval 46"/>
          <p:cNvSpPr/>
          <p:nvPr/>
        </p:nvSpPr>
        <p:spPr>
          <a:xfrm>
            <a:off x="684360" y="2349360"/>
            <a:ext cx="7128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684360" y="2276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Мак-Кин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9"/>
          <p:cNvSpPr/>
          <p:nvPr/>
        </p:nvSpPr>
        <p:spPr>
          <a:xfrm>
            <a:off x="2340000" y="5661000"/>
            <a:ext cx="71280" cy="14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2340000" y="544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лк.Орисаб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52"/>
          <p:cNvSpPr/>
          <p:nvPr/>
        </p:nvSpPr>
        <p:spPr>
          <a:xfrm>
            <a:off x="3048120" y="3745080"/>
            <a:ext cx="6238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 rot="18164400">
            <a:off x="2472120" y="40161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ппал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4"/>
          <p:cNvSpPr/>
          <p:nvPr/>
        </p:nvSpPr>
        <p:spPr>
          <a:xfrm>
            <a:off x="4572000" y="206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55"/>
          <p:cNvSpPr/>
          <p:nvPr/>
        </p:nvSpPr>
        <p:spPr>
          <a:xfrm>
            <a:off x="4572000" y="4869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74"/>
          <p:cNvSpPr/>
          <p:nvPr/>
        </p:nvSpPr>
        <p:spPr>
          <a:xfrm>
            <a:off x="4500720" y="314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6"/>
          <p:cNvSpPr/>
          <p:nvPr/>
        </p:nvSpPr>
        <p:spPr>
          <a:xfrm>
            <a:off x="4500720" y="4292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8"/>
          <p:cNvSpPr/>
          <p:nvPr/>
        </p:nvSpPr>
        <p:spPr>
          <a:xfrm>
            <a:off x="4500720" y="3716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9"/>
          <p:cNvSpPr/>
          <p:nvPr/>
        </p:nvSpPr>
        <p:spPr>
          <a:xfrm>
            <a:off x="4500720" y="2565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3924360" y="2205000"/>
            <a:ext cx="79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4584600" y="2400480"/>
            <a:ext cx="4356360" cy="2501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82"/>
          <p:cNvSpPr/>
          <p:nvPr/>
        </p:nvSpPr>
        <p:spPr>
          <a:xfrm rot="16200000">
            <a:off x="3688560" y="265464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еговые хреб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3"/>
          <p:cNvSpPr/>
          <p:nvPr/>
        </p:nvSpPr>
        <p:spPr>
          <a:xfrm>
            <a:off x="4932360" y="170028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4"/>
          <p:cNvSpPr/>
          <p:nvPr/>
        </p:nvSpPr>
        <p:spPr>
          <a:xfrm rot="16200000">
            <a:off x="5534280" y="1673640"/>
            <a:ext cx="129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алист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5"/>
          <p:cNvSpPr/>
          <p:nvPr/>
        </p:nvSpPr>
        <p:spPr>
          <a:xfrm>
            <a:off x="6516720" y="335772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6"/>
          <p:cNvSpPr/>
          <p:nvPr/>
        </p:nvSpPr>
        <p:spPr>
          <a:xfrm rot="16200000">
            <a:off x="6777360" y="3526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.Миссиси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7"/>
          <p:cNvSpPr/>
          <p:nvPr/>
        </p:nvSpPr>
        <p:spPr>
          <a:xfrm>
            <a:off x="7956720" y="3645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ппал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89"/>
          <p:cNvSpPr/>
          <p:nvPr/>
        </p:nvSpPr>
        <p:spPr>
          <a:xfrm>
            <a:off x="457200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91"/>
          <p:cNvSpPr/>
          <p:nvPr/>
        </p:nvSpPr>
        <p:spPr>
          <a:xfrm>
            <a:off x="896472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92"/>
          <p:cNvSpPr/>
          <p:nvPr/>
        </p:nvSpPr>
        <p:spPr>
          <a:xfrm>
            <a:off x="4572000" y="5516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4572000" y="5877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94"/>
          <p:cNvSpPr/>
          <p:nvPr/>
        </p:nvSpPr>
        <p:spPr>
          <a:xfrm>
            <a:off x="507672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95"/>
          <p:cNvSpPr/>
          <p:nvPr/>
        </p:nvSpPr>
        <p:spPr>
          <a:xfrm>
            <a:off x="637236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6"/>
          <p:cNvSpPr/>
          <p:nvPr/>
        </p:nvSpPr>
        <p:spPr>
          <a:xfrm>
            <a:off x="802800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7"/>
          <p:cNvSpPr/>
          <p:nvPr/>
        </p:nvSpPr>
        <p:spPr>
          <a:xfrm>
            <a:off x="4572000" y="4869000"/>
            <a:ext cx="576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Об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ново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ск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8"/>
          <p:cNvSpPr/>
          <p:nvPr/>
        </p:nvSpPr>
        <p:spPr>
          <a:xfrm>
            <a:off x="5148360" y="4941720"/>
            <a:ext cx="165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Обл. средн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ск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9"/>
          <p:cNvSpPr/>
          <p:nvPr/>
        </p:nvSpPr>
        <p:spPr>
          <a:xfrm>
            <a:off x="6659640" y="494172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ff"/>
                </a:solidFill>
                <a:latin typeface="Arial"/>
              </a:rPr>
              <a:t>Древняя платфор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0"/>
          <p:cNvSpPr/>
          <p:nvPr/>
        </p:nvSpPr>
        <p:spPr>
          <a:xfrm>
            <a:off x="8101080" y="486900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Обл. древней      ск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1"/>
          <p:cNvSpPr/>
          <p:nvPr/>
        </p:nvSpPr>
        <p:spPr>
          <a:xfrm>
            <a:off x="5796000" y="558972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2"/>
          <p:cNvSpPr/>
          <p:nvPr/>
        </p:nvSpPr>
        <p:spPr>
          <a:xfrm>
            <a:off x="8459640" y="5589720"/>
            <a:ext cx="21600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3"/>
          <p:cNvSpPr/>
          <p:nvPr/>
        </p:nvSpPr>
        <p:spPr>
          <a:xfrm>
            <a:off x="6516720" y="1628640"/>
            <a:ext cx="26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филь рельефа, строения и размещения полезных ископаемых вдоль 40-вой паралл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04"/>
          <p:cNvSpPr/>
          <p:nvPr/>
        </p:nvSpPr>
        <p:spPr>
          <a:xfrm>
            <a:off x="4788000" y="5942160"/>
            <a:ext cx="41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акая зависимость существует между рельефом и строением ЗК в Северной Америке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92360" y="333360"/>
            <a:ext cx="65656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Роль древнего оледен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4920" y="1773360"/>
            <a:ext cx="3889440" cy="504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6"/>
          <p:cNvSpPr/>
          <p:nvPr/>
        </p:nvSpPr>
        <p:spPr>
          <a:xfrm rot="21182400">
            <a:off x="178920" y="1699920"/>
            <a:ext cx="2629080" cy="1466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2771640" y="2637000"/>
            <a:ext cx="1152720" cy="2035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8"/>
          <p:cNvSpPr/>
          <p:nvPr/>
        </p:nvSpPr>
        <p:spPr>
          <a:xfrm rot="21069600">
            <a:off x="971640" y="3789000"/>
            <a:ext cx="1123920" cy="21906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9"/>
          <p:cNvSpPr/>
          <p:nvPr/>
        </p:nvSpPr>
        <p:spPr>
          <a:xfrm>
            <a:off x="0" y="2276640"/>
            <a:ext cx="1003320" cy="17413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2340000" y="4653000"/>
            <a:ext cx="1195200" cy="16970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 rot="877800">
            <a:off x="2124000" y="6092640"/>
            <a:ext cx="1639800" cy="4507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250920" y="2276640"/>
            <a:ext cx="3090600" cy="3843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 rot="4422600">
            <a:off x="-34920" y="4073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о р д и л ь е р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111600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97964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17"/>
          <p:cNvSpPr txBox="1"/>
          <p:nvPr/>
        </p:nvSpPr>
        <p:spPr>
          <a:xfrm rot="4069200">
            <a:off x="913320" y="4136040"/>
            <a:ext cx="1535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ликие 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18"/>
          <p:cNvSpPr txBox="1"/>
          <p:nvPr/>
        </p:nvSpPr>
        <p:spPr>
          <a:xfrm>
            <a:off x="1979640" y="3860640"/>
            <a:ext cx="11523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19"/>
          <p:cNvSpPr txBox="1"/>
          <p:nvPr/>
        </p:nvSpPr>
        <p:spPr>
          <a:xfrm rot="20733000">
            <a:off x="2268360" y="4941720"/>
            <a:ext cx="93672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ксикан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зм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684360" y="2349360"/>
            <a:ext cx="7128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684360" y="2276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Мак-Кин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2340000" y="5661000"/>
            <a:ext cx="71280" cy="14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2340000" y="544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лк.Орисаб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3048120" y="3745080"/>
            <a:ext cx="6238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 rot="18164400">
            <a:off x="2472120" y="40161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ппал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31"/>
          <p:cNvSpPr/>
          <p:nvPr/>
        </p:nvSpPr>
        <p:spPr>
          <a:xfrm>
            <a:off x="-6480" y="2016000"/>
            <a:ext cx="3895920" cy="277344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32"/>
          <p:cNvSpPr/>
          <p:nvPr/>
        </p:nvSpPr>
        <p:spPr>
          <a:xfrm>
            <a:off x="79200" y="5443560"/>
            <a:ext cx="560520" cy="33804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34920" y="5589720"/>
            <a:ext cx="2160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ницы древнего оледенения, покрывавшего материк около 18000 лет наз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4643280" y="1341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ичина образования     древних оледен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ое похолодание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4140360" y="2708280"/>
            <a:ext cx="475272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оследствия деятельности древних лед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глаживание (выравнивание, выпахивание) рельеф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ирование озёрно – ледникового ландшаф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опление </a:t>
            </a: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море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сле таяния лед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морена"/>
          <p:cNvPicPr/>
          <p:nvPr/>
        </p:nvPicPr>
        <p:blipFill>
          <a:blip r:embed="rId4"/>
          <a:srcRect l="0" t="0" r="0" b="14293"/>
          <a:stretch/>
        </p:blipFill>
        <p:spPr>
          <a:xfrm>
            <a:off x="7236000" y="5495760"/>
            <a:ext cx="1830240" cy="110016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4"/>
          <p:cNvSpPr/>
          <p:nvPr/>
        </p:nvSpPr>
        <p:spPr>
          <a:xfrm>
            <a:off x="4572000" y="206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572000" y="4869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4500720" y="314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4500720" y="4292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500720" y="3716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4500720" y="2565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924360" y="2276640"/>
            <a:ext cx="79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4584600" y="2400480"/>
            <a:ext cx="4356360" cy="2501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 rot="16200000">
            <a:off x="3688560" y="265464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еговые хреб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932360" y="1700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516720" y="335772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 rot="16200000">
            <a:off x="6777360" y="3526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.Миссиси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7956720" y="3645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ппал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4572000" y="4869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37236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964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867564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8964720" y="4869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4572000" y="5516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4572000" y="602136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4572000" y="6524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4"/>
          <p:cNvSpPr/>
          <p:nvPr/>
        </p:nvSpPr>
        <p:spPr>
          <a:xfrm>
            <a:off x="4859280" y="4076640"/>
            <a:ext cx="0" cy="144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 flipV="1">
            <a:off x="5219640" y="2421000"/>
            <a:ext cx="0" cy="24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>
            <a:off x="5796000" y="2421000"/>
            <a:ext cx="0" cy="309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 flipV="1">
            <a:off x="6372360" y="3645000"/>
            <a:ext cx="0" cy="1224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7885080" y="4724280"/>
            <a:ext cx="0" cy="79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9"/>
          <p:cNvSpPr/>
          <p:nvPr/>
        </p:nvSpPr>
        <p:spPr>
          <a:xfrm>
            <a:off x="8244000" y="436572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0"/>
          <p:cNvSpPr/>
          <p:nvPr/>
        </p:nvSpPr>
        <p:spPr>
          <a:xfrm flipV="1">
            <a:off x="8675640" y="458100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4572000" y="4869000"/>
            <a:ext cx="28728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4859280" y="4869000"/>
            <a:ext cx="36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5219640" y="4869000"/>
            <a:ext cx="576360" cy="64764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796000" y="4869000"/>
            <a:ext cx="576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6372360" y="4869000"/>
            <a:ext cx="1512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7885080" y="4869000"/>
            <a:ext cx="35892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7"/>
          <p:cNvSpPr/>
          <p:nvPr/>
        </p:nvSpPr>
        <p:spPr>
          <a:xfrm>
            <a:off x="8244000" y="4869000"/>
            <a:ext cx="431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8675640" y="4869000"/>
            <a:ext cx="28908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3708360" y="4941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0"/>
          <p:cNvSpPr/>
          <p:nvPr/>
        </p:nvSpPr>
        <p:spPr>
          <a:xfrm>
            <a:off x="611280" y="17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ные з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395280" y="2276640"/>
            <a:ext cx="576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395280" y="2852640"/>
            <a:ext cx="576360" cy="36036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95280" y="3429000"/>
            <a:ext cx="57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395280" y="4005360"/>
            <a:ext cx="576360" cy="3603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395280" y="4581360"/>
            <a:ext cx="57636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111600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7"/>
          <p:cNvSpPr/>
          <p:nvPr/>
        </p:nvSpPr>
        <p:spPr>
          <a:xfrm>
            <a:off x="1187280" y="227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ай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1187280" y="278136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мешанные и широколиственные ле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1"/>
          <p:cNvSpPr/>
          <p:nvPr/>
        </p:nvSpPr>
        <p:spPr>
          <a:xfrm>
            <a:off x="1116000" y="3500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тепи и лесосте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2"/>
          <p:cNvSpPr/>
          <p:nvPr/>
        </p:nvSpPr>
        <p:spPr>
          <a:xfrm>
            <a:off x="1187280" y="407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усты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3"/>
          <p:cNvSpPr/>
          <p:nvPr/>
        </p:nvSpPr>
        <p:spPr>
          <a:xfrm>
            <a:off x="1187280" y="458136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ысотная пояс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4"/>
          <p:cNvSpPr/>
          <p:nvPr/>
        </p:nvSpPr>
        <p:spPr>
          <a:xfrm>
            <a:off x="4572000" y="5589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5"/>
          <p:cNvSpPr/>
          <p:nvPr/>
        </p:nvSpPr>
        <p:spPr>
          <a:xfrm>
            <a:off x="5292720" y="551664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р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стбищ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6"/>
          <p:cNvSpPr/>
          <p:nvPr/>
        </p:nvSpPr>
        <p:spPr>
          <a:xfrm>
            <a:off x="6443640" y="5516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рабатываемые зем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>
            <a:off x="8172360" y="566100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68"/>
          <p:cNvSpPr/>
          <p:nvPr/>
        </p:nvSpPr>
        <p:spPr>
          <a:xfrm>
            <a:off x="8101080" y="5950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684360" y="5445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ние зем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70"/>
          <p:cNvSpPr/>
          <p:nvPr/>
        </p:nvSpPr>
        <p:spPr>
          <a:xfrm>
            <a:off x="4643280" y="6165720"/>
            <a:ext cx="343080" cy="300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71"/>
          <p:cNvSpPr/>
          <p:nvPr/>
        </p:nvSpPr>
        <p:spPr>
          <a:xfrm>
            <a:off x="4849920" y="6031080"/>
            <a:ext cx="26172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74"/>
          <p:cNvSpPr/>
          <p:nvPr/>
        </p:nvSpPr>
        <p:spPr>
          <a:xfrm>
            <a:off x="900000" y="587700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75"/>
          <p:cNvSpPr/>
          <p:nvPr/>
        </p:nvSpPr>
        <p:spPr>
          <a:xfrm>
            <a:off x="684360" y="6021360"/>
            <a:ext cx="342720" cy="300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80"/>
          <p:cNvSpPr/>
          <p:nvPr/>
        </p:nvSpPr>
        <p:spPr>
          <a:xfrm>
            <a:off x="6012000" y="616572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81"/>
          <p:cNvSpPr/>
          <p:nvPr/>
        </p:nvSpPr>
        <p:spPr>
          <a:xfrm>
            <a:off x="6156360" y="623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82"/>
          <p:cNvSpPr/>
          <p:nvPr/>
        </p:nvSpPr>
        <p:spPr>
          <a:xfrm>
            <a:off x="6084720" y="602136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83"/>
          <p:cNvSpPr/>
          <p:nvPr/>
        </p:nvSpPr>
        <p:spPr>
          <a:xfrm>
            <a:off x="3059280" y="6093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84"/>
          <p:cNvSpPr/>
          <p:nvPr/>
        </p:nvSpPr>
        <p:spPr>
          <a:xfrm>
            <a:off x="3203640" y="6165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85"/>
          <p:cNvSpPr/>
          <p:nvPr/>
        </p:nvSpPr>
        <p:spPr>
          <a:xfrm>
            <a:off x="3132000" y="595008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6"/>
          <p:cNvSpPr/>
          <p:nvPr/>
        </p:nvSpPr>
        <p:spPr>
          <a:xfrm>
            <a:off x="1116000" y="6021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цитрусо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7"/>
          <p:cNvSpPr/>
          <p:nvPr/>
        </p:nvSpPr>
        <p:spPr>
          <a:xfrm>
            <a:off x="3419640" y="602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а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8"/>
          <p:cNvSpPr/>
          <p:nvPr/>
        </p:nvSpPr>
        <p:spPr>
          <a:xfrm>
            <a:off x="8820000" y="623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89"/>
          <p:cNvSpPr/>
          <p:nvPr/>
        </p:nvSpPr>
        <p:spPr>
          <a:xfrm>
            <a:off x="8675640" y="6165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90"/>
          <p:cNvSpPr/>
          <p:nvPr/>
        </p:nvSpPr>
        <p:spPr>
          <a:xfrm>
            <a:off x="8675640" y="602136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1"/>
          <p:cNvSpPr/>
          <p:nvPr/>
        </p:nvSpPr>
        <p:spPr>
          <a:xfrm>
            <a:off x="529272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2"/>
          <p:cNvSpPr/>
          <p:nvPr/>
        </p:nvSpPr>
        <p:spPr>
          <a:xfrm>
            <a:off x="6443640" y="602136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куруза, свиноводство, КР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93" descr="q25"/>
          <p:cNvPicPr/>
          <p:nvPr/>
        </p:nvPicPr>
        <p:blipFill>
          <a:blip r:embed="rId1"/>
          <a:stretch/>
        </p:blipFill>
        <p:spPr>
          <a:xfrm>
            <a:off x="179280" y="5013360"/>
            <a:ext cx="67644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94"/>
          <p:cNvSpPr txBox="1"/>
          <p:nvPr/>
        </p:nvSpPr>
        <p:spPr>
          <a:xfrm>
            <a:off x="25092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мена ПЗ и   хозяйственное использование земель вдоль 40-вой параллел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1187280" y="2781360"/>
            <a:ext cx="698508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547640" y="333360"/>
            <a:ext cx="5977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собенности географической зональн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258920" y="2781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Южнее тайги зональные ландшафты Северной Америки изменяются с запада на в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187280" y="3933720"/>
            <a:ext cx="6985080" cy="107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10800000">
            <a:off x="4427280" y="3499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187280" y="1197000"/>
            <a:ext cx="6985080" cy="107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 rot="10800000">
            <a:off x="4427280" y="234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476360" y="141300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1476360" y="1197000"/>
            <a:ext cx="6480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 Северной Америке существует на только </a:t>
            </a:r>
            <a:r>
              <a:rPr b="1" i="1" lang="ru-RU" sz="1600" spc="-1" strike="noStrike" u="sng">
                <a:solidFill>
                  <a:srgbClr val="4d4d4d"/>
                </a:solidFill>
                <a:uFillTx/>
                <a:latin typeface="Arial"/>
              </a:rPr>
              <a:t>широтная зональность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, но и </a:t>
            </a: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долготная зональность ( секторность),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которая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ыражается в закономерной смене типов ландшафтов от побережий океанов вглубь мате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332000" y="3860640"/>
            <a:ext cx="669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 продвижением от побережий океанов вглубь материк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з-за  значительной протяженности территории с запада на восток и особенностей рельефа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усиливается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тинентальность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8" descr="07"/>
          <p:cNvPicPr/>
          <p:nvPr/>
        </p:nvPicPr>
        <p:blipFill>
          <a:blip r:embed="rId3"/>
          <a:stretch/>
        </p:blipFill>
        <p:spPr>
          <a:xfrm>
            <a:off x="324000" y="5373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2"/>
          <p:cNvSpPr/>
          <p:nvPr/>
        </p:nvSpPr>
        <p:spPr>
          <a:xfrm>
            <a:off x="3924360" y="4797360"/>
            <a:ext cx="5219640" cy="2060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4356000" y="5084640"/>
            <a:ext cx="493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онтинентальный климат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свойствен территориям, лишенным воздействия морских ВМ. Над ними господствуют континентальные ВМ. Континентальный климат </a:t>
            </a:r>
            <a:r>
              <a:rPr b="1" i="1" lang="ru-RU" sz="1400" spc="-1" strike="noStrike" u="sng">
                <a:solidFill>
                  <a:srgbClr val="4d4d4d"/>
                </a:solidFill>
                <a:uFillTx/>
                <a:latin typeface="Arial"/>
              </a:rPr>
              <a:t>характеризуется малой облачностью, малым количеством осадков, большой амплитудой зимних и летних </a:t>
            </a:r>
            <a:r>
              <a:rPr b="1" i="1" lang="en-US" sz="1400" spc="-1" strike="noStrike" u="sng">
                <a:solidFill>
                  <a:srgbClr val="4d4d4d"/>
                </a:solidFill>
                <a:uFillTx/>
                <a:latin typeface="Arial"/>
              </a:rPr>
              <a:t>t</a:t>
            </a:r>
            <a:r>
              <a:rPr b="1" i="1" lang="ru-RU" sz="1400" spc="-1" strike="noStrike" u="sng">
                <a:solidFill>
                  <a:srgbClr val="4d4d4d"/>
                </a:solidFill>
                <a:uFillTx/>
                <a:latin typeface="Arial"/>
              </a:rPr>
              <a:t>, нередко промерзанием почв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08:20:57Z</dcterms:created>
  <dc:creator>Елена</dc:creator>
  <dc:description/>
  <dc:language>en-US</dc:language>
  <cp:lastModifiedBy>user</cp:lastModifiedBy>
  <dcterms:modified xsi:type="dcterms:W3CDTF">2010-02-17T06:05:36Z</dcterms:modified>
  <cp:revision>36</cp:revision>
  <dc:subject/>
  <dc:title>Слайд 1</dc:title>
</cp:coreProperties>
</file>