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4F1-4EA3-460A-B243-286CBCED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932-3C76-4285-ABF2-44A2F9C3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ACD-7EDA-452A-BA1A-CE545F2C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E41-0688-490E-B29B-196CC349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582-161B-43C0-975F-461C77C0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07C-5933-437D-8FDE-3E203DAF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695-EB37-429A-AC4D-F8EB92F6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476-C85C-4968-A19F-7B786959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3FA-2678-4195-A6F9-8A6AEF8A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0F3-6343-4B5E-9616-5CC9E0B9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CAE-0347-4309-B9DD-534C00C1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B89-A807-4511-8958-6E96D3AE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4561-5E72-47E5-9C46-4B48CD009D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66cc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77708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Тема: Перенос веществ в организме беспозвоночных и позвоночных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Изображение 246"/>
          <p:cNvPicPr/>
          <p:nvPr/>
        </p:nvPicPr>
        <p:blipFill>
          <a:blip r:embed="rId1"/>
          <a:stretch/>
        </p:blipFill>
        <p:spPr>
          <a:xfrm>
            <a:off x="2843280" y="1844640"/>
            <a:ext cx="3341520" cy="489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Изображение 261"/>
          <p:cNvPicPr/>
          <p:nvPr/>
        </p:nvPicPr>
        <p:blipFill>
          <a:blip r:embed="rId1"/>
          <a:stretch/>
        </p:blipFill>
        <p:spPr>
          <a:xfrm>
            <a:off x="0" y="-6480"/>
            <a:ext cx="9036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Кровеносные системы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Изображение 251"/>
          <p:cNvPicPr/>
          <p:nvPr/>
        </p:nvPicPr>
        <p:blipFill>
          <a:blip r:embed="rId2"/>
          <a:stretch/>
        </p:blipFill>
        <p:spPr>
          <a:xfrm>
            <a:off x="900000" y="836640"/>
            <a:ext cx="7344000" cy="2021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0" y="292392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Изображение 001"/>
          <p:cNvPicPr/>
          <p:nvPr/>
        </p:nvPicPr>
        <p:blipFill>
          <a:blip r:embed="rId3"/>
          <a:stretch/>
        </p:blipFill>
        <p:spPr>
          <a:xfrm>
            <a:off x="1042920" y="3357720"/>
            <a:ext cx="6913800" cy="28414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"/>
          <p:cNvSpPr/>
          <p:nvPr/>
        </p:nvSpPr>
        <p:spPr>
          <a:xfrm>
            <a:off x="0" y="623736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С.80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к.т. П «»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Собака домаш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Изображение 010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2771640" y="0"/>
            <a:ext cx="4791240" cy="4100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Изображение 247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24000" y="2637000"/>
            <a:ext cx="2581200" cy="364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Изображение 259"/>
          <p:cNvPicPr/>
          <p:nvPr/>
        </p:nvPicPr>
        <p:blipFill>
          <a:blip r:embed="rId3">
            <a:lum contrast="46000"/>
          </a:blip>
          <a:stretch/>
        </p:blipFill>
        <p:spPr>
          <a:xfrm>
            <a:off x="4140360" y="4149720"/>
            <a:ext cx="4284360" cy="1924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63388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 81  а.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4" descr="к.bmp"/>
          <p:cNvPicPr/>
          <p:nvPr/>
        </p:nvPicPr>
        <p:blipFill>
          <a:blip r:embed="rId1"/>
          <a:stretch/>
        </p:blipFill>
        <p:spPr>
          <a:xfrm>
            <a:off x="285840" y="333360"/>
            <a:ext cx="8858160" cy="73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Изображение 257"/>
          <p:cNvPicPr/>
          <p:nvPr/>
        </p:nvPicPr>
        <p:blipFill>
          <a:blip r:embed="rId1"/>
          <a:stretch/>
        </p:blipFill>
        <p:spPr>
          <a:xfrm>
            <a:off x="3348000" y="0"/>
            <a:ext cx="4753080" cy="3629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Изображение 249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84360" y="2708280"/>
            <a:ext cx="3179520" cy="3789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622920" y="630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80   кр.  со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Изображение 258"/>
          <p:cNvPicPr/>
          <p:nvPr/>
        </p:nvPicPr>
        <p:blipFill>
          <a:blip r:embed="rId1"/>
          <a:stretch/>
        </p:blipFill>
        <p:spPr>
          <a:xfrm>
            <a:off x="1655640" y="981000"/>
            <a:ext cx="7488360" cy="387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Изображение 256"/>
          <p:cNvPicPr/>
          <p:nvPr/>
        </p:nvPicPr>
        <p:blipFill>
          <a:blip r:embed="rId2"/>
          <a:stretch/>
        </p:blipFill>
        <p:spPr>
          <a:xfrm>
            <a:off x="468360" y="3860640"/>
            <a:ext cx="1332000" cy="777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Изображение 255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1692360" y="2637000"/>
            <a:ext cx="622080" cy="1182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Изображение 254"/>
          <p:cNvPicPr/>
          <p:nvPr/>
        </p:nvPicPr>
        <p:blipFill>
          <a:blip r:embed="rId4"/>
          <a:stretch/>
        </p:blipFill>
        <p:spPr>
          <a:xfrm>
            <a:off x="2987640" y="1341360"/>
            <a:ext cx="1008000" cy="866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60930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 81   п. а. рис.  С.82  в 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2195640" y="1844640"/>
            <a:ext cx="917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Изображение 248"/>
          <p:cNvPicPr/>
          <p:nvPr/>
        </p:nvPicPr>
        <p:blipFill>
          <a:blip r:embed="rId1"/>
          <a:stretch/>
        </p:blipFill>
        <p:spPr>
          <a:xfrm>
            <a:off x="395280" y="620640"/>
            <a:ext cx="3313080" cy="290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rcRect l="-19055" t="0" r="-24857" b="29339"/>
          <a:stretch/>
        </p:blipFill>
        <p:spPr>
          <a:xfrm>
            <a:off x="4500720" y="620640"/>
            <a:ext cx="3600360" cy="29210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4" descr="рыб.jpg"/>
          <p:cNvPicPr/>
          <p:nvPr/>
        </p:nvPicPr>
        <p:blipFill>
          <a:blip r:embed="rId3"/>
          <a:stretch/>
        </p:blipFill>
        <p:spPr>
          <a:xfrm>
            <a:off x="250920" y="4005360"/>
            <a:ext cx="385740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5" descr="земн.jpg"/>
          <p:cNvPicPr/>
          <p:nvPr/>
        </p:nvPicPr>
        <p:blipFill>
          <a:blip r:embed="rId4"/>
          <a:stretch/>
        </p:blipFill>
        <p:spPr>
          <a:xfrm>
            <a:off x="5219640" y="3933720"/>
            <a:ext cx="2670120" cy="2417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24000" y="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Схемы кровообра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630864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ры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6000" y="63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ляг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357336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ящер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3573360"/>
            <a:ext cx="20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обаки,  пт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1280" y="6308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81,82 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384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Кровь птиц и млекопитающих несёт к тканям большое количество кислорода, что поддерживает высокий уровень обмена вещест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94920" y="1628640"/>
            <a:ext cx="381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сть у нас в груди ч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гут сутками ид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дыха они не зн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нь за днем года счит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то сердце гонит кр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 сосудам вновь и внов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сть артерии и ве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пилляры непремен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уг большой и есть круг ма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ь бывает темной, ал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б не спутать чей черё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1773360"/>
            <a:ext cx="367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ь по правилам те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 желудочка- по кру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почки, легкие иль в ру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в предсердие оп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удет путь свой заверш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б не повернуть ей всп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ью нужно управл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лапан совсем как двер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уть укажут крови в серд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ереносит кровь пит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ислород нам для дыхан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щищает от микроб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, у крови функций 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76720" y="476280"/>
            <a:ext cx="23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тих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Рассмотрите на рисунке мазок крови человека и ляг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Опишите клетки крови лягушки и человека: форма, размеры, наличие ядра. Сравните их 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Сделайте предположение о том, почему клетки крови лягушки и человека отличаются. Как это связано с обменом вещест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285840" y="2786040"/>
            <a:ext cx="4500360" cy="3071880"/>
            <a:chOff x="285840" y="2786040"/>
            <a:chExt cx="4500360" cy="3071880"/>
          </a:xfrm>
        </p:grpSpPr>
        <p:pic>
          <p:nvPicPr>
            <p:cNvPr id="101" name="Picture 5" descr="равЧел и ляг"/>
            <p:cNvPicPr/>
            <p:nvPr/>
          </p:nvPicPr>
          <p:blipFill>
            <a:blip r:embed="rId1"/>
            <a:stretch/>
          </p:blipFill>
          <p:spPr>
            <a:xfrm>
              <a:off x="285840" y="2786040"/>
              <a:ext cx="4500360" cy="30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6"/>
            <p:cNvSpPr/>
            <p:nvPr/>
          </p:nvSpPr>
          <p:spPr>
            <a:xfrm>
              <a:off x="668160" y="2982240"/>
              <a:ext cx="1242720" cy="33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Кровь лягушк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943360" y="2982240"/>
              <a:ext cx="1242720" cy="33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Кровь челове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8" descr="C:\Documents and Settings\Зоенька\Рабочий стол\загад\эр чел.jpg"/>
          <p:cNvPicPr/>
          <p:nvPr/>
        </p:nvPicPr>
        <p:blipFill>
          <a:blip r:embed="rId2"/>
          <a:stretch/>
        </p:blipFill>
        <p:spPr>
          <a:xfrm>
            <a:off x="5000760" y="2643120"/>
            <a:ext cx="3809880" cy="2143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:\Documents and Settings\Зоенька\Рабочий стол\загад\эритр чел.bmp"/>
          <p:cNvPicPr/>
          <p:nvPr/>
        </p:nvPicPr>
        <p:blipFill>
          <a:blip r:embed="rId3"/>
          <a:stretch/>
        </p:blipFill>
        <p:spPr>
          <a:xfrm>
            <a:off x="4929120" y="4857840"/>
            <a:ext cx="3857760" cy="1676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64000" y="189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59636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800" spc="-1" strike="noStrike" u="sng">
                <a:solidFill>
                  <a:srgbClr val="a50021"/>
                </a:solidFill>
                <a:uFillTx/>
                <a:latin typeface="Arial"/>
              </a:rPr>
              <a:t>Цель: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 Познакомиться с особенностями переноса веществ в организме беспозвоночных и позвоночных животных.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. Рассмотреть значение этого процесс в жизни                 животных.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. Изучить состав крови позвоночных животных, строение кровеносной системы и ёё функц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18920" y="3645000"/>
            <a:ext cx="698508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равнить эритроциты лягушки и человека, сделать предположение, почему они отлич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Объяснить особенности их функционирования в связи с различием в стро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формулировать выводы об особенностях транспорта веществ в организме беспозвоночных и позвоночных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5472360" cy="4006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763640" y="333360"/>
            <a:ext cx="59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змеры эритроцитов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7162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яг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332000" y="234936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88000" y="3789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866920" y="2349000"/>
            <a:ext cx="1513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32000" y="333360"/>
            <a:ext cx="266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веты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1484280"/>
            <a:ext cx="784836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Эритроциты человека, в отличие от эритроцитов лягушки не имеют ядра и приобрели двояко вогнутую фор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Эритроциты человека переносят больше кислорода, чем эритроциты лягушки. Это объясняется, с одной стороны тем, что они меньше по размерам, чем эритроциты лягушки и поэтому быстрее переносятся током крови. С другой стороны, утратив ядро, они приобрели двояковогнутую форму, что значительно увеличило их поверхность и позволило одновременно переносить больше молекул кисло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Эритроциты лягушки громоздкие, поэтому передвигаются медленнее, хотя крупные размеры не позволяют им иметь большую поверх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Заголовок 1"/>
          <p:cNvSpPr/>
          <p:nvPr/>
        </p:nvSpPr>
        <p:spPr>
          <a:xfrm>
            <a:off x="611280" y="465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ывод: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 Эритроциты крови лягушки и человека сходны…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 Имеют различия…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. Эритроциты чьей крови способны переносить больше кислорода?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. Эволюция эритроцитов позвоночных шла в направлен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Содержимое 4" descr="Безымянный.bmp"/>
          <p:cNvPicPr/>
          <p:nvPr/>
        </p:nvPicPr>
        <p:blipFill>
          <a:blip r:embed="rId1"/>
          <a:stretch/>
        </p:blipFill>
        <p:spPr>
          <a:xfrm>
            <a:off x="571680" y="243000"/>
            <a:ext cx="8270640" cy="5972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686800" y="6126120"/>
            <a:ext cx="10008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351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Содержимое 3" descr="р.bmp"/>
          <p:cNvPicPr/>
          <p:nvPr/>
        </p:nvPicPr>
        <p:blipFill>
          <a:blip r:embed="rId1"/>
          <a:stretch/>
        </p:blipFill>
        <p:spPr>
          <a:xfrm>
            <a:off x="-357120" y="500040"/>
            <a:ext cx="9791640" cy="728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66ff33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4358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1.У всех многоклеточных животных красная кр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2. Кровь состоит из плазмы и клеток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3. Кровь у всех животных переносит только кисл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4.Кровеносная система позвоночных животных замкнутая и состоит из сердца и сосу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5. У рыб трехкамерн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6. Кровь позвоночных животных несёт меньшее количество кислорода к тканям, чем беспозвоно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7. У позвоночных высокий уровень обмена веществ по сравнению с беспозвоноч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8. Гемолимфа – бесцветная или зеленоватая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9. Птицы и млекопитающие – холоднокровные живот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0"/>
          <p:cNvSpPr txBox="1"/>
          <p:nvPr/>
        </p:nvSpPr>
        <p:spPr>
          <a:xfrm>
            <a:off x="2195640" y="404640"/>
            <a:ext cx="475272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ю - не верю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80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.80-81 Вопросы к рисун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Покажите, стрелками движение крови по сосудам у лесной мыши начиная от желудочков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На что показывает красный и синий цвет крови на рисун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Укажите местоположения артерий, вен, капилля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Чем отличается строение сердца от рыбы, лягуш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Какое значение имеет сильное разветвление капиллярной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яз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зучить раздел 12 до конца, пересказать, выучить все основны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в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заполнить рабочие тетр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одготовить дополнительную информацию о разнообразии кровеносных систем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640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Перенос веществ 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 организме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6600cc"/>
                </a:solidFill>
                <a:latin typeface="Arial"/>
              </a:rPr>
              <a:t>это важнейший процесс жизне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-603360"/>
            <a:ext cx="784872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Одноклет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5444640"/>
            <a:ext cx="792000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ёба обыкновенная             Инфузория туфел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 78  а.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Изображение 250"/>
          <p:cNvPicPr/>
          <p:nvPr/>
        </p:nvPicPr>
        <p:blipFill>
          <a:blip r:embed="rId1"/>
          <a:stretch/>
        </p:blipFill>
        <p:spPr>
          <a:xfrm rot="910200">
            <a:off x="4932000" y="1052640"/>
            <a:ext cx="3741840" cy="410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Изображение"/>
          <p:cNvPicPr/>
          <p:nvPr/>
        </p:nvPicPr>
        <p:blipFill>
          <a:blip r:embed="rId2"/>
          <a:stretch/>
        </p:blipFill>
        <p:spPr>
          <a:xfrm>
            <a:off x="324000" y="1484280"/>
            <a:ext cx="3628800" cy="3619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99"/>
                </a:solidFill>
                <a:latin typeface="Arial"/>
              </a:rPr>
              <a:t>Подцарство Многоклеточные.</a:t>
            </a:r>
            <a:br>
              <a:rPr sz="3200"/>
            </a:br>
            <a:r>
              <a:rPr b="1" lang="ru-RU" sz="3200" spc="-1" strike="noStrike">
                <a:solidFill>
                  <a:srgbClr val="ccff99"/>
                </a:solidFill>
                <a:latin typeface="Arial"/>
              </a:rPr>
              <a:t>Тип Кольчатые че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Arial"/>
              </a:rPr>
              <a:t>Дождевой чер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Изображение 251"/>
          <p:cNvPicPr/>
          <p:nvPr/>
        </p:nvPicPr>
        <p:blipFill>
          <a:blip r:embed="rId2"/>
          <a:stretch/>
        </p:blipFill>
        <p:spPr>
          <a:xfrm>
            <a:off x="0" y="1855800"/>
            <a:ext cx="9144000" cy="2608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602136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С. 80    а. 1    ст. 2  «та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ип моллю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Обыкновенный пруд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Изображение 252"/>
          <p:cNvPicPr/>
          <p:nvPr/>
        </p:nvPicPr>
        <p:blipFill>
          <a:blip r:embed="rId1"/>
          <a:stretch/>
        </p:blipFill>
        <p:spPr>
          <a:xfrm>
            <a:off x="1547640" y="1413000"/>
            <a:ext cx="5688360" cy="3560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609300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С. 80   п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Тип Членистоногие.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Класс Насекомы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03280" y="510516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чела медоносна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Изображение 263"/>
          <p:cNvPicPr/>
          <p:nvPr/>
        </p:nvPicPr>
        <p:blipFill>
          <a:blip r:embed="rId1"/>
          <a:stretch/>
        </p:blipFill>
        <p:spPr>
          <a:xfrm>
            <a:off x="250920" y="1700280"/>
            <a:ext cx="8497800" cy="2900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62262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С. 80   п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тт.bmp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992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7:04Z</dcterms:created>
  <dc:creator>Олег</dc:creator>
  <dc:description/>
  <dc:language>en-US</dc:language>
  <cp:lastModifiedBy>ноутбук</cp:lastModifiedBy>
  <dcterms:modified xsi:type="dcterms:W3CDTF">2010-01-23T13:04:07Z</dcterms:modified>
  <cp:revision>70</cp:revision>
  <dc:subject/>
  <dc:title>Тема: Перенос веществ в организме позвоночных животных.</dc:title>
</cp:coreProperties>
</file>