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FBC-181B-4AA3-A5E1-313B876E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3CA-5DA0-4E04-92C8-12BB8F8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78D-FB23-4F62-BB71-304D5E50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5F7-25A3-48FD-A06B-9ADB2EAA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587-C8C2-430F-BE0E-53B15F3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ADC-183E-49E4-81F5-9A6042A9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672-6338-42B3-AA13-E236375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056-D198-4624-AB0E-0E23D42A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0CA-A889-498F-B7CF-3B27364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F99-7294-42C2-9316-85ED785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2EC-084F-407D-B088-1C0F814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95C-2DD3-46AE-9FD0-E973E81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830-AC96-4C54-A930-7D7EAB235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66cc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ема: Перенос веществ в организме беспозвоночных и позвоночных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Изображение 251"/>
          <p:cNvPicPr/>
          <p:nvPr/>
        </p:nvPicPr>
        <p:blipFill>
          <a:blip r:embed="rId2"/>
          <a:stretch/>
        </p:blipFill>
        <p:spPr>
          <a:xfrm>
            <a:off x="900000" y="836640"/>
            <a:ext cx="7344000" cy="2021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Изображение 001"/>
          <p:cNvPicPr/>
          <p:nvPr/>
        </p:nvPicPr>
        <p:blipFill>
          <a:blip r:embed="rId3"/>
          <a:stretch/>
        </p:blipFill>
        <p:spPr>
          <a:xfrm>
            <a:off x="1042920" y="3357720"/>
            <a:ext cx="6913800" cy="2841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0" y="6237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.80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к.т. П «»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771640" y="0"/>
            <a:ext cx="4791240" cy="41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24000" y="2637000"/>
            <a:ext cx="2581200" cy="364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140360" y="4149720"/>
            <a:ext cx="4284360" cy="1924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3388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81  а.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к.bmp"/>
          <p:cNvPicPr/>
          <p:nvPr/>
        </p:nvPicPr>
        <p:blipFill>
          <a:blip r:embed="rId1"/>
          <a:stretch/>
        </p:blipFill>
        <p:spPr>
          <a:xfrm>
            <a:off x="285840" y="333360"/>
            <a:ext cx="88581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3348000" y="0"/>
            <a:ext cx="4753080" cy="362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4360" y="270828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292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80   кр.  с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Изображение 254"/>
          <p:cNvPicPr/>
          <p:nvPr/>
        </p:nvPicPr>
        <p:blipFill>
          <a:blip r:embed="rId4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60930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81   п. а. рис.  С.82  в 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195640" y="1844640"/>
            <a:ext cx="91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395280" y="620640"/>
            <a:ext cx="3313080" cy="290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rcRect l="-19055" t="0" r="-24857" b="29339"/>
          <a:stretch/>
        </p:blipFill>
        <p:spPr>
          <a:xfrm>
            <a:off x="4500720" y="620640"/>
            <a:ext cx="3600360" cy="29210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рыб.jpg"/>
          <p:cNvPicPr/>
          <p:nvPr/>
        </p:nvPicPr>
        <p:blipFill>
          <a:blip r:embed="rId3"/>
          <a:stretch/>
        </p:blipFill>
        <p:spPr>
          <a:xfrm>
            <a:off x="250920" y="4005360"/>
            <a:ext cx="38574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5" descr="земн.jpg"/>
          <p:cNvPicPr/>
          <p:nvPr/>
        </p:nvPicPr>
        <p:blipFill>
          <a:blip r:embed="rId4"/>
          <a:stretch/>
        </p:blipFill>
        <p:spPr>
          <a:xfrm>
            <a:off x="5219640" y="3933720"/>
            <a:ext cx="2670120" cy="2417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Схемы крово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3086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ры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57336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ящер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57336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обаки,  п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1280" y="6308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81,82 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384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Кровь птиц и млекопитающих несёт к тканям большое количество кислорода, что поддерживает высокий уровень обмена веще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381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у нас в груди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гут сутками ид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дыха они не зн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нь за днем года счи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сердце гонит 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сосудам вновь и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артерии и ве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пилляры непреме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уг большой и есть круг ма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 бывает темной, а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не спутать чей черё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1773360"/>
            <a:ext cx="36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 по правилам т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желудочка- по кр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почки, легкие иль в ру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в предсердие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удет путь свой завер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не повернуть ей вс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ю нужно упра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апан совсем как две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ь укажут крови в 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носит кровь пит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слород нам для дыха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щищает от микро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, у крови функций 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6720" y="47628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их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Рассмотрите на рисунке мазок крови человека и ляг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Опишите клетки крови лягушки и человека: форма, размеры, наличие ядра. Сравните и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делайте предположение о том, почему клетки крови лягушки и человека отличаются. Как это связано с обменом веще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5840" y="2786040"/>
            <a:ext cx="4500360" cy="3071880"/>
            <a:chOff x="285840" y="2786040"/>
            <a:chExt cx="4500360" cy="3071880"/>
          </a:xfrm>
        </p:grpSpPr>
        <p:pic>
          <p:nvPicPr>
            <p:cNvPr id="101" name="Picture 5" descr="равЧел и ляг"/>
            <p:cNvPicPr/>
            <p:nvPr/>
          </p:nvPicPr>
          <p:blipFill>
            <a:blip r:embed="rId1"/>
            <a:stretch/>
          </p:blipFill>
          <p:spPr>
            <a:xfrm>
              <a:off x="285840" y="2786040"/>
              <a:ext cx="450036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6"/>
            <p:cNvSpPr/>
            <p:nvPr/>
          </p:nvSpPr>
          <p:spPr>
            <a:xfrm>
              <a:off x="668160" y="2982240"/>
              <a:ext cx="1242720" cy="3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Кровь лягуш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943360" y="2982240"/>
              <a:ext cx="1242720" cy="3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Кровь челове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8" descr="C:\Documents and Settings\Зоенька\Рабочий стол\загад\эр чел.jpg"/>
          <p:cNvPicPr/>
          <p:nvPr/>
        </p:nvPicPr>
        <p:blipFill>
          <a:blip r:embed="rId2"/>
          <a:stretch/>
        </p:blipFill>
        <p:spPr>
          <a:xfrm>
            <a:off x="5000760" y="264312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Documents and Settings\Зоенька\Рабочий стол\загад\эритр чел.bmp"/>
          <p:cNvPicPr/>
          <p:nvPr/>
        </p:nvPicPr>
        <p:blipFill>
          <a:blip r:embed="rId3"/>
          <a:stretch/>
        </p:blipFill>
        <p:spPr>
          <a:xfrm>
            <a:off x="4929120" y="4857840"/>
            <a:ext cx="3857760" cy="167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64000" y="189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Цель: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Познакомиться с особенностями переноса веществ в организме беспозвоночных и позвоночны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8920" y="364500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равнить эритроциты лягушки и человека, сделать предположение, почему они отлич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Объяснить особенности их функционирования в связи с различием в стро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формулировать выводы об особенностях транспорта веществ в организме беспозвоночных и позвоночн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547236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333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меры эритроцито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7162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234936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78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866920" y="2349000"/>
            <a:ext cx="151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32000" y="333360"/>
            <a:ext cx="266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ы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484280"/>
            <a:ext cx="784836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человека, в отличие от эритроцитов лягушки не имеют ядра и приобрели двояко вогнутую фор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человека переносят больше кислорода, чем эритроциты лягушки. Это объясняется, с одной стороны тем, что они меньше по размерам, чем эритроциты лягушки и поэтому быстрее переносятся током крови. С другой стороны, утратив ядро, они приобрели двояковогнутую форму, что значительно увеличило их поверхность и позволило одновременно переносить больше молекул кисл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лягушки громоздкие, поэтому передвигаются медленнее, хотя крупные размеры не позволяют им иметь большую поверх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611280" y="465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вод: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Эритроциты крови лягушки и человека сходны…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Имеют различия…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Эритроциты чьей крови способны переносить больше кислорода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4" descr="Безымянный.bmp"/>
          <p:cNvPicPr/>
          <p:nvPr/>
        </p:nvPicPr>
        <p:blipFill>
          <a:blip r:embed="rId1"/>
          <a:stretch/>
        </p:blipFill>
        <p:spPr>
          <a:xfrm>
            <a:off x="571680" y="243000"/>
            <a:ext cx="8270640" cy="597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86800" y="6126120"/>
            <a:ext cx="100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р.bmp"/>
          <p:cNvPicPr/>
          <p:nvPr/>
        </p:nvPicPr>
        <p:blipFill>
          <a:blip r:embed="rId1"/>
          <a:stretch/>
        </p:blipFill>
        <p:spPr>
          <a:xfrm>
            <a:off x="-357120" y="500040"/>
            <a:ext cx="979164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66ff33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0"/>
          <p:cNvSpPr txBox="1"/>
          <p:nvPr/>
        </p:nvSpPr>
        <p:spPr>
          <a:xfrm>
            <a:off x="2195640" y="404640"/>
            <a:ext cx="475272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.80-81 Вопросы к рисун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окажите, стрелками движение крови по сосудам у лесной мыши начиная от желудочков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На что показывает красный и синий цвет крови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кажите местоположения артерий, вен, капилля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Чем отличается строение сердца от рыбы, ляг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Какое значение имеет сильное разветвление капиллярной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еренос веществ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 организме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это важнейший процесс жизне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78  а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Изображение 251"/>
          <p:cNvPicPr/>
          <p:nvPr/>
        </p:nvPicPr>
        <p:blipFill>
          <a:blip r:embed="rId2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6021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С. 80    а. 1    ст. 2  «та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6093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С. 80   п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чела медоносн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497800" cy="290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62262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С. 80   п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тт.bm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992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ноутбук</cp:lastModifiedBy>
  <dcterms:modified xsi:type="dcterms:W3CDTF">2010-01-23T13:04:07Z</dcterms:modified>
  <cp:revision>70</cp:revision>
  <dc:subject/>
  <dc:title>Тема: Перенос веществ в организме позвоночных животных.</dc:title>
</cp:coreProperties>
</file>