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29CD-80D2-41E4-A4EE-64FD1A4F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5CC-60C1-41C7-88ED-0607001E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AFB-B959-4249-91E2-FCAD2E7F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B40-5986-43AE-B4DC-5D7BF7F7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CE2-C454-43A6-BA1F-C2293A0B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203A-4198-4319-9F45-3FFADE37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474-772D-4FF5-AD06-96611DF0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5C1-D36A-4473-9EA0-8B2D347E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FD9-F07B-4849-810D-79FE263D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A1F-3B0A-406F-9AFC-CF8D3E84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B66-F3F7-4E3E-8EA6-046769C5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3C0-9261-4353-B430-F0593EF4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B6A8-3ED5-4B6C-955A-25B53B342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У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щадь – 1285 тыс.к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Перу политическая карта"/>
          <p:cNvPicPr/>
          <p:nvPr/>
        </p:nvPicPr>
        <p:blipFill>
          <a:blip r:embed="rId1"/>
          <a:srcRect l="20384" t="16426" r="16976" b="23796"/>
          <a:stretch/>
        </p:blipFill>
        <p:spPr>
          <a:xfrm>
            <a:off x="4427640" y="1484280"/>
            <a:ext cx="4240080" cy="517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Picture 9" descr="флаг 2"/>
          <p:cNvPicPr/>
          <p:nvPr/>
        </p:nvPicPr>
        <p:blipFill>
          <a:blip r:embed="rId2"/>
          <a:stretch/>
        </p:blipFill>
        <p:spPr>
          <a:xfrm>
            <a:off x="684360" y="2924280"/>
            <a:ext cx="2746080" cy="183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58053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еревня на тростниковом острове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зера Титик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остров на титикаке"/>
          <p:cNvPicPr/>
          <p:nvPr/>
        </p:nvPicPr>
        <p:blipFill>
          <a:blip r:embed="rId1"/>
          <a:stretch/>
        </p:blipFill>
        <p:spPr>
          <a:xfrm>
            <a:off x="395280" y="189000"/>
            <a:ext cx="8427960" cy="5605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021360"/>
            <a:ext cx="8785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да лам на высокогорье 4600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Стада лам"/>
          <p:cNvPicPr/>
          <p:nvPr/>
        </p:nvPicPr>
        <p:blipFill>
          <a:blip r:embed="rId1"/>
          <a:stretch/>
        </p:blipFill>
        <p:spPr>
          <a:xfrm>
            <a:off x="250920" y="404640"/>
            <a:ext cx="8634240" cy="553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мазонские леса -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ЕЛЬ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точная часть страны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льв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а бескрайн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ами, через которые величественно текут Амазонка и е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токи. Реки служат дорогами. Для сообщения использ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е тропы, проложенные от одной реки к друг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зяйственное освоение сельвы в Перу только начин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сельва 1"/>
          <p:cNvPicPr/>
          <p:nvPr/>
        </p:nvPicPr>
        <p:blipFill>
          <a:blip r:embed="rId1"/>
          <a:srcRect l="3528" t="2986" r="24945" b="15864"/>
          <a:stretch/>
        </p:blipFill>
        <p:spPr>
          <a:xfrm>
            <a:off x="1403280" y="765000"/>
            <a:ext cx="6467400" cy="381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рт и главный город Сельвы -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КИ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Икитос"/>
          <p:cNvPicPr/>
          <p:nvPr/>
        </p:nvPicPr>
        <p:blipFill>
          <a:blip r:embed="rId1"/>
          <a:srcRect l="0" t="0" r="0" b="10798"/>
          <a:stretch/>
        </p:blipFill>
        <p:spPr>
          <a:xfrm>
            <a:off x="395280" y="1773360"/>
            <a:ext cx="8447040" cy="456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80000" y="404640"/>
            <a:ext cx="31068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селение ПЕ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население 2"/>
          <p:cNvPicPr/>
          <p:nvPr/>
        </p:nvPicPr>
        <p:blipFill>
          <a:blip r:embed="rId1"/>
          <a:srcRect l="4661" t="4704" r="4346" b="6719"/>
          <a:stretch/>
        </p:blipFill>
        <p:spPr>
          <a:xfrm>
            <a:off x="468360" y="333360"/>
            <a:ext cx="4967280" cy="36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4005000"/>
            <a:ext cx="8713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у живут потомки испанцев. Это перуанцы, говорящие на  испанском, и два индейских народа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ечуа и айма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стране два государственных языка – испанский и кечу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мки испанцев и метисы живут в основном в городах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ейцы – в сельской местности, в горах. В Сель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чаются «лесные индейц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население"/>
          <p:cNvPicPr/>
          <p:nvPr/>
        </p:nvPicPr>
        <p:blipFill>
          <a:blip r:embed="rId1"/>
          <a:srcRect l="4103" t="4247" r="4373" b="9431"/>
          <a:stretch/>
        </p:blipFill>
        <p:spPr>
          <a:xfrm>
            <a:off x="395280" y="549360"/>
            <a:ext cx="8331120" cy="5892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У – 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ана древних индейских цивилиз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город инков"/>
          <p:cNvPicPr/>
          <p:nvPr/>
        </p:nvPicPr>
        <p:blipFill>
          <a:blip r:embed="rId1"/>
          <a:srcRect l="0" t="10127" r="0" b="0"/>
          <a:stretch/>
        </p:blipFill>
        <p:spPr>
          <a:xfrm>
            <a:off x="324000" y="1197000"/>
            <a:ext cx="8489880" cy="4984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2" name="Text Box 9"/>
          <p:cNvSpPr/>
          <p:nvPr/>
        </p:nvSpPr>
        <p:spPr>
          <a:xfrm>
            <a:off x="0" y="6381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кальный город инков МАЧУ-ПИК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6021360"/>
            <a:ext cx="871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ъём к городу МАЧУ-ПИК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подъём к городу"/>
          <p:cNvPicPr/>
          <p:nvPr/>
        </p:nvPicPr>
        <p:blipFill>
          <a:blip r:embed="rId1"/>
          <a:srcRect l="0" t="8781" r="0" b="0"/>
          <a:stretch/>
        </p:blipFill>
        <p:spPr>
          <a:xfrm>
            <a:off x="250920" y="404640"/>
            <a:ext cx="8663040" cy="559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6092640"/>
            <a:ext cx="871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рам Сол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0" descr="Храм Солнца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83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5950080"/>
            <a:ext cx="8642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рам Интиуат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Храм Интиуатаны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568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олица - Л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лима 1"/>
          <p:cNvPicPr/>
          <p:nvPr/>
        </p:nvPicPr>
        <p:blipFill>
          <a:blip r:embed="rId1"/>
          <a:stretch/>
        </p:blipFill>
        <p:spPr>
          <a:xfrm>
            <a:off x="684360" y="765000"/>
            <a:ext cx="7910280" cy="593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6021360"/>
            <a:ext cx="8785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рам Лу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Храм Луны"/>
          <p:cNvPicPr/>
          <p:nvPr/>
        </p:nvPicPr>
        <p:blipFill>
          <a:blip r:embed="rId1"/>
          <a:stretch/>
        </p:blipFill>
        <p:spPr>
          <a:xfrm>
            <a:off x="324000" y="549360"/>
            <a:ext cx="8575560" cy="5397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Лима"/>
          <p:cNvPicPr/>
          <p:nvPr/>
        </p:nvPicPr>
        <p:blipFill>
          <a:blip r:embed="rId1"/>
          <a:stretch/>
        </p:blipFill>
        <p:spPr>
          <a:xfrm>
            <a:off x="1042920" y="981000"/>
            <a:ext cx="7151760" cy="5641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зическая карта  ПЕ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физическая карта"/>
          <p:cNvPicPr/>
          <p:nvPr/>
        </p:nvPicPr>
        <p:blipFill>
          <a:blip r:embed="rId1"/>
          <a:srcRect l="8722" t="3115" r="10699" b="3167"/>
          <a:stretch/>
        </p:blipFill>
        <p:spPr>
          <a:xfrm>
            <a:off x="2411280" y="836640"/>
            <a:ext cx="4422960" cy="575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обережье в Перу называют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КОС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4859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риморская рав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янулась узкой полос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80 до 180 км) вдоль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1600 км. Лежит в зо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пических пустынь. Кос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резают стекающие с г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и, заполняющиеся 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шь во время выпа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ждей и таяния снегов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дников в Андах. Климат сух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жаркий. Расти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удная – кактусы, пу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стких т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Коста"/>
          <p:cNvPicPr/>
          <p:nvPr/>
        </p:nvPicPr>
        <p:blipFill>
          <a:blip r:embed="rId1"/>
          <a:stretch/>
        </p:blipFill>
        <p:spPr>
          <a:xfrm>
            <a:off x="5003640" y="692280"/>
            <a:ext cx="3940200" cy="6005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02136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ревовидный какт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древовидный кактус"/>
          <p:cNvPicPr/>
          <p:nvPr/>
        </p:nvPicPr>
        <p:blipFill>
          <a:blip r:embed="rId1"/>
          <a:srcRect l="0" t="10667" r="0" b="0"/>
          <a:stretch/>
        </p:blipFill>
        <p:spPr>
          <a:xfrm>
            <a:off x="2268360" y="189000"/>
            <a:ext cx="5027760" cy="5978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сахарный тростник"/>
          <p:cNvPicPr/>
          <p:nvPr/>
        </p:nvPicPr>
        <p:blipFill>
          <a:blip r:embed="rId1"/>
          <a:stretch/>
        </p:blipFill>
        <p:spPr>
          <a:xfrm>
            <a:off x="179280" y="189000"/>
            <a:ext cx="4459320" cy="334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" name="Picture 8" descr="хлопчатник"/>
          <p:cNvPicPr/>
          <p:nvPr/>
        </p:nvPicPr>
        <p:blipFill>
          <a:blip r:embed="rId2"/>
          <a:stretch/>
        </p:blipFill>
        <p:spPr>
          <a:xfrm>
            <a:off x="4716360" y="3500280"/>
            <a:ext cx="4340160" cy="325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7" name="Text Box 10"/>
          <p:cNvSpPr/>
          <p:nvPr/>
        </p:nvSpPr>
        <p:spPr>
          <a:xfrm>
            <a:off x="231840" y="3141720"/>
            <a:ext cx="419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50920" y="3573360"/>
            <a:ext cx="42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79280" y="3860640"/>
            <a:ext cx="43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50920" y="371628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ахарный трос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4859280" y="263700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лопча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рную часть Перу называют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ЬЕР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46432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ы расчленены 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дельные хребты реч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линами, высок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оскогорьями. Западные хребт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ают мало осадков, 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точные обильно увлажне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оскогорья покрыты лугам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ые простираются поч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 снегов в горах. Там, гд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адков становится меньше, луг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ходят в горные степи. Гор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гаты месторождениям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езных ископаемых, особен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д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Сьерра"/>
          <p:cNvPicPr/>
          <p:nvPr/>
        </p:nvPicPr>
        <p:blipFill>
          <a:blip r:embed="rId1"/>
          <a:srcRect l="8995" t="0" r="16252" b="6551"/>
          <a:stretch/>
        </p:blipFill>
        <p:spPr>
          <a:xfrm>
            <a:off x="4716360" y="765000"/>
            <a:ext cx="4248360" cy="590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877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зеро Титикака («оловянное поле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титикака"/>
          <p:cNvPicPr/>
          <p:nvPr/>
        </p:nvPicPr>
        <p:blipFill>
          <a:blip r:embed="rId1"/>
          <a:srcRect l="1218" t="1643" r="1512" b="1390"/>
          <a:stretch/>
        </p:blipFill>
        <p:spPr>
          <a:xfrm>
            <a:off x="250920" y="260280"/>
            <a:ext cx="8580240" cy="5681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7:13:39Z</dcterms:created>
  <dc:creator>Елена</dc:creator>
  <dc:description/>
  <dc:language>en-US</dc:language>
  <cp:lastModifiedBy>Мама</cp:lastModifiedBy>
  <dcterms:modified xsi:type="dcterms:W3CDTF">2011-01-04T15:21:35Z</dcterms:modified>
  <cp:revision>9</cp:revision>
  <dc:subject/>
  <dc:title>ПЕРУ Площадь – 1285 тыс.км²</dc:title>
</cp:coreProperties>
</file>