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7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11.gif" ContentType="image/gif"/>
  <Override PartName="/ppt/media/image12.png" ContentType="image/png"/>
  <Override PartName="/ppt/media/image30.wmf" ContentType="image/x-wmf"/>
  <Override PartName="/ppt/media/image9.jpeg" ContentType="image/jpeg"/>
  <Override PartName="/ppt/media/image23.wmf" ContentType="image/x-wmf"/>
  <Override PartName="/ppt/media/image14.png" ContentType="image/png"/>
  <Override PartName="/ppt/media/image21.gif" ContentType="image/gif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31.png" ContentType="image/png"/>
  <Override PartName="/ppt/media/image1.png" ContentType="image/png"/>
  <Override PartName="/ppt/media/image29.wmf" ContentType="image/x-wmf"/>
  <Override PartName="/ppt/media/image20.jpeg" ContentType="image/jpeg"/>
  <Override PartName="/ppt/media/image22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727-8306-4CF6-B0B0-6143A088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71D-0DBF-498D-9336-5087856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7CE-2345-4730-A2AE-55751FF3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11F-16DE-4183-89DD-35171003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F2E-0BFA-4755-A6E7-EC517A6E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C5B-DC6B-46BA-8D4A-D2FE92D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03F-36DE-4C10-8158-7CC3C164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B8A-F12B-46BB-B4E7-869AA96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AEC-A6DB-4DAE-8C85-D5E7D264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D0E-D067-4158-B92D-020D6ED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372-5E04-4755-B522-C1FF608E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258-74D5-4A65-A4B7-0BDB695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ACC0-9663-49A2-B624-47A51763D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Monotype Corsiva"/>
              </a:rPr>
              <a:t>Правильное питание –</a:t>
            </a:r>
            <a:br>
              <a:rPr sz="7200"/>
            </a:br>
            <a:r>
              <a:rPr b="1" lang="ru-RU" sz="7200" spc="-1" strike="noStrike">
                <a:solidFill>
                  <a:srgbClr val="ff0066"/>
                </a:solidFill>
                <a:latin typeface="Monotype Corsiva"/>
              </a:rPr>
              <a:t>          залог здоровья 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15360" y="6021360"/>
            <a:ext cx="69840" cy="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DOGPOINT_thumb"/>
          <p:cNvPicPr/>
          <p:nvPr/>
        </p:nvPicPr>
        <p:blipFill>
          <a:blip r:embed="rId1"/>
          <a:stretch/>
        </p:blipFill>
        <p:spPr>
          <a:xfrm>
            <a:off x="684360" y="1989000"/>
            <a:ext cx="828360" cy="101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34" descr="TABLE1_thumb"/>
          <p:cNvPicPr/>
          <p:nvPr/>
        </p:nvPicPr>
        <p:blipFill>
          <a:blip r:embed="rId2"/>
          <a:stretch/>
        </p:blipFill>
        <p:spPr>
          <a:xfrm>
            <a:off x="4500720" y="3860640"/>
            <a:ext cx="3095640" cy="230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5" descr="BOYHOLDI_thumb"/>
          <p:cNvPicPr/>
          <p:nvPr/>
        </p:nvPicPr>
        <p:blipFill>
          <a:blip r:embed="rId3"/>
          <a:stretch/>
        </p:blipFill>
        <p:spPr>
          <a:xfrm>
            <a:off x="1187280" y="3645000"/>
            <a:ext cx="2141640" cy="273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867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0"/>
          <p:cNvSpPr/>
          <p:nvPr/>
        </p:nvSpPr>
        <p:spPr>
          <a:xfrm>
            <a:off x="2493360" y="608040"/>
            <a:ext cx="5292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Monotype Corsiva"/>
              </a:rPr>
              <a:t>Меню Карлсона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5 кг кон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3 л вар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 кг печ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кг ва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 л газ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5 пачек чип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кг марме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кг шоко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f4a2d1f83d6d242b73e35b980fd726c8"/>
          <p:cNvPicPr/>
          <p:nvPr/>
        </p:nvPicPr>
        <p:blipFill>
          <a:blip r:embed="rId1"/>
          <a:stretch/>
        </p:blipFill>
        <p:spPr>
          <a:xfrm rot="707400">
            <a:off x="6659640" y="4869000"/>
            <a:ext cx="2125440" cy="1595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?id=533623135-17-72&amp;n=21"/>
          <p:cNvPicPr/>
          <p:nvPr/>
        </p:nvPicPr>
        <p:blipFill>
          <a:blip r:embed="rId2"/>
          <a:stretch/>
        </p:blipFill>
        <p:spPr>
          <a:xfrm rot="20375400">
            <a:off x="684360" y="494136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i?id=368910415-41-72&amp;n=21"/>
          <p:cNvPicPr/>
          <p:nvPr/>
        </p:nvPicPr>
        <p:blipFill>
          <a:blip r:embed="rId3"/>
          <a:stretch/>
        </p:blipFill>
        <p:spPr>
          <a:xfrm rot="1452600">
            <a:off x="6372000" y="198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?id=366845747-57-72&amp;n=21"/>
          <p:cNvPicPr/>
          <p:nvPr/>
        </p:nvPicPr>
        <p:blipFill>
          <a:blip r:embed="rId4"/>
          <a:stretch/>
        </p:blipFill>
        <p:spPr>
          <a:xfrm rot="19978800">
            <a:off x="611280" y="3212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?id=206128811-71-72&amp;n=21"/>
          <p:cNvPicPr/>
          <p:nvPr/>
        </p:nvPicPr>
        <p:blipFill>
          <a:blip r:embed="rId5"/>
          <a:stretch/>
        </p:blipFill>
        <p:spPr>
          <a:xfrm rot="1103400">
            <a:off x="6659280" y="3428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i?id=78466643-35-72&amp;n=21"/>
          <p:cNvPicPr/>
          <p:nvPr/>
        </p:nvPicPr>
        <p:blipFill>
          <a:blip r:embed="rId6"/>
          <a:stretch/>
        </p:blipFill>
        <p:spPr>
          <a:xfrm rot="19544400">
            <a:off x="394920" y="1844280"/>
            <a:ext cx="2104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ЖИМ И ГИГИЕНА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Игра: «ДА-Н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и, Маши, Са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руки в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и ногти постриг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кробов все прогн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с мылом умы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марашках не ост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ыли ли про 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сали вы мак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же правило спряталось в этой игр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36" descr="19"/>
          <p:cNvPicPr/>
          <p:nvPr/>
        </p:nvPicPr>
        <p:blipFill>
          <a:blip r:embed="rId1"/>
          <a:stretch/>
        </p:blipFill>
        <p:spPr>
          <a:xfrm>
            <a:off x="539640" y="2276640"/>
            <a:ext cx="15843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ЛЮДИ С САМОГО РОЖДЕНИЯ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ЖИТЬ НЕ МОГУТ БЕЗ ДВИЖЕНИЯ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Чтобы быть здоровым надо каждое утро начинать с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Игра «Правильно-неправиль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м, мальчишки и девч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готовила част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мой совет хоро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похлопайте в ладо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неправильный со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потопайте- нет, н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о нужн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здоровья ва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укты, овощи, омл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ворог, простоква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мой совет хоро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похлопайте в ладо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грызите лист капус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овсем невкус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ешьте шокол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фли, сахар, мармел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правильный со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убы вы почист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идете сп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хватите бул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дкую в к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правильный совет? 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Молодцы! Если хочешь быть здоров -занимайся спорт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28" descr="RUNNER"/>
          <p:cNvPicPr/>
          <p:nvPr/>
        </p:nvPicPr>
        <p:blipFill>
          <a:blip r:embed="rId1"/>
          <a:stretch/>
        </p:blipFill>
        <p:spPr>
          <a:xfrm>
            <a:off x="6227640" y="1773360"/>
            <a:ext cx="2470320" cy="264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9" descr="GYMNAST"/>
          <p:cNvPicPr/>
          <p:nvPr/>
        </p:nvPicPr>
        <p:blipFill>
          <a:blip r:embed="rId2"/>
          <a:stretch/>
        </p:blipFill>
        <p:spPr>
          <a:xfrm>
            <a:off x="2556000" y="4076640"/>
            <a:ext cx="25509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0" descr="ATHLETIC"/>
          <p:cNvPicPr/>
          <p:nvPr/>
        </p:nvPicPr>
        <p:blipFill>
          <a:blip r:embed="rId3"/>
          <a:stretch/>
        </p:blipFill>
        <p:spPr>
          <a:xfrm>
            <a:off x="6588000" y="4724280"/>
            <a:ext cx="2195640" cy="17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1" descr="JUMPBOY"/>
          <p:cNvPicPr/>
          <p:nvPr/>
        </p:nvPicPr>
        <p:blipFill>
          <a:blip r:embed="rId4"/>
          <a:stretch/>
        </p:blipFill>
        <p:spPr>
          <a:xfrm>
            <a:off x="4211640" y="1700280"/>
            <a:ext cx="21985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Прежде чем за стол мне сесть,</a:t>
            </a:r>
            <a:br>
              <a:rPr sz="4000"/>
            </a:b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я подумаю, </a:t>
            </a:r>
            <a:r>
              <a:rPr b="1" lang="ru-RU" sz="4800" spc="-1" strike="noStrike">
                <a:solidFill>
                  <a:srgbClr val="ff5050"/>
                </a:solidFill>
                <a:latin typeface="Arial"/>
              </a:rPr>
              <a:t>что</a:t>
            </a: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 съ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BJ096"/>
          <p:cNvPicPr/>
          <p:nvPr/>
        </p:nvPicPr>
        <p:blipFill>
          <a:blip r:embed="rId1"/>
          <a:stretch/>
        </p:blipFill>
        <p:spPr>
          <a:xfrm>
            <a:off x="5278320" y="3567240"/>
            <a:ext cx="3865680" cy="32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OBJ045"/>
          <p:cNvPicPr/>
          <p:nvPr/>
        </p:nvPicPr>
        <p:blipFill>
          <a:blip r:embed="rId2"/>
          <a:stretch/>
        </p:blipFill>
        <p:spPr>
          <a:xfrm>
            <a:off x="5292720" y="1557360"/>
            <a:ext cx="2714760" cy="302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OBJ003"/>
          <p:cNvPicPr/>
          <p:nvPr/>
        </p:nvPicPr>
        <p:blipFill>
          <a:blip r:embed="rId3"/>
          <a:stretch/>
        </p:blipFill>
        <p:spPr>
          <a:xfrm>
            <a:off x="-468360" y="3689280"/>
            <a:ext cx="467208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OBJ060"/>
          <p:cNvPicPr/>
          <p:nvPr/>
        </p:nvPicPr>
        <p:blipFill>
          <a:blip r:embed="rId4"/>
          <a:stretch/>
        </p:blipFill>
        <p:spPr>
          <a:xfrm>
            <a:off x="1979640" y="2492280"/>
            <a:ext cx="370368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ОЛОТЫЕ ПРАВИЛА 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лодцы, ребята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авайте еще раз напомним Карлсону, какие правила нужно соблюдать, чтобы быть здоров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 чтобы он быстрее поправился мы подарим ему «вкусные картин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BJ088"/>
          <p:cNvPicPr/>
          <p:nvPr/>
        </p:nvPicPr>
        <p:blipFill>
          <a:blip r:embed="rId1"/>
          <a:stretch/>
        </p:blipFill>
        <p:spPr>
          <a:xfrm flipH="1">
            <a:off x="0" y="259560"/>
            <a:ext cx="1187280" cy="97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5"/>
          <p:cNvPicPr/>
          <p:nvPr/>
        </p:nvPicPr>
        <p:blipFill>
          <a:blip r:embed="rId2"/>
          <a:stretch/>
        </p:blipFill>
        <p:spPr>
          <a:xfrm>
            <a:off x="7238880" y="4221000"/>
            <a:ext cx="1905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172360" y="3500280"/>
            <a:ext cx="720720" cy="1224000"/>
          </a:xfrm>
          <a:custGeom>
            <a:avLst/>
            <a:gdLst>
              <a:gd name="textAreaLeft" fmla="*/ 96480 w 720720"/>
              <a:gd name="textAreaRight" fmla="*/ 624240 w 720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116092_thumb"/>
          <p:cNvPicPr/>
          <p:nvPr/>
        </p:nvPicPr>
        <p:blipFill>
          <a:blip r:embed="rId2"/>
          <a:stretch/>
        </p:blipFill>
        <p:spPr>
          <a:xfrm>
            <a:off x="179280" y="0"/>
            <a:ext cx="248472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0"/>
          <p:cNvSpPr/>
          <p:nvPr/>
        </p:nvSpPr>
        <p:spPr>
          <a:xfrm>
            <a:off x="1042920" y="981000"/>
            <a:ext cx="7416720" cy="69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До встречи , друзья 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пасибо за помощь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аш Карлсон,          самый  лучший в мире знаток правильных 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Как вы думаете, что главное в жизн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ДЕНЬГИ ПОТЕРЯЛ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ИЧЕГО НЕ ПОТЕРЯ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РЕМЯ ПОТЕРЯЛ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НОГОЕ ПОТЕРЯ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ДОРОВЬЕ ПОТЕРЯЛ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СЕ ПОТЕРЯЛ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39" descr="4"/>
          <p:cNvPicPr/>
          <p:nvPr/>
        </p:nvPicPr>
        <p:blipFill>
          <a:blip r:embed="rId1"/>
          <a:stretch/>
        </p:blipFill>
        <p:spPr>
          <a:xfrm rot="21423000">
            <a:off x="6877080" y="4365360"/>
            <a:ext cx="164772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нам принесли письмо ! Интересно от ког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52"/>
          <p:cNvPicPr/>
          <p:nvPr/>
        </p:nvPicPr>
        <p:blipFill>
          <a:blip r:embed="rId1"/>
          <a:stretch/>
        </p:blipFill>
        <p:spPr>
          <a:xfrm flipH="1">
            <a:off x="4211640" y="2349360"/>
            <a:ext cx="37418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рогие, друзья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о мной случилась беда- я заболел! Доктор говорит, что я веду нездоровый образ жизни !!! А что  такое Здоровый Образ Жизни и как правильно питаться я не зна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МОГИТЕ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АШ КАРЛСОН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29" descr="3"/>
          <p:cNvPicPr/>
          <p:nvPr/>
        </p:nvPicPr>
        <p:blipFill>
          <a:blip r:embed="rId1"/>
          <a:stretch/>
        </p:blipFill>
        <p:spPr>
          <a:xfrm>
            <a:off x="6948360" y="765000"/>
            <a:ext cx="187164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0" descr="mail327"/>
          <p:cNvPicPr/>
          <p:nvPr/>
        </p:nvPicPr>
        <p:blipFill>
          <a:blip r:embed="rId2"/>
          <a:stretch/>
        </p:blipFill>
        <p:spPr>
          <a:xfrm>
            <a:off x="900000" y="83664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ята, что же делать, чтобы быть здоров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вместе с Карлсоном пройдем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пой здоров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0" y="1773360"/>
            <a:ext cx="8989920" cy="46098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8"/>
          <p:cNvSpPr/>
          <p:nvPr/>
        </p:nvSpPr>
        <p:spPr>
          <a:xfrm>
            <a:off x="588960" y="4245120"/>
            <a:ext cx="7246800" cy="350496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859280" y="263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жи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7308720" y="5084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564000" y="522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1258920" y="4005360"/>
            <a:ext cx="987480" cy="9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2"/>
          <p:cNvPicPr/>
          <p:nvPr/>
        </p:nvPicPr>
        <p:blipFill>
          <a:blip r:embed="rId1"/>
          <a:stretch/>
        </p:blipFill>
        <p:spPr>
          <a:xfrm>
            <a:off x="0" y="3213000"/>
            <a:ext cx="790560" cy="247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3"/>
          <p:cNvPicPr/>
          <p:nvPr/>
        </p:nvPicPr>
        <p:blipFill>
          <a:blip r:embed="rId2"/>
          <a:stretch/>
        </p:blipFill>
        <p:spPr>
          <a:xfrm>
            <a:off x="6878520" y="1628640"/>
            <a:ext cx="2265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А:    Я – и в масле, в жирном сы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печенке, в мол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морковь и абрик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 собою но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фруктах, ягодах он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Я люблю их тоже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:  Мы едим его со щ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 плодами, с овощ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немного в огур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 названьем «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- в капусте, и в тома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к, редиска, репа, клю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имон, и апель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ят этот витами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Ь УСТАЛОСТЬ И МИГРЕНЬ ВИТАМИНЫ- КАЖДЫЙ ДЕНЬ!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" spc="-1" strike="noStrike">
                <a:solidFill>
                  <a:srgbClr val="000000"/>
                </a:solidFill>
                <a:latin typeface="Arial"/>
              </a:rPr>
              <a:t>Какие же витаминные продукты помогут нам сохранить здоровье?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30" descr="107095_thumb"/>
          <p:cNvPicPr/>
          <p:nvPr/>
        </p:nvPicPr>
        <p:blipFill>
          <a:blip r:embed="rId1"/>
          <a:stretch/>
        </p:blipFill>
        <p:spPr>
          <a:xfrm>
            <a:off x="250920" y="476280"/>
            <a:ext cx="165708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31" descr="OBJ002"/>
          <p:cNvPicPr/>
          <p:nvPr/>
        </p:nvPicPr>
        <p:blipFill>
          <a:blip r:embed="rId2"/>
          <a:stretch/>
        </p:blipFill>
        <p:spPr>
          <a:xfrm>
            <a:off x="7128000" y="3357720"/>
            <a:ext cx="2016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310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ОВОЩИ,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               ЯГОДЫ И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                                  ФРУКТЫ –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САМЫЕ    ВИТАМИННЫЕ        ПРОДУКТ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33" descr="14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256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34" descr="PIC21"/>
          <p:cNvPicPr/>
          <p:nvPr/>
        </p:nvPicPr>
        <p:blipFill>
          <a:blip r:embed="rId2"/>
          <a:stretch/>
        </p:blipFill>
        <p:spPr>
          <a:xfrm>
            <a:off x="4356000" y="278136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ЕЗНЫ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83012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дождя я не размок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а, кругла, сладка на вку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ь я сахарной зов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догадались? Я ж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слез дов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ь без ру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догадались?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ла, рассыпчата, б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тол она с полей при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дит девица в темни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 коса –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растет в тепли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лода бо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трава зеле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зимой – со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еперь подумайте и ответьте мне: какое блюдо можно приготовить из этих продукто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30" descr="2"/>
          <p:cNvPicPr/>
          <p:nvPr/>
        </p:nvPicPr>
        <p:blipFill>
          <a:blip r:embed="rId1"/>
          <a:stretch/>
        </p:blipFill>
        <p:spPr>
          <a:xfrm>
            <a:off x="250920" y="765000"/>
            <a:ext cx="790560" cy="247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32" descr="PIC9"/>
          <p:cNvPicPr/>
          <p:nvPr/>
        </p:nvPicPr>
        <p:blipFill>
          <a:blip r:embed="rId2"/>
          <a:stretch/>
        </p:blipFill>
        <p:spPr>
          <a:xfrm>
            <a:off x="6531120" y="4005360"/>
            <a:ext cx="2612880" cy="196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34" descr="PIC21"/>
          <p:cNvPicPr/>
          <p:nvPr/>
        </p:nvPicPr>
        <p:blipFill>
          <a:blip r:embed="rId3"/>
          <a:stretch/>
        </p:blipFill>
        <p:spPr>
          <a:xfrm>
            <a:off x="6472080" y="981000"/>
            <a:ext cx="2671920" cy="2136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35" descr="PIC10"/>
          <p:cNvPicPr/>
          <p:nvPr/>
        </p:nvPicPr>
        <p:blipFill>
          <a:blip r:embed="rId4"/>
          <a:stretch/>
        </p:blipFill>
        <p:spPr>
          <a:xfrm>
            <a:off x="179280" y="4076640"/>
            <a:ext cx="14590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г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Вершки и кореш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ЕЛЬСИН, БАНАН И СЛИВ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ША, ПЕРСИК И МАЛИ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НАС И ВИНОГРАД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ребенок каждый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КЛА, КАБАЧОК И РЕ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м солнышком согр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ОШКА, ОГУРЕЦ, МО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лодируем вам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3"/>
          <p:cNvPicPr/>
          <p:nvPr/>
        </p:nvPicPr>
        <p:blipFill>
          <a:blip r:embed="rId1"/>
          <a:stretch/>
        </p:blipFill>
        <p:spPr>
          <a:xfrm>
            <a:off x="6372360" y="1989000"/>
            <a:ext cx="2409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0:28:27Z</dcterms:created>
  <dc:creator>Teacher</dc:creator>
  <dc:description/>
  <dc:language>en-US</dc:language>
  <cp:lastModifiedBy>Admin</cp:lastModifiedBy>
  <dcterms:modified xsi:type="dcterms:W3CDTF">2013-02-21T13:09:03Z</dcterms:modified>
  <cp:revision>31</cp:revision>
  <dc:subject/>
  <dc:title>Правильное пит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