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B30-2AA7-47C9-9E7B-6902A957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6F8-8488-4AD2-BC94-6012768A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895-22EA-4E2C-924F-16E215C1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0E8-6402-4C77-9091-C8904272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7FB3-D7AC-4DCC-A9C6-A3520D6F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A552-00A5-42F7-95A5-7C00E40A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584C-997C-4112-B617-F298041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2075-ADA5-4BB2-8025-CD4B1AFE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D286-DB41-49FC-8072-5518E3CB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49A1-38C9-4DBD-AA4D-E8447AB4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2887-DEF7-47A9-906A-90FB54D9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93B-475C-496B-8D98-8E8EEA68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91EA-24F8-4C56-8581-D529206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411D-71C8-4D24-857D-112944F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1981-2F1F-450A-864C-A3264509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4921-DFC6-42CF-B998-8A05196C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2DC7-A1E8-4F47-9FDB-C603381C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09D-6584-4730-99C1-14534563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7C6-12B1-4A20-9483-19D1BB21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C17-4D77-409C-9D97-0E68BFB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5B7-1C73-4EF2-B464-9A2B58F9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A34-6866-4B77-B674-45E16598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608-D2CB-4F5C-9A51-493269D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E70-AA9C-4619-BD7C-9BAF38F2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51C2-1544-45D1-9F7D-D053EB89DC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FCE0-B24A-4406-9786-3DCC1E774F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Arial Unicode MS"/>
              </a:rPr>
              <a:t>Последний урок истории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66ff"/>
                </a:solidFill>
                <a:latin typeface="Arial Unicode MS"/>
              </a:rPr>
              <a:t>25 мая 2010 год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911320" cy="390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73680" y="1484280"/>
            <a:ext cx="5170320" cy="3867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Александр Македонск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19280" y="1916280"/>
            <a:ext cx="6041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Отец героя загадки -тоже известная историческая личность, правда слава сына затмила славу отца. Учителем у мальчика тоже был очень известный человек - философ, выдающийся ученный того време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...К Филиппу подвели коня - огромного, лобастого, с белой звездой на лб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-Царь, прими этого коня в подарок -сказал фракиец  ,он стоит пятеры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Его зовут Буцефал("быкоголовый"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Филипп приказал одному из своих приближенных обуздать коня, но лошадь взвилась на дыбы,  сбросив всадника. Та же участь постигла других, попытавшихся объездить строптивого коня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-Забирай своего коня! - в гневе воскликнул царь .-Он же у тебя совершенно дикий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Александр, стоявший рядом, с сожалением произнес 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-Какого прекрасного коня люди теряют из-за собственной глупости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-Мал ты еще учить взрослых! -ответил ему отец -Прежде чем говорить, попробуй сам сделать это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Александр подошел к коню, он заметил, что Буцефал пугается собственной тени. Поставив коня против солнца, ласково поглаживая его, Александр сначала позволил ему бежать свободно и сам побежал рядом с ним. Потом ,схватившись за гриву, резко вскочил на него. Буцефал взвился и понесся галопом. Всадник и конь скрылись за горизонтом. Филипп в ужасе закрыл глаза....Через некоторое время, раздался топот копыт, из клубы появился Буцефал. Александр летел на нем ,как на крыльях. Филипп подбежал к сыну и обнял его: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"Ищи себе царство по себе, Македония для тебя слишком мала!"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Что 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Александр Македонский</a:t>
            </a: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 и сделал, завоевав весь мир, известный тогда древним грекам, дойдя да самой Индии. Во всех походах македонский царь ехал впереди своей армии на лобастом вороном коне по прозвищу Буцеф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4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циональный герой, в трудное для своей страны время сумел объединить, сплотить свой народ и когда над его страной нависла смертельная угроза, из четырех зол выбрал наименьшее... За этот выбор его нередко поругивал другой народный герой этой же стра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3514680" cy="5049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Unicode MS"/>
              </a:rPr>
              <a:t>Богдан Хмельницки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В тяжелое для Украины время, когда поляки напирали с запада, татары и турки -с юга, в январе 1654 г. собирает раду(совет) в городе Переяслав, на которой после речи Хмельницкого, указывавшего на необходимость для Украины выбрать кого-нибудь из четырех государей: султана турецкого, хана крымского, короля польского или царя московского и отдаться в его подданство, народ закричал: "волим (т. е. желаем) под царя московского"! Прочитаны были договорные статьи, на основании которых Украина соединялась с Россией, и затем народ был приведен к присяге. Старшина присягнула с неохотой: она мечтала о самостоятельности Украины. Неохотно присягнули также митрополит и духовенство. В Москву были посланы послы от войска запорожского Зарудный и Тетеря , которые после долгих совещаний с боярами добились утверждения договорных пунктов, на которых Украина воссоединилась с Россией 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А ругал Богдана Хмельницкого за этот выбор Тарас Шевченко - народный поэт, в своих произведениях "Чигирин" и "Розрыта могила",называя Богдана "неразумным сыном"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Думаю, выбор гетьмана тогда был абсолютно верным - Россия была православной, как и Укра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5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е признала вся Европа, не признали лишь в стране, на престол которой она претендовала. Любовь и коварство погубили ее. Конец трагичен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620880" cy="4824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8343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Княжна Таракано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86072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Княжна Тараканова привлекла к себе внимание общества в 1772 году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ыдавала себя в Париже за дочь императрицы Елизаветы Петровны, объявила себя претенденткой на русский престол.24 августа 1774 года она написала письмо турецкому султану, прося его покровительства и пытаясь использовать территориальные споры России и Турции. Затем княжна вместе с подстрекателями прибыла в Венецию, якобы для того, чтобы здесь ожидать турецких паспортов, разрешавших отправиться за Балканы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На ее беду на рейде в Ливорно стояли корабли русского адмирала Алексея Орлова, которому обеспокоенная императрица Екатерина поручает выкрасть самозванку и доставить ее на территорию России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Княжна Тараканова, конечно, полагала, что она по-женски неотразима, и получила лишнее тому подтверждение, когда в ее постели оказался бывший любимчик Екатерины. Она искренне верила, что обманывает очередного мужчину, с помощью которого ей, возможно, удастся добиться успеха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Утром 22 февраля 1775 года адмирал пригласил будущую императрицу вместе с ее верными помощниками - конфедератами - взглянуть на маневры русского флота. Княжна Тараканова была на вершине счастья. Через несколько минут авантюристка вместе с сообщниками была арестована. Несчастная любовница требовала встречи с Орловым, гневалась, доказывала свое царское происхождение, но корабль "Исидора", где заточили узницу, уже взял курс на Россию, а адмирал на всякий случай отделался формальным письмом, из которого княжна Тараканова, наконец-то, поняла, в какую ловушку попала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осле допроса, учиненного Екатериной, была заточена в одну из камер Петропавловской крепости, где вскоре умерла от чахотки так и не открыв тайну своего происхождения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6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царствованию посвящена обширнейшая литература. При нём была создана и при нём же распалась "Избранная рада". Намеревался присоединить к Руси Ливонию и открыть стране выход в Балтийское море. Царь рассчитывал опереться на местное население, которое получило от Русского государства различные льготы и освобождалось от власти немецких феода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695680" cy="504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2033640"/>
            <a:ext cx="556128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Иван Грозный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9900"/>
                </a:solidFill>
                <a:latin typeface="Arial Unicode MS"/>
              </a:rPr>
              <a:t>Исторические загадки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Unicode MS"/>
              </a:rPr>
              <a:t>Лич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 Unicode MS"/>
              </a:rPr>
              <a:t>в истор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2924280"/>
            <a:ext cx="262260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</a:rPr>
              <a:t>Иван IV Васильевич (1530 - 1584).</a:t>
            </a:r>
            <a:r>
              <a:rPr b="0" lang="ru-RU" sz="1600" spc="-1" strike="noStrike">
                <a:solidFill>
                  <a:srgbClr val="ffffff"/>
                </a:solidFill>
                <a:latin typeface="Arial Unicode MS"/>
              </a:rPr>
              <a:t> Иван Грозный - один из самых выдающихся государственных деятелей допетровской Руси. Его царствованию посвящена обширнейшая литература, поэтому напомним лишь основные вехи его жизн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Unicode MS"/>
              </a:rPr>
              <a:t>Когда умер Василий, Ивану было три года; спустя пять лет, в 1538 г., умерла Елена Глинская. Существуют предположения, что активно вмешивавшаяся в политическую жизнь мать Ивана была отравлена. Осиротевший отрок оказался свидетелем непривлекательной и жестокой борьбы группировок, претендовавших на первенство - Глинских, Шуйских, Бельских. На княжича не обращали внимания. Впоследствии Иван вспоминал о пренебрежении своего опекуна. Во время очередной дворцовой "замятни" заговорщики во главе с Иваном Шуйским ворвались "в постельные хоромы не по времени, за три часы до света", немало напугав тринадцатилетнего Ивана. Год спустя любимца Ивана - боярина Воронцова избили тут же во дворце, разорвали на нем одежду, пиная, стащили с сеней на площадь. Лишь заступничество Ивана спасло ему жизнь, Воронцов был сослан в Кострому. В 1546 г. толпа недовольных пищальников (воинов, вооруженных пищалями) попыталась прорваться с челобитьем к Ивану, ехавшему на охоту; охрана великого князя их задержала, в схватке погибло несколько человек. Обвиненных в подстрекательстве к мятежу казнили, хотя, разумеется, от имени Ивана расправлялись со своими соперниками очередные временщи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Unicode MS"/>
              </a:rPr>
              <a:t>В 1547 г. Иван был венчан на царство. Это было официальное принятие нового титула, хотя в документах царем именовался уже Василий III. В том же году Иван женился на Анастасии Романовне Захарьиной, дочери боярина. Этот брак некоторые княжеские фамилии расценили как бесчестие, ибо Иван женился "на рабе своей". 1547 г. был зловещим: трижды горела Москва, причем во время последнего, июньского пожара сгорело 25 тысяч дворов и погибло, по подсчетам летописца, 1700 человек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Unicode MS"/>
              </a:rPr>
              <a:t>Начиная с 1549 г. вокруг Ивана группируются его единомышленники и помощники, которых в последствии Андрей Курбский назовет "Избранной радой". Это был окольничий Алексей Адашев, думный дьяк Иван Висковатый, митрополит Макарий, священник Сильвестр. Началась пора реформ, направленных на укрепление самодержавной власти ца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7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жизни снискал огромную популярность, благодаря своей честности и находчивости.  У него не было ничего, но в то же время было все, ведь главной ценностью он считал личную свободу. Был одним из первых космополи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1468440"/>
            <a:ext cx="6480000" cy="4746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иоген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Диоген- знаменитый древнегреческий философ, родился в городе Синопе ,жил в Коринфе, на базарной площади, в бочке. Являясь представителем философской школы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киников, 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проповедовал крайний аскетизм ,отрицал все блага цивилизации, бытовые удобства, не верил в богов. Историки считают, что Диоген был первым космополитом, т. к. про себя он всегда гордо говорил :"Я- гражданин мира!". Был находчив, остер на язык, с сильными мира сего разговаривал на равных, не боясь говорить им правду в глаза. Ну а простой народ любил и почитал Диогена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Рассказывают, что царь македонский Александр, после покорения Древней Эллады был в Коринфе. Ему рассказали про Диогена и царь непременно захотел с ним встретиться. Одетый в сверкающие на солнце доспехи, окруженный многочисленной свитой, Александр отправился на базарную площадь и остановился перед знаменитой бочкой, в которой жил Диоген. Диоген как раз грелся на солнышке, лежа у порога своего жилища.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Я Александр - великий царь! -представился македонянин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Я- киник  Диоген, -ответил философ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Не хочешь ли ты отобедать со мной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Несчастлив тот, кто завтракает, обедает и ужинает, когда захочется Александру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А ты меня не боишься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А ты - добро или зло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Разумеется - добро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Кто же боится добра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Я правитель Македонии, а скоро и всего мира. Что мне сделать для тебя?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- Отойди чуть в сторону, ты застишь мне солнце!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Тут Александр отъехал к своим друзьям и подданным и сказал: ''Если бы я не был Александром, я стал бы Диогеном''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....Легенда говорит о том, что Диоген умер в один день с Александром Македонским. Александр - в тридцати трехлетнем возрасте в далёком и чужом Вавилоне, Диоген - на восемьдесят девятом году жизни в родном Коринфе на городском пустыре. Над могилой была воздвигнута колонна, а на ней - собака, высеченная из мрамора. Позднее и другие соотечественники оказали Диогену почёт, соорудив ему бронзовые памятники, на одном из которых было написано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''Время состарит и бронзу, лишь Диогенова слава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Вечность саму превзойдёт и никогда не умрёт!''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8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Этот полководец был репрессирован в 30-годы и посмертно реабилитирован в 56-ом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Наиболее известной операцией этого полководца являлась деблокада крупного города, что привело к значительному изменению стратегической обстан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Другой известной победой этого полководца явилось уничтожение крупной группировки противника в ходе внезапного наступления в условиях, правда, более чем двукратного превосходства над противником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Один из соратников этого полководца стал маршалом и также был репрессирован. Однако посмертно реабилитирован он был значительно позже - лишь в 1992 го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Полководец, о котором идёт речь в загадке, был фанатично предан своему делу и просто сгорал на работе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По мнению некоторых исследователей, этот полководец страдал психическими расстройствами, со слуховыми и зрительными галлюцинац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Согласно официальной версии, этот полководец был простонародного, "рабоче-крестьянского" происхождения, хотя некоторые исследователи говорят о дворянских корн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Этот полководец частенько "распускал руки" по отношению к подчиненным, что те сносили с некоторой снисходительность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Дополнительно упомяну, что этот командующий был далеко не обойдён вниманием историков, не был деятелем "второго плана", о которой известно лишь узким специалистам. Нет, речь идёт об очень известном человеке, имя которого обязательно упоминалось в  учебниках истори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48080" cy="5184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Жанна д'Арк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43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048200" cy="2952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4437000"/>
            <a:ext cx="850752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Unicode MS"/>
              </a:rPr>
              <a:t>Поздравляю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47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егодня прозвучит звонок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Для многих он напоминанье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следний кончился урок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стало время расставан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Я пожелаю вам одно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чаще, в школу забегайте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воих родных учителей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Вы добрым словом вспомина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25312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ff"/>
                </a:solidFill>
                <a:latin typeface="Arial Unicode MS"/>
              </a:rPr>
              <a:t>Загадка №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5 лет покинула родину, прославила свое имя в другой стране. Любила французскую литературу. С ее легкой руки в южной провинции страны, в которой она жила, был основан город, названный в ее честь (в последствии, город  переименова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952880" cy="298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3834000" cy="2862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95160" y="90000"/>
            <a:ext cx="5955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Лежит пред вами новой жизни пут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римите ж наш привет, негромкий, но сердечны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усть веры и любви родник ваш бесконечны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Не засорит нелегкой жизни сут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от и звенит последний звонок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ривычный и непривычны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от и идет последний урок -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Обычный и необычный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Учитель слезу украдкой смахнул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Цветы к груди прижимая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Завистливо десятиклассник вздохнул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С линейки тебя провожая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Много дел у тебя на пут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Будет больших и малых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Но только всему, что ждет впереди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Школа стала началом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И ты еще вспомнишь, поверь, не раз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 удачные дни и в ненасть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оследний звонок, и одиннадцатый класс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И глаза первоклассников яс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Будешь в жизни дерзат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Трудной и интересно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Прожить ее хочу пожелать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Тебе - неспокойно и чес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Unicode MS"/>
              </a:rPr>
              <a:t>Екатерина </a:t>
            </a: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0705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Принцесса Софья, родившаяся в маленьком княжестве(в Германии),приезжает в 15 лет в Россию в качестве невесты наследника российского престола Петра III. Софья уже тогда знала что она хочет ,у чему стремится. Ей удалось успешно преодолеть запутанную сеть дворцовых интриг и прийти к власти (армия была на стороне молодой жены наследника). Совершая поездку по южным провинциям России, останавливается отдохнуть у излучины Днепра. Открывшийся ей вид : холмы на правом берегу, бескрайние степи на левом, поражают императрицу своей красотой. Она решительно закладывает первый камень будущего города, провозглашая :"Здесь будет город Екатеринослав!"(ныне-Днепропетровск)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2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ушли, испугавшись численности и мощи армии неприятеля. Он остался, ведь за спиной была его родина. Остался, долго сдерживая силы противника, во много превышавшие численность людей, оставшихся верными ему и своей стране. Его дерзкий ответ парламентерам вошел в истор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Unicode MS"/>
              </a:rPr>
              <a:t>Царь Спарты Леонид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583080" cy="5373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35280" y="2492280"/>
            <a:ext cx="5238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Это случилось в 480 году до нашей эры. Персидский царь Ксеркс повел громадную армию(1 млн. 750 тыс. воинов) против независимых греческих государств. Греки в спешном порядке собрали армию ,готовясь отразить нападение, как это было в битве при Марафоне(492 г. до н.э.).Но , увидев громадную и мощную армию персов, в страхе повернули назад(Афины, Фивы ...все отозвали свое ополчение).В узком Фермопильском проходе путь персидскому войску преградил спартанский царь Леонид с маленьким отрядом(300 человек),преданных ему воинов. Ксеркс послал разведчиков :"Посмотрите, ушли ли эллины, свободен ли путь?".Разведчики вернулись:"Да, царь, все ушли ...Лишь небольшой отряд спартанцев во главе с Леонидом остался, они, похоже, готовятся к сражению".Ксеркс послал гонцов к Леониду с требованием сдаться, гарантируя ему жизнь. Леонид ответил дерзко :"Мы гарантируем жизнь Ксерксу, если он сдастся сейчас"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-Безумцы, нас так много, если каждый наш воин выпустит по стреле, наши стрелы заслонят от вас солнце! - воскликнул один из персов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Ничего, мы будем сражаться в тени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-ответил царь спартанц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ff"/>
                </a:solidFill>
                <a:latin typeface="Arial Unicode MS"/>
              </a:rPr>
              <a:t>Загадка № 3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детстве отличался пытливым умом и сообразительностью (не путать с птицей-говоруном).Когда ему было лет 11-13, будучи очень наблюдательным, сумел сделать то, что тщетно пытались до него сделать несколько взрослых... Отец обнял его после этого и посоветовал искать ему другую страну проживания... Мальчик подрос и пошел действительно далеко, очень дале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3:42:19Z</dcterms:created>
  <dc:creator>User</dc:creator>
  <dc:description/>
  <dc:language>en-US</dc:language>
  <cp:lastModifiedBy>User</cp:lastModifiedBy>
  <dcterms:modified xsi:type="dcterms:W3CDTF">2015-02-06T20:30:27Z</dcterms:modified>
  <cp:revision>6</cp:revision>
  <dc:subject/>
  <dc:title>Последний урок истории</dc:title>
</cp:coreProperties>
</file>