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7533-A2D6-49F3-BD71-70A6A54FD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F7BA-443E-4AFC-A89C-7E9E4B2B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8A5E-314C-43C0-AC4D-0E08F9FC6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50FE-6C5B-42FC-97ED-26906EE4F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5798-2BDD-4E49-864E-310812B2D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4178-F814-4E5B-B62A-5A2A080A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DCCF6-0FEA-4A99-8722-85929D6A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E645-61C1-420D-BA9F-251D9F8C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571D-C995-4A61-9723-03567B4E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764D-1F4F-4B63-A9EB-2655B38D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C0F2-24DD-4408-8D48-DABCDACA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3D8D-405F-4C58-8920-86CC1489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5E32-73B8-4158-A721-A8183E75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14B07-31F3-40F4-B46D-85FCBB5E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9640-C0BB-494C-9E04-49A69481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1642-5730-4F94-9DB2-9668A33F0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BF022-2B7B-47BF-B692-6FE4A221E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C143-55F4-4BA0-9BA5-0B304AC2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F37E-272C-4CE1-AAD8-043B5B8D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D0AB-6341-443F-8ED6-EA5BAA3A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98D8-034E-4F67-AD0C-FB8033AB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439E-4881-4415-AF24-3CC2C3B0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D332-BD62-4E56-A5CC-5519F362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2851-B4F7-43B7-805C-493C856B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B49A-B71B-4D62-B105-B5A8B36FC16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217B-5DCF-45CB-969D-B488AFFA467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Arial Unicode MS"/>
              </a:rPr>
              <a:t>Последний урок истории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58920" y="314136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3366ff"/>
                </a:solidFill>
                <a:latin typeface="Arial Unicode MS"/>
              </a:rPr>
              <a:t>25 мая 2010 год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2911320" cy="39002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973680" y="1484280"/>
            <a:ext cx="5170320" cy="38671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Unicode MS"/>
              </a:rPr>
              <a:t>Александр Македонский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619280" y="1916280"/>
            <a:ext cx="6041880" cy="45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Unicode MS"/>
              </a:rPr>
              <a:t>Отец героя загадки -тоже известная историческая личность, правда слава сына затмила славу отца. Учителем у мальчика тоже был очень известный человек - философ, выдающийся ученный того времен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Unicode MS"/>
              </a:rPr>
              <a:t>...К Филиппу подвели коня - огромного, лобастого, с белой звездой на лбу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 Unicode MS"/>
              </a:rPr>
              <a:t>-Царь, прими этого коня в подарок -сказал фракиец  ,он стоит пятерых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 Unicode MS"/>
              </a:rPr>
              <a:t>Его зовут Буцефал("быкоголовый")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 Unicode MS"/>
              </a:rPr>
              <a:t>Филипп приказал одному из своих приближенных обуздать коня, но лошадь взвилась на дыбы,  сбросив всадника. Та же участь постигла других, попытавшихся объездить строптивого коня..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Unicode MS"/>
              </a:rPr>
              <a:t>-Забирай своего коня! - в гневе воскликнул царь .-Он же у тебя совершенно дикий!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 Unicode MS"/>
              </a:rPr>
              <a:t>Александр, стоявший рядом, с сожалением произнес :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 Unicode MS"/>
              </a:rPr>
              <a:t>-Какого прекрасного коня люди теряют из-за собственной глупости!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 Unicode MS"/>
              </a:rPr>
              <a:t>-Мал ты еще учить взрослых! -ответил ему отец -Прежде чем говорить, попробуй сам сделать это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 Unicode MS"/>
              </a:rPr>
              <a:t>Александр подошел к коню, он заметил, что Буцефал пугается собственной тени. Поставив коня против солнца, ласково поглаживая его, Александр сначала позволил ему бежать свободно и сам побежал рядом с ним. Потом ,схватившись за гриву, резко вскочил на него. Буцефал взвился и понесся галопом. Всадник и конь скрылись за горизонтом. Филипп в ужасе закрыл глаза....Через некоторое время, раздался топот копыт, из клубы появился Буцефал. Александр летел на нем ,как на крыльях. Филипп подбежал к сыну и обнял его:</a:t>
            </a: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"Ищи себе царство по себе, Македония для тебя слишком мала!"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 Unicode MS"/>
              </a:rPr>
              <a:t>Что </a:t>
            </a: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Александр Македонский</a:t>
            </a:r>
            <a:r>
              <a:rPr b="0" lang="ru-RU" sz="1800" spc="-1" strike="noStrike">
                <a:solidFill>
                  <a:srgbClr val="ffffff"/>
                </a:solidFill>
                <a:latin typeface="Arial Unicode MS"/>
              </a:rPr>
              <a:t> и сделал, завоевав весь мир, известный тогда древним грекам, дойдя да самой Индии. Во всех походах македонский царь ехал впереди своей армии на лобастом вороном коне по прозвищу Буцефа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3366ff"/>
                </a:solidFill>
                <a:latin typeface="Arial Unicode MS"/>
              </a:rPr>
              <a:t>Загадка № 4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циональный герой, в трудное для своей страны время сумел объединить, сплотить свой народ и когда над его страной нависла смертельная угроза, из четырех зол выбрал наименьшее... За этот выбор его нередко поругивал другой народный герой этой же стран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84360" y="1484280"/>
            <a:ext cx="3514680" cy="50497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Unicode MS"/>
              </a:rPr>
              <a:t>Богдан Хмельницкий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2915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В тяжелое для Украины время, когда поляки напирали с запада, татары и турки -с юга, в январе 1654 г. собирает раду(совет) в городе Переяслав, на которой после речи Хмельницкого, указывавшего на необходимость для Украины выбрать кого-нибудь из четырех государей: султана турецкого, хана крымского, короля польского или царя московского и отдаться в его подданство, народ закричал: "волим (т. е. желаем) под царя московского"! Прочитаны были договорные статьи, на основании которых Украина соединялась с Россией, и затем народ был приведен к присяге. Старшина присягнула с неохотой: она мечтала о самостоятельности Украины. Неохотно присягнули также митрополит и духовенство. В Москву были посланы послы от войска запорожского Зарудный и Тетеря , которые после долгих совещаний с боярами добились утверждения договорных пунктов, на которых Украина воссоединилась с Россией 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А ругал Богдана Хмельницкого за этот выбор Тарас Шевченко - народный поэт, в своих произведениях "Чигирин" и "Розрыта могила",называя Богдана "неразумным сыном"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Думаю, выбор гетьмана тогда был абсолютно верным - Россия была православной, как и Украи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3366ff"/>
                </a:solidFill>
                <a:latin typeface="Arial Unicode MS"/>
              </a:rPr>
              <a:t>Загадка № 5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е признала вся Европа, не признали лишь в стране, на престол которой она претендовала. Любовь и коварство погубили ее. Конец трагичен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3620880" cy="48243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8343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Unicode MS"/>
              </a:rPr>
              <a:t>Княжна Тараканов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067280" y="1268280"/>
            <a:ext cx="4860720" cy="36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50752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Княжна Тараканова привлекла к себе внимание общества в 1772 году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Выдавала себя в Париже за дочь императрицы Елизаветы Петровны, объявила себя претенденткой на русский престол.24 августа 1774 года она написала письмо турецкому султану, прося его покровительства и пытаясь использовать территориальные споры России и Турции. Затем княжна вместе с подстрекателями прибыла в Венецию, якобы для того, чтобы здесь ожидать турецких паспортов, разрешавших отправиться за Балканы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На ее беду на рейде в Ливорно стояли корабли русского адмирала Алексея Орлова, которому обеспокоенная императрица Екатерина поручает выкрасть самозванку и доставить ее на территорию России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Княжна Тараканова, конечно, полагала, что она по-женски неотразима, и получила лишнее тому подтверждение, когда в ее постели оказался бывший любимчик Екатерины. Она искренне верила, что обманывает очередного мужчину, с помощью которого ей, возможно, удастся добиться успеха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Утром 22 февраля 1775 года адмирал пригласил будущую императрицу вместе с ее верными помощниками - конфедератами - взглянуть на маневры русского флота. Княжна Тараканова была на вершине счастья. Через несколько минут авантюристка вместе с сообщниками была арестована. Несчастная любовница требовала встречи с Орловым, гневалась, доказывала свое царское происхождение, но корабль "Исидора", где заточили узницу, уже взял курс на Россию, а адмирал на всякий случай отделался формальным письмом, из которого княжна Тараканова, наконец-то, поняла, в какую ловушку попала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После допроса, учиненного Екатериной, была заточена в одну из камер Петропавловской крепости, где вскоре умерла от чахотки так и не открыв тайну своего происхождения..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3366ff"/>
                </a:solidFill>
                <a:latin typeface="Arial Unicode MS"/>
              </a:rPr>
              <a:t>Загадка № 6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4358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го царствованию посвящена обширнейшая литература. При нём была создана и при нём же распалась "Избранная рада". Намеревался присоединить к Руси Ливонию и открыть стране выход в Балтийское море. Царь рассчитывал опереться на местное население, которое получило от Русского государства различные льготы и освобождалось от власти немецких феодал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695680" cy="5040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79280" y="2033640"/>
            <a:ext cx="5561280" cy="44226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48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Unicode MS"/>
              </a:rPr>
              <a:t>Иван Грозный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9900"/>
                </a:solidFill>
                <a:latin typeface="Arial Unicode MS"/>
              </a:rPr>
              <a:t>Исторические загадки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5092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 Unicode MS"/>
              </a:rPr>
              <a:t>Личност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i="1" lang="en-US" sz="4800" spc="-1" strike="noStrike">
                <a:solidFill>
                  <a:srgbClr val="ffffff"/>
                </a:solidFill>
                <a:latin typeface="Arial Unicode MS"/>
              </a:rPr>
              <a:t>в истори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300720" y="2924280"/>
            <a:ext cx="2622600" cy="36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Unicode MS"/>
              </a:rPr>
              <a:t>Иван IV Васильевич (1530 - 1584).</a:t>
            </a:r>
            <a:r>
              <a:rPr b="0" lang="ru-RU" sz="1600" spc="-1" strike="noStrike">
                <a:solidFill>
                  <a:srgbClr val="ffffff"/>
                </a:solidFill>
                <a:latin typeface="Arial Unicode MS"/>
              </a:rPr>
              <a:t> Иван Грозный - один из самых выдающихся государственных деятелей допетровской Руси. Его царствованию посвящена обширнейшая литература, поэтому напомним лишь основные вехи его жизни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 Unicode MS"/>
              </a:rPr>
              <a:t>Когда умер Василий, Ивану было три года; спустя пять лет, в 1538 г., умерла Елена Глинская. Существуют предположения, что активно вмешивавшаяся в политическую жизнь мать Ивана была отравлена. Осиротевший отрок оказался свидетелем непривлекательной и жестокой борьбы группировок, претендовавших на первенство - Глинских, Шуйских, Бельских. На княжича не обращали внимания. Впоследствии Иван вспоминал о пренебрежении своего опекуна. Во время очередной дворцовой "замятни" заговорщики во главе с Иваном Шуйским ворвались "в постельные хоромы не по времени, за три часы до света", немало напугав тринадцатилетнего Ивана. Год спустя любимца Ивана - боярина Воронцова избили тут же во дворце, разорвали на нем одежду, пиная, стащили с сеней на площадь. Лишь заступничество Ивана спасло ему жизнь, Воронцов был сослан в Кострому. В 1546 г. толпа недовольных пищальников (воинов, вооруженных пищалями) попыталась прорваться с челобитьем к Ивану, ехавшему на охоту; охрана великого князя их задержала, в схватке погибло несколько человек. Обвиненных в подстрекательстве к мятежу казнили, хотя, разумеется, от имени Ивана расправлялись со своими соперниками очередные временщики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 Unicode MS"/>
              </a:rPr>
              <a:t>В 1547 г. Иван был венчан на царство. Это было официальное принятие нового титула, хотя в документах царем именовался уже Василий III. В том же году Иван женился на Анастасии Романовне Захарьиной, дочери боярина. Этот брак некоторые княжеские фамилии расценили как бесчестие, ибо Иван женился "на рабе своей". 1547 г. был зловещим: трижды горела Москва, причем во время последнего, июньского пожара сгорело 25 тысяч дворов и погибло, по подсчетам летописца, 1700 человек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 Unicode MS"/>
              </a:rPr>
              <a:t>Начиная с 1549 г. вокруг Ивана группируются его единомышленники и помощники, которых в последствии Андрей Курбский назовет "Избранной радой". Это был окольничий Алексей Адашев, думный дьяк Иван Висковатый, митрополит Макарий, священник Сильвестр. Началась пора реформ, направленных на укрепление самодержавной власти цар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3366ff"/>
                </a:solidFill>
                <a:latin typeface="Arial Unicode MS"/>
              </a:rPr>
              <a:t>Загадка № 7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 жизни снискал огромную популярность, благодаря своей честности и находчивости.  У него не было ничего, но в то же время было все, ведь главной ценностью он считал личную свободу. Был одним из первых космополи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332000" y="1468440"/>
            <a:ext cx="6480000" cy="47466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Диоген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87138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Диоген- знаменитый древнегреческий философ, родился в городе Синопе ,жил в Коринфе, на базарной площади, в бочке. Являясь представителем философской школы </a:t>
            </a:r>
            <a:r>
              <a:rPr b="1" lang="en-US" sz="1400" spc="-1" strike="noStrike">
                <a:solidFill>
                  <a:srgbClr val="ffffff"/>
                </a:solidFill>
                <a:latin typeface="Arial Unicode MS"/>
              </a:rPr>
              <a:t>киников, 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проповедовал крайний аскетизм ,отрицал все блага цивилизации, бытовые удобства, не верил в богов. Историки считают, что Диоген был первым космополитом, т. к. про себя он всегда гордо говорил :"Я- гражданин мира!". Был находчив, остер на язык, с сильными мира сего разговаривал на равных, не боясь говорить им правду в глаза. Ну а простой народ любил и почитал Диогена.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Рассказывают, что царь македонский Александр, после покорения Древней Эллады был в Коринфе. Ему рассказали про Диогена и царь непременно захотел с ним встретиться. Одетый в сверкающие на солнце доспехи, окруженный многочисленной свитой, Александр отправился на базарную площадь и остановился перед знаменитой бочкой, в которой жил Диоген. Диоген как раз грелся на солнышке, лежа у порога своего жилища. 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- Я Александр - великий царь! -представился македонянин.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- Я- киник  Диоген, -ответил философ.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- Не хочешь ли ты отобедать со мной?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- Несчастлив тот, кто завтракает, обедает и ужинает, когда захочется Александру.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- А ты меня не боишься?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- А ты - добро или зло?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- Разумеется - добро.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- Кто же боится добра?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- Я правитель Македонии, а скоро и всего мира. Что мне сделать для тебя?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- Отойди чуть в сторону, ты застишь мне солнце!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Тут Александр отъехал к своим друзьям и подданным и сказал: ''Если бы я не был Александром, я стал бы Диогеном''.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....Легенда говорит о том, что Диоген умер в один день с Александром Македонским. Александр - в тридцати трехлетнем возрасте в далёком и чужом Вавилоне, Диоген - на восемьдесят девятом году жизни в родном Коринфе на городском пустыре. Над могилой была воздвигнута колонна, а на ней - собака, высеченная из мрамора. Позднее и другие соотечественники оказали Диогену почёт, соорудив ему бронзовые памятники, на одном из которых было написано: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''Время состарит и бронзу, лишь Диогенова слава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Вечность саму превзойдёт и никогда не умрёт!''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3366ff"/>
                </a:solidFill>
                <a:latin typeface="Arial Unicode MS"/>
              </a:rPr>
              <a:t>Загадка № 8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218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Этот полководец был репрессирован в 30-годы и посмертно реабилитирован в 56-ом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Наиболее известной операцией этого полководца являлась деблокада крупного города, что привело к значительному изменению стратегической обстанов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Другой известной победой этого полководца явилось уничтожение крупной группировки противника в ходе внезапного наступления в условиях, правда, более чем двукратного превосходства над противником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Один из соратников этого полководца стал маршалом и также был репрессирован. Однако посмертно реабилитирован он был значительно позже - лишь в 1992 год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Полководец, о котором идёт речь в загадке, был фанатично предан своему делу и просто сгорал на работе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4000" y="907560"/>
            <a:ext cx="836280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По мнению некоторых исследователей, этот полководец страдал психическими расстройствами, со слуховыми и зрительными галлюцинация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Согласно официальной версии, этот полководец был простонародного, "рабоче-крестьянского" происхождения, хотя некоторые исследователи говорят о дворянских корня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Этот полководец частенько "распускал руки" по отношению к подчиненным, что те сносили с некоторой снисходительностью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Дополнительно упомяну, что этот командующий был далеко не обойдён вниманием историков, не был деятелем "второго плана", о которой известно лишь узким специалистам. Нет, речь идёт об очень известном человеке, имя которого обязательно упоминалось в  учебниках истории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3448080" cy="51847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Unicode MS"/>
              </a:rPr>
              <a:t>Жанна д'Арк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076720" y="1341360"/>
            <a:ext cx="3432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340000" y="1052640"/>
            <a:ext cx="4048200" cy="29527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79280" y="4437000"/>
            <a:ext cx="850752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Unicode MS"/>
              </a:rPr>
              <a:t>Поздравляю!!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39280" y="765000"/>
            <a:ext cx="814716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Сегодня прозвучит звонок,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Для многих он напоминанье.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Последний кончился урок,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Настало время расставань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Я пожелаю вам одно,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Почаще, в школу забегайте.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Своих родных учителей,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Вы добрым словом вспоминайт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908000" y="476280"/>
            <a:ext cx="5253120" cy="5832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ff"/>
                </a:solidFill>
                <a:latin typeface="Arial Unicode MS"/>
              </a:rPr>
              <a:t>Загадка № 1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15 лет покинула родину, прославила свое имя в другой стране. Любила французскую литературу. С ее легкой руки в южной провинции страны, в которой она жила, был основан город, названный в ее честь (в последствии, город  переименовал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4952880" cy="2981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643280" y="3789360"/>
            <a:ext cx="3834000" cy="28623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95160" y="90000"/>
            <a:ext cx="59551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Лежит пред вами новой жизни путь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Примите ж наш привет, негромкий, но сердечный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Пусть веры и любви родник ваш бесконечный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Не засорит нелегкой жизни суть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Вот и звенит последний звонок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Привычный и непривычный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Вот и идет последний урок -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Обычный и необычный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Учитель слезу украдкой смахнул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Цветы к груди прижимая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Завистливо десятиклассник вздохнул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С линейки тебя провожая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Много дел у тебя на пути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Будет больших и малых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Но только всему, что ждет впереди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Школа стала началом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И ты еще вспомнишь, поверь, не раз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В удачные дни и в ненастье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Последний звонок, и одиннадцатый класс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И глаза первоклассников ясные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Будешь в жизни дерзать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Трудной и интересной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Прожить ее хочу пожелать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Тебе - неспокойно и чест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40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Arial Unicode MS"/>
              </a:rPr>
              <a:t>Екатерина </a:t>
            </a:r>
            <a:r>
              <a:rPr b="1" lang="en-US" sz="5400" spc="-1" strike="noStrike">
                <a:solidFill>
                  <a:srgbClr val="ffffcc"/>
                </a:solidFill>
                <a:latin typeface="Arial Unicode MS"/>
              </a:rPr>
              <a:t>II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11280" y="1268280"/>
            <a:ext cx="40705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4216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Принцесса Софья, родившаяся в маленьком княжестве(в Германии),приезжает в 15 лет в Россию в качестве невесты наследника российского престола Петра III. Софья уже тогда знала что она хочет ,у чему стремится. Ей удалось успешно преодолеть запутанную сеть дворцовых интриг и прийти к власти (армия была на стороне молодой жены наследника). Совершая поездку по южным провинциям России, останавливается отдохнуть у излучины Днепра. Открывшийся ей вид : холмы на правом берегу, бескрайние степи на левом, поражают императрицу своей красотой. Она решительно закладывает первый камень будущего города, провозглашая :"Здесь будет город Екатеринослав!"(ныне-Днепропетровск).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66ff"/>
                </a:solidFill>
                <a:latin typeface="Arial Unicode MS"/>
              </a:rPr>
              <a:t>Загадка № 2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се ушли, испугавшись численности и мощи армии неприятеля. Он остался, ведь за спиной была его родина. Остался, долго сдерживая силы противника, во много превышавшие численность людей, оставшихся верными ему и своей стране. Его дерзкий ответ парламентерам вошел в истори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40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Unicode MS"/>
              </a:rPr>
              <a:t>Царь Спарты Леонид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3583080" cy="5373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635280" y="2492280"/>
            <a:ext cx="523872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Это случилось в 480 году до нашей эры. Персидский царь Ксеркс повел громадную армию(1 млн. 750 тыс. воинов) против независимых греческих государств. Греки в спешном порядке собрали армию ,готовясь отразить нападение, как это было в битве при Марафоне(492 г. до н.э.).Но , увидев громадную и мощную армию персов, в страхе повернули назад(Афины, Фивы ...все отозвали свое ополчение).В узком Фермопильском проходе путь персидскому войску преградил спартанский царь Леонид с маленьким отрядом(300 человек),преданных ему воинов. Ксеркс послал разведчиков :"Посмотрите, ушли ли эллины, свободен ли путь?".Разведчики вернулись:"Да, царь, все ушли ...Лишь небольшой отряд спартанцев во главе с Леонидом остался, они, похоже, готовятся к сражению".Ксеркс послал гонцов к Леониду с требованием сдаться, гарантируя ему жизнь. Леонид ответил дерзко :"Мы гарантируем жизнь Ксерксу, если он сдастся сейчас"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-Безумцы, нас так много, если каждый наш воин выпустит по стреле, наши стрелы заслонят от вас солнце! - воскликнул один из персов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Ничего, мы будем сражаться в тени 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-ответил царь спартанце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66ff"/>
                </a:solidFill>
                <a:latin typeface="Arial Unicode MS"/>
              </a:rPr>
              <a:t>Загадка № 3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детстве отличался пытливым умом и сообразительностью (не путать с птицей-говоруном).Когда ему было лет 11-13, будучи очень наблюдательным, сумел сделать то, что тщетно пытались до него сделать несколько взрослых... Отец обнял его после этого и посоветовал искать ему другую страну проживания... Мальчик подрос и пошел действительно далеко, очень далек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3:42:19Z</dcterms:created>
  <dc:creator>User</dc:creator>
  <dc:description/>
  <dc:language>en-US</dc:language>
  <cp:lastModifiedBy>User</cp:lastModifiedBy>
  <dcterms:modified xsi:type="dcterms:W3CDTF">2015-02-06T20:30:27Z</dcterms:modified>
  <cp:revision>6</cp:revision>
  <dc:subject/>
  <dc:title>Последний урок истории</dc:title>
</cp:coreProperties>
</file>