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DF1CB9-F41C-446F-AF2F-B69CFE6F9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60AD8D-052F-464E-A855-9306FFE56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8B3408-D056-43BC-A092-A04F46ED4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455AD-FE9C-4F5B-853D-96BCE7242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306F7-0BEE-4907-A430-8980CCDCA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A977A-6599-4EB4-8C33-9DF672215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07CD7-4567-435E-8C8B-1DD29F2EB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7ACA5-357E-42F9-8DC1-B8AFA69D2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8011B-B287-47FF-9588-C8A9FF1EA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70D1E-AA57-4688-809B-967F04DDC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C498F-7264-4F0E-870E-EF614043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0C29AA-127C-412D-A58F-7EBC56A7D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EC819-7631-4860-B340-2A5EB2A5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EF828-9825-4F5F-8492-951BD7B9D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5748A-B296-4817-8BA8-E6CEAC5AE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91573-9DC3-45A0-88AE-1E31B24821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63FC3-1212-4D83-9783-9EBAD2610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21876-29F1-4FF8-8CA6-271BAF8A9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5E1199-6646-4D56-95DB-35893792A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F3A41-3488-4C28-90CD-1E324B59B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6DE3B-0583-4A23-B279-9AC823DDB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DB9E1-1F66-47A3-BDE2-667502796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B22EC-3F54-4A08-83B9-0553C904C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2503F6-0596-40D8-9850-C5FDE54C48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4B196-4BF0-4C71-98E5-CE4D82A15060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3C45F-11A4-4152-A9D7-3B0C40D783E3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shop4mama.ru/shop/soft_advance_toys/soft_books/knizki_mamuly.html" TargetMode="External"/><Relationship Id="rId2" Type="http://schemas.openxmlformats.org/officeDocument/2006/relationships/hyperlink" Target="http://www.shop4mama.ru/shop/soft_advance_toys/soft_books/knizki_mamuly.html" TargetMode="External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shop4mama.ru/shop/soft_advance_toys/soft_books/knizki_mamuly_4_lista.html" TargetMode="External"/><Relationship Id="rId2" Type="http://schemas.openxmlformats.org/officeDocument/2006/relationships/hyperlink" Target="http://www.shop4mama.ru/shop/soft_advance_toys/soft_books/knizki_mamuly_4_lista.html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-360" y="0"/>
            <a:ext cx="899172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анты-мансийский автономный округ - Юг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род Югорс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012 г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Проектная работа по технологи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«Развивающая книжка из ткани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вторы проекта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еденина Александ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МБОУ«СОШ №4» 7 класс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льдарова Мехриба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МБОУ СОШ № 4», 7 класс)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уководитель проект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льник Лариса Александров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учитель технологии, 2 категор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БОУ «СОШ№4»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Фото0069"/>
          <p:cNvPicPr/>
          <p:nvPr/>
        </p:nvPicPr>
        <p:blipFill>
          <a:blip r:embed="rId1"/>
          <a:stretch/>
        </p:blipFill>
        <p:spPr>
          <a:xfrm>
            <a:off x="324000" y="2708280"/>
            <a:ext cx="2627280" cy="196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642920" y="549000"/>
            <a:ext cx="403884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 стран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ужно собрать пирамидку. Все ее детали съемные, крепятся на липкую лен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6 стран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рмашек для мелочей «Божья коровка» закрывается на «молнию». Внутри находятся фигурки маленьких божьих коровок, они прикреплены на пришитую тесьму, чтобы не потерялись во время игр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8" descr="SNC00798"/>
          <p:cNvPicPr/>
          <p:nvPr/>
        </p:nvPicPr>
        <p:blipFill>
          <a:blip r:embed="rId1"/>
          <a:stretch/>
        </p:blipFill>
        <p:spPr>
          <a:xfrm>
            <a:off x="1714680" y="3571920"/>
            <a:ext cx="1096920" cy="1463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SNC00799"/>
          <p:cNvPicPr/>
          <p:nvPr/>
        </p:nvPicPr>
        <p:blipFill>
          <a:blip r:embed="rId2"/>
          <a:stretch/>
        </p:blipFill>
        <p:spPr>
          <a:xfrm>
            <a:off x="1571760" y="1071720"/>
            <a:ext cx="1096920" cy="146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4038480" cy="60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 стран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Цветные шарики на тесьме, пришитой в середине страницы. Каждому шарику необходимо найти такой же по цвету прямоугольник. Детали прикрепляются на кнопоч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 стран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укла. Волосы можно расчесывать, заплетать косички, завязывать бантики. Маленьким деткам можно учить части лица (глазки, носик, роти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1" descr="SNC00800"/>
          <p:cNvPicPr/>
          <p:nvPr/>
        </p:nvPicPr>
        <p:blipFill>
          <a:blip r:embed="rId1"/>
          <a:stretch/>
        </p:blipFill>
        <p:spPr>
          <a:xfrm>
            <a:off x="6000840" y="1071720"/>
            <a:ext cx="1096920" cy="14634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2" descr="SNC00801"/>
          <p:cNvPicPr/>
          <p:nvPr/>
        </p:nvPicPr>
        <p:blipFill>
          <a:blip r:embed="rId2"/>
          <a:stretch/>
        </p:blipFill>
        <p:spPr>
          <a:xfrm>
            <a:off x="6000840" y="3571920"/>
            <a:ext cx="109692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642920" y="549000"/>
            <a:ext cx="4038840" cy="61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9 стран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отинок. Учимся вдевать и завязывать шнурки на обуви. Деталь ботинка выполнена как аппликация из ткани, для объема внутрь вложен синтепон. Отверстия для шнурков обработаны как прорезные пет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0 страни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знавательная игра «Как появляется цыпленок?». Детали курицы, цыпленка, яйца сделаны как объемные аппликации из ткани, нашиты швом «зигзаг». Верхняя половинка скорлупы – съемная деталь, крепится на липучку. Цветы пристегиваются на пуговиц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8" descr="SNC00802"/>
          <p:cNvPicPr/>
          <p:nvPr/>
        </p:nvPicPr>
        <p:blipFill>
          <a:blip r:embed="rId1"/>
          <a:stretch/>
        </p:blipFill>
        <p:spPr>
          <a:xfrm>
            <a:off x="1857240" y="1143000"/>
            <a:ext cx="1096920" cy="146376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9" descr="SNC00804"/>
          <p:cNvPicPr/>
          <p:nvPr/>
        </p:nvPicPr>
        <p:blipFill>
          <a:blip r:embed="rId2"/>
          <a:stretch/>
        </p:blipFill>
        <p:spPr>
          <a:xfrm>
            <a:off x="1785960" y="3786120"/>
            <a:ext cx="109692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Arial"/>
              </a:rPr>
              <a:t>Экономические расче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у вас дома есть различные лоскутки ткани, синтепона, кусочки липкой ленты, пуговицы, кнопки, то это изделие вам не принесет никаких материальных затра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 мы купи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кань х/б однотонная – 2 м * 35 руб. = 70 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кань х/б цветная – 2 м * 40 руб. = 80 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интепон – 1 м * 150 руб. = 150 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того: 300 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сравнения мы поискали в интернете предложения по продаже подобных книжек и вот, что наш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691920"/>
            <a:ext cx="4038480" cy="517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МЯГКИЕ РАЗВИВАЮЩИЕ КНИЖКИ MAMYLI. 6 ЛИСТ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Подробн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ягкие книжки Mamyli занимают особое место среди детских книг. Их нельзя порвать, зато можно помять и пожевать. Они мягкие и приятные на ощупь. Они не только развлекают, но и развивают: в процессе игры с такими книгами у ребенка развивается мышление, мелкая моторика рук, что способствует развитию речи малыша.Книжка застегивается на клапан с липучкой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н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1290 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spict_3235" descr="x_641bcfaf1295340813_s"/>
          <p:cNvPicPr/>
          <p:nvPr/>
        </p:nvPicPr>
        <p:blipFill>
          <a:blip r:embed="rId3"/>
          <a:stretch/>
        </p:blipFill>
        <p:spPr>
          <a:xfrm>
            <a:off x="4643280" y="1052640"/>
            <a:ext cx="373068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4038480" cy="61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1"/>
              </a:rPr>
              <a:t>МЯГКИЕ РАЗВИВАЮЩИЕ КНИЖКИ MAMYLI. 4 ЛИСТОЧ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6699"/>
                </a:solidFill>
                <a:uFillTx/>
                <a:latin typeface="Arial"/>
                <a:hlinkClick r:id="rId2"/>
              </a:rPr>
              <a:t>Подробне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ягкие книжки Mamyli занимают особое место среди детских книг. Их нельзя порвать, зато можно помять и пожевать. Они мягкие и приятные на ощупь. Они не только развлекают, но и развивают: в процессе игры с такими книгами у ребенка развивается мышление, мелкая моторика рук, что способствует развитию речи малыша. Книжка застегивается на клапан с липучкой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н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990 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spict_3236" descr="http://www.shop4mama.ru/photo_r/x_b83ee58a1295342150_s.jpg"/>
          <p:cNvPicPr/>
          <p:nvPr/>
        </p:nvPicPr>
        <p:blipFill>
          <a:blip r:embed="rId3"/>
          <a:stretch/>
        </p:blipFill>
        <p:spPr>
          <a:xfrm>
            <a:off x="4500720" y="692280"/>
            <a:ext cx="4105080" cy="38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Arial"/>
              </a:rPr>
              <a:t>Оценка издел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Чтобы сделать объективную оценку нашего проекта, мы предложили позаниматься с нашей книжкой детям разного возраста, а взрослым написать свое мнение.  И вот что у нас получилос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Татьяна Алексеевна, бабушка 3-х летней Арзу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…Книжка очень понравилась нашей девочке. Играли очень долго и не хотела ее отдавать. Книжка очень яркая, красочная. Мне понравилось, что ребенок может не только играть, но и развиваться. Можно взять ее с собой в поездку, она легкая, а ребенок надолго будет занят полезным делом…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талья Михайловна, мама 2-х летней Ла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…Эта книжка произвела  на меня  большое впечатление, такой оригинальный замысел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ети, к которым попадет в руки книжка, я думаю, останутся очень довольны. Это не только ярко, красочно и красиво, но и очень познавательно. Развивается мелкая моторика рук, речь, память. С помощью книжки можно  учить ребенка застегивать пуговицы, молнию и даже завязывать шнурки. Это здорово! Молодцы девочки, которые выполнили такую трудоемкую, но  нужную работу…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r>
              <a:rPr b="0" i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оследнее время все более актуальной становится тема развивающих игр и игрушек. Такие игрушки развивают в малышах следующие интеллектуальные качества: внимание, память, особенно зрительную, умение находить зависимости и закономерности, ошибки и недостатки, классифицировать и систематизировать материал, способность к комбинированию, пространственное представление и воображение, способность предвидеть результаты своих действий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Основная задача развивающих игрушек - усиленно стимулировать процессы развития у ребенка. Игрушка должна соответствовать возрасту малыша, она не должна быть сложной для него, чтобы ребенок не разочаровался, и не должна быть слишком простой, чтобы выполнять свои развивающие функции. Развитие органов чувств у детей дошкольников идет очень интенсивно. Главной составляющей полноценного развития детей в раннем возрасте является сенсорное и моторное развит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енсорное развитие, направленное на формирование полноценного восприятия окружающей действительности, служит основой познания мира, первой ступенью которого является чувственный опыт. Успешность умственного, физического, эстетического воспитания в значительной степени зависит от уровня сенсорного развития детей, т. е. от того насколько совершенно ребенок слышит, видит, осязает окружающе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лкая моторика рук взаимодействует с такими высшими свойствами сознания, как внимание, мышление, оптико-пространственное восприятие (координация), воображение, наблюдательность, зрительная и двигательная память, речь. Развитие навыков мелкой моторики важно еще и потому, что вся дальнейшая жизнь ребенка потребует использования точных, координированных движений кистей и пальцев, которые необходимы, чтобы одеваться, рисовать и писать, а также выполнять множество разнообразных бытовых и учебных действий. Хорошим помощником в сенсорном развитии и развитие мелкой моторики станут различные развивающие игрушки, которые можно сделать сами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7d"/>
                </a:solidFill>
                <a:latin typeface="Arial"/>
              </a:rPr>
              <a:t>Цель проектной работы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Разработать и изготовить изделие, в котором будут объединены игра и обучение детей младшего возраст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Arial"/>
              </a:rPr>
              <a:t>Задачи проектной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лагоприятно воздействовать на восприятие ребенком и формировать у него представлений о внешних свойствах предметов: их форме, цвете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(развиваем сенсорное восприятие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ознакомить его с понятием величины и положением предметов в пространстве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(развиваем сенсомоторную координацию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учить ребенка определять величину предмета относительно других (большой, широкий, низкий), его материал (гладкий, шершавый, твердый, мягкий), форму (круглый, квадратный, треугольный) на ощупь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(развиваем тактильные ощущения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вивать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мелкую моторику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 а, следовательно, и речь ребен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вивать внимание и память ребен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вивать логическое и образное мышление ребен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учить его сравнивать и рассуждать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учить ребенка читать и освоить сче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пользовать при желании как коврик для многочисленных инсценировок и ролевых игр и т.д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Arial"/>
              </a:rPr>
              <a:t>Выдвинутые критер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д началом работы мы поставили перед собой несколько задач и наметили критерии, которым должно соответствовать наше изделие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назначение (игра и развити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пользователи (дет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материал (безопасный в применении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методы изготовления (доступные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эргономичность (мягкая, легкая в уходе, безопасная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экологичность (использовать только безвредные материалы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- экономичность (стоимость должна быть ниже рыночной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Arial"/>
              </a:rPr>
              <a:t>Выбор материалов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42920" y="1988640"/>
            <a:ext cx="403884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кань для страниц разноцветная однотонная или с неброским рисунком; для обложки берем более плотную (джинс, микровельвет, велюр)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синтепон для наполнения, флизелин, целлофан - для укрепления страниц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лента «велкро» (липучка), разноцветные пуговицы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лоскутки для аппликаций и игровых элементов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шнурки (ленточки) для скрепления страниц, тесьма для петелек, разноцветные нитки;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швейная машина (понадобится два вида шва - прямая строчка и зигзаг).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5" descr="SNC00805"/>
          <p:cNvPicPr/>
          <p:nvPr/>
        </p:nvPicPr>
        <p:blipFill>
          <a:blip r:embed="rId1"/>
          <a:stretch/>
        </p:blipFill>
        <p:spPr>
          <a:xfrm>
            <a:off x="468360" y="2417760"/>
            <a:ext cx="24382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Arial"/>
              </a:rPr>
              <a:t>План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) Определяемся с размерами книжки (решили сделать ее размером 25х35 см). Тогда заготовки страниц нужно сделать на 2 см больше (припуски на швы)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резаем из плотной бумаги два шаблона - один  размерами с припусками (27х37см), другой - размер готовой страницы(25х35 см). На последний будем примерять-прикладывать элементы аппликаций.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) Следующий этап - продумываем сюжеты страниц, рисуем эскиз на бумаге (схематически), составляем план, определяем цвет фона каждого сюжета, так экономим время , делаем шаблоны из бумаги в полную величин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ш совет: когда план готов приступаем к подготовке деталей. Распределяем время: сначала вырезам, потом пришиваем и в конце страницы сшивае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озьмите коробку из-под конфет, в которой будете хранить все заготовки. 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) Страницы. Из однотонной или цветной ткани вырезаем детали - будущие страницы ( у нас 27х37 см.). согласно плана. </a:t>
            </a: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) На каждую страницу пришиваем выбранный сюжет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ш совет: постарайтесь рассортировать элементы так, чтобы в одну операцию шить приходилось сначала нитками одного цвета, потом другого (так экономится время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) Складываем страницы попарно лицевыми сторонами внутрь, сверху накладываем деталь из синтепона и пристрачиваем с трех сторон, незашитой оставляем нижнюю сторону. Выворачиваем, хорошо расправляем угл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ш совет: синтепон вырезаем на 1 см меньше (на практике определили, что с боковой стороны, где будут петельки, он не нужен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95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Arial"/>
              </a:rPr>
              <a:t>Результат нашей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64832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лож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ля обложки выбрали яркую ткань с крупным рисунком. Буквы вырезали из неосыпающей ткани и приклеили клеевым пистолет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 стра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 однотонной ткани выполнена аппликация фигурки зайца. Морковка является отдельной съемной деталью, которую можно доставать и вставлять в специально сделанную прорезь. Морковка соединена с пришитой тесьмой, чтобы деталь во время игры не потеряла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8" descr="SNC00794"/>
          <p:cNvPicPr/>
          <p:nvPr/>
        </p:nvPicPr>
        <p:blipFill>
          <a:blip r:embed="rId1"/>
          <a:stretch/>
        </p:blipFill>
        <p:spPr>
          <a:xfrm>
            <a:off x="971640" y="1268280"/>
            <a:ext cx="1463760" cy="19512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SNC00795"/>
          <p:cNvPicPr/>
          <p:nvPr/>
        </p:nvPicPr>
        <p:blipFill>
          <a:blip r:embed="rId2"/>
          <a:stretch/>
        </p:blipFill>
        <p:spPr>
          <a:xfrm>
            <a:off x="971640" y="4005360"/>
            <a:ext cx="1463760" cy="195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40384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 стран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однотонной ткани выполнена аппликация фигуры зайца. Гитара является отдельной съемной деталью, крепится к лапам зайца на липучку. Цветы тоже съемные, пристегиваются на пуговиц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 стран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маленьким ребенком можно играть в игру «кто там?», открывая и закрывая шторку. Бабочки являются съемными деталями, крепятся на липуч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2" descr="SNC00796"/>
          <p:cNvPicPr/>
          <p:nvPr/>
        </p:nvPicPr>
        <p:blipFill>
          <a:blip r:embed="rId1"/>
          <a:stretch/>
        </p:blipFill>
        <p:spPr>
          <a:xfrm>
            <a:off x="4788000" y="476280"/>
            <a:ext cx="1463400" cy="195084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3" descr="SNC00797"/>
          <p:cNvPicPr/>
          <p:nvPr/>
        </p:nvPicPr>
        <p:blipFill>
          <a:blip r:embed="rId2"/>
          <a:stretch/>
        </p:blipFill>
        <p:spPr>
          <a:xfrm>
            <a:off x="4788000" y="3639960"/>
            <a:ext cx="1463400" cy="19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01T15:00:26Z</dcterms:created>
  <dc:creator>User</dc:creator>
  <dc:description/>
  <dc:language>en-US</dc:language>
  <cp:lastModifiedBy>Dmitriy</cp:lastModifiedBy>
  <dcterms:modified xsi:type="dcterms:W3CDTF">2014-12-20T19:32:19Z</dcterms:modified>
  <cp:revision>6</cp:revision>
  <dc:subject/>
  <dc:title>Слайд 1</dc:title>
</cp:coreProperties>
</file>