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55A85-9D3C-4B92-AAF3-887F48B74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3713A-91D6-49FE-B42D-290DE9B7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C1EA3-C5D0-45E3-B624-C2E06D0E5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A651C-D4DA-4A37-ABF4-FA6BB9279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FBCD-B113-4D36-B64E-77CA44ABA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7CBC5-61ED-4402-8434-C046FA7EC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00367-5527-4BB2-9974-81DB24031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D95C8-C34D-4089-BCD9-1599B5A18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FC76D-E63F-4C82-AD26-975323159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E4AF3-9906-495D-953B-C74BD44D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ADF3-F44D-4DC8-907C-E87AD974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A8369-A073-404C-B2C0-700FF894D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73A1C-C72D-44DF-8985-C900857A5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492C-B02B-4332-AB61-BDCC892C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7CD2C-2089-40CE-854F-0026D7F74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8B4BD-A968-470F-B0FA-9DF08835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70B5-A905-4C36-8838-40F8AF1FB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6F9142-8F4D-4FD8-9467-0E27CC26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3D870-A49B-45BF-A3B9-72678774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C9736-CD2F-41DA-8179-9C1374AC1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ECCE2-065E-4EC2-84A3-3D5CBCAB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7720-D41C-4512-868E-8BB3C620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EA907-7EDB-4260-8B6D-9E93F3724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FD4E-E1E4-4DEB-9853-5815A5C8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B1132-2471-44AE-92EC-9D83C2EFDBD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35648-EF00-43C9-A980-7881CA74884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hop4mama.ru/shop/soft_advance_toys/soft_books/knizki_mamuly.html" TargetMode="External"/><Relationship Id="rId2" Type="http://schemas.openxmlformats.org/officeDocument/2006/relationships/hyperlink" Target="http://www.shop4mama.ru/shop/soft_advance_toys/soft_books/knizki_mamuly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hop4mama.ru/shop/soft_advance_toys/soft_books/knizki_mamuly_4_lista.html" TargetMode="External"/><Relationship Id="rId2" Type="http://schemas.openxmlformats.org/officeDocument/2006/relationships/hyperlink" Target="http://www.shop4mama.ru/shop/soft_advance_toys/soft_books/knizki_mamuly_4_lista.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ты-мансийский автономный округ - 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Ю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ектная работа по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Развивающая книжка из ткан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енин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БОУ«СОШ №4» 7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ьдарова Мехри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БОУ СОШ № 4», 7 класс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ник Лариса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читель технологии, 2 катег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СОШ№4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то0069"/>
          <p:cNvPicPr/>
          <p:nvPr/>
        </p:nvPicPr>
        <p:blipFill>
          <a:blip r:embed="rId1"/>
          <a:stretch/>
        </p:blipFill>
        <p:spPr>
          <a:xfrm>
            <a:off x="324000" y="2708280"/>
            <a:ext cx="2627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3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собрать пирамидку. Все ее детали съемные, крепятся на липкую л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шек для мелочей «Божья коровка» закрывается на «молнию». Внутри находятся фигурки маленьких божьих коровок, они прикреплены на пришитую тесьму, чтобы не потерялись во врем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SNC00798"/>
          <p:cNvPicPr/>
          <p:nvPr/>
        </p:nvPicPr>
        <p:blipFill>
          <a:blip r:embed="rId1"/>
          <a:stretch/>
        </p:blipFill>
        <p:spPr>
          <a:xfrm>
            <a:off x="1714680" y="3571920"/>
            <a:ext cx="1096920" cy="146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NC00799"/>
          <p:cNvPicPr/>
          <p:nvPr/>
        </p:nvPicPr>
        <p:blipFill>
          <a:blip r:embed="rId2"/>
          <a:stretch/>
        </p:blipFill>
        <p:spPr>
          <a:xfrm>
            <a:off x="1571760" y="1071720"/>
            <a:ext cx="109692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шарики на тесьме, пришитой в середине страницы. Каждому шарику необходимо найти такой же по цвету прямоугольник. Детали прикрепляются на кно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а. Волосы можно расчесывать, заплетать косички, завязывать бантики. Маленьким деткам можно учить части лица (глазки, носик, ро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SNC00800"/>
          <p:cNvPicPr/>
          <p:nvPr/>
        </p:nvPicPr>
        <p:blipFill>
          <a:blip r:embed="rId1"/>
          <a:stretch/>
        </p:blipFill>
        <p:spPr>
          <a:xfrm>
            <a:off x="6000840" y="10717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NC00801"/>
          <p:cNvPicPr/>
          <p:nvPr/>
        </p:nvPicPr>
        <p:blipFill>
          <a:blip r:embed="rId2"/>
          <a:stretch/>
        </p:blipFill>
        <p:spPr>
          <a:xfrm>
            <a:off x="6000840" y="3571920"/>
            <a:ext cx="1096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3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тинок. Учимся вдевать и завязывать шнурки на обуви. Деталь ботинка выполнена как аппликация из ткани, для объема внутрь вложен синтепон. Отверстия для шнурков обработаны как прорезные пет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вательная игра «Как появляется цыпленок?». Детали курицы, цыпленка, яйца сделаны как объемные аппликации из ткани, нашиты швом «зигзаг». Верхняя половинка скорлупы – съемная деталь, крепится на липучку. Цветы пристегиваются на пугов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SNC00802"/>
          <p:cNvPicPr/>
          <p:nvPr/>
        </p:nvPicPr>
        <p:blipFill>
          <a:blip r:embed="rId1"/>
          <a:stretch/>
        </p:blipFill>
        <p:spPr>
          <a:xfrm>
            <a:off x="1857240" y="1143000"/>
            <a:ext cx="1096920" cy="1463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NC00804"/>
          <p:cNvPicPr/>
          <p:nvPr/>
        </p:nvPicPr>
        <p:blipFill>
          <a:blip r:embed="rId2"/>
          <a:stretch/>
        </p:blipFill>
        <p:spPr>
          <a:xfrm>
            <a:off x="1785960" y="3786120"/>
            <a:ext cx="1096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Экономические 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 вас дома есть различные лоскутки ткани, синтепона, кусочки липкой ленты, пуговицы, кнопки, то это изделие вам не принесет никаких материальных зат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ы куп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ань х/б однотонная – 2 м * 35 руб. = 7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ань х/б цветная – 2 м * 40 руб. = 8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пон – 1 м * 150 руб. = 15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о: 3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равнения мы поискали в интернете предложения по продаже подобных книжек и вот, что наш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ЯГКИЕ РАЗВИВАЮЩИЕ КНИЖКИ MAMYLI. 6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книжки Mamyli занимают особое место среди детских книг. Их нельзя порвать, зато можно помять и пожевать. Они мягкие и приятные на ощупь. Они не только развлекают, но и развивают: в процессе игры с такими книгами у ребенка развивается мышление, мелкая моторика рук, что способствует развитию речи малыша.Книжка застегивается на клапан с липучк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9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pict_3235" descr="x_641bcfaf1295340813_s"/>
          <p:cNvPicPr/>
          <p:nvPr/>
        </p:nvPicPr>
        <p:blipFill>
          <a:blip r:embed="rId3"/>
          <a:stretch/>
        </p:blipFill>
        <p:spPr>
          <a:xfrm>
            <a:off x="4643280" y="1052640"/>
            <a:ext cx="3730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ЯГКИЕ РАЗВИВАЮЩИЕ КНИЖКИ MAMYLI. 4 ЛИС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книжки Mamyli занимают особое место среди детских книг. Их нельзя порвать, зато можно помять и пожевать. Они мягкие и приятные на ощупь. Они не только развлекают, но и развивают: в процессе игры с такими книгами у ребенка развивается мышление, мелкая моторика рук, что способствует развитию речи малыша. Книжка застегивается на клапан с липучк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9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pict_3236" descr="http://www.shop4mama.ru/photo_r/x_b83ee58a1295342150_s.jpg"/>
          <p:cNvPicPr/>
          <p:nvPr/>
        </p:nvPicPr>
        <p:blipFill>
          <a:blip r:embed="rId3"/>
          <a:stretch/>
        </p:blipFill>
        <p:spPr>
          <a:xfrm>
            <a:off x="4500720" y="692280"/>
            <a:ext cx="4105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ка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сделать объективную оценку нашего проекта, мы предложили позаниматься с нашей книжкой детям разного возраста, а взрослым написать свое мнение.  И вот что у нас получ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тьяна Алексеевна, бабушка 3-х летней Ар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Книжка очень понравилась нашей девочке. Играли очень долго и не хотела ее отдавать. Книжка очень яркая, красочная. Мне понравилось, что ребенок может не только играть, но и развиваться. Можно взять ее с собой в поездку, она легкая, а ребенок надолго будет занят полезным дело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талья Михайловна, мама 2-х летней Л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Эта книжка произвела  на меня  большое впечатление, такой оригинальный замыс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, к которым попадет в руки книжка, я думаю, останутся очень довольны. Это не только ярко, красочно и красиво, но и очень познавательно. Развивается мелкая моторика рук, речь, память. С помощью книжки можно  учить ребенка застегивать пуговицы, молнию и даже завязывать шнурки. Это здорово! Молодцы девочки, которые выполнили такую трудоемкую, но  нужную работу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нее время все более актуальной становится тема развивающих игр и игрушек. Такие игрушки развивают в малышах следующие интеллектуальные качества: внимание, память, особенно зрительную, умение находить зависимости и закономерности, ошибки и недостатки, классифицировать и систематизировать материал, способность к комбинированию, пространственное представление и воображение, способность предвидеть результаты своих дейст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Основная задача развивающих игрушек - усиленно стимулировать процессы развития у ребенка. Игрушка должна соответствовать возрасту малыша, она не должна быть сложной для него, чтобы ребенок не разочаровался, и не должна быть слишком простой, чтобы выполнять свои развивающие функции. Развитие органов чувств у детей дошкольников идет очень интенсивно. Главной составляющей полноценного развития детей в раннем возрасте является сенсорное и моторное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сорное развитие, направленное на формирование полноценного восприятия окружающей действительности, служит основой познания мира, первой ступенью которого является чувственный опыт. Успешность умственного, физического, эстетического воспитания в значительной степени зависит от уровня сенсорного развития детей, т. е. от того насколько совершенно ребенок слышит, видит, осязает окружаю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ая моторика рук взаимодействует с такими высшими свойствами сознания, как внимание, мышление, оптико-пространственное восприятие (координация), воображение, наблюдательность, зрительная и двигательная память, речь. Развитие навыков мелкой моторики важно еще и потому, что вся дальнейшая жизнь ребенка потребует использования точных, координированных движений кистей и пальцев, которые необходимы, чтобы одеваться, рисовать и писать, а также выполнять множество разнообразных бытовых и учебных действий. Хорошим помощником в сенсорном развитии и развитие мелкой моторики станут различные развивающие игрушки, которые можно сделать сам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ь проектной рабо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и изготовить изделие, в котором будут объединены игра и обучение детей младшего возра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Задачи проект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воздействовать на восприятие ребенком и формировать у него представлений о внешних свойствах предметов: их форме, цвет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сенсорное восприят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комить его с понятием величины и положением предметов в пространств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сенсомоторную координацию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ебенка определять величину предмета относительно других (большой, широкий, низкий), его материал (гладкий, шершавый, твердый, мягкий), форму (круглый, квадратный, треугольный) на ощуп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тактильные ощущ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лкую мотори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, следовательно, и речь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логическое и образное мышление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его сравнивать и рассужд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ебенка читать и освоить сч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ть при желании как коврик для многочисленных инсценировок и ролевых игр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ыдвинутые кри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чалом работы мы поставили перед собой несколько задач и наметили критерии, которым должно соответствовать наше издел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значение (игра и разви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льзователи (де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териал (безопасный в примене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тоды изготовления (доступ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ргономичность (мягкая, легкая в уходе, безопас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кологичность (использовать только безвредные материа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кономичность (стоимость должна быть ниже рыноч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ыбор материал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ь для страниц разноцветная однотонная или с неброским рисунком; для обложки берем более плотную (джинс, микровельвет, велюр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интепон для наполнения, флизелин, целлофан - для укрепления страниц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ента «велкро» (липучка), разноцветные пуговиц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оскутки для аппликаций и игровых элемен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шнурки (ленточки) для скрепления страниц, тесьма для петелек, разноцветные нит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швейная машина (понадобится два вида шва - прямая строчка и зигзаг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SNC00805"/>
          <p:cNvPicPr/>
          <p:nvPr/>
        </p:nvPicPr>
        <p:blipFill>
          <a:blip r:embed="rId1"/>
          <a:stretch/>
        </p:blipFill>
        <p:spPr>
          <a:xfrm>
            <a:off x="468360" y="241776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Определяемся с размерами книжки (решили сделать ее размером 25х35 см). Тогда заготовки страниц нужно сделать на 2 см больше (припуски на швы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езаем из плотной бумаги два шаблона - один  размерами с припусками (27х37см), другой - размер готовой страницы(25х35 см). На последний будем примерять-прикладывать элементы аппликаци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ледующий этап - продумываем сюжеты страниц, рисуем эскиз на бумаге (схематически), составляем план, определяем цвет фона каждого сюжета, так экономим время , делаем шаблоны из бумаги в полную велич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когда план готов приступаем к подготовке деталей. Распределяем время: сначала вырезам, потом пришиваем и в конце страницы сшива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ьмите коробку из-под конфет, в которой будете хранить все заготовки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Страницы. Из однотонной или цветной ткани вырезаем детали - будущие страницы ( у нас 27х37 см.). согласно плана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На каждую страницу пришиваем выбранный сюж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постарайтесь рассортировать элементы так, чтобы в одну операцию шить приходилось сначала нитками одного цвета, потом другого (так экономится время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Складываем страницы попарно лицевыми сторонами внутрь, сверху накладываем деталь из синтепона и пристрачиваем с трех сторон, незашитой оставляем нижнюю сторону. Выворачиваем, хорошо расправляем уг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синтепон вырезаем на 1 см меньше (на практике определили, что с боковой стороны, где будут петельки, он не нужен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Результат наш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ложки выбрали яркую ткань с крупным рисунком. Буквы вырезали из неосыпающей ткани и приклеили клеевым пистол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днотонной ткани выполнена аппликация фигурки зайца. Морковка является отдельной съемной деталью, которую можно доставать и вставлять в специально сделанную прорезь. Морковка соединена с пришитой тесьмой, чтобы деталь во время игры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SNC00794"/>
          <p:cNvPicPr/>
          <p:nvPr/>
        </p:nvPicPr>
        <p:blipFill>
          <a:blip r:embed="rId1"/>
          <a:stretch/>
        </p:blipFill>
        <p:spPr>
          <a:xfrm>
            <a:off x="971640" y="1268280"/>
            <a:ext cx="1463760" cy="195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NC00795"/>
          <p:cNvPicPr/>
          <p:nvPr/>
        </p:nvPicPr>
        <p:blipFill>
          <a:blip r:embed="rId2"/>
          <a:stretch/>
        </p:blipFill>
        <p:spPr>
          <a:xfrm>
            <a:off x="971640" y="4005360"/>
            <a:ext cx="14637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тонной ткани выполнена аппликация фигуры зайца. Гитара является отдельной съемной деталью, крепится к лапам зайца на липучку. Цветы тоже съемные, пристегиваются на пуг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аленьким ребенком можно играть в игру «кто там?», открывая и закрывая шторку. Бабочки являются съемными деталями, крепятся на липу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NC00796"/>
          <p:cNvPicPr/>
          <p:nvPr/>
        </p:nvPicPr>
        <p:blipFill>
          <a:blip r:embed="rId1"/>
          <a:stretch/>
        </p:blipFill>
        <p:spPr>
          <a:xfrm>
            <a:off x="4788000" y="476280"/>
            <a:ext cx="1463400" cy="195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SNC00797"/>
          <p:cNvPicPr/>
          <p:nvPr/>
        </p:nvPicPr>
        <p:blipFill>
          <a:blip r:embed="rId2"/>
          <a:stretch/>
        </p:blipFill>
        <p:spPr>
          <a:xfrm>
            <a:off x="4788000" y="3639960"/>
            <a:ext cx="14634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5:00:26Z</dcterms:created>
  <dc:creator>User</dc:creator>
  <dc:description/>
  <dc:language>en-US</dc:language>
  <cp:lastModifiedBy>Dmitriy</cp:lastModifiedBy>
  <dcterms:modified xsi:type="dcterms:W3CDTF">2014-12-20T19:32:19Z</dcterms:modified>
  <cp:revision>6</cp:revision>
  <dc:subject/>
  <dc:title>Слайд 1</dc:title>
</cp:coreProperties>
</file>