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3EA-A253-471E-9393-BA576758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9E5-B9A9-4890-A82E-A8DD570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33B-602C-44DA-BF6E-8D8354B1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F76-D573-4763-9827-82ED4171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7437-FFD0-4CD8-A469-8EFD670E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F470C-7AF9-4515-BCEF-AA7F817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1F00-1E69-49FF-8496-7BC1A24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F243E-C9E0-4CC2-8D3F-3C108C70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43D52-23CB-429D-8090-22A3787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6A0B3-E75A-48E8-9306-4219FC9F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1B255-325F-428C-819E-FC7A194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3DD-E1C5-49F3-8224-74817760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525D2-8DE3-4FF9-9BA0-404DE0A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3887B-3F42-4837-8604-9FCC8CDE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89E37-B7D5-4BFF-B9BD-B47351F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ADE5-6876-48C7-BF7D-769D21AC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5A3AE-B8F6-4947-A7EE-A11296B0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194-A3CF-4E5D-A0FB-427A72A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A3E-4B2B-4168-BB06-E8FDB08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148-5BED-4A10-9952-A0294EA2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84B-E60C-4792-9FC2-98ABA93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A77-367E-4F38-B333-BE04FC6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ECF-8062-45F6-B74E-87CBEE4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79C-8C35-42CD-A6AF-04B42BA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545-2372-4018-BB00-1B7BDA3D5D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B51E-92FC-4055-BEBE-7A98B0847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нюшня своими рукам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купова Талия ученица 2Б класс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имназии №1имени Ризы Фахретди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ководитель Белаева Э.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истка лошад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C:\Documents and Settings\Admin\Рабочий стол\P1100758.JPG"/>
          <p:cNvPicPr/>
          <p:nvPr/>
        </p:nvPicPr>
        <p:blipFill>
          <a:blip r:embed="rId1"/>
          <a:stretch/>
        </p:blipFill>
        <p:spPr>
          <a:xfrm>
            <a:off x="1293840" y="1600200"/>
            <a:ext cx="65563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C:\Documents and Settings\Admin\Рабочий стол\P1100760.JPG"/>
          <p:cNvPicPr/>
          <p:nvPr/>
        </p:nvPicPr>
        <p:blipFill>
          <a:blip r:embed="rId1"/>
          <a:stretch/>
        </p:blipFill>
        <p:spPr>
          <a:xfrm>
            <a:off x="457200" y="60948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Построить модель конюшни своими рука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знать как можно больше о лошад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зучить  условия  содержания  лошадей: уход, кормление, развед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основе полученных знаний придумать и спроектировать модель современной конюш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89548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124440" cy="296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819520" y="3809880"/>
            <a:ext cx="3448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ок домашней лошади 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арпа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который еще не так давно обитал в южных русских степ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727600" cy="42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581280" cy="259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94240" cy="2530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71484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Одомашнивание лошад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8518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5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962520" cy="2710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39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876920" y="358128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Масти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лошадей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103560" cy="2090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352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недая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286080" cy="2305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98880" y="61722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ерая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3294360" cy="2133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18600" y="32767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ыжая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5" descr=""/>
          <p:cNvPicPr/>
          <p:nvPr/>
        </p:nvPicPr>
        <p:blipFill>
          <a:blip r:embed="rId4"/>
          <a:stretch/>
        </p:blipFill>
        <p:spPr>
          <a:xfrm>
            <a:off x="4952880" y="3887640"/>
            <a:ext cx="3353040" cy="2346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64880" y="6248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ороная   м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3-12-02T16:46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