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ABF5-C017-4C25-A07F-82C4D95AE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F3CB-5788-4D9B-B5DD-EC15CB2B5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B24E-B0B5-4D38-AAEE-4DA48146E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3692-7F23-43BF-A5D3-EE46F4142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47512C-1BE2-42DC-BE64-BE9C309BA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F42163-8477-4C11-A8C8-F3C4839C7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3A4118-7B85-474E-8CB0-C4F824601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D7E347-BCE1-47AD-878B-9DE1FDB3D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A47BC4-3014-4F2E-8B20-E3EC5CF8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3AB444-0D41-46FB-90DC-4B5C43261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FD06A5-EC49-4C3F-9870-5B264743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4BA6-00C2-4CDF-9648-602684C70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2FD11A-016F-4D53-8ADA-B8668ED8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6C49DC-FD85-4785-8B9F-A447D75A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4D6405-0001-4EBC-8782-40D36851E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C75A0E-4862-4343-BC0B-843A859EB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65EB10-26FF-4474-8D81-ACD897909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86D5-B09D-4FEC-A38F-906A0422A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2779-9AAC-4BB0-959B-428BD1011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402F-05CF-41FB-9AC2-551D5A5DE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0A47-61D1-4D65-A97F-1131BE8F4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7F71-2A90-4794-BD7C-A068E562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A8AF-4198-4ED4-AAFB-F6D748F1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C70E-B37C-4B95-A190-8F36DC7B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100000">
                <a:srgbClr val="0000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c9d9da"/>
                </a:gs>
                <a:gs pos="100000">
                  <a:srgbClr val="b0c8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b0c8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b0c8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b0c8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b0c8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b0c8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c2d4d6"/>
                </a:gs>
                <a:gs pos="100000">
                  <a:srgbClr val="b0c8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b0c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b0c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b0c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b0c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b0c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b0c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CE11-1C71-4C8A-B317-B74FF64967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100000">
                <a:srgbClr val="0000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c9d9da"/>
                </a:gs>
                <a:gs pos="100000">
                  <a:srgbClr val="b0c8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b0c8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b0c8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b0c8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b0c8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b0c8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c2d4d6"/>
                </a:gs>
                <a:gs pos="100000">
                  <a:srgbClr val="b0c8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b0c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b0c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b0c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b0c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b0c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b0c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2BB89-E817-4389-9987-99B75FF2EAF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Конюшня своими руками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Якупова Талия ученица 2Б класс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имназии №1имени Ризы Фахретдин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уководитель Белаева Э.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Чистка лошад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12" descr="C:\Documents and Settings\Admin\Рабочий стол\P1100758.JPG"/>
          <p:cNvPicPr/>
          <p:nvPr/>
        </p:nvPicPr>
        <p:blipFill>
          <a:blip r:embed="rId1"/>
          <a:stretch/>
        </p:blipFill>
        <p:spPr>
          <a:xfrm>
            <a:off x="1293840" y="1600200"/>
            <a:ext cx="6556320" cy="44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9" dur="2000" fill="hold"/>
                                        <p:tgtEl>
                                          <p:spTgt spid="1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5" descr="C:\Documents and Settings\Admin\Рабочий стол\P1100760.JPG"/>
          <p:cNvPicPr/>
          <p:nvPr/>
        </p:nvPicPr>
        <p:blipFill>
          <a:blip r:embed="rId1"/>
          <a:stretch/>
        </p:blipFill>
        <p:spPr>
          <a:xfrm>
            <a:off x="457200" y="609480"/>
            <a:ext cx="7848720" cy="594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5" dur="2000" fill="hold"/>
                                        <p:tgtEl>
                                          <p:spTgt spid="1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ЦЕЛЬ ПРОЕКТА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Построить модель конюшни своими рукам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Задачи проекта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Узнать как можно больше о лошадя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Изучить  условия  содержания  лошадей: уход, кормление, разведе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На основе полученных знаний придумать и спроектировать модель современной конюш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2895480" cy="30477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638680" y="533520"/>
            <a:ext cx="3124440" cy="29667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2819520" y="3809880"/>
            <a:ext cx="344808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едок домашней лошади -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тарпан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который еще не так давно обитал в южных русских степя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676520" y="2057400"/>
            <a:ext cx="5727600" cy="429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0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3581280" cy="25905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4" descr=""/>
          <p:cNvPicPr/>
          <p:nvPr/>
        </p:nvPicPr>
        <p:blipFill>
          <a:blip r:embed="rId2"/>
          <a:stretch/>
        </p:blipFill>
        <p:spPr>
          <a:xfrm>
            <a:off x="4952880" y="380880"/>
            <a:ext cx="3594240" cy="2530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"/>
          <p:cNvPicPr/>
          <p:nvPr/>
        </p:nvPicPr>
        <p:blipFill>
          <a:blip r:embed="rId3"/>
          <a:stretch/>
        </p:blipFill>
        <p:spPr>
          <a:xfrm>
            <a:off x="2514600" y="3200400"/>
            <a:ext cx="3714840" cy="32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  <a:ea typeface="Arial"/>
              </a:rPr>
              <a:t>Одомашнивание лошадей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7" descr=""/>
          <p:cNvPicPr/>
          <p:nvPr/>
        </p:nvPicPr>
        <p:blipFill>
          <a:blip r:embed="rId1"/>
          <a:stretch/>
        </p:blipFill>
        <p:spPr>
          <a:xfrm>
            <a:off x="1752480" y="1371600"/>
            <a:ext cx="5851800" cy="40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5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3962520" cy="27100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876920" y="609480"/>
            <a:ext cx="3886200" cy="2743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3" descr=""/>
          <p:cNvPicPr/>
          <p:nvPr/>
        </p:nvPicPr>
        <p:blipFill>
          <a:blip r:embed="rId3"/>
          <a:stretch/>
        </p:blipFill>
        <p:spPr>
          <a:xfrm>
            <a:off x="380880" y="3505320"/>
            <a:ext cx="3962520" cy="29397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4876920" y="3581280"/>
            <a:ext cx="396216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Calibri"/>
              </a:rPr>
              <a:t>Масти</a:t>
            </a:r>
            <a:r>
              <a:rPr b="1" lang="en-US" sz="33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n-US" sz="3300" spc="-1" strike="noStrike">
                <a:solidFill>
                  <a:srgbClr val="ffffff"/>
                </a:solidFill>
                <a:latin typeface="Calibri"/>
              </a:rPr>
              <a:t>лошадей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12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3103560" cy="20908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219320" y="335268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Гнедая ма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14" descr=""/>
          <p:cNvPicPr/>
          <p:nvPr/>
        </p:nvPicPr>
        <p:blipFill>
          <a:blip r:embed="rId2"/>
          <a:stretch/>
        </p:blipFill>
        <p:spPr>
          <a:xfrm>
            <a:off x="762120" y="3886200"/>
            <a:ext cx="3286080" cy="23050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298880" y="6172200"/>
            <a:ext cx="16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Серая ма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3"/>
          <a:stretch/>
        </p:blipFill>
        <p:spPr>
          <a:xfrm>
            <a:off x="4952880" y="1066680"/>
            <a:ext cx="3294360" cy="21337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718600" y="3276720"/>
            <a:ext cx="16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ыжая ма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15" descr=""/>
          <p:cNvPicPr/>
          <p:nvPr/>
        </p:nvPicPr>
        <p:blipFill>
          <a:blip r:embed="rId4"/>
          <a:stretch/>
        </p:blipFill>
        <p:spPr>
          <a:xfrm>
            <a:off x="4952880" y="3887640"/>
            <a:ext cx="3353040" cy="23464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5564880" y="6248520"/>
            <a:ext cx="20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Вороная   ма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XP</cp:lastModifiedBy>
  <dcterms:modified xsi:type="dcterms:W3CDTF">2013-12-02T16:46:16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