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0070-D41E-41E4-9D5E-3724E5D68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8EBD-E074-4529-A8A5-146C580DB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3BC3-A4B1-435E-84A9-126367823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47AA-B5A2-46E5-B43A-674C8B556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2803C-AE3F-43F8-9CB6-6AD0ABC1D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97AF2-79A8-4D39-81E1-09B0F15AE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1A420-9335-4CFE-852F-F834AC10A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8AF16-99AB-460B-87D4-D7DBFF12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7B6A4-09E6-4DE2-BC88-2E98ECFDE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2BA0E-D1E3-477F-AB95-668F2943D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A01D0-C9DA-424E-A4ED-D73ACDAF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460C-CF96-429D-9A7B-6A9645977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AB2C1-6517-41B2-AA4F-7C018042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7AF7A-724F-4737-A515-EC8C90A3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B58A5-5E5A-4E2D-B011-5C7FF916E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5A502-7C3F-40CE-BC37-434A18AA9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870C1-44AC-432F-B8C6-9436A93DE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92DB-8959-47C0-B12E-1299A38A1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70E3-A1AD-40C5-AF48-04B70FD5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3142-2270-4AE8-A443-B647D96E3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2573-B3DB-4541-A458-421E173B3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1B63-487A-41B5-877C-3354A09E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5F69-EAB4-4258-A290-65A85BF8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1904-D101-4EE1-B2A8-21BB8A5B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304B5-9C5F-4FAA-A79A-64CCB3FBC77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2931E-33C2-493D-ABD7-62956D6A270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3" descr="C:\Users\admin\AppData\Local\Microsoft\Windows\Temporary Internet Files\Content.IE5\KKXNZJYR\MC900239415[1].wmf"/>
          <p:cNvPicPr/>
          <p:nvPr/>
        </p:nvPicPr>
        <p:blipFill>
          <a:blip r:embed="rId1"/>
          <a:stretch/>
        </p:blipFill>
        <p:spPr>
          <a:xfrm>
            <a:off x="7667640" y="5516640"/>
            <a:ext cx="582480" cy="669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C:\Users\admin\AppData\Local\Microsoft\Windows\Temporary Internet Files\Content.IE5\8E4KM84C\MC900239415[1].wmf"/>
          <p:cNvPicPr/>
          <p:nvPr/>
        </p:nvPicPr>
        <p:blipFill>
          <a:blip r:embed="rId2"/>
          <a:stretch/>
        </p:blipFill>
        <p:spPr>
          <a:xfrm>
            <a:off x="-600120" y="6858000"/>
            <a:ext cx="1200240" cy="1380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C:\Users\admin\AppData\Local\Microsoft\Windows\Temporary Internet Files\Content.IE5\8E4KM84C\MC900335748[1].wmf"/>
          <p:cNvPicPr/>
          <p:nvPr/>
        </p:nvPicPr>
        <p:blipFill>
          <a:blip r:embed="rId3"/>
          <a:stretch/>
        </p:blipFill>
        <p:spPr>
          <a:xfrm rot="3151200">
            <a:off x="1345680" y="7130880"/>
            <a:ext cx="836640" cy="1176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C:\Users\admin\AppData\Local\Microsoft\Windows\Temporary Internet Files\Content.IE5\8E4KM84C\MC900335748[1].wmf"/>
          <p:cNvPicPr/>
          <p:nvPr/>
        </p:nvPicPr>
        <p:blipFill>
          <a:blip r:embed="rId4"/>
          <a:stretch/>
        </p:blipFill>
        <p:spPr>
          <a:xfrm rot="18508800">
            <a:off x="4482360" y="6952320"/>
            <a:ext cx="745920" cy="1049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Рисунок 7" descr="C:\Users\Наталья\Downloads\092eed5bbceee4416afdce1d667888fc.jpg"/>
          <p:cNvPicPr/>
          <p:nvPr/>
        </p:nvPicPr>
        <p:blipFill>
          <a:blip r:embed="rId5"/>
          <a:stretch/>
        </p:blipFill>
        <p:spPr>
          <a:xfrm>
            <a:off x="-795240" y="-358920"/>
            <a:ext cx="10734480" cy="7575840"/>
          </a:xfrm>
          <a:prstGeom prst="rect">
            <a:avLst/>
          </a:prstGeom>
          <a:ln w="0">
            <a:noFill/>
          </a:ln>
        </p:spPr>
      </p:pic>
      <p:pic>
        <p:nvPicPr>
          <p:cNvPr id="126" name="Поле 2" descr=""/>
          <p:cNvPicPr/>
          <p:nvPr/>
        </p:nvPicPr>
        <p:blipFill>
          <a:blip r:embed="rId6"/>
          <a:stretch/>
        </p:blipFill>
        <p:spPr>
          <a:xfrm>
            <a:off x="444600" y="1195560"/>
            <a:ext cx="824220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479 -0.84436 C -0.15712 -0.8432 -0.13107 -0.84042 -0.09635 -0.83649 C -0.07535 -0.83071 -0.05173 -0.83164 -0.03055 -0.83048 C -0.01232 -0.8277 0.00417 -0.82262 0.0217 -0.8166 C 0.02274 -0.81452 0.02327 -0.81198 0.02465 -0.81059 C 0.02587 -0.8092 0.02813 -0.81013 0.02917 -0.80874 C 0.03021 -0.80735 0.02986 -0.80458 0.03056 -0.80273 C 0.03663 -0.78584 0.03038 -0.81175 0.03663 -0.78492 C 0.03837 -0.77775 0.04097 -0.76295 0.04097 -0.76295 C 0.04045 -0.74445 0.0408 -0.72571 0.03959 -0.70721 C 0.03906 -0.69796 0.0316 -0.67391 0.02604 -0.66744 C 0.02188 -0.66258 0.01459 -0.65772 0.01111 -0.65171 C 0.00209 -0.63598 0.0092 -0.64315 0.0007 -0.63575 C -0.0092 -0.6154 0.00643 -0.64523 -0.00816 -0.62581 C -0.01441 -0.61748 -0.01771 -0.60476 -0.02014 -0.59389 C -0.01962 -0.5814 -0.01962 -0.56868 -0.01875 -0.5562 C -0.01788 -0.54278 -0.01041 -0.53307 -0.00521 -0.52243 C -0.00312 -0.51341 -0.00035 -0.50439 0.00365 -0.49653 C 0.00452 -0.49491 0.0059 -0.49399 0.00677 -0.4926 C 0.00834 -0.49005 0.0099 -0.48728 0.01111 -0.4845 C 0.01181 -0.48265 0.01181 -0.48057 0.01268 -0.47872 C 0.01997 -0.46276 0.01094 -0.48867 0.01858 -0.46878 C 0.01927 -0.46693 0.01927 -0.46461 0.02014 -0.46276 C 0.02691 -0.44935 0.02257 -0.46392 0.02761 -0.45074 C 0.03334 -0.43547 0.02431 -0.45444 0.03212 -0.43894 C 0.03646 -0.41998 0.04202 -0.40171 0.04705 -0.38321 C 0.0507 -0.37003 0.05174 -0.35522 0.05747 -0.34343 C 0.05955 -0.32863 0.05799 -0.33742 0.06198 -0.32146 C 0.0625 -0.31961 0.06337 -0.31568 0.06337 -0.31568 C 0.06459 -0.3055 0.06528 -0.29556 0.06788 -0.28584 C 0.06893 -0.24213 0.07361 -0.19195 0.06493 -0.14847 C 0.06268 -0.13691 0.06215 -0.12373 0.0559 -0.11471 C 0.05261 -0.10106 0.05747 -0.11679 0.05 -0.10476 C 0.03889 -0.08672 0.05799 -0.11147 0.04705 -0.09297 C 0.04601 -0.09112 0.0441 -0.09042 0.04254 -0.08904 C 0.04063 -0.08187 0.04097 -0.0851 0.04097 -0.07909 E">
                                      <p:cBhvr>
                                        <p:cTn id="6" dur="5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774 -0.78146 C 0.13837 -0.77706 0.1467 -0.77544 0.13733 -0.77151 C 0.13125 -0.75926 0.12448 -0.75856 0.11493 -0.75347 C 0.11024 -0.74399 0.10434 -0.74099 0.09844 -0.73358 C 0.0934 -0.71208 0.10139 -0.74399 0.0941 -0.72179 C 0.08837 -0.70398 0.09688 -0.72225 0.08958 -0.70791 C 0.08906 -0.70398 0.08785 -0.70005 0.08802 -0.69589 C 0.08854 -0.68479 0.09271 -0.68062 0.0941 -0.66999 C 0.09531 -0.66189 0.09653 -0.65403 0.09844 -0.64617 C 0.10278 -0.60824 0.10955 -0.57077 0.11337 -0.53284 C 0.11476 -0.51874 0.11354 -0.50509 0.11945 -0.49307 C 0.12066 -0.48012 0.1224 -0.47086 0.11945 -0.45722 C 0.11892 -0.45491 0.10764 -0.43062 0.1059 -0.42739 C 0.10469 -0.42507 0.10208 -0.41559 0.1 -0.41351 C 0.09636 -0.40958 0.09202 -0.4068 0.08802 -0.40357 C 0.08177 -0.39848 0.07743 -0.38992 0.0717 -0.38368 C 0.06406 -0.37535 0.05938 -0.36379 0.0507 -0.35778 C 0.04809 -0.34737 0.03646 -0.33395 0.03125 -0.32401 C 0.02934 -0.31314 0.0257 -0.3062 0.0224 -0.29626 C 0.01962 -0.28747 0.01823 -0.27891 0.01493 -0.27036 C 0.00938 -0.25555 0.00816 -0.23659 0.00452 -0.22063 C -0.00347 -0.1501 -3.61111E-006 -0.0717 -3.61111E-006 2.18316E-006 E">
                                      <p:cBhvr>
                                        <p:cTn id="9" dur="5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44 -1.04093 C 0.02239 -1.0259 0.02465 -1.0074 0.03437 -0.99699 C 0.03767 -0.99352 0.04132 -0.99028 0.04479 -0.98704 C 0.04618 -0.98566 0.0493 -0.98311 0.0493 -0.98311 C 0.05139 -0.97271 0.05173 -0.96993 0.05972 -0.96716 C 0.06302 -0.94333 0.06094 -0.95235 0.06423 -0.9394 C 0.06389 -0.93501 0.06302 -0.90402 0.05833 -0.89361 C 0.0566 -0.88991 0.05399 -0.88714 0.05226 -0.88367 C 0.05052 -0.87419 0.04878 -0.86609 0.04479 -0.858 C 0.04201 -0.84597 0.0375 -0.83441 0.03437 -0.82215 C 0.03264 -0.81591 0.03212 -0.80365 0.03142 -0.79833 C 0.02778 -0.76803 0.02465 -0.73982 0.02239 -0.70883 C 0.02378 -0.69172 0.02361 -0.68085 0.01944 -0.66512 C 0.01996 -0.65726 0.01944 -0.64893 0.02101 -0.6413 C 0.02309 -0.63112 0.03298 -0.61933 0.03889 -0.61332 C 0.03941 -0.61123 0.03923 -0.60869 0.04028 -0.6073 C 0.0434 -0.60314 0.05087 -0.59736 0.05087 -0.59736 C 0.05399 -0.58464 0.04965 -0.59828 0.05677 -0.58741 C 0.05903 -0.58395 0.06076 -0.57955 0.06267 -0.57562 C 0.06354 -0.574 0.06476 -0.57308 0.0658 -0.57169 C 0.07274 -0.5481 0.06371 -0.57238 0.07465 -0.55758 C 0.07621 -0.5555 0.07639 -0.55203 0.0776 -0.54972 C 0.08038 -0.54417 0.08472 -0.53839 0.08819 -0.53376 C 0.0941 -0.50901 0.09219 -0.48149 0.08958 -0.45629 C 0.08906 -0.45143 0.08368 -0.44426 0.08368 -0.44426 C 0.0842 -0.43894 0.08385 -0.43362 0.08507 -0.42853 C 0.08541 -0.42668 0.0875 -0.42599 0.08819 -0.42437 C 0.09201 -0.41558 0.09253 -0.40402 0.1 -0.40055 C 0.10173 -0.39407 0.10555 -0.38552 0.10903 -0.38066 C 0.11163 -0.37095 0.11389 -0.36216 0.11944 -0.35499 C 0.12187 -0.3469 0.12396 -0.3395 0.12552 -0.33094 C 0.1243 -0.30735 0.12448 -0.29602 0.11649 -0.27728 C 0.11545 -0.27474 0.1151 -0.2715 0.11354 -0.26942 C 0.11111 -0.26618 0.10729 -0.26595 0.10451 -0.26341 C 0.10104 -0.25624 0.09861 -0.25416 0.09253 -0.25161 C 0.07916 -0.23311 0.05694 -0.22987 0.03889 -0.22363 C 0.03212 -0.21785 0.02587 -0.21438 0.01805 -0.21184 C 0.01354 -0.20582 0.01076 -0.20374 0.00451 -0.20189 C -0.00243 -0.19264 -0.01337 -0.18686 -0.0224 -0.182 C -0.02535 -0.16905 -0.02118 -0.18177 -0.0283 -0.17391 C -0.02969 -0.17229 -0.02986 -0.16951 -0.03125 -0.1679 C -0.03299 -0.16605 -0.03542 -0.16558 -0.03733 -0.16396 C -0.04827 -0.15448 -0.04097 -0.15749 -0.05226 -0.15009 C -0.05469 -0.14847 -0.05747 -0.14801 -0.05972 -0.14616 C -0.06684 -0.14084 -0.07101 -0.13552 -0.07899 -0.13228 C -0.08247 -0.12904 -0.08802 -0.12765 -0.08941 -0.12234 C -0.08993 -0.12025 -0.08993 -0.11771 -0.09097 -0.11632 C -0.09202 -0.11493 -0.09549 -0.11424 -0.09549 -0.11424 E">
                                      <p:cBhvr>
                                        <p:cTn id="12" dur="5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evt="end">
                                        <p:tn val="11"/>
                                      </p:cond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44 -1.06568 C 0.09375 -1.06383 0.08958 -1.0599 0.08507 -1.05782 C 0.08021 -1.05574 0.075 -1.05574 0.07014 -1.05388 C 0.05798 -1.04903 0.04531 -1.04463 0.03281 -1.04186 C 0.02326 -1.03978 0.01736 -1.04093 0.00885 -1.03793 C 0.0059 -1.03677 4.44444E-006 -1.034 4.44444E-006 -1.034 C -0.00104 -1.03261 -0.00174 -1.03076 -0.00313 -1.02983 C -0.0059 -1.02798 -0.01198 -1.0259 -0.01198 -1.0259 C -0.01788 -1.02012 -0.02031 -1.01734 -0.0224 -1.00833 C -0.02587 -0.97225 -0.01893 -0.94195 -0.01059 -0.90865 C -0.00851 -0.90009 -0.00625 -0.88344 -0.00156 -0.87673 C 0.00087 -0.8617 0.00139 -0.84852 0.00746 -0.83511 C 0.00885 -0.82539 0.00816 -0.82539 0.0118 -0.8173 C 0.01371 -0.81314 0.01788 -0.80527 0.01788 -0.80527 C 0.02135 -0.78654 0.01788 -0.79325 0.02535 -0.7833 C 0.02743 -0.77451 0.02778 -0.77012 0.03281 -0.76364 C 0.03472 -0.75277 0.03628 -0.74167 0.04028 -0.73196 C 0.04114 -0.72641 0.0434 -0.72155 0.04323 -0.71577 C 0.04236 -0.68316 0.03819 -0.63899 0.01927 -0.61448 C 0.01771 -0.60777 0.0158 -0.60361 0.0118 -0.59875 C 0.01059 -0.57886 0.00781 -0.56059 0.0059 -0.54093 C 0.00607 -0.53261 0.0026 -0.4771 0.01493 -0.46138 C 0.01667 -0.45375 0.01788 -0.44704 0.02239 -0.44172 C 0.025 -0.43016 0.02951 -0.4179 0.0342 -0.40772 C 0.03732 -0.39107 0.03993 -0.37465 0.04323 -0.358 C 0.0441 -0.34181 0.04583 -0.30065 0.03281 -0.28862 C 0.03055 -0.28654 0.02778 -0.28608 0.02535 -0.28446 C 0.02344 -0.28191 0.02083 -0.27983 0.01927 -0.27636 C 0.01528 -0.2685 0.0151 -0.26388 0.00885 -0.25856 C 0.00781 -0.25648 0.00729 -0.25439 0.0059 -0.25277 C 0.00469 -0.25116 0.00243 -0.25185 0.00139 -0.25069 C 0.00035 -0.24907 0.00087 -0.24653 4.44444E-006 -0.24491 C -0.00174 -0.24098 -0.00434 -0.2382 -0.00608 -0.23497 C -0.0066 -0.23196 -0.0066 -0.22942 -0.00747 -0.22664 C -0.00816 -0.22456 -0.01007 -0.22317 -0.01059 -0.22063 C -0.01528 -0.20236 -0.01597 -0.18039 -0.01806 -0.16119 C -0.01563 -0.12165 -0.01771 -0.1487 -0.01493 -0.12165 C -0.01389 -0.11147 -0.01198 -0.09158 -0.01198 -0.09158 C -0.01146 -0.08094 -0.01181 -0.0703 -0.01059 -0.05967 C -0.01024 -0.05666 -0.00799 -0.05458 -0.00747 -0.0518 C -0.00556 -0.04278 -0.00573 -0.03307 -0.00452 -0.02382 C -0.00347 -0.01619 4.44444E-006 -0.00763 4.44444E-006 -1.20259E-006 E">
                                      <p:cBhvr>
                                        <p:cTn id="16" dur="5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62280" y="-65520"/>
            <a:ext cx="5760720" cy="9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Целеполагани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Стрелка вправо 2"/>
          <p:cNvSpPr/>
          <p:nvPr/>
        </p:nvSpPr>
        <p:spPr>
          <a:xfrm rot="5400000">
            <a:off x="4345560" y="565920"/>
            <a:ext cx="468360" cy="288720"/>
          </a:xfrm>
          <a:prstGeom prst="rightArrow">
            <a:avLst>
              <a:gd name="adj1" fmla="val 50000"/>
              <a:gd name="adj2" fmla="val 50040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Объект 1"/>
          <p:cNvSpPr/>
          <p:nvPr/>
        </p:nvSpPr>
        <p:spPr>
          <a:xfrm>
            <a:off x="1843200" y="711360"/>
            <a:ext cx="5473440" cy="19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редполагаемый результат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расширение знаний, пополнение словарного запаса, формирование исследовательских навыков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Стрелка вправо 6"/>
          <p:cNvSpPr/>
          <p:nvPr/>
        </p:nvSpPr>
        <p:spPr>
          <a:xfrm rot="5400000">
            <a:off x="4384440" y="2514600"/>
            <a:ext cx="453960" cy="266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Объект 1"/>
          <p:cNvSpPr/>
          <p:nvPr/>
        </p:nvSpPr>
        <p:spPr>
          <a:xfrm>
            <a:off x="1843200" y="2660760"/>
            <a:ext cx="547344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Этап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Объект 1"/>
          <p:cNvSpPr/>
          <p:nvPr/>
        </p:nvSpPr>
        <p:spPr>
          <a:xfrm>
            <a:off x="2195640" y="3573360"/>
            <a:ext cx="5472000" cy="23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Формы реализации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образ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итуации, беседы, экскурсии, наблюдение за природой и т. д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Стрелка вправо 9"/>
          <p:cNvSpPr/>
          <p:nvPr/>
        </p:nvSpPr>
        <p:spPr>
          <a:xfrm rot="5400000">
            <a:off x="4323960" y="3381480"/>
            <a:ext cx="554040" cy="24588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Стрелка вправо 10"/>
          <p:cNvSpPr/>
          <p:nvPr/>
        </p:nvSpPr>
        <p:spPr>
          <a:xfrm rot="5400000">
            <a:off x="4323960" y="5238720"/>
            <a:ext cx="554040" cy="24588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Объект 1"/>
          <p:cNvSpPr/>
          <p:nvPr/>
        </p:nvSpPr>
        <p:spPr>
          <a:xfrm>
            <a:off x="1700280" y="5610240"/>
            <a:ext cx="5759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Результативность, обобщение, рефлекс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C:\Users\admin\AppData\Local\Microsoft\Windows\Temporary Internet Files\Content.IE5\8E4KM84C\MC900239415[1].wmf"/>
          <p:cNvPicPr/>
          <p:nvPr/>
        </p:nvPicPr>
        <p:blipFill>
          <a:blip r:embed="rId1"/>
          <a:stretch/>
        </p:blipFill>
        <p:spPr>
          <a:xfrm>
            <a:off x="7167600" y="912960"/>
            <a:ext cx="1531800" cy="17618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3564000" y="1483920"/>
            <a:ext cx="22320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УЧИТЕЛ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Объект 1"/>
          <p:cNvSpPr/>
          <p:nvPr/>
        </p:nvSpPr>
        <p:spPr>
          <a:xfrm>
            <a:off x="1670040" y="115920"/>
            <a:ext cx="5759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заимодействие участников проек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Двойная стрелка влево/вправо 2"/>
          <p:cNvSpPr/>
          <p:nvPr/>
        </p:nvSpPr>
        <p:spPr>
          <a:xfrm rot="19800000">
            <a:off x="2300040" y="1907640"/>
            <a:ext cx="1366560" cy="220680"/>
          </a:xfrm>
          <a:prstGeom prst="leftRightArrow">
            <a:avLst>
              <a:gd name="adj1" fmla="val 50000"/>
              <a:gd name="adj2" fmla="val 49999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Объект 1"/>
          <p:cNvSpPr/>
          <p:nvPr/>
        </p:nvSpPr>
        <p:spPr>
          <a:xfrm>
            <a:off x="-693720" y="2260440"/>
            <a:ext cx="4176720" cy="14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едагогическ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нтер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обще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Двойная стрелка влево/вправо 7"/>
          <p:cNvSpPr/>
          <p:nvPr/>
        </p:nvSpPr>
        <p:spPr>
          <a:xfrm rot="18268800">
            <a:off x="2695320" y="2576160"/>
            <a:ext cx="1476360" cy="196920"/>
          </a:xfrm>
          <a:prstGeom prst="leftRightArrow">
            <a:avLst>
              <a:gd name="adj1" fmla="val 50000"/>
              <a:gd name="adj2" fmla="val 49982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Двойная стрелка влево/вправо 8"/>
          <p:cNvSpPr/>
          <p:nvPr/>
        </p:nvSpPr>
        <p:spPr>
          <a:xfrm rot="17421000">
            <a:off x="2953440" y="3200760"/>
            <a:ext cx="2484360" cy="187200"/>
          </a:xfrm>
          <a:prstGeom prst="leftRightArrow">
            <a:avLst>
              <a:gd name="adj1" fmla="val 50000"/>
              <a:gd name="adj2" fmla="val 50013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Объект 1"/>
          <p:cNvSpPr/>
          <p:nvPr/>
        </p:nvSpPr>
        <p:spPr>
          <a:xfrm>
            <a:off x="1979640" y="3213000"/>
            <a:ext cx="221616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чащие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Объект 1"/>
          <p:cNvSpPr/>
          <p:nvPr/>
        </p:nvSpPr>
        <p:spPr>
          <a:xfrm>
            <a:off x="2374920" y="4492800"/>
            <a:ext cx="246996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рганы ученического самоу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Двойная стрелка влево/вправо 11"/>
          <p:cNvSpPr/>
          <p:nvPr/>
        </p:nvSpPr>
        <p:spPr>
          <a:xfrm rot="15927000">
            <a:off x="4403880" y="2745720"/>
            <a:ext cx="1477800" cy="214200"/>
          </a:xfrm>
          <a:prstGeom prst="leftRightArrow">
            <a:avLst>
              <a:gd name="adj1" fmla="val 50000"/>
              <a:gd name="adj2" fmla="val 50019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Объект 1"/>
          <p:cNvSpPr/>
          <p:nvPr/>
        </p:nvSpPr>
        <p:spPr>
          <a:xfrm>
            <a:off x="4195800" y="3573360"/>
            <a:ext cx="221616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циу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Двойная стрелка влево/вправо 13"/>
          <p:cNvSpPr/>
          <p:nvPr/>
        </p:nvSpPr>
        <p:spPr>
          <a:xfrm rot="13465800">
            <a:off x="5385960" y="2152080"/>
            <a:ext cx="1476360" cy="214200"/>
          </a:xfrm>
          <a:prstGeom prst="leftRightArrow">
            <a:avLst>
              <a:gd name="adj1" fmla="val 50000"/>
              <a:gd name="adj2" fmla="val 50034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Объект 1"/>
          <p:cNvSpPr/>
          <p:nvPr/>
        </p:nvSpPr>
        <p:spPr>
          <a:xfrm>
            <a:off x="6124680" y="2838600"/>
            <a:ext cx="221616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одите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Двойная стрелка влево/вправо 15"/>
          <p:cNvSpPr/>
          <p:nvPr/>
        </p:nvSpPr>
        <p:spPr>
          <a:xfrm rot="14472000">
            <a:off x="4742280" y="3057840"/>
            <a:ext cx="2484360" cy="187560"/>
          </a:xfrm>
          <a:prstGeom prst="leftRightArrow">
            <a:avLst>
              <a:gd name="adj1" fmla="val 50000"/>
              <a:gd name="adj2" fmla="val 4991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Объект 1"/>
          <p:cNvSpPr/>
          <p:nvPr/>
        </p:nvSpPr>
        <p:spPr>
          <a:xfrm>
            <a:off x="5319720" y="4138560"/>
            <a:ext cx="246852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афедра начальной школ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Двойная стрелка влево/вправо 18"/>
          <p:cNvSpPr/>
          <p:nvPr/>
        </p:nvSpPr>
        <p:spPr>
          <a:xfrm rot="18122400">
            <a:off x="5220360" y="5358600"/>
            <a:ext cx="898560" cy="179280"/>
          </a:xfrm>
          <a:prstGeom prst="leftRightArrow">
            <a:avLst>
              <a:gd name="adj1" fmla="val 50000"/>
              <a:gd name="adj2" fmla="val 50028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Объект 1"/>
          <p:cNvSpPr/>
          <p:nvPr/>
        </p:nvSpPr>
        <p:spPr>
          <a:xfrm>
            <a:off x="4086360" y="5896080"/>
            <a:ext cx="221616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едагогический совет школ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Двойная стрелка влево/вправо 20"/>
          <p:cNvSpPr/>
          <p:nvPr/>
        </p:nvSpPr>
        <p:spPr>
          <a:xfrm rot="14652600">
            <a:off x="6981120" y="5388480"/>
            <a:ext cx="898560" cy="179280"/>
          </a:xfrm>
          <a:prstGeom prst="leftRightArrow">
            <a:avLst>
              <a:gd name="adj1" fmla="val 50000"/>
              <a:gd name="adj2" fmla="val 50028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Объект 1"/>
          <p:cNvSpPr/>
          <p:nvPr/>
        </p:nvSpPr>
        <p:spPr>
          <a:xfrm>
            <a:off x="6575400" y="5877000"/>
            <a:ext cx="221616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етодический совет школ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42 -0.68385 C -0.01649 -0.68131 -0.02257 -0.67876 -0.02847 -0.67599 C -0.03142 -0.66997 -0.03264 -0.66489 -0.03438 -0.65818 C -0.03646 -0.60661 -0.03698 -0.61378 -0.03438 -0.54879 C -0.0342 -0.54463 -0.03247 -0.5407 -0.03142 -0.53676 C -0.03038 -0.53283 -0.02847 -0.52497 -0.02847 -0.52497 C -0.02917 -0.51549 -0.02778 -0.50508 -0.03142 -0.49699 C -0.03403 -0.49144 -0.03976 -0.48727 -0.0434 -0.48311 C -0.05139 -0.47386 -0.05833 -0.46299 -0.06719 -0.45536 C -0.06823 -0.45258 -0.06858 -0.44935 -0.07014 -0.44726 C -0.07118 -0.44588 -0.07344 -0.4468 -0.07465 -0.44541 C -0.07587 -0.44403 -0.07535 -0.44125 -0.07622 -0.4394 C -0.07743 -0.43709 -0.07917 -0.43547 -0.08056 -0.43339 C -0.08247 -0.42391 -0.08628 -0.41466 -0.08958 -0.40564 C -0.08733 -0.35545 -0.09167 -0.32076 -0.0658 -0.28445 C -0.06302 -0.27428 -0.05087 -0.25416 -0.0434 -0.25046 C -0.03906 -0.24491 -0.03715 -0.24097 -0.03142 -0.23866 C -0.02708 -0.22201 -0.0342 -0.2456 -0.02396 -0.22664 C -0.02274 -0.22432 -0.02326 -0.22108 -0.0224 -0.21877 C -0.02083 -0.21438 -0.01771 -0.21137 -0.01649 -0.20675 C -0.01597 -0.20466 -0.01615 -0.20212 -0.01493 -0.20073 C -0.01372 -0.19935 -0.01198 -0.19958 -0.01042 -0.19888 C 0.00069 -0.17321 0.00295 -0.14893 0.0059 -0.11933 C 0.00712 -0.07978 0.01285 -0.0363 -8.33333E-007 8.0666E-006 E">
                                      <p:cBhvr>
                                        <p:cTn id="22" dur="5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0T15:08:16Z</dcterms:created>
  <dc:creator>Admin</dc:creator>
  <dc:description/>
  <dc:language>en-US</dc:language>
  <cp:lastModifiedBy>Пользователь</cp:lastModifiedBy>
  <dcterms:modified xsi:type="dcterms:W3CDTF">2015-02-06T19:51:30Z</dcterms:modified>
  <cp:revision>55</cp:revision>
  <dc:subject/>
  <dc:title>Слайд 1</dc:title>
</cp:coreProperties>
</file>