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94E-7E4F-4D77-ACAD-DD4CF7DC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592-DAE6-473A-AB3C-0AAFDA67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6F3-EFCE-4611-BE97-97A24E1F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09B-2325-455E-B376-694E2A1A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1C67-5DD8-44EB-A822-03F21005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C20F-81F8-4B69-AECF-6E0E5D2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7884-1B0C-487D-B1D3-26A87388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FC88-9CF8-470A-8BE9-41FC593E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6FA5-F0CB-45D4-A0A6-6DC988F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899F-4CAF-4C87-BA76-04EFC285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436A-68DA-4CFB-9864-95ED3CE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630-F2BB-49D3-A4F0-E73C2E54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9FBE-8F4E-4F12-8874-57276C82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4228-1E14-4541-B52F-E7AF9F3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16FA-E81B-46CD-90C6-F3DBD7EF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AB31-75EA-4A13-9037-65B565E7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20E1-1565-40B3-A9A1-82050FC6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FB0E-4F9D-45DD-A883-A633D8CC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A310-C562-4D3A-921E-4A5AE24C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6DDC-36C9-40DC-A5B9-423693C7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8A5D-203B-4151-BCB1-8C9E6973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C34A-C17E-4654-AE14-5C25A928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EF3-4DF7-49FF-8683-DAC7125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CC34-14E5-425B-AAE8-7A5675DC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C854-67E9-4C61-B763-D42D8A8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A210-45D9-44EF-860E-41B4B9A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8B57-395C-4416-9A89-F3A6E4FC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3077-319D-4F69-BF0B-A46B0679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6492-A384-4A4F-B6BC-1022E409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3D7A-0579-4EAE-9347-AF9E7898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80892-0869-42F0-9EF2-FA20DE0E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0CD4-CF80-467F-9825-7FF4EF69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DA98-8000-4D8B-A1BF-8C94CFE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F17-7EAB-418A-B1B2-5BCA05ED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FE9A-642B-4FC5-91AB-709AAE1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F1F8-13BB-4F8C-A830-34B48064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BE42-A675-4983-8028-F27F9EF6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2FD71-679E-4714-BA26-F1292E0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F7C3-726D-4F0C-82B3-8A4336F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EA98-0D62-4AB5-AAE7-E6E916E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19D7-6F08-47B4-9830-264DC91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299E-78CF-410B-9D41-2FF82B20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D1F7-2D71-41B6-B87C-8BEBF53B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F4C7-D63B-459E-B33F-E78DED0A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1C7-1F24-4819-B4D9-63151C95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BB29-2481-43C6-BF06-51F2F2CA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82AF-1D2B-4C28-A4A7-3B36E846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A78C1-FD6A-47C7-B84A-EB24F2B8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86E13-A046-42A9-B1F9-637FCCF3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D84A-523A-4CEE-AE8D-908EA600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C7DFB-68D0-4A32-87DA-D1E5FD57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20F5-1BCE-4EB4-B997-F1A33F0B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F9CF-C4D3-40C0-8B69-A8D2016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53F2-E0A8-4A91-9C3C-87ED358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F2B0-9A6F-4363-9847-67909022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80D-58C0-49C0-8F62-DC535603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91C70-929B-41C9-9317-25B28C14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62683-ED76-422E-9733-32C0B9FE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B7EB-8019-4D8E-B171-D68726C4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24E5F-FC5A-42E5-9281-161D02FC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27BE-9223-438A-BD29-712A4FB4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E07AC-0D85-43C2-BF70-E5D1675E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D3BC3-A0E3-4244-A1CF-042249A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4BC6E-288A-4DA8-8E62-82E8F582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DFFDC-9719-48CA-8B20-09DEEA7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D441-8BD7-460B-A948-BAD4CB0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1C8-1F67-4705-A429-BE933EC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523E-EE37-4A23-92AB-36B9FFA1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F31C-CCC8-4BA7-AE77-84F421B3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D09E-EBAC-4A17-863D-734646E1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0366-5798-4652-95DF-85BC14E4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DE858-0F36-413B-AEF4-13F8A276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C672-ABE1-46D6-9D1D-2BB36152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0F7D-217D-4F48-8D46-B1A5EAB6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08C4A-0A2C-4C38-9024-0AA103E8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8146-BDB7-45F1-82E0-3DF698E0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E030A-AECD-45A9-B358-B0D8F6B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B1E-664B-491D-86CB-A4894145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5A48E-890B-4094-BAD4-CAEAC610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C42A-C318-4C78-8145-84B6CD3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A31D-9C6F-447C-8A20-9A93163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6440-D3DB-42B5-8AE9-AE415733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5A82C-DEF4-4118-B830-16B2F52F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3F7-4084-4EB5-AEA9-A2E01C89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B887-F516-4302-9BB2-C92B4ED32B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B647-9EEF-48FA-A1C9-F0CEAA3E5A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21B7-944E-4CB0-B6A6-1A60B401C5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B3FD-9412-4FA0-AA45-8CE14AE8C0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D810-2A2F-437A-9188-557D8AC971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AE21-99BE-452A-BE66-0B438B2B7A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262-B71B-4916-A841-64D09134B7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т: «Железо – элемент жизн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736280" y="3505320"/>
            <a:ext cx="5883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Сплавы желез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53" name="Organization Chart 6"/>
          <p:cNvGrpSpPr/>
          <p:nvPr/>
        </p:nvGrpSpPr>
        <p:grpSpPr>
          <a:xfrm>
            <a:off x="1447920" y="1523880"/>
            <a:ext cx="6247080" cy="3047400"/>
            <a:chOff x="1447920" y="1523880"/>
            <a:chExt cx="6247080" cy="3047400"/>
          </a:xfrm>
        </p:grpSpPr>
        <p:cxnSp>
          <p:nvCxnSpPr>
            <p:cNvPr id="354" name="_s2052"/>
            <p:cNvCxnSpPr>
              <a:stCxn id="355" idx="0"/>
              <a:endCxn id="356" idx="2"/>
            </p:cNvCxnSpPr>
            <p:nvPr/>
          </p:nvCxnSpPr>
          <p:spPr>
            <a:xfrm flipV="1" rot="16200000">
              <a:off x="5107320" y="2206080"/>
              <a:ext cx="610200" cy="1682280"/>
            </a:xfrm>
            <a:prstGeom prst="bentConnector3">
              <a:avLst>
                <a:gd name="adj1" fmla="val 126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7" name="_s2053"/>
            <p:cNvCxnSpPr>
              <a:stCxn id="358" idx="0"/>
              <a:endCxn id="356" idx="2"/>
            </p:cNvCxnSpPr>
            <p:nvPr/>
          </p:nvCxnSpPr>
          <p:spPr>
            <a:xfrm flipH="1" flipV="1" rot="5400000">
              <a:off x="3425400" y="2205720"/>
              <a:ext cx="610200" cy="1683000"/>
            </a:xfrm>
            <a:prstGeom prst="bentConnector3">
              <a:avLst>
                <a:gd name="adj1" fmla="val 126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6" name="_s2054"/>
            <p:cNvSpPr/>
            <p:nvPr/>
          </p:nvSpPr>
          <p:spPr>
            <a:xfrm>
              <a:off x="3130200" y="1523880"/>
              <a:ext cx="2883240" cy="12189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aa8a14"/>
                  </a:solidFill>
                  <a:latin typeface="Arial"/>
                </a:rPr>
                <a:t>Сталь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2055"/>
            <p:cNvSpPr/>
            <p:nvPr/>
          </p:nvSpPr>
          <p:spPr>
            <a:xfrm>
              <a:off x="1447920" y="3352320"/>
              <a:ext cx="2883240" cy="12189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глеродист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(трубы, болты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возди, скрепки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2056"/>
            <p:cNvSpPr/>
            <p:nvPr/>
          </p:nvSpPr>
          <p:spPr>
            <a:xfrm>
              <a:off x="4811760" y="3352320"/>
              <a:ext cx="2883240" cy="121896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Легированн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добавляют хром, никель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ольфрам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ножи, ложки, вилки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едицинские инструменты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17" descr="pn7986"/>
          <p:cNvPicPr/>
          <p:nvPr/>
        </p:nvPicPr>
        <p:blipFill>
          <a:blip r:embed="rId1"/>
          <a:stretch/>
        </p:blipFill>
        <p:spPr>
          <a:xfrm>
            <a:off x="6553080" y="46483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3"/>
          <p:cNvPicPr/>
          <p:nvPr/>
        </p:nvPicPr>
        <p:blipFill>
          <a:blip r:embed="rId2"/>
          <a:stretch/>
        </p:blipFill>
        <p:spPr>
          <a:xfrm>
            <a:off x="5029200" y="51055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imagesвваввф"/>
          <p:cNvPicPr/>
          <p:nvPr/>
        </p:nvPicPr>
        <p:blipFill>
          <a:blip r:embed="rId3"/>
          <a:stretch/>
        </p:blipFill>
        <p:spPr>
          <a:xfrm>
            <a:off x="19810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Железо в организм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80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организме человека содержится около 5 г желез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них 57% приходится на гемоглобин крови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7% – на миоглобин мышц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6% связаны с тканевыми ферментами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0% – это запас, отложенный в печени, селезёнке, костном мозге и почках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емоглоб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уществляет транспорт кислорода к клетк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imagesкк"/>
          <p:cNvPicPr/>
          <p:nvPr/>
        </p:nvPicPr>
        <p:blipFill>
          <a:blip r:embed="rId1"/>
          <a:stretch/>
        </p:blipFill>
        <p:spPr>
          <a:xfrm>
            <a:off x="1600200" y="2514600"/>
            <a:ext cx="5715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Ферритин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уществляет запасание и транспорт желез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центрируется в печени, селезёнке, костном мозге, слизистой кишечника млекопитаю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требность человека в желез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уточная норма потребности человека составляет около 15 мг желез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ного железа в сливовом соке, кураге, изюме, орехах, тыквенных и подсолнечных семечк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10 г проросшей пшеницы содержится 1 мг железа. Черный хлеб, отруби, хлеб грубого помола также богаты желез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учесть, что организмом усваивается всего лишь 10% от всего железа, получаемого с пищ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572314"/>
                </a:solidFill>
                <a:latin typeface="Corbel"/>
              </a:rPr>
              <a:t>Значение железа для живых организмов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едостаток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Избыток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0520" y="2209320"/>
            <a:ext cx="4040280" cy="110196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лороз растений (задержка рост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44720" y="2174400"/>
            <a:ext cx="4041720" cy="384516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ерильность цветков ри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лороз растен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5" descr="D:\Анжела\Химия\Картинки\imagesававав.jpg"/>
          <p:cNvPicPr/>
          <p:nvPr/>
        </p:nvPicPr>
        <p:blipFill>
          <a:blip r:embed="rId1"/>
          <a:stretch/>
        </p:blipFill>
        <p:spPr>
          <a:xfrm>
            <a:off x="533520" y="3733920"/>
            <a:ext cx="3097080" cy="2057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http://im5-tub.yandex.net/i?id=55248329&amp;tov=5"/>
          <p:cNvPicPr/>
          <p:nvPr/>
        </p:nvPicPr>
        <p:blipFill>
          <a:blip r:embed="rId2"/>
          <a:stretch/>
        </p:blipFill>
        <p:spPr>
          <a:xfrm>
            <a:off x="4876920" y="3048120"/>
            <a:ext cx="281916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елезо – жизненно необходимый элемент для всех живых организм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елезо – металл без которого невозможен научно-технический прогрес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D:\Анжела\Химия\Картинки\k_596i.bmp"/>
          <p:cNvPicPr/>
          <p:nvPr/>
        </p:nvPicPr>
        <p:blipFill>
          <a:blip r:embed="rId1"/>
          <a:stretch/>
        </p:blipFill>
        <p:spPr>
          <a:xfrm>
            <a:off x="6553080" y="41911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Анжела\Химия\Картинки\imagesкекпс.jpg"/>
          <p:cNvPicPr/>
          <p:nvPr/>
        </p:nvPicPr>
        <p:blipFill>
          <a:blip r:embed="rId2"/>
          <a:stretch/>
        </p:blipFill>
        <p:spPr>
          <a:xfrm>
            <a:off x="4572000" y="4343400"/>
            <a:ext cx="1238400" cy="828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Documents and Settings\Владелец\Рабочий стол\WCCAZQWK84CA2P84DLCANYAKSKCAKOXOB9CAVQT49ICANT3K88CA8Y8PS7CAG9V4FJCAGJDC1HCAD39GG1CA6P3TN6CA53O72PCARDK6SBCANF12DPCA383JHYCA3LHMEMCAXH1ZVVCAGR9D3JCA7TC77X.jpg"/>
          <p:cNvPicPr/>
          <p:nvPr/>
        </p:nvPicPr>
        <p:blipFill>
          <a:blip r:embed="rId3"/>
          <a:stretch/>
        </p:blipFill>
        <p:spPr>
          <a:xfrm>
            <a:off x="1752480" y="5029200"/>
            <a:ext cx="1333800" cy="95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Documents and Settings\Владелец\Рабочий стол\images.jpg"/>
          <p:cNvPicPr/>
          <p:nvPr/>
        </p:nvPicPr>
        <p:blipFill>
          <a:blip r:embed="rId4"/>
          <a:stretch/>
        </p:blipFill>
        <p:spPr>
          <a:xfrm>
            <a:off x="4114800" y="5334120"/>
            <a:ext cx="142884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Можно ли считать </a:t>
            </a: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железо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 элементом жизни?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1" descr="C:\Documents and Settings\Владелец\Рабочий стол\железо.jpg"/>
          <p:cNvPicPr/>
          <p:nvPr/>
        </p:nvPicPr>
        <p:blipFill>
          <a:blip r:embed="rId1"/>
          <a:stretch/>
        </p:blipFill>
        <p:spPr>
          <a:xfrm>
            <a:off x="2590920" y="4038480"/>
            <a:ext cx="3921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8dc765"/>
                </a:solidFill>
                <a:latin typeface="Corbel"/>
              </a:rPr>
              <a:t>Происхождение названия</a:t>
            </a:r>
            <a:endParaRPr b="0" lang="en-US" sz="4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123720" y="1827000"/>
            <a:ext cx="579132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елезо (лат.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rrum)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быть твёрды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первые человек познакомился с метеоритным желез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переводе с древне египетского название железа означало «Небесное железо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переводе с древне греческого- «Звезда», «Небесное тело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4" descr="Pzh4026"/>
          <p:cNvPicPr/>
          <p:nvPr/>
        </p:nvPicPr>
        <p:blipFill>
          <a:blip r:embed="rId1"/>
          <a:stretch/>
        </p:blipFill>
        <p:spPr>
          <a:xfrm>
            <a:off x="228600" y="1752480"/>
            <a:ext cx="2943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572314"/>
                </a:solidFill>
                <a:latin typeface="Corbel"/>
              </a:rPr>
              <a:t>Физические свойства</a:t>
            </a:r>
            <a:endParaRPr b="0" lang="en-US" sz="4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190760" y="251460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Железо-это блестящий, серебристо-серый, пластичный мета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гко подвергается ковке, прокатк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арактерна кубическая объёмно центрированная Кристаллическая решет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ладает сильными магнитными свойств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рпр"/>
          <p:cNvPicPr/>
          <p:nvPr/>
        </p:nvPicPr>
        <p:blipFill>
          <a:blip r:embed="rId1"/>
          <a:stretch/>
        </p:blipFill>
        <p:spPr>
          <a:xfrm>
            <a:off x="380880" y="1752480"/>
            <a:ext cx="3657600" cy="27576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6" descr="2.jpg"/>
          <p:cNvPicPr/>
          <p:nvPr/>
        </p:nvPicPr>
        <p:blipFill>
          <a:blip r:embed="rId2"/>
          <a:stretch/>
        </p:blipFill>
        <p:spPr>
          <a:xfrm>
            <a:off x="6477120" y="457200"/>
            <a:ext cx="246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Нахождение в природ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НЕРАЛЫ ЖЕЛЕЗ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ематит  Fe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ётит (лимонит)  FeO(OH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дерит   Fe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ирит   FeS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гнетит  (Fe,Fe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D:\Анжела\Химия\Картинки\1.jpg"/>
          <p:cNvPicPr/>
          <p:nvPr/>
        </p:nvPicPr>
        <p:blipFill>
          <a:blip r:embed="rId1"/>
          <a:stretch/>
        </p:blipFill>
        <p:spPr>
          <a:xfrm>
            <a:off x="6324480" y="2133720"/>
            <a:ext cx="2040120" cy="1904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:\Анжела\Химия\Картинки\45.jpg"/>
          <p:cNvPicPr/>
          <p:nvPr/>
        </p:nvPicPr>
        <p:blipFill>
          <a:blip r:embed="rId2"/>
          <a:stretch/>
        </p:blipFill>
        <p:spPr>
          <a:xfrm>
            <a:off x="5105520" y="4191120"/>
            <a:ext cx="2181240" cy="1676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D:\Анжела\Химия\Картинки\71.jpg"/>
          <p:cNvPicPr/>
          <p:nvPr/>
        </p:nvPicPr>
        <p:blipFill>
          <a:blip r:embed="rId3"/>
          <a:stretch/>
        </p:blipFill>
        <p:spPr>
          <a:xfrm>
            <a:off x="7086600" y="3809880"/>
            <a:ext cx="172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начимость желез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286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-е место среди элементов по значим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-е место по количеству в литосфере среди металл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ссия занимает 1-е место по запасам железных ру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z_019i"/>
          <p:cNvPicPr/>
          <p:nvPr/>
        </p:nvPicPr>
        <p:blipFill>
          <a:blip r:embed="rId1"/>
          <a:stretch/>
        </p:blipFill>
        <p:spPr>
          <a:xfrm>
            <a:off x="380880" y="1523880"/>
            <a:ext cx="3081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История получения желез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 2-ом тысячелетии до н.э. в Западной Азии получали железо с помощью сыродутного процес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-7 век до н.э. - железный ве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низкошахтных печей - домниц привело к получению чугуна (14 век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 век. В доменном процессе используется каменно угольный кокс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Совершенные способы получе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657240" y="182844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мн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ислородный конверте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ктродуговые печ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6" descr="images"/>
          <p:cNvPicPr/>
          <p:nvPr/>
        </p:nvPicPr>
        <p:blipFill>
          <a:blip r:embed="rId1"/>
          <a:stretch/>
        </p:blipFill>
        <p:spPr>
          <a:xfrm>
            <a:off x="685800" y="1371600"/>
            <a:ext cx="2209680" cy="1427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5"/>
          <p:cNvPicPr/>
          <p:nvPr/>
        </p:nvPicPr>
        <p:blipFill>
          <a:blip r:embed="rId2"/>
          <a:stretch/>
        </p:blipFill>
        <p:spPr>
          <a:xfrm>
            <a:off x="685800" y="2819520"/>
            <a:ext cx="2209680" cy="1546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images6"/>
          <p:cNvPicPr/>
          <p:nvPr/>
        </p:nvPicPr>
        <p:blipFill>
          <a:blip r:embed="rId3"/>
          <a:stretch/>
        </p:blipFill>
        <p:spPr>
          <a:xfrm>
            <a:off x="685800" y="4419720"/>
            <a:ext cx="2209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Сплавы желез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45" name="Organization Chart 7"/>
          <p:cNvGrpSpPr/>
          <p:nvPr/>
        </p:nvGrpSpPr>
        <p:grpSpPr>
          <a:xfrm>
            <a:off x="1676520" y="1676520"/>
            <a:ext cx="5866560" cy="4038480"/>
            <a:chOff x="1676520" y="1676520"/>
            <a:chExt cx="5866560" cy="4038480"/>
          </a:xfrm>
        </p:grpSpPr>
        <p:cxnSp>
          <p:nvCxnSpPr>
            <p:cNvPr id="346" name="_s1028"/>
            <p:cNvCxnSpPr>
              <a:stCxn id="347" idx="0"/>
              <a:endCxn id="348" idx="2"/>
            </p:cNvCxnSpPr>
            <p:nvPr/>
          </p:nvCxnSpPr>
          <p:spPr>
            <a:xfrm flipV="1" rot="16200000">
              <a:off x="4995360" y="2905200"/>
              <a:ext cx="808200" cy="1579680"/>
            </a:xfrm>
            <a:prstGeom prst="bentConnector3">
              <a:avLst>
                <a:gd name="adj1" fmla="val 127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9" name="_s1029"/>
            <p:cNvCxnSpPr>
              <a:stCxn id="350" idx="0"/>
              <a:endCxn id="348" idx="2"/>
            </p:cNvCxnSpPr>
            <p:nvPr/>
          </p:nvCxnSpPr>
          <p:spPr>
            <a:xfrm flipH="1" flipV="1" rot="5400000">
              <a:off x="3416040" y="2905200"/>
              <a:ext cx="808200" cy="1580400"/>
            </a:xfrm>
            <a:prstGeom prst="bentConnector3">
              <a:avLst>
                <a:gd name="adj1" fmla="val 127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8" name="_s1030"/>
            <p:cNvSpPr/>
            <p:nvPr/>
          </p:nvSpPr>
          <p:spPr>
            <a:xfrm>
              <a:off x="3256200" y="1676520"/>
              <a:ext cx="2707560" cy="1615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Чугун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031"/>
            <p:cNvSpPr/>
            <p:nvPr/>
          </p:nvSpPr>
          <p:spPr>
            <a:xfrm>
              <a:off x="1676520" y="4099680"/>
              <a:ext cx="2707560" cy="1615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ер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Шестерни, колёса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рубы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032"/>
            <p:cNvSpPr/>
            <p:nvPr/>
          </p:nvSpPr>
          <p:spPr>
            <a:xfrm>
              <a:off x="4835520" y="4099680"/>
              <a:ext cx="2707560" cy="1615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ел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Переработка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в сталь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5" descr="imagesапы"/>
          <p:cNvPicPr/>
          <p:nvPr/>
        </p:nvPicPr>
        <p:blipFill>
          <a:blip r:embed="rId1"/>
          <a:stretch/>
        </p:blipFill>
        <p:spPr>
          <a:xfrm>
            <a:off x="304920" y="2209680"/>
            <a:ext cx="243828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</cp:lastModifiedBy>
  <dcterms:modified xsi:type="dcterms:W3CDTF">2015-02-06T18:12:0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