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DDA-8F5C-4C8A-9E9F-43F55122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DFD-0ABC-4141-8432-81E43E7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F43-F57B-4878-8029-30A8D4EE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DAB-1931-49BF-967C-E2AB86B7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FD0-6B5E-46F6-838E-2F2D1286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E176-FDE8-45A6-9CA1-420409D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2E0-8C29-4CFA-95C7-B3CF8EE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CB1-6EE7-4152-8EA9-C3E7204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D1D3-4DB6-4122-91ED-5DCD7D15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AB90-8106-4F39-88A1-DBB3BE8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F3F-47D0-4F64-8C58-63FD01F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71F-D2AF-419B-B85F-186DC5AF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7C4-03EF-446B-8566-DC1BE49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1DFF-D0F8-4803-A5DC-1D7DE90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817-E1B4-4E73-A69C-A3C46E5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F337-E2C0-4A68-85E8-7F5ADE5A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C1A-893B-49C9-9873-A7970CD4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CA7D-7111-4961-835D-1A395A33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DBB5-CE42-4F12-80AF-06F3B8AA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AF1E-5ED5-4636-93DC-0498F73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BD11-C0BF-43EC-82D0-5C851D6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43D0-DDE1-4909-B09C-0814EF82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C60-0B17-4845-AD78-6F11835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2C40-A2C0-40B3-8062-BBA20BD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421C-BB73-4C43-A97A-1CA13AC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63C9-8EEA-4F57-AEA2-2199308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D7B3-CEA6-47B8-8E0B-867AD5F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347A-3227-4F34-BD48-3DB950B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46AD-9526-445F-A031-D8BF7CA7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19D7-866C-4DB8-8ABE-A78A4C9A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7FC0-3F89-4EC2-8FEA-6CDB585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87E1-6506-4C7E-BE46-A381CDD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3B29-E4D7-4383-B21B-409811DD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69A-5336-4B64-A983-A66ADD64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B64B-00A3-45F0-87B0-F9667FD7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EF75-450F-49CD-991C-530759E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ED23-894F-43AC-B3F1-C5177DF6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23FD-52CF-44BB-BC33-23A8928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D36C-776B-4884-B122-0C4B8C6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28C02-A39F-4618-A8BC-D28092D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AAD0-FD0A-4B76-9E1C-A89883C4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055D-9E83-492A-A6BE-82696F5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BBC8-6CD9-4755-AE29-0B862A14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8E7E-8F5D-4B6C-B9E4-F0B76FD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317-648B-4CD9-8B27-917F22F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2365D-72A3-4C8D-B59D-37EC9A4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86F9-E858-45A7-A74E-AC8D340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895F-41CF-4182-892C-1B3A69E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2E1A-73F2-402B-AD16-7E2820C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91E6-545F-4AF2-A924-288D73C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AE83-2A7F-43FB-A80C-474205B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91AB-3540-4F60-AC28-57127118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58FC-4E61-48BB-B591-3F53A81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2909-EE6C-4C75-A939-A1317BB3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FC750-FB45-44D9-BBFF-C0986174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0AC-612C-4D62-AC7F-7B292E3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F034-9631-432F-82D1-3C0488F7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411A-9C5D-4B6B-93B4-887BAEE4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05EF-84AA-4006-A3DF-ABA4984B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2F37-77AB-443C-A9C6-F2B31D7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8EE9-DC23-4994-9299-C9EBC68E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1A0A1-9084-4C4A-A38E-B357C36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21A7-7A1D-4FEE-8E04-A285233E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77DA-0070-4AD8-9060-C5B4794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DA5B-95FB-4030-92A8-C90E3C1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3B72-7BB5-40C3-8F54-8BC4AC1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B6-FE9F-442C-A265-9E51171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ECF33-D9D1-4ECB-9A73-CAC7432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0B0E-7A28-4EC6-8CD8-FDC89590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3C5E-F3DA-4324-944D-66AD5690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A908-9742-4650-A9C1-AD257200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9137-EC56-4172-895C-F39E9DBB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AB02-B24A-4EA8-A74B-FAF369F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166EB-59BE-432A-8399-29604B0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B991-D93F-4EE4-9FA5-430B4BC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0BB99-364F-43EA-9A5A-46045EF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65044-2B11-47E7-A073-04660D1D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1A6-A0B6-450E-9FCD-A106473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C5091-F4ED-4716-9F1A-4531DD82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89E2-9955-40EF-9E9B-43A953E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251E-3F13-4E1C-BE59-07E7613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7C8C-3088-421A-B1F1-7C15BD40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EAF10-C6C1-41CF-944B-3E96B4EA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0BF-9AB9-4910-A740-754099E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3445-D1EE-4ABC-B67F-0F3B7CE647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1DA-B674-466A-9AC1-52E0B4773E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988-919F-478D-9DB5-EF38A87FCA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881-F4E1-495F-9BC8-03FD9DF279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00E2-9388-4F78-B4CD-594A92663C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7FC-8364-456C-B086-E7CE832ECB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45C-353A-4B90-A48B-3D8CDBB5A8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: «Железо – элемент жизн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736280" y="3505320"/>
            <a:ext cx="5883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Сплавы желез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53" name="Organization Chart 6"/>
          <p:cNvGrpSpPr/>
          <p:nvPr/>
        </p:nvGrpSpPr>
        <p:grpSpPr>
          <a:xfrm>
            <a:off x="1447920" y="1523880"/>
            <a:ext cx="6247080" cy="3047400"/>
            <a:chOff x="1447920" y="1523880"/>
            <a:chExt cx="6247080" cy="3047400"/>
          </a:xfrm>
        </p:grpSpPr>
        <p:cxnSp>
          <p:nvCxnSpPr>
            <p:cNvPr id="354" name="_s2052"/>
            <p:cNvCxnSpPr>
              <a:stCxn id="355" idx="0"/>
              <a:endCxn id="356" idx="2"/>
            </p:cNvCxnSpPr>
            <p:nvPr/>
          </p:nvCxnSpPr>
          <p:spPr>
            <a:xfrm flipV="1" rot="16200000">
              <a:off x="5107320" y="2206080"/>
              <a:ext cx="610200" cy="1682280"/>
            </a:xfrm>
            <a:prstGeom prst="bentConnector3">
              <a:avLst>
                <a:gd name="adj1" fmla="val 126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7" name="_s2053"/>
            <p:cNvCxnSpPr>
              <a:stCxn id="358" idx="0"/>
              <a:endCxn id="356" idx="2"/>
            </p:cNvCxnSpPr>
            <p:nvPr/>
          </p:nvCxnSpPr>
          <p:spPr>
            <a:xfrm flipH="1" flipV="1" rot="5400000">
              <a:off x="3425400" y="2205720"/>
              <a:ext cx="610200" cy="1683000"/>
            </a:xfrm>
            <a:prstGeom prst="bentConnector3">
              <a:avLst>
                <a:gd name="adj1" fmla="val 126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6" name="_s2054"/>
            <p:cNvSpPr/>
            <p:nvPr/>
          </p:nvSpPr>
          <p:spPr>
            <a:xfrm>
              <a:off x="3130200" y="152388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aa8a14"/>
                  </a:solidFill>
                  <a:latin typeface="Arial"/>
                </a:rPr>
                <a:t>Сталь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2055"/>
            <p:cNvSpPr/>
            <p:nvPr/>
          </p:nvSpPr>
          <p:spPr>
            <a:xfrm>
              <a:off x="1447920" y="335232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глеродист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трубы, болты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возди, скрепки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2056"/>
            <p:cNvSpPr/>
            <p:nvPr/>
          </p:nvSpPr>
          <p:spPr>
            <a:xfrm>
              <a:off x="4811760" y="335232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Легированн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добавляют хром, никель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ольфрам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ножи, ложки, вилк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едицинские инструменты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17" descr="pn7986"/>
          <p:cNvPicPr/>
          <p:nvPr/>
        </p:nvPicPr>
        <p:blipFill>
          <a:blip r:embed="rId1"/>
          <a:stretch/>
        </p:blipFill>
        <p:spPr>
          <a:xfrm>
            <a:off x="6553080" y="46483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3"/>
          <p:cNvPicPr/>
          <p:nvPr/>
        </p:nvPicPr>
        <p:blipFill>
          <a:blip r:embed="rId2"/>
          <a:stretch/>
        </p:blipFill>
        <p:spPr>
          <a:xfrm>
            <a:off x="5029200" y="51055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imagesвваввф"/>
          <p:cNvPicPr/>
          <p:nvPr/>
        </p:nvPicPr>
        <p:blipFill>
          <a:blip r:embed="rId3"/>
          <a:stretch/>
        </p:blipFill>
        <p:spPr>
          <a:xfrm>
            <a:off x="19810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Железо в организм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организме человека содержится около 5 г желез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них 57% приходится на гемоглобин крови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% – на миоглобин мышц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6% связаны с тканевыми фермента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% – это запас, отложенный в печени, селезёнке, костном мозге и почках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емоглоб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уществляет транспорт кислорода к клетк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imagesкк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Ферритин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уществляет запасание и транспорт желез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центрируется в печени, селезёнке, костном мозге, слизистой кишечника млекопитаю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требность человека в желез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уточная норма потребности человека составляет около 15 мг желез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ного железа в сливовом соке, кураге, изюме, орехах, тыквенных и подсолнечных семечк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10 г проросшей пшеницы содержится 1 мг железа. Черный хлеб, отруби, хлеб грубого помола также богаты желез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учесть, что организмом усваивается всего лишь 10% от всего железа, получаемого с пищ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572314"/>
                </a:solidFill>
                <a:latin typeface="Corbel"/>
              </a:rPr>
              <a:t>Значение железа для живых организмов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достат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Избыт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520" y="2209320"/>
            <a:ext cx="4040280" cy="110196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лороз растений (задержка рост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44720" y="2174400"/>
            <a:ext cx="4041720" cy="384516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ерильность цветков ри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лороз расте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5" descr="D:\Анжела\Химия\Картинки\imagesававав.jpg"/>
          <p:cNvPicPr/>
          <p:nvPr/>
        </p:nvPicPr>
        <p:blipFill>
          <a:blip r:embed="rId1"/>
          <a:stretch/>
        </p:blipFill>
        <p:spPr>
          <a:xfrm>
            <a:off x="533520" y="3733920"/>
            <a:ext cx="3097080" cy="2057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http://im5-tub.yandex.net/i?id=55248329&amp;tov=5"/>
          <p:cNvPicPr/>
          <p:nvPr/>
        </p:nvPicPr>
        <p:blipFill>
          <a:blip r:embed="rId2"/>
          <a:stretch/>
        </p:blipFill>
        <p:spPr>
          <a:xfrm>
            <a:off x="4876920" y="3048120"/>
            <a:ext cx="28191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елезо – жизненно необходимый элемент для всех живых организм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елезо – металл без которого невозможен научно-технический прогрес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D:\Анжела\Химия\Картинки\k_596i.bmp"/>
          <p:cNvPicPr/>
          <p:nvPr/>
        </p:nvPicPr>
        <p:blipFill>
          <a:blip r:embed="rId1"/>
          <a:stretch/>
        </p:blipFill>
        <p:spPr>
          <a:xfrm>
            <a:off x="6553080" y="41911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Анжела\Химия\Картинки\imagesкекпс.jpg"/>
          <p:cNvPicPr/>
          <p:nvPr/>
        </p:nvPicPr>
        <p:blipFill>
          <a:blip r:embed="rId2"/>
          <a:stretch/>
        </p:blipFill>
        <p:spPr>
          <a:xfrm>
            <a:off x="4572000" y="434340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Documents and Settings\Владелец\Рабочий стол\WCCAZQWK84CA2P84DLCANYAKSKCAKOXOB9CAVQT49ICANT3K88CA8Y8PS7CAG9V4FJCAGJDC1HCAD39GG1CA6P3TN6CA53O72PCARDK6SBCANF12DPCA383JHYCA3LHMEMCAXH1ZVVCAGR9D3JCA7TC77X.jpg"/>
          <p:cNvPicPr/>
          <p:nvPr/>
        </p:nvPicPr>
        <p:blipFill>
          <a:blip r:embed="rId3"/>
          <a:stretch/>
        </p:blipFill>
        <p:spPr>
          <a:xfrm>
            <a:off x="1752480" y="5029200"/>
            <a:ext cx="133380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Documents and Settings\Владелец\Рабочий стол\images.jpg"/>
          <p:cNvPicPr/>
          <p:nvPr/>
        </p:nvPicPr>
        <p:blipFill>
          <a:blip r:embed="rId4"/>
          <a:stretch/>
        </p:blipFill>
        <p:spPr>
          <a:xfrm>
            <a:off x="4114800" y="5334120"/>
            <a:ext cx="142884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Можно ли считать </a:t>
            </a: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железо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 элементом жизни?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1" descr="C:\Documents and Settings\Владелец\Рабочий стол\железо.jpg"/>
          <p:cNvPicPr/>
          <p:nvPr/>
        </p:nvPicPr>
        <p:blipFill>
          <a:blip r:embed="rId1"/>
          <a:stretch/>
        </p:blipFill>
        <p:spPr>
          <a:xfrm>
            <a:off x="2590920" y="4038480"/>
            <a:ext cx="3921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8dc765"/>
                </a:solidFill>
                <a:latin typeface="Corbel"/>
              </a:rPr>
              <a:t>Происхождение названия</a:t>
            </a:r>
            <a:endParaRPr b="0" lang="en-US" sz="4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123720" y="1827000"/>
            <a:ext cx="579132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лезо (лат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rrum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быть твёрд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первые человек познакомился с метеоритным желез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переводе с древне египетского название железа означало «Небесное желез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переводе с древне греческого- «Звезда», «Небесное тел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4" descr="Pzh4026"/>
          <p:cNvPicPr/>
          <p:nvPr/>
        </p:nvPicPr>
        <p:blipFill>
          <a:blip r:embed="rId1"/>
          <a:stretch/>
        </p:blipFill>
        <p:spPr>
          <a:xfrm>
            <a:off x="228600" y="1752480"/>
            <a:ext cx="294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572314"/>
                </a:solidFill>
                <a:latin typeface="Corbel"/>
              </a:rPr>
              <a:t>Физические свойства</a:t>
            </a:r>
            <a:endParaRPr b="0" lang="en-US" sz="4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90760" y="251460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Железо-это блестящий, серебристо-серый, пластичный мет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ко подвергается ковке, прокатк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арактерна кубическая объёмно центрированная Кристаллическая решет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ладает сильными магнитными свойств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рпр"/>
          <p:cNvPicPr/>
          <p:nvPr/>
        </p:nvPicPr>
        <p:blipFill>
          <a:blip r:embed="rId1"/>
          <a:stretch/>
        </p:blipFill>
        <p:spPr>
          <a:xfrm>
            <a:off x="380880" y="1752480"/>
            <a:ext cx="3657600" cy="27576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2.jpg"/>
          <p:cNvPicPr/>
          <p:nvPr/>
        </p:nvPicPr>
        <p:blipFill>
          <a:blip r:embed="rId2"/>
          <a:stretch/>
        </p:blipFill>
        <p:spPr>
          <a:xfrm>
            <a:off x="6477120" y="457200"/>
            <a:ext cx="24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Нахождение в природ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НЕРАЛЫ ЖЕЛЕ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матит  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ётит (лимонит)  FeO(OH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дерит   Fe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ирит   Fe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гнетит  (Fe,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D:\Анжела\Химия\Картинки\1.jpg"/>
          <p:cNvPicPr/>
          <p:nvPr/>
        </p:nvPicPr>
        <p:blipFill>
          <a:blip r:embed="rId1"/>
          <a:stretch/>
        </p:blipFill>
        <p:spPr>
          <a:xfrm>
            <a:off x="6324480" y="2133720"/>
            <a:ext cx="2040120" cy="1904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:\Анжела\Химия\Картинки\45.jpg"/>
          <p:cNvPicPr/>
          <p:nvPr/>
        </p:nvPicPr>
        <p:blipFill>
          <a:blip r:embed="rId2"/>
          <a:stretch/>
        </p:blipFill>
        <p:spPr>
          <a:xfrm>
            <a:off x="5105520" y="4191120"/>
            <a:ext cx="2181240" cy="1676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D:\Анжела\Химия\Картинки\71.jpg"/>
          <p:cNvPicPr/>
          <p:nvPr/>
        </p:nvPicPr>
        <p:blipFill>
          <a:blip r:embed="rId3"/>
          <a:stretch/>
        </p:blipFill>
        <p:spPr>
          <a:xfrm>
            <a:off x="7086600" y="380988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чимость желе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86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-е место среди элементов по значим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-е место по количеству в литосфере среди метал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ссия занимает 1-е место по запасам железных ру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z_019i"/>
          <p:cNvPicPr/>
          <p:nvPr/>
        </p:nvPicPr>
        <p:blipFill>
          <a:blip r:embed="rId1"/>
          <a:stretch/>
        </p:blipFill>
        <p:spPr>
          <a:xfrm>
            <a:off x="380880" y="1523880"/>
            <a:ext cx="3081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История получения желез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2-ом тысячелетии до н.э. в Западной Азии получали железо с помощью сыродутного процес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-7 век до н.э. - железный ве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низкошахтных печей - домниц привело к получению чугуна (14 ве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 век. В доменном процессе используется каменно угольный кок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Совершенные способы получ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657240" y="18284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м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слородный конверте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одуговые печ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6" descr="images"/>
          <p:cNvPicPr/>
          <p:nvPr/>
        </p:nvPicPr>
        <p:blipFill>
          <a:blip r:embed="rId1"/>
          <a:stretch/>
        </p:blipFill>
        <p:spPr>
          <a:xfrm>
            <a:off x="685800" y="1371600"/>
            <a:ext cx="2209680" cy="1427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5"/>
          <p:cNvPicPr/>
          <p:nvPr/>
        </p:nvPicPr>
        <p:blipFill>
          <a:blip r:embed="rId2"/>
          <a:stretch/>
        </p:blipFill>
        <p:spPr>
          <a:xfrm>
            <a:off x="685800" y="2819520"/>
            <a:ext cx="2209680" cy="1546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images6"/>
          <p:cNvPicPr/>
          <p:nvPr/>
        </p:nvPicPr>
        <p:blipFill>
          <a:blip r:embed="rId3"/>
          <a:stretch/>
        </p:blipFill>
        <p:spPr>
          <a:xfrm>
            <a:off x="685800" y="4419720"/>
            <a:ext cx="2209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Сплавы желез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45" name="Organization Chart 7"/>
          <p:cNvGrpSpPr/>
          <p:nvPr/>
        </p:nvGrpSpPr>
        <p:grpSpPr>
          <a:xfrm>
            <a:off x="1676520" y="1676520"/>
            <a:ext cx="5866560" cy="4038480"/>
            <a:chOff x="1676520" y="1676520"/>
            <a:chExt cx="5866560" cy="4038480"/>
          </a:xfrm>
        </p:grpSpPr>
        <p:cxnSp>
          <p:nvCxnSpPr>
            <p:cNvPr id="346" name="_s1028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4995360" y="2905200"/>
              <a:ext cx="808200" cy="157968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1029"/>
            <p:cNvCxnSpPr>
              <a:stCxn id="350" idx="0"/>
              <a:endCxn id="348" idx="2"/>
            </p:cNvCxnSpPr>
            <p:nvPr/>
          </p:nvCxnSpPr>
          <p:spPr>
            <a:xfrm flipH="1" flipV="1" rot="5400000">
              <a:off x="3416040" y="2905200"/>
              <a:ext cx="808200" cy="158040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1030"/>
            <p:cNvSpPr/>
            <p:nvPr/>
          </p:nvSpPr>
          <p:spPr>
            <a:xfrm>
              <a:off x="3256200" y="167652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Чугу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31"/>
            <p:cNvSpPr/>
            <p:nvPr/>
          </p:nvSpPr>
          <p:spPr>
            <a:xfrm>
              <a:off x="1676520" y="409968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ер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Шестерни, колёс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рубы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2"/>
            <p:cNvSpPr/>
            <p:nvPr/>
          </p:nvSpPr>
          <p:spPr>
            <a:xfrm>
              <a:off x="4835520" y="409968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ел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Переработка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в сталь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5" descr="imagesапы"/>
          <p:cNvPicPr/>
          <p:nvPr/>
        </p:nvPicPr>
        <p:blipFill>
          <a:blip r:embed="rId1"/>
          <a:stretch/>
        </p:blipFill>
        <p:spPr>
          <a:xfrm>
            <a:off x="304920" y="2209680"/>
            <a:ext cx="243828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5-02-06T18:12:0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