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67C1-C988-465E-8A33-5EC66A29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2E2E-E04F-468D-BD1B-3CF5E6EC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0D485-D298-4E12-9278-D87BC96F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2CA8-D02F-43D0-8F2A-4F04E2FF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E928-7036-4F95-99C4-ACFE0A89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D7BC-6006-4BED-8099-32197752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B20E-4705-42BB-B1A4-E1FDDFC8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080B-59C5-4D76-8051-03085D93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2FEA-12EC-4216-8FDD-D2E33CE5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63D1-7E21-42D6-8DA7-90F0DECA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D92F-A0E7-42A6-91CF-3F4D9981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08D6-F2EB-4F07-B9A6-92F6C3B5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C3F0-3725-40B0-A399-3D15EC02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D955-238B-4BE8-A4EE-558E09AB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A886-E22B-43F4-8AE9-C589DE2A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F37B-9FBB-4E1E-824E-210ADCE5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F121-D49F-4DF3-9B7E-E3A6E77A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2EBA-D7F6-417B-9C08-7E30AC4C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698C-C765-43AA-81CB-BDF94B61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834F7-9B07-445A-99C4-019AD6B0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2F07-C07B-4D69-BEDD-D5FE6B3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3BA1-A339-4905-80AE-EB48DA2B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1ED4-3607-4FB5-98BA-8CC797E1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9CF5-74F2-4A2B-9FCB-BE88F782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AF6-EA0E-4864-A98A-939C3E1516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B362-3A47-4195-8426-E2F4D5FCBF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Экскурсия по </a:t>
            </a:r>
            <a:br>
              <a:rPr sz="7200"/>
            </a:b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Афинскому Акрополю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своему плану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рфенон это дорический периптер – 8х17 колонн высотой 10.5 м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Храм гармоничен, благодаря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ъединению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нём свойств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вух ордеров – дорического и ионическ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ружные колонны были дорического ордера, стен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обственно храмоцеллы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енчал непрерывный ионический фр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4826160" cy="322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484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663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здание разделено на две равные части. В заподном крыле хранилась казна Афинского морского союза, а в восточной части на высоком постаменте стаяла знаменита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Афины Парфено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фина Парфенос последня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работы Фиди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Работал он над ней 10 л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сота статуи 12 метров. Она имела деревянную основу, покрытую золотом и слоновой кость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олове Афины был шлем с изображением сфинкса и крылатых коней, на груди – эгида с маской Медузы Гаргоны. В правой руке держала двухметровую богиню Нику, а левой - щит. На щите с наружной стороны была изображена битва греков с амазонками. У ног Афины сова – символ мудрости, а слева змей, олицетворяющий Эрехфея – древнейшее божество Аттики. Величественно ниспадающие складки её одежды напоминали желобки стройных колонн - каннелю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5 в. н.э. статую Афины увёз в Константинополь один византийский император, и там спустя 100 лет она погибла при пожа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62728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наружи Парфенон украшали сцены жестоких сражений (из мифологических сюжет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льефный фриз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арфенона огибал всё здание. На мраморной ленте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линной 160 метров и высотой 1 метр изображалось торжественное шествие жителей Афин в день Великих Панафин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гармоничности, сплавленности форм и красоте ритма он не имел равных в мировом искусств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рехтей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рехтейон – небольшой ионический храм, созданный в 421-405 г. до н.э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рам посвящён богине Афине и мифическому царю Эрехтею и названый в его че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 легенде именно здесь состоялся спор между Афиной и Посейдоном за право владеть Аттик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мпозиция храма очень сложна.  Он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роен на неровной площадке скалистого склона, имеет три совершенно различных по размеру и форме портик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2340000" y="3629160"/>
            <a:ext cx="49687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24000" y="333360"/>
            <a:ext cx="8208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акой бы стороны мы не подходили к этому храму, отовсюду он встречает нас новой, неожиданной композицией фасада, ассиметрией угл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дном из портиков роль колонн выполняют коры – фигуры девуше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туи кариатид органично сочетаются с архитектурой. Они выполняют конструктивную роль, заменяя колонны, и вместе с тем замечательно смотрятся на фоне мраморной стены хра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1847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финский Акрополь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V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в. до н.э.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рополь – верхний гор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финский Акрополь стоял на высок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сной скале, возвышающейся на 150 м. н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ровнем моря. Он является композицио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тром города, раскинувшегося у 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нож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го создателями были зодчие, работавшие  п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уководством скульптора Фидия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Фидий посвяти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крополю 16 лет своей жизни. Здесь в полной мер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ернулись его творческие и организатор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ности, а талант скульптора достиг зре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ерик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цвет главного центра афинской культуры – Акрополя связан с Периклом, который правил в это время в Афин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был высокообразованный человек, общепризнанный вождь афинской демократ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икл объединил вокруг себя лучшие умы Эллады: его друзьями были философ Анаксагор, художник Поликлет и скульптор Фид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151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аздник Великих Панафин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позиционный замысел ансамбля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рополя связан с Панафинейскими торжествами и шествием на Акрополь афиня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последний день Великих Панафиней, праздновавшихся один раз в 4 года, торжественная процессия из граждан города подносила Афине священное покрывало (пеплос), сотканное руками афинских девушек. Этот дар был знаком воскресения богини Аф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аздник сопровождался конными и гимнастическими соревнованиями, состязаниями певцов и музык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39640" y="26028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нструкция Акропо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7">
            <a:hlinkClick r:id="rId2" action="ppaction://hlinksldjump"/>
          </p:cNvPr>
          <p:cNvSpPr/>
          <p:nvPr/>
        </p:nvSpPr>
        <p:spPr>
          <a:xfrm>
            <a:off x="8532720" y="6381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пиле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пилеи – это торжественный, парадный вх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строил его архитектор Мнесикл в 437-432 г до н.э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ставляют собой два дорических портика, один из которых обращён к городу, а другой- к вершине Акропол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лева к пропилеям примыкал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инакотека – картинная галерея, в которой помещались картины, мемориальные мраморные плиты и посвящения к бога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4356000" cy="292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59280" y="3681360"/>
            <a:ext cx="4033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Храм Ники Апте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права от Пропилей находил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крошечный, изящный, лёгкий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рам Ники Аптерос (бескрылой) – богини Побе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н сооружён Калликратом в 427-424 г до н.э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25480" y="2708280"/>
            <a:ext cx="2955960" cy="3960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508720" y="2852640"/>
            <a:ext cx="287964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и храма находилась бескрылая статуя богини. Известна легенда, согласно которой эта богиня принесла победу грекам над персами, а потом жителям города не хотелось с ней расставаться. Изобразив её бескрылой, они посчитали, что богиня уже никогда не сможет покинуть их горо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атуя Афины Промахос (воительницы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йдя Пропилеи, попадаем на вершину выровняной скалы, превращённой в площад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центре площади возвышалась огромная 17-метровая бронзовая статуя Афины Промахос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окровительствующей Афинам и греческому народу. Суровая и грозная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огиня правой рукой опирается на копьё, а левой держала щит. Эта статуя была хорошо видна со всех сторон города, и даже с мор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ыне площадь пуста, т.к. статую уничтожили в 13 в. суеверные рыцари-крестоносц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арфен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основе композиции Акрополя лежит принцип ассиметрии, принцип свободной панорамы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оэтому статую Афины поместили левее главной оси Припилей, а справа сместили знаменитый Парфено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5111640" cy="3543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543640" y="3068640"/>
            <a:ext cx="34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ам Парфенон посвящён Афине Парфенос (деве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архитекторами Иктином и Калликрат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из золотисто-розового пентеллийского мрамор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6:49:18Z</dcterms:created>
  <dc:creator>Пользователь</dc:creator>
  <dc:description/>
  <dc:language>en-US</dc:language>
  <cp:lastModifiedBy>1</cp:lastModifiedBy>
  <dcterms:modified xsi:type="dcterms:W3CDTF">2014-02-10T14:47:15Z</dcterms:modified>
  <cp:revision>8</cp:revision>
  <dc:subject/>
  <dc:title>Экскурсия по  Афинскому Акрополю</dc:title>
</cp:coreProperties>
</file>