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5F01-E4D5-4D06-8DCC-13B9404A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265E-AE03-4E75-B97F-D960D023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B7B6-CBC3-42D6-9746-3982E067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6C01-E1CD-4812-BE8C-9035C301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2227-E641-4938-BA2B-970AAB8E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F25A-E323-44D6-8030-3EED0B09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8B06-50EA-4B91-A0BD-09FF896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F3D4-45B7-4AB2-8386-EC5B6BE6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1DCF-574D-496E-A055-2988718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DBC8-4CA1-49AF-AB41-4688CF3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CBE9-DB42-438F-9E9F-9AE8E83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F312F-550E-44B7-B811-A159E34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3B15-394F-4C8E-B80B-77DC1FE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071D-C965-4163-B033-76D96F99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AB29-D818-4410-A9EE-2CD09207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922-8871-4579-9DDA-E057E57D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CBF-7131-4EB4-A5E1-1E195E5C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E21D-8964-488D-8EA4-98F67837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22C7-7C65-49A4-974F-46E9FECF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9E68-E786-4C73-8974-D24E2BC0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C9AE-800F-4E7A-894A-76B5F0CD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702D-CB15-49F4-B45E-7159AF0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63A9-BF04-43BE-81D5-B481856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54F2-CA32-4DC6-A8F2-BE874545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8F57-D6EE-4E23-B2C4-A5D59A32EF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E71-90B7-4DB5-9ED5-CB0280CC1D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Экскурсия по </a:t>
            </a:r>
            <a:br>
              <a:rPr sz="7200"/>
            </a:b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финскому Акрополю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своему плану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рфенон это дорический периптер – 8х17 колонн высотой 10.5 м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Храм гармоничен, благодар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единению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нём свойст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вух ордеров – дорического и иониче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жные колонны были дорического ордера, сте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обственно храмоцеллы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нчал непрерывный ионический фр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4826160" cy="322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484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63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здание разделено на две равные части. В заподном крыле хранилась казна Афинского морского союза, а в восточной части на высоком постаменте стаяла знаменита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Афины Парфено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фина Парфенос последня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работы Фиди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Работал он над ней 10 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сота статуи 12 метров. Она имела деревянную основу, покрытую золотом и слоновой кост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олове Афины был шлем с изображением сфинкса и крылатых коней, на груди – эгида с маской Медузы Гаргоны. В правой руке держала двухметровую богиню Нику, а левой - щит. На щите с наружной стороны была изображена битва греков с амазонками. У ног Афины сова – символ мудрости, а слева змей, олицетворяющий Эрехфея – древнейшее божество Аттики. Величественно ниспадающие складки её одежды напоминали желобки стройных колонн - каннелю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5 в. н.э. статую Афины увёз в Константинополь один византийский император, и там спустя 100 лет она погибла при пожа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62728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наружи Парфенон украшали сцены жестоких сражений (из мифологических сюжет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льефный фриз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рфенона огибал всё здание. На мраморной ленте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инной 160 метров и высотой 1 метр изображалось торжественное шествие жителей Афин в день Великих Панафи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гармоничности, сплавленности форм и красоте ритма он не имел равных в мировом искусств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рехтей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рехтейон – небольшой ионический храм, созданный в 421-405 г. до н.э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ам посвящён богине Афине и мифическому царю Эрехтею и названый в его че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 легенде именно здесь состоялся спор между Афиной и Посейдоном за право владеть Аттик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озиция храма очень сложна.  Он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роен на неровной площадке скалистого склона, имеет три совершенно различных по размеру и форме порт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340000" y="362916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24000" y="333360"/>
            <a:ext cx="8208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акой бы стороны мы не подходили к этому храму, отовсюду он встречает нас новой, неожиданной композицией фасада, ассиметрией угл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дном из портиков роль колонн выполняют коры – фигуры девуш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туи кариатид органично сочетаются с архитектурой. Они выполняют конструктивную роль, заменяя колонны, и вместе с тем замечательно смотрятся на фоне мраморной стены хра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1847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инский Акрополь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в. до н.э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ь – верхний го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финский Акрополь стоял на высо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сной скале, возвышающейся на 150 м. н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ровнем моря. Он является композицио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тром города, раскинувшегося у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нож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го создателями были зодчие, работавшие  п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уководством скульптора Фид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Фидий посвяти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крополю 16 лет своей жизни. Здесь в полной ме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ернулись его творческие и организатор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ности, а талант скульптора достиг зре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ик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цвет главного центра афинской культуры – Акрополя связан с Периклом, который правил в это время в Афи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был высокообразованный человек, общепризнанный вождь афинской демократ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икл объединил вокруг себя лучшие умы Эллады: его друзьями были философ Анаксагор, художник Поликлет и скульптор Фид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151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аздник Великих Панафин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озиционный замысел ансамбля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крополя связан с Панафинейскими торжествами и шествием на Акрополь афиня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последний день Великих Панафиней, праздновавшихся один раз в 4 года, торжественная процессия из граждан города подносила Афине священное покрывало (пеплос), сотканное руками афинских девушек. Этот дар был знаком воскресения богини 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аздник сопровождался конными и гимнастическими соревнованиями, состязаниями певцов и музык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39640" y="260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нструкция Акропо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8532720" y="6381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пиле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пилеи – это торжественный, парадный вх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троил его архитектор Мнесикл в 437-432 г до н.э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ставляют собой два дорических портика, один из которых обращён к городу, а другой- к вершине Акропол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ева к пропилеям примыкал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инакотека – картинная галерея, в которой помещались картины, мемориальные мраморные плиты и посвящения к бога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356000" cy="292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59280" y="3681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рам Ники Апте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права от Пропилей находил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рошечный, изящный, лёгкий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рам Ники Аптерос (бескрылой) – богини Поб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н сооружён Калликратом в 427-424 г до н.э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25480" y="2708280"/>
            <a:ext cx="2955960" cy="3960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508720" y="2852640"/>
            <a:ext cx="28796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и храма находилась бескрылая статуя богини. Известна легенда, согласно которой эта богиня принесла победу грекам над персами, а потом жителям города не хотелось с ней расставаться. Изобразив её бескрылой, они посчитали, что богиня уже никогда не сможет покинуть их гор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атуя Афины Промахос (воительницы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йдя Пропилеи, попадаем на вершину выровняной скалы, превращённой в площад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центре площади возвышалась огромная 17-метровая бронзовая статуя Афины Промахос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окровительствующей Афинам и греческому народу. Суровая и грозная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огиня правой рукой опирается на копьё, а левой держала щит. Эта статуя была хорошо видна со всех сторон города, и даже с мо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ыне площадь пуста, т.к. статую уничтожили в 13 в. суеверные рыцари-крестоносц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рфен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основе композиции Акрополя лежит принцип ассиметрии, принцип свободной панорам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этому статую Афины поместили левее главной оси Припилей, а справа сместили знаменитый Парфен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5111640" cy="3543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543640" y="3068640"/>
            <a:ext cx="34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Парфенон посвящён Афине Парфенос (деве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архитекторами Иктином и Калликр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из золотисто-розового пентеллийского мрамор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6:49:18Z</dcterms:created>
  <dc:creator>Пользователь</dc:creator>
  <dc:description/>
  <dc:language>en-US</dc:language>
  <cp:lastModifiedBy>1</cp:lastModifiedBy>
  <dcterms:modified xsi:type="dcterms:W3CDTF">2014-02-10T14:47:15Z</dcterms:modified>
  <cp:revision>8</cp:revision>
  <dc:subject/>
  <dc:title>Экскурсия по  Афинскому Акрополю</dc:title>
</cp:coreProperties>
</file>