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home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0-01-27T17:28:14.046000000" idx="1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7DE-53F6-4045-98CC-0679BAE2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45E-8CAB-4E81-9795-EE3E8BAC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DF8-11FC-4E3D-992C-C570B12F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4B5-F459-44B5-AFB1-EEED0D90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3494-FEE1-44FE-B8C9-021A9E2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B3EE-3F26-45AF-AEF3-EDEE959D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F96B-B0A8-492E-BDC7-F34C61B9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682D-0F94-438F-98A2-E06924B2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F1BC-AB96-4096-A0C4-1D23D8A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0F8B-69F2-4766-B558-96AE0DA0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DB0D-B79D-4A6F-B00F-56F9FB4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F5A-4EAD-43A7-AC35-62949DA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E0EE-756D-4E3E-A63D-F14C81B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E1B2-7CF4-4F38-8E13-5853120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8F58-247F-4BF9-942F-EE38C081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C1E-B92E-4F79-B362-96B516F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FF69-7DE9-4425-9C46-AC88C7E0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863F-B93B-464E-B2F6-691B31D4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EAD1-7D6C-4B5B-B256-484BD696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CE02-8318-41CE-ADE3-CEB443E6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D924-116E-4CA7-8818-50E60CB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142D-7789-4447-992E-60ABD5F6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A79-3402-41D1-B4E7-D5ED7C56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998B-3979-42C5-AAA5-F3CE210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EAC9-7775-438E-92AA-517BE67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7EB4-0FB9-486E-9B62-ECE1C35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5D38-01D9-4F86-9036-2225A7E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CFA1-2B0A-4F4F-95E0-5B8FAD1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7E58-B44E-4CFF-BF67-A358BC52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031D-5346-4A89-86FB-A2144BD6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81AE-7C2E-412C-A487-54E78D77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6F0C-D58F-4DC8-AEB3-43EF7BC6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F0111-9F62-425F-AC85-73CCA47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CB0-B060-4A13-8FFB-B6DAABE2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958F-4CD4-49C8-BE6D-F5B5329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9582-699C-417D-B9CE-0CDCE74C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35A8-68F2-4DF1-A24E-86AFB75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75983-B323-408E-BE9A-D5BED16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FADF-83E1-41D2-8750-91831062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2F27-6935-4A70-968E-5BDF118E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988D-74F1-42B4-B579-48A6193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3A32-F383-4749-A206-B5A97FE6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497C-A229-4978-A710-0412B949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F03-BF0A-42E6-B8AF-97E0E9A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47E-C2FC-43DD-B15C-D177D0E2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ED1-FD1F-4388-9850-73E06668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A89-9CE4-42AB-B878-7BBE5E22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EF6-6DF8-493A-8F4E-6A83364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83E4-D6D7-4165-BE2A-96F72ABC6EBF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AA0-8C18-4697-BA8E-649E05CA0831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206-94A1-4CAB-BE16-8DC963A9B9EE}" type="slidenum">
              <a:rPr b="0" lang="ru-RU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FB36-EB20-4209-988D-4F6D28D472B3}" type="slidenum">
              <a:rPr b="0" lang="ru-RU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1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0" y="46116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Constantia"/>
              </a:rPr>
              <a:t>Земля Вилкеса (Антарктика) - здесь находится самый толстый слой льда в мире (4,8 км толщин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Пустыня Атакама (Чили) – самое сухое место на Земле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857160" y="500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Rafflesia arnoldii (Индонезия) - самый большой цветок-паразит в мире (1 метр в диаметре, масса до 11 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357120" y="428760"/>
            <a:ext cx="6858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Самый глубокий каньон - каньон Колка в П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Этот каньон </a:t>
            </a:r>
            <a:r>
              <a:rPr b="1" lang="ru-RU" sz="2400" spc="-1" strike="noStrike">
                <a:solidFill>
                  <a:srgbClr val="ffc000"/>
                </a:solidFill>
                <a:latin typeface="Constantia"/>
              </a:rPr>
              <a:t>в 2 раза глубже Великого каньона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 в США и в отличие от того пригоден для жизни и земледелия. Каньон имеет несколько названий - Потерянная долина инков, Долина чудес, Долина огня и Территория Орл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-1752480" y="0"/>
            <a:ext cx="1264896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7"/>
          <p:cNvSpPr/>
          <p:nvPr/>
        </p:nvSpPr>
        <p:spPr>
          <a:xfrm>
            <a:off x="0" y="0"/>
            <a:ext cx="8215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Millau Viaduct - самый высокий мост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557f"/>
                </a:solidFill>
                <a:latin typeface="Arial"/>
                <a:ea typeface="Arial"/>
              </a:rPr>
              <a:t>Этот подвесной мост находится на юге Франции и сконструирован инженером Мишелем Вирлого совместно с английским архитектором Норманом Фостером. Это самый высокий мост в мире - максимальная высота опор моста составляет 343 метра , что выше Эйфелевой башни и всего на 38 метров меньше Эмпайр Стейт Билдинга. На строительство моста ушло всего три года - мост был открыт 12 декабря 200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1143000" y="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ёртвое море (Израиль, Иордания) - самое низкое море в мире (747 метров ниже уровня мор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0" y="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nstantia"/>
              </a:rPr>
              <a:t>Сеул (Корея) - самый густонаселённый город на Земле (20,7 млн 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Тихий океан – самый большой океан на Земле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Mount Thor (Канада) - самый большой обрыв в мире (1250 метров практически вертикальной ск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5715000" y="2025720"/>
            <a:ext cx="3429000" cy="5915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e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Скала Бишоп (Сицилия)</a:t>
            </a: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 самый маленький остров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кала Бишоп, расположенная на западе от Британии, согласно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ниге рекордов Гинне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является самым маленьким островом в мире. Единственным сооружением на этом острове является маяк, который первоначально начали строить в 1847 году, но его смыло прежде, чем было закончено строительство. Нынешний маяк построили в 185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0" y="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расное море - самое тёплое и самое солёное море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2"/>
          <p:cNvSpPr/>
          <p:nvPr/>
        </p:nvSpPr>
        <p:spPr>
          <a:xfrm>
            <a:off x="407196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ронья пещера (Грузия) - самая глубокая пещера в мире (2140 метров в глуб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4643280" y="1785960"/>
            <a:ext cx="4286520" cy="146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Индонезия - самый большой архипелаг на Земле (состоит из 5 больших и 30 групп островов, общее количество островов - 17'5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428760" y="214200"/>
            <a:ext cx="4572000" cy="137376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ик Мера (Непал) самый высокий обрыв в мире (6604 мет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2"/>
          <p:cNvSpPr/>
          <p:nvPr/>
        </p:nvSpPr>
        <p:spPr>
          <a:xfrm>
            <a:off x="1714680" y="0"/>
            <a:ext cx="664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зеро Титикака (граница Перу и Боливии, Южная Америка) - самое высокогорное судоходное озеро в мире (высота над уровнем моря 3821 метр, максимальная глубина 280 мет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4572000" y="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рианская впадина - самое глубокое место на Земле (10'915 метров ниже уровня мор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6929280" y="2357280"/>
            <a:ext cx="221472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38120" y="19080"/>
            <a:ext cx="8486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"/>
          <p:cNvSpPr/>
          <p:nvPr/>
        </p:nvSpPr>
        <p:spPr>
          <a:xfrm>
            <a:off x="571680" y="1357200"/>
            <a:ext cx="694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Большой Барь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Риф (Австра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642960" y="2286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Большой барьерный риф в Австралии является самым большим природным сооружением на Земле и простирается на </a:t>
            </a: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2300 километров</a:t>
            </a:r>
            <a:r>
              <a:rPr b="0" lang="ru-RU" sz="2000" spc="-1" strike="noStrike">
                <a:solidFill>
                  <a:srgbClr val="ffff00"/>
                </a:solidFill>
                <a:latin typeface="Constantia"/>
              </a:rPr>
              <a:t> вдоль северо-восточного побережья Австралии. Здесь водится более 1500 видов рыб, 4000 видов моллюсков, свыше 200 видов птиц. Большой барьерный риф состоит из более чем 3 тысяч рифов. Площадь которых колеблется от 1 га до 10000 га. Общая площадь рифа составляет 300 тыс. кв.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3"/>
          <p:cNvSpPr/>
          <p:nvPr/>
        </p:nvSpPr>
        <p:spPr>
          <a:xfrm>
            <a:off x="2071800" y="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nstantia"/>
              </a:rPr>
              <a:t>Самое большое естественное сооружение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2"/>
          <p:cNvSpPr/>
          <p:nvPr/>
        </p:nvSpPr>
        <p:spPr>
          <a:xfrm>
            <a:off x="2500200" y="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Станция "Восток" (Антарктика) - самое холодное место 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2"/>
          <p:cNvSpPr/>
          <p:nvPr/>
        </p:nvSpPr>
        <p:spPr>
          <a:xfrm>
            <a:off x="0" y="3995640"/>
            <a:ext cx="5643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амое снежное место на Земле - гора Бейкер, штат Вашинг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ьшее количество снега было зафиксировано на горе Бейкер зимой 1998 - 1999 года - тогда на горе выпало 29 метров снега, что перекрыло предыдущий рекорд горы Ренье в том же штате, где зимой 1971-1972 года было зафиксировано выпад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,5 метров сн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2"/>
          <p:cNvSpPr/>
          <p:nvPr/>
        </p:nvSpPr>
        <p:spPr>
          <a:xfrm>
            <a:off x="228600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Черрапунджи (Индия) - самое влажное место 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2"/>
          <p:cNvSpPr/>
          <p:nvPr/>
        </p:nvSpPr>
        <p:spPr>
          <a:xfrm>
            <a:off x="0" y="5500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onstantia"/>
              </a:rPr>
              <a:t>Река Ро (Монтана, США) - самая короткая река в мире (61 ме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0" y="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Mill Ends Park (Портленд, Орегон, США) - самый маленький парк в мире (появился в 1948 году, состоит из круга диаметром 61 сантиметр, площадь 0,29 кв. 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2"/>
          <p:cNvSpPr/>
          <p:nvPr/>
        </p:nvSpPr>
        <p:spPr>
          <a:xfrm>
            <a:off x="0" y="50418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Coco de mer (Lodoicea maldivica) - самая большая семечка в мире (Сейшельские остр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2"/>
          <p:cNvSpPr/>
          <p:nvPr/>
        </p:nvSpPr>
        <p:spPr>
          <a:xfrm>
            <a:off x="2428920" y="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Кратер Вредефорт (Южная Африка) - самый большой кратер на Земле (радиус 190 к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8308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8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1071720" y="11430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Фйорд Скорсбисанд (Гренландия) - самый длинный и глубокий фйорд в мире (протяжённость 350 км, 1500 метров в глубин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4"/>
          <p:cNvSpPr/>
          <p:nvPr/>
        </p:nvSpPr>
        <p:spPr>
          <a:xfrm>
            <a:off x="285840" y="50418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зеро Байкал (Россия) - самое глубокое озеро в мире (1637 метров в самой глубокой точ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6e5a"/>
                </a:solidFill>
                <a:latin typeface="Calibri"/>
              </a:rPr>
              <a:t>Эверест (Непал) – самая высокая точка мира </a:t>
            </a:r>
            <a:br>
              <a:rPr sz="4000"/>
            </a:br>
            <a:r>
              <a:rPr b="0" lang="ru-RU" sz="4000" spc="-1" strike="noStrike">
                <a:solidFill>
                  <a:srgbClr val="eb6e5a"/>
                </a:solidFill>
                <a:latin typeface="Calibri"/>
              </a:rPr>
              <a:t>(8844 м над уровнем моря)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0" y="50418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Водопад Angel (Венесуэела) - самый высокий водопад на Земле (979 мет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07:15:29Z</dcterms:created>
  <dc:creator>home</dc:creator>
  <dc:description/>
  <dc:language>en-US</dc:language>
  <cp:lastModifiedBy>Алексей Пастухов</cp:lastModifiedBy>
  <dcterms:modified xsi:type="dcterms:W3CDTF">2015-02-06T14:04:30Z</dcterms:modified>
  <cp:revision>8</cp:revision>
  <dc:subject/>
  <dc:title>САМЫЕ-САМЫЕ МЕСТА НА ЗЕМЛЕ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777725</vt:lpwstr>
  </property>
  <property fmtid="{D5CDD505-2E9C-101B-9397-08002B2CF9AE}" pid="3" name="NXPowerLiteVersion">
    <vt:lpwstr>D3.6.2</vt:lpwstr>
  </property>
</Properties>
</file>