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9.png" ContentType="image/png"/>
  <Override PartName="/ppt/media/image1.jpeg" ContentType="image/jpeg"/>
  <Override PartName="/ppt/media/image35.jpeg" ContentType="image/jpe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37.jpeg" ContentType="image/jpeg"/>
  <Override PartName="/ppt/media/image13.png" ContentType="image/png"/>
  <Override PartName="/ppt/media/image4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3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12.jpeg" ContentType="image/jpeg"/>
  <Override PartName="/ppt/media/image4.png" ContentType="image/png"/>
  <Override PartName="/ppt/media/image11.png" ContentType="image/png"/>
  <Override PartName="/ppt/media/image19.jpeg" ContentType="image/jpeg"/>
  <Override PartName="/ppt/media/image42.jpeg" ContentType="image/jpeg"/>
  <Override PartName="/ppt/media/image6.png" ContentType="image/png"/>
  <Override PartName="/ppt/media/image10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home" initials="h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presProps" Target="presProps.xml"/><Relationship Id="rId4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0-01-27T17:28:14.046000000" idx="1">
    <p:pos x="5760" y="0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41FD-7DFF-439B-9463-785A3CC94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B84F-6BD2-49DE-81F9-C546564DC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14D6-67E4-412A-ACDC-574C391F8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3E72-BB8D-4F9A-933A-778F93718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D804E-DA9B-4C79-B3A4-B543414D6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FD7F2-79F0-4C17-B79C-6798548B3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2615B-668C-4632-A5CB-B101D1E67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6D99E-B647-400E-A34B-0FC113405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88A36-5C74-470E-88EA-696A90EB7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B7BA0-3AA7-4607-8160-C80BEF554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0B339-CC76-4430-B240-7D5A0866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5312-8E76-4709-8A99-56CB61BCA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043FE-C2EE-4025-835D-217419299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CC9E1-C8D9-4B55-B5D3-758DC77A3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AEFD6-F661-4484-91E4-9EDF615EC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390A9-1BBC-464B-83D5-CE8E6E0D4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7B9A1-282B-4527-97EE-89B2125CF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6A5FF-0C79-4E25-81FD-B3C218FF2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7F8BA-BD66-429E-A08E-A49E37F84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93CCF-B598-4746-9F45-FE4A53BC3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79351-336B-4EAE-A113-DC800A9ED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E96BA-2C63-4F9D-A1E6-4ACD8DE4C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52BB-918F-41D2-A6AA-E67BBDA2C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B7723-A718-4FED-B183-4D8F933F6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5B5CA-6223-4558-9E35-AA9B17424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D9C4A-C230-4C1F-B258-AA79C8E3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2564A-5C7D-45B0-A4CB-A649F96C7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57198-ACC5-4D90-AB6F-418506AD1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66B19-18FA-4E5E-8939-3266DB562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0F3A5-3D86-4966-9E41-ED67ECB05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7C775-A25D-43D4-A729-191941A8B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AF9C0-2A35-4ACC-931D-105278A51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F3DD9-79A5-4BDB-80A7-530D7583E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DA1B-CBAA-4E29-AA7E-7B495C244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F4951-FE71-48A1-86C3-0E5EAF220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09C0C-489B-42C7-ABA5-82A98689F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12F96-1732-447C-9AF1-13362669B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DF4E6-4316-464F-AFFE-26183D664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5CCB4-BAB8-4175-8F9A-8E03A163D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A3AF6-B989-4741-A9A1-5A8161E91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326E2-1B1F-44CB-9677-2423A7328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81B78-A393-48B7-8F9E-C65428DCE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219F6-253A-43A5-BE18-F97036BF4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ED56-94BD-477F-BDEB-7CC6326DA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F43A-DF9F-47FF-A96E-3FB25D629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7D4B-BA87-4449-B591-4465668DC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7C5F-67FF-4F26-8224-A66F8045B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E765-D3CD-40AD-A10E-2E3538078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4d6ca7">
                  <a:alpha val="45098"/>
                </a:srgbClr>
              </a:gs>
              <a:gs pos="100000">
                <a:srgbClr val="c90b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41100">
                  <a:alpha val="45098"/>
                </a:srgbClr>
              </a:gs>
              <a:gs pos="100000">
                <a:srgbClr val="5480d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75f6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7598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b32c1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5cd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35a6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35a68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35a6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17909-E80C-4A6D-AE1C-255366CDB5A7}" type="slidenum">
              <a:rPr b="0" lang="ru-RU" sz="1200" spc="-1" strike="noStrike">
                <a:solidFill>
                  <a:srgbClr val="535a68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4d6ca7">
                  <a:alpha val="45098"/>
                </a:srgbClr>
              </a:gs>
              <a:gs pos="100000">
                <a:srgbClr val="c90b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41100">
                  <a:alpha val="45098"/>
                </a:srgbClr>
              </a:gs>
              <a:gs pos="100000">
                <a:srgbClr val="5480d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39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7598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b32c1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5cd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3e896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3e896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3e896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7C077-C3BE-447E-B150-E09BF46867DB}" type="slidenum">
              <a:rPr b="0" lang="ru-RU" sz="1200" spc="-1" strike="noStrike">
                <a:solidFill>
                  <a:srgbClr val="f3e896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4d6ca7">
                  <a:alpha val="45098"/>
                </a:srgbClr>
              </a:gs>
              <a:gs pos="100000">
                <a:srgbClr val="c90b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41100">
                  <a:alpha val="45098"/>
                </a:srgbClr>
              </a:gs>
              <a:gs pos="100000">
                <a:srgbClr val="5480d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39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7598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b32c1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5cd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3e896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3e896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3e896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5CD5C-0AFD-4298-8E17-CF76D197181C}" type="slidenum">
              <a:rPr b="0" lang="ru-RU" sz="1200" spc="-1" strike="noStrike">
                <a:solidFill>
                  <a:srgbClr val="f3e896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4d6ca7">
                  <a:alpha val="45098"/>
                </a:srgbClr>
              </a:gs>
              <a:gs pos="100000">
                <a:srgbClr val="c90b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41100">
                  <a:alpha val="45098"/>
                </a:srgbClr>
              </a:gs>
              <a:gs pos="100000">
                <a:srgbClr val="5480d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4d6ca7">
                  <a:alpha val="45098"/>
                </a:srgbClr>
              </a:gs>
              <a:gs pos="100000">
                <a:srgbClr val="c90b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41100">
                  <a:alpha val="45098"/>
                </a:srgbClr>
              </a:gs>
              <a:gs pos="100000">
                <a:srgbClr val="5480d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75f6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7598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b32c1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5cd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35a6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35a68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35a6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62A18-670F-4E16-840D-90877A610232}" type="slidenum">
              <a:rPr b="0" lang="ru-RU" sz="1200" spc="-1" strike="noStrike">
                <a:solidFill>
                  <a:srgbClr val="535a68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comments" Target="../comments/commen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5" name="Заголовок 1" descr=""/>
          <p:cNvPicPr/>
          <p:nvPr/>
        </p:nvPicPr>
        <p:blipFill>
          <a:blip r:embed="rId2"/>
          <a:stretch/>
        </p:blipFill>
        <p:spPr>
          <a:xfrm>
            <a:off x="536400" y="1371600"/>
            <a:ext cx="7851960" cy="18288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575f6d"/>
              </a:solidFill>
              <a:latin typeface="Calibri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8" name="Прямоугольник 4"/>
          <p:cNvSpPr/>
          <p:nvPr/>
        </p:nvSpPr>
        <p:spPr>
          <a:xfrm>
            <a:off x="0" y="4611600"/>
            <a:ext cx="4572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a3d01"/>
                </a:solidFill>
                <a:latin typeface="Constantia"/>
              </a:rPr>
              <a:t>Земля Вилкеса (Антарктика) - здесь находится самый толстый слой льда в мире (4,8 км толщино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ffff"/>
                </a:solidFill>
                <a:latin typeface="Calibri"/>
              </a:rPr>
              <a:t>Пустыня Атакама (Чили) – самое сухое место на Земле</a:t>
            </a:r>
            <a:endParaRPr b="0" lang="en-US" sz="4500" spc="-1" strike="noStrike">
              <a:solidFill>
                <a:srgbClr val="575f6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Прямоугольник 2"/>
          <p:cNvSpPr/>
          <p:nvPr/>
        </p:nvSpPr>
        <p:spPr>
          <a:xfrm>
            <a:off x="857160" y="50004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Rafflesia arnoldii (Индонезия) - самый большой цветок-паразит в мире (1 метр в диаметре, масса до 11 к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Прямоугольник 4"/>
          <p:cNvSpPr/>
          <p:nvPr/>
        </p:nvSpPr>
        <p:spPr>
          <a:xfrm>
            <a:off x="357120" y="428760"/>
            <a:ext cx="68580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Самый глубокий каньон - каньон Колка в Пе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Constantia"/>
              </a:rPr>
              <a:t>Этот каньон </a:t>
            </a:r>
            <a:r>
              <a:rPr b="1" lang="ru-RU" sz="2400" spc="-1" strike="noStrike">
                <a:solidFill>
                  <a:srgbClr val="ffc000"/>
                </a:solidFill>
                <a:latin typeface="Constantia"/>
              </a:rPr>
              <a:t>в 2 раза глубже Великого каньона</a:t>
            </a:r>
            <a:r>
              <a:rPr b="0" lang="ru-RU" sz="2400" spc="-1" strike="noStrike">
                <a:solidFill>
                  <a:srgbClr val="ffc000"/>
                </a:solidFill>
                <a:latin typeface="Constantia"/>
              </a:rPr>
              <a:t> в США и в отличие от того пригоден для жизни и земледелия. Каньон имеет несколько названий - Потерянная долина инков, Долина чудес, Долина огня и Территория Орлов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3" descr=""/>
          <p:cNvPicPr/>
          <p:nvPr/>
        </p:nvPicPr>
        <p:blipFill>
          <a:blip r:embed="rId1"/>
          <a:stretch/>
        </p:blipFill>
        <p:spPr>
          <a:xfrm>
            <a:off x="-1752480" y="0"/>
            <a:ext cx="12648960" cy="6858000"/>
          </a:xfrm>
          <a:prstGeom prst="rect">
            <a:avLst/>
          </a:prstGeom>
          <a:ln w="0">
            <a:noFill/>
          </a:ln>
        </p:spPr>
      </p:pic>
      <p:sp>
        <p:nvSpPr>
          <p:cNvPr id="238" name="Прямоугольник 7"/>
          <p:cNvSpPr/>
          <p:nvPr/>
        </p:nvSpPr>
        <p:spPr>
          <a:xfrm>
            <a:off x="0" y="0"/>
            <a:ext cx="8215200" cy="28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Millau Viaduct - самый высокий мост на Зем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2557f"/>
                </a:solidFill>
                <a:latin typeface="Arial"/>
                <a:ea typeface="Arial"/>
              </a:rPr>
              <a:t>Этот подвесной мост находится на юге Франции и сконструирован инженером Мишелем Вирлого совместно с английским архитектором Норманом Фостером. Это самый высокий мост в мире - максимальная высота опор моста составляет 343 метра , что выше Эйфелевой башни и всего на 38 метров меньше Эмпайр Стейт Билдинга. На строительство моста ушло всего три года - мост был открыт 12 декабря 2004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Прямоугольник 2"/>
          <p:cNvSpPr/>
          <p:nvPr/>
        </p:nvSpPr>
        <p:spPr>
          <a:xfrm>
            <a:off x="1143000" y="0"/>
            <a:ext cx="657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nstantia"/>
              </a:rPr>
              <a:t>Мёртвое море (Израиль, Иордания) - самое низкое море в мире (747 метров ниже уровня мор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Прямоугольник 2"/>
          <p:cNvSpPr/>
          <p:nvPr/>
        </p:nvSpPr>
        <p:spPr>
          <a:xfrm>
            <a:off x="0" y="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Constantia"/>
              </a:rPr>
              <a:t>Сеул (Корея) - самый густонаселённый город на Земле (20,7 млн челове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c00000"/>
                </a:solidFill>
                <a:latin typeface="Calibri"/>
              </a:rPr>
              <a:t>Тихий океан – самый большой океан на Земле</a:t>
            </a:r>
            <a:endParaRPr b="0" lang="en-US" sz="45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6" name="Прямоугольник 2"/>
          <p:cNvSpPr/>
          <p:nvPr/>
        </p:nvSpPr>
        <p:spPr>
          <a:xfrm>
            <a:off x="0" y="60278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nstantia"/>
              </a:rPr>
              <a:t>Mount Thor (Канада) - самый большой обрыв в мире (1250 метров практически вертикальной скал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Прямоугольник 3"/>
          <p:cNvSpPr/>
          <p:nvPr/>
        </p:nvSpPr>
        <p:spPr>
          <a:xfrm>
            <a:off x="5715000" y="2025720"/>
            <a:ext cx="3429000" cy="5915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e6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onstantia"/>
              </a:rPr>
              <a:t>Скала Бишоп (Сицилия)</a:t>
            </a:r>
            <a:r>
              <a:rPr b="1" i="1" lang="ru-RU" sz="1800" spc="-1" strike="noStrike">
                <a:solidFill>
                  <a:srgbClr val="c00000"/>
                </a:solidFill>
                <a:latin typeface="Constantia"/>
              </a:rPr>
              <a:t> самый маленький остров на Зем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кала Бишоп, расположенная на западе от Британии, согласно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книге рекордов Гиннеса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является самым маленьким островом в мире. Единственным сооружением на этом острове является маяк, который первоначально начали строить в 1847 году, но его смыло прежде, чем было закончено строительство. Нынешний маяк построили в 1858 г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0" name="Прямоугольник 2"/>
          <p:cNvSpPr/>
          <p:nvPr/>
        </p:nvSpPr>
        <p:spPr>
          <a:xfrm>
            <a:off x="0" y="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Красное море - самое тёплое и самое солёное море в ми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Прямоугольник 2"/>
          <p:cNvSpPr/>
          <p:nvPr/>
        </p:nvSpPr>
        <p:spPr>
          <a:xfrm>
            <a:off x="4071960" y="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Воронья пещера (Грузия) - самая глубокая пещера в мире (2140 метров в глубин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5" name="Прямоугольник 2"/>
          <p:cNvSpPr/>
          <p:nvPr/>
        </p:nvSpPr>
        <p:spPr>
          <a:xfrm>
            <a:off x="4643280" y="1785960"/>
            <a:ext cx="4286520" cy="1465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Arial Black"/>
              </a:rPr>
              <a:t>Индонезия - самый большой архипелаг на Земле (состоит из 5 больших и 30 групп островов, общее количество островов - 17'50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7" name="Прямоугольник 2"/>
          <p:cNvSpPr/>
          <p:nvPr/>
        </p:nvSpPr>
        <p:spPr>
          <a:xfrm>
            <a:off x="428760" y="214200"/>
            <a:ext cx="4572000" cy="1373760"/>
          </a:xfrm>
          <a:prstGeom prst="rect">
            <a:avLst/>
          </a:prstGeom>
          <a:noFill/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Пик Мера (Непал) самый высокий обрыв в мире (6604 метр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Прямоугольник 2"/>
          <p:cNvSpPr/>
          <p:nvPr/>
        </p:nvSpPr>
        <p:spPr>
          <a:xfrm>
            <a:off x="1714680" y="0"/>
            <a:ext cx="6643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Calibri"/>
              </a:rPr>
              <a:t>Озеро Титикака (граница Перу и Боливии, Южная Америка) - самое высокогорное судоходное озеро в мире (высота над уровнем моря 3821 метр, максимальная глубина 280 метр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1" name="Прямоугольник 2"/>
          <p:cNvSpPr/>
          <p:nvPr/>
        </p:nvSpPr>
        <p:spPr>
          <a:xfrm>
            <a:off x="4572000" y="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Марианская впадина - самое глубокое место на Земле (10'915 метров ниже уровня мор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2" descr=""/>
          <p:cNvPicPr/>
          <p:nvPr/>
        </p:nvPicPr>
        <p:blipFill>
          <a:blip r:embed="rId2"/>
          <a:stretch/>
        </p:blipFill>
        <p:spPr>
          <a:xfrm>
            <a:off x="6929280" y="2357280"/>
            <a:ext cx="2214720" cy="16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</p:spPr>
      </p:pic>
      <p:pic>
        <p:nvPicPr>
          <p:cNvPr id="211" name="Заголовок 1" descr=""/>
          <p:cNvPicPr/>
          <p:nvPr/>
        </p:nvPicPr>
        <p:blipFill>
          <a:blip r:embed="rId2"/>
          <a:stretch/>
        </p:blipFill>
        <p:spPr>
          <a:xfrm>
            <a:off x="438120" y="19080"/>
            <a:ext cx="84866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4" name="Прямоугольник 2"/>
          <p:cNvSpPr/>
          <p:nvPr/>
        </p:nvSpPr>
        <p:spPr>
          <a:xfrm>
            <a:off x="571680" y="1357200"/>
            <a:ext cx="6940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onstantia"/>
              </a:rPr>
              <a:t>Большой Барьерн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onstantia"/>
              </a:rPr>
              <a:t>Риф (Австрал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оугольник 3"/>
          <p:cNvSpPr/>
          <p:nvPr/>
        </p:nvSpPr>
        <p:spPr>
          <a:xfrm>
            <a:off x="642960" y="2286000"/>
            <a:ext cx="45720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onstantia"/>
              </a:rPr>
              <a:t>Большой барьерный риф в Австралии является самым большим природным сооружением на Земле и простирается на </a:t>
            </a:r>
            <a:r>
              <a:rPr b="1" lang="ru-RU" sz="2000" spc="-1" strike="noStrike">
                <a:solidFill>
                  <a:srgbClr val="ffff00"/>
                </a:solidFill>
                <a:latin typeface="Constantia"/>
              </a:rPr>
              <a:t>2300 километров</a:t>
            </a:r>
            <a:r>
              <a:rPr b="0" lang="ru-RU" sz="2000" spc="-1" strike="noStrike">
                <a:solidFill>
                  <a:srgbClr val="ffff00"/>
                </a:solidFill>
                <a:latin typeface="Constantia"/>
              </a:rPr>
              <a:t> вдоль северо-восточного побережья Австралии. Здесь водится более 1500 видов рыб, 4000 видов моллюсков, свыше 200 видов птиц. Большой барьерный риф состоит из более чем 3 тысяч рифов. Площадь которых колеблется от 1 га до 10000 га. Общая площадь рифа составляет 300 тыс. кв. к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Прямоугольник 13"/>
          <p:cNvSpPr/>
          <p:nvPr/>
        </p:nvSpPr>
        <p:spPr>
          <a:xfrm>
            <a:off x="2071800" y="0"/>
            <a:ext cx="457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Constantia"/>
              </a:rPr>
              <a:t>Самое большое естественное сооружение на Зем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9" name="Прямоугольник 2"/>
          <p:cNvSpPr/>
          <p:nvPr/>
        </p:nvSpPr>
        <p:spPr>
          <a:xfrm>
            <a:off x="2500200" y="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onstantia"/>
              </a:rPr>
              <a:t>Станция "Восток" (Антарктика) - самое холодное место на Зем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1" name="Прямоугольник 2"/>
          <p:cNvSpPr/>
          <p:nvPr/>
        </p:nvSpPr>
        <p:spPr>
          <a:xfrm>
            <a:off x="0" y="3995640"/>
            <a:ext cx="564372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nstantia"/>
              </a:rPr>
              <a:t>Самое снежное место на Земле - гора Бейкер, штат Вашингт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ибольшее количество снега было зафиксировано на горе Бейкер зимой 1998 - 1999 года - тогда на горе выпало 29 метров снега, что перекрыло предыдущий рекорд горы Ренье в том же штате, где зимой 1971-1972 года было зафиксировано выпадение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8,5 метров сне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3" name="Прямоугольник 2"/>
          <p:cNvSpPr/>
          <p:nvPr/>
        </p:nvSpPr>
        <p:spPr>
          <a:xfrm>
            <a:off x="2286000" y="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onstantia"/>
              </a:rPr>
              <a:t>Черрапунджи (Индия) - самое влажное место на Зем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5" name="Прямоугольник 2"/>
          <p:cNvSpPr/>
          <p:nvPr/>
        </p:nvSpPr>
        <p:spPr>
          <a:xfrm>
            <a:off x="0" y="55008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Constantia"/>
              </a:rPr>
              <a:t>Река Ро (Монтана, США) - самая короткая река в мире (61 мет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7" name="Прямоугольник 2"/>
          <p:cNvSpPr/>
          <p:nvPr/>
        </p:nvSpPr>
        <p:spPr>
          <a:xfrm>
            <a:off x="0" y="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onstantia"/>
              </a:rPr>
              <a:t>Mill Ends Park (Портленд, Орегон, США) - самый маленький парк в мире (появился в 1948 году, состоит из круга диаметром 61 сантиметр, площадь 0,29 кв. м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9" name="Прямоугольник 2"/>
          <p:cNvSpPr/>
          <p:nvPr/>
        </p:nvSpPr>
        <p:spPr>
          <a:xfrm>
            <a:off x="0" y="504180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Coco de mer (Lodoicea maldivica) - самая большая семечка в мире (Сейшельские остров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1" name="Прямоугольник 2"/>
          <p:cNvSpPr/>
          <p:nvPr/>
        </p:nvSpPr>
        <p:spPr>
          <a:xfrm>
            <a:off x="2428920" y="0"/>
            <a:ext cx="45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Constantia"/>
              </a:rPr>
              <a:t>Кратер Вредефорт (Южная Африка) - самый большой кратер на Земле (радиус 190 к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3" name="Заголовок 1" descr=""/>
          <p:cNvPicPr/>
          <p:nvPr/>
        </p:nvPicPr>
        <p:blipFill>
          <a:blip r:embed="rId2"/>
          <a:stretch/>
        </p:blipFill>
        <p:spPr>
          <a:xfrm>
            <a:off x="457200" y="4876920"/>
            <a:ext cx="83088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5" name="Заголовок 1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8308800" cy="16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Прямоугольник 2"/>
          <p:cNvSpPr/>
          <p:nvPr/>
        </p:nvSpPr>
        <p:spPr>
          <a:xfrm>
            <a:off x="1071720" y="1143000"/>
            <a:ext cx="8072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nstantia"/>
              </a:rPr>
              <a:t>Фйорд Скорсбисанд (Гренландия) - самый длинный и глубокий фйорд в мире (протяжённость 350 км, 1500 метров в глубин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575f6d"/>
              </a:solidFill>
              <a:latin typeface="Calibri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Прямоугольник 4"/>
          <p:cNvSpPr/>
          <p:nvPr/>
        </p:nvSpPr>
        <p:spPr>
          <a:xfrm>
            <a:off x="285840" y="504180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Calibri"/>
              </a:rPr>
              <a:t>Озеро Байкал (Россия) - самое глубокое озеро в мире (1637 метров в самой глубокой точк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6e5a"/>
                </a:solidFill>
                <a:latin typeface="Calibri"/>
              </a:rPr>
              <a:t>Эверест (Непал) – самая высокая точка мира </a:t>
            </a:r>
            <a:br>
              <a:rPr sz="4000"/>
            </a:br>
            <a:r>
              <a:rPr b="0" lang="ru-RU" sz="4000" spc="-1" strike="noStrike">
                <a:solidFill>
                  <a:srgbClr val="eb6e5a"/>
                </a:solidFill>
                <a:latin typeface="Calibri"/>
              </a:rPr>
              <a:t>(8844 м над уровнем моря)</a:t>
            </a:r>
            <a:endParaRPr b="0" lang="en-US" sz="4000" spc="-1" strike="noStrike">
              <a:solidFill>
                <a:srgbClr val="575f6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575f6d"/>
              </a:solidFill>
              <a:latin typeface="Calibri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Прямоугольник 4"/>
          <p:cNvSpPr/>
          <p:nvPr/>
        </p:nvSpPr>
        <p:spPr>
          <a:xfrm>
            <a:off x="0" y="504180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nstantia"/>
              </a:rPr>
              <a:t>Водопад Angel (Венесуэела) - самый высокий водопад на Земле (979 метр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0T07:15:29Z</dcterms:created>
  <dc:creator>home</dc:creator>
  <dc:description/>
  <dc:language>en-US</dc:language>
  <cp:lastModifiedBy>Алексей Пастухов</cp:lastModifiedBy>
  <dcterms:modified xsi:type="dcterms:W3CDTF">2015-02-06T14:04:30Z</dcterms:modified>
  <cp:revision>8</cp:revision>
  <dc:subject/>
  <dc:title>САМЫЕ-САМЫЕ МЕСТА НА ЗЕМЛЕ!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PowerLiteLastOptimized">
    <vt:lpwstr>1777725</vt:lpwstr>
  </property>
  <property fmtid="{D5CDD505-2E9C-101B-9397-08002B2CF9AE}" pid="3" name="NXPowerLiteVersion">
    <vt:lpwstr>D3.6.2</vt:lpwstr>
  </property>
</Properties>
</file>