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6568-5592-466E-A0A4-D6D5B0582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EF15-0857-45C1-8C95-37D65F26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3416-ECF5-4C45-8E4A-FD0C07CA6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D5F9-877E-41C5-AF57-50FAFEEB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EBCB-DB8B-4DAE-AFFD-896E1CD0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0D8F-A7D9-4875-8C33-47CBAA7F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3267-8CC3-4797-AC4E-1A784A6F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CF37-8F6D-4C28-B5F2-B23189A6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406B-24A3-41CE-9648-5EBF05F3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9D8D-B363-41EA-BE8D-768C1720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ACC6-C2D5-4B36-9A1D-47CD87B1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3488-DA57-4472-9DDE-93AF81BE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1938-7D38-4792-A0B0-CEA641DC03C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2205000"/>
            <a:ext cx="5688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Есть ли что-нибудь,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что тебе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не нравиться и возмущает тебя</a:t>
            </a: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…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1557360"/>
            <a:ext cx="619272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глядись вокруг себя и поблагодари за все, что тебе предоставлено в этой Жизни</a:t>
            </a: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...</a:t>
            </a: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9640" y="1135080"/>
            <a:ext cx="813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ы удачливы, что имеем намного больше того, что требуется чтобы просто жить счастли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стараемся не оказаться в числе безнравственных пользователей    того, что предлагает нам наше «современное и продвинутое» общество, которое часто забывает об остальных двух трети человеческого 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16000" y="692280"/>
            <a:ext cx="6745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Будем меньше жаловаться и постараемся сделать большее на что мы способны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xit" presetID="40">
                                  <p:stCondLst>
                                    <p:cond delay="15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1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3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3738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84720" y="404640"/>
            <a:ext cx="395928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Тебе надоело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учиться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324000" y="4724280"/>
            <a:ext cx="395928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A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ни хотят учиться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373560" y="2781360"/>
            <a:ext cx="57704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95800" cy="3933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419640" y="2814480"/>
            <a:ext cx="5724360" cy="4043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59280" y="0"/>
            <a:ext cx="395928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Надоели овощи и зелень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581360"/>
            <a:ext cx="3419640" cy="165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 они заболевают от голода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208400" cy="6308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716360" y="260280"/>
            <a:ext cx="4208400" cy="6308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5388120"/>
            <a:ext cx="395928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облюдаешь диету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2360" y="5388120"/>
            <a:ext cx="395928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ни умирают от диеты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524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7524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4797360"/>
            <a:ext cx="4500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Тебе надоела чрезмерная опека твоих родителей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3280" y="5084640"/>
            <a:ext cx="4500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У них нет родителей !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5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5148360" cy="3637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726080" y="0"/>
            <a:ext cx="4417920" cy="6021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4797360"/>
            <a:ext cx="4500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Тебе наскучили обычные игры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5272200"/>
            <a:ext cx="4500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У них нет выбора 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11280" y="2565360"/>
            <a:ext cx="3333600" cy="3333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076720" y="2133720"/>
            <a:ext cx="3810240" cy="4400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333360"/>
            <a:ext cx="4500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Хотел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 Adidas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, но тебе купили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 Nike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38560" y="333360"/>
            <a:ext cx="410544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У них есть только эта фирма 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80000" cy="3941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492360" y="2865600"/>
            <a:ext cx="5651640" cy="3992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643280" y="620640"/>
            <a:ext cx="4500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Тебе надоело, что тебя отправляют спать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724280"/>
            <a:ext cx="36734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ни не хотели бы просыпаться вновь !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NO TE QUEJ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2205000"/>
            <a:ext cx="54007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Если что-нибудь еще, что продолжает тебя беспокоить</a:t>
            </a: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…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03:26:55Z</dcterms:created>
  <dc:creator>Liza Ruchman</dc:creator>
  <dc:description/>
  <dc:language>en-US</dc:language>
  <cp:lastModifiedBy>Жамагат</cp:lastModifiedBy>
  <dcterms:modified xsi:type="dcterms:W3CDTF">2003-12-31T21:40:58Z</dcterms:modified>
  <cp:revision>18</cp:revision>
  <dc:subject/>
  <dc:title>ALGO TE MOLESTA?</dc:title>
</cp:coreProperties>
</file>