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17.jpeg" ContentType="image/jpeg"/>
  <Override PartName="/ppt/media/image30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png" ContentType="image/pn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1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41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1EC-B313-403E-8A74-A07B9F3C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54F-D6C4-4377-8107-B514F2F6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872-B7B0-434B-9663-55D50EC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520-FE2E-4CFE-90B7-C94A5557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229D-2196-4C4C-9081-FC8EE8A4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DF29-7EA3-4B31-AFCE-F6C5B7AC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6C3-3495-4F6E-86A4-3B182F5F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A7D-5A8D-42D4-8F07-8AE6D166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65EA-5448-4F91-9A62-96BF9440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1D5-FCEB-419C-BA70-FC0BC483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048C-AB51-4FEC-94C9-AAB4EB3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A6F-2CE3-433E-B1B0-DA058E9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C26-9A6E-4F79-815D-3D081F5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A660-D37D-428E-8368-BDF2027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D2D-0C1C-47C1-8BB8-1CAC6AC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769-442B-42D1-A6BE-E7E2A2E7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AFC-2E5B-401A-8E04-1260E53B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6CE-517F-4071-861E-BB85F7A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3AB-A6AE-4FA6-B18A-64CB2F2B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CB3-E274-476F-85F3-754CC1F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6B0-B5D2-4924-B64A-A04BE1B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897-D40A-4E88-A0D0-0FE8CCE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26D-75F4-4456-9EBE-5FD900E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7A8-96D7-438C-85F2-19F239D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78E-7C97-48A4-A2C0-5CDB114795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C37-F7C3-4D74-B17E-7A35AB6717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encycl.yandex.ru/cgi-bin/art.pl?art=bse/00072/25000.htm&amp;encpage=bse" TargetMode="External"/><Relationship Id="rId3" Type="http://schemas.openxmlformats.org/officeDocument/2006/relationships/hyperlink" Target="http://encycl.yandex.ru/cgi-bin/art.pl?art=bse/00072/25000.htm&amp;encpage=bse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famclan.ru/scotch/target=_blank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hyperlink" Target="http://encycl.yandex.ru/cgi-bin/art.pl?art=bse/00042/39100.htm&amp;encpage=bse" TargetMode="External"/><Relationship Id="rId4" Type="http://schemas.openxmlformats.org/officeDocument/2006/relationships/hyperlink" Target="http://encycl.yandex.ru/cgi-bin/art.pl?art=bse/00042/39100.htm&amp;encpage=bse" TargetMode="External"/><Relationship Id="rId5" Type="http://schemas.openxmlformats.org/officeDocument/2006/relationships/hyperlink" Target="http://encycl.yandex.ru/cgi-bin/art.pl?art=bse/00042/39100.htm&amp;encpage=bse" TargetMode="External"/><Relationship Id="rId6" Type="http://schemas.openxmlformats.org/officeDocument/2006/relationships/hyperlink" Target="http://www.km.ru/magazin/view.asp?id=%7BE5947D0C%2DA272%2D11D3%2D971E%2D000000000000%7D&amp;idrubr=%7B9E71DA84%2D9C00%2D11D3%2D9719%2D000000000000%7D" TargetMode="External"/><Relationship Id="rId7" Type="http://schemas.openxmlformats.org/officeDocument/2006/relationships/hyperlink" Target="http://www.km.ru/magazin/view.asp?id=%7BE5947D0C%2DA272%2D11D3%2D971E%2D000000000000%7D&amp;idrubr=%7B9E71DA84%2D9C00%2D11D3%2D9719%2D000000000000%7D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encycl.yandex.ru/cgi-bin/art.pl?art=bse/00084/45500.htm&amp;encpage=bse&amp;mrkp=/yandbtm7%3Fq%3D1117223299%26p%3D0%26g%3D0%26d%3D0%26ag%3Denc_abc%26tg%3D1%26p0%3D0%26q0%3D1453275488%26d0%3D0%26script%3D/yandpage%253F" TargetMode="External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carnegie.ru/russian/andr.htm" TargetMode="External"/><Relationship Id="rId3" Type="http://schemas.openxmlformats.org/officeDocument/2006/relationships/image" Target="../media/image43.png"/><Relationship Id="rId4" Type="http://schemas.openxmlformats.org/officeDocument/2006/relationships/hyperlink" Target="http://persona.rin.ru/cgi-bin/rus/view.pl?id=26630&amp;a=f&amp;idr=3" TargetMode="External"/><Relationship Id="rId5" Type="http://schemas.openxmlformats.org/officeDocument/2006/relationships/hyperlink" Target="http://persona.rin.ru/cgi-bin/rus/view.pl?id=26630&amp;a=f&amp;idr=3" TargetMode="External"/><Relationship Id="rId6" Type="http://schemas.openxmlformats.org/officeDocument/2006/relationships/hyperlink" Target="http://persona.rin.ru/cgi-bin/rus/view.pl?id=26630&amp;a=f&amp;idr=3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college.ru/physics/op25part1/content/scientist/brown.html" TargetMode="External"/><Relationship Id="rId3" Type="http://schemas.openxmlformats.org/officeDocument/2006/relationships/image" Target="../media/image45.png"/><Relationship Id="rId4" Type="http://schemas.openxmlformats.org/officeDocument/2006/relationships/hyperlink" Target="http://encycl.yandex.ru/cgi-bin/art.pl?art=bse/00071/11500.htm&amp;encpage=bse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hyperlink" Target="http://www.mc-laren.ru/h_0.php" TargetMode="External"/><Relationship Id="rId4" Type="http://schemas.openxmlformats.org/officeDocument/2006/relationships/hyperlink" Target="http://www.mc-laren.ru/h_0.php" TargetMode="External"/><Relationship Id="rId5" Type="http://schemas.openxmlformats.org/officeDocument/2006/relationships/hyperlink" Target="http://www.mc-laren.ru/h_0.php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amclan.ru/scotch/target=http:/filatelist.narod.ru/myweb8/gl_3.htm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511720" cy="36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70028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Arial"/>
              </a:rPr>
              <a:t>Шотландия и шотланд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цы, жители Взгорий – это «бедуины» Шотландии, скотоводы и воины. Они привыкли свысока смотреть на более зажиточных обитателей долин – землепашцев, ремесленников, торговц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нно Взгорья с их клановой системой организации общества были и остаются средоточием шотландского 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39400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27640" y="6021360"/>
            <a:ext cx="43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ринный замок в окрестностях Эдин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00" y="4797360"/>
            <a:ext cx="2952720" cy="18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 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2997360"/>
            <a:ext cx="4104000" cy="1649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воря о населении Шотландии, нельзя не остановиться на любви шотландцев к собакам. По-видимому, она зародилась еще в те времена, когда большинство шотландцев были земледельцами, пасту-хами, охот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ире славятся собаки следующих шотландских пор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3640" y="1484280"/>
            <a:ext cx="388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л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2006640" cy="2233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4508640"/>
            <a:ext cx="1965600" cy="218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2030400" cy="225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59280" y="3645000"/>
            <a:ext cx="180036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Шотландский    сет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61657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котч-терь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37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ая культура шотландцев восходит к народной песенно-танце-вальной культуре племен, населявших Шотландию в прош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стрели и лютнисты, странствующие кельтские народные певцы-барды сопровождали песни и танцы игрой на арфе и вол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лын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сновной национальный инструмент Шотландии.  Под ее звуки в давние времена шотландцы побеждали врагов. В настоящее время в каждом городе страны есть свой оркестр волын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4221000"/>
            <a:ext cx="2175120" cy="2421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135160" cy="23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19640" y="6308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л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отландские клан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 социальная организация шотландского общества, особенно во Взгорьях, определялась кланов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лан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группа семей, носящих одну фамилию (Мак-Дональды – сыновья Дональда. «Мак» - сын) и имеющих общих пре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кланов популярна и до сих пор, но сохранилась она больше как национальная традиция шотлан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dance1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24360" y="1844640"/>
            <a:ext cx="2592720" cy="18288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651640" y="3933720"/>
            <a:ext cx="302400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1280" y="277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циональный шотландский костюм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19640" y="1628280"/>
            <a:ext cx="5194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отландии клановая принадлежность определяется по костюму, особенно мужскому кил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Кил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шотландская юбка, которую шьют из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арт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специальной шерстяной, хлопчатобумажной и даже шелковой ткани с рисунком в крупную клетку. Каждый клан  имеет определенный цвет и символику тартана, которые применяются на килтах и пледах. Надеть чужие цвета недопустимо – это считается социальным наруш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508640"/>
            <a:ext cx="83534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адиционно, кроме килта, в шотландский национальный костюм в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идовый пидж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ые чу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рет, который носят сдвинутым на б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жаный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пор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шелек, висящий на узком ремешке, охватывающем бе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ж также является деталью костюма. Истинный горец располагает  его за своим правым чул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939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отяжении многих веков шотландцы мерялись своей силой на  спортивных соревнованиях, называемых Горскими собраниями (играми). Впервые они прошли еще в 105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Горских игр представители многочисленных шотландских кланов в национальных одеждах соревнуются в силе, ловкости, умении танцевать и играть на вол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ревнованиях может принять участие каждый жела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3529080" cy="21510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 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иды соревнований на горских игр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2232360" cy="2144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971640" y="436572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лкани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м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вес камня составляет: от 8 до 11 кг для мужчин и от 4 до 6 кг для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2063520" cy="2087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4716360" y="429264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 в виде металлической гири должен подбрасываться только одной р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й вес составляет: 28 кг для мужчин и 14 кг для женщ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205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тание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яжестей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 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1676520" cy="2447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6659640" y="1773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брасывание стол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62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етание мол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13372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ка молота - сферической формы  из металла, а ручка из дерева, бамбука или пла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й вес молота составляет: от 8  до 10 кг для мужчин и от 6  до 8 кг для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581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янный столб длиной 4-5 м и весом 30-70 кг должен в броске вверх перевер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19280" y="4292640"/>
            <a:ext cx="28764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пилку общечеловеческих ценностей шотландцы внесли свой весомый вкл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краткий перечень имен наиболее известных представителей шотландского нар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smit1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1612800" cy="1655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3132000" y="3141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дам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мит.</a:t>
            </a:r>
            <a:r>
              <a:rPr b="0" i="1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экономист и философ, видный представитель классической буржуазной политической эконо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kelvin" descr=""/>
          <p:cNvPicPr/>
          <p:nvPr/>
        </p:nvPicPr>
        <p:blipFill>
          <a:blip r:embed="rId4"/>
          <a:stretch/>
        </p:blipFill>
        <p:spPr>
          <a:xfrm>
            <a:off x="1116000" y="4941720"/>
            <a:ext cx="1555920" cy="1727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203640" y="4653000"/>
            <a:ext cx="5616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Вильям Кельв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л науку термодинамику, сформулировал второй закон термодинамики и внедрил шкалу (Кельвина) абсолютных температур, изобрел зеркальный гальванометр, приемник телеграмм и руководил прокладкой телеграфного кабеля через Атлантический оке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2070000" cy="2305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874880" cy="2085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87280" y="3933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Сэр Вальтер Скотт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нглийский пис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3860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Бернс Робер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по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08464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ую известность приобрел представитель позднего романтизма,  создатель  авантюр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исторических романов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Роберт Льюис Стивенс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258920" y="4724280"/>
            <a:ext cx="17478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посвящена проблеме влияния физико-географических и исторических условий территории на формирование национального характера на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ей рассматриваются следующ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 положение Шотландии и история формирования ее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ый характер шотландцев на примере социального устройства общества, костюмов, трад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е шотлан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060880"/>
          <a:ext cx="11494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60880"/>
                    <a:ext cx="11494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livingston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1736640" cy="2303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95" name="lipton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461960" cy="1942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56000" y="1773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Дав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ивингстон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й исследователь Афр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4653000"/>
            <a:ext cx="302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Томас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Лип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родитель маркетинга и основатель фир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fleming" descr=""/>
          <p:cNvPicPr/>
          <p:nvPr/>
        </p:nvPicPr>
        <p:blipFill>
          <a:blip r:embed="rId8"/>
          <a:stretch/>
        </p:blipFill>
        <p:spPr>
          <a:xfrm>
            <a:off x="4572000" y="1773360"/>
            <a:ext cx="1727280" cy="2376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6443640" y="1773360"/>
            <a:ext cx="223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Александр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ем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ец  микробио-логии и изобре-татель пеницил-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5950080"/>
            <a:ext cx="37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н Бойд Данло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невматической 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danlop" descr=""/>
          <p:cNvPicPr/>
          <p:nvPr/>
        </p:nvPicPr>
        <p:blipFill>
          <a:blip r:embed="rId10"/>
          <a:stretch/>
        </p:blipFill>
        <p:spPr>
          <a:xfrm>
            <a:off x="6948360" y="4365720"/>
            <a:ext cx="1468440" cy="1582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carnegie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1841400" cy="2319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400536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Эндрю Карне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авился как один из самых успешных предприни-мателей Америки, прошедший путь от простого бедняка-иммигранта до промышленного магната и филантр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bell1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1604880" cy="2160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148360" y="4076640"/>
            <a:ext cx="360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Александр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Грем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Бел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 и изобретатель, посвятивший свою жизнь обучению глух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76 году получил патент на свой первый телеф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8" name="brown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1773360"/>
            <a:ext cx="2108160" cy="2520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826920" y="443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Роберт 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ботаник. Открыл  Броунов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simpson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016360" cy="20890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219640" y="4221000"/>
            <a:ext cx="331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Джеймс Симпс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в медиц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3" name="imgbyid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2013120" cy="259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214" name="bmclaren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1993680" cy="2376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826920" y="465300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жеймс Клер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свелл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итанский физик, создатель классической электродинамики, один из основателей статической физ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4724280"/>
            <a:ext cx="29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Брюс Мак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арен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щик, инженер-автомобилестроитель  и основатель всем извест-ной коман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Джеймс Чалмерс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л приклеивающуюся почтовую ма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ья Макдоналд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здатели сети «быстрых» закусо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рльз Макинт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Шотландский химик, который в 1823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л прорезиненную тка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жейм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ат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 изобретатель, создатель универсальной парово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ильям Мерд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Изобретатель и производитель газовых фона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Дэвид Бревсте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татель калейдо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котт Мак-Н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компании Sun Micro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623736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чется сказать, что обычаи и традиции  народов, предметы и явления их духовной и материальной жизни являются ярким проявлением национального 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традиция и обычай жизненно оправданы, и за формой, подчас удивительной для остальных, скрывается глубоко скрытый смысл и рациональное з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аш взгляд, основными факторами, повлиявшими на  формирование рассмотренных выше национальных особенностей  шотландцев, являются физико-географические условия территории и исторические реал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700360" y="5013360"/>
            <a:ext cx="403380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изико-географические условия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88000" y="22046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ия – админист-ративно-политическая часть Великобритании. Занимает северную часть острова Великобритания и прилегающие остр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ывается водами Атлантическ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- город Эдин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121"/>
          <a:stretch/>
        </p:blipFill>
        <p:spPr>
          <a:xfrm>
            <a:off x="900000" y="1125360"/>
            <a:ext cx="3240360" cy="283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2554" r="0" b="0"/>
          <a:stretch/>
        </p:blipFill>
        <p:spPr>
          <a:xfrm>
            <a:off x="900000" y="3860640"/>
            <a:ext cx="324036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изико-географические условия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810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льефе преобладают горы и низменные равн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мат морской – теплый и вла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39220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3384360" cy="252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4653000"/>
            <a:ext cx="41767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рек и озер. Озера Лох-Ломонд и Лох-Несс («лох» по-шотландски озеро) знамениты легендами и старинными замками на своих бер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290520"/>
            <a:ext cx="720864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еление Британских остров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50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Шотландии – череда набегов и завоевательных походов 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пришла первая волна рейнских кельтов, вытеснивших древнее население Шотландии (пиктов)  к сев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отландию из Ирландии стали переселяться племена скоттов (по их имени названа Шотланди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ана скоттов). Это название утвердилось за Шотландией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были римляне, а в 450 г. у покоренных римлянами бриттов появляется новый враг – англы и саксы (племена германского побережья). Последняя волна завоевателей пришла из Скандинавии – это были норманны. Так формировался британский эт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 пор на территории Британских островов существуют 4 различных народа: шотландцы, уэльсцы, англичане и ирлан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936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ие века народ независимой Шотландии вел упорную борьбу за суверенитет, но в 1707 г. династия Стюартов присоединила Шот-ландию к Великобри-тании через личную унию, упразднив существовавший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парла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24360" y="4221000"/>
            <a:ext cx="2158920" cy="2403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2149560" cy="2376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156360" y="46530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ю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йский король с 1625 г. Второй сын шотландского короля Якова VI Стюарта и Анны Дат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177336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юар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йский король с 1603 года, шотланд-ский король (под именем Якова VI) с 1567 года. Из династии Стюартов, сын Марии Стюар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1920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м государственным флагом Англии и Шотландии стал «Юнион Джек», объединивший английский флаг Св. Георгия и  шотландский флаг Св.Анд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19640" y="2781360"/>
            <a:ext cx="3313080" cy="204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Андрей на русской иконе"/>
          <p:cNvPicPr/>
          <p:nvPr/>
        </p:nvPicPr>
        <p:blipFill>
          <a:blip r:embed="rId2"/>
          <a:stretch/>
        </p:blipFill>
        <p:spPr>
          <a:xfrm>
            <a:off x="900000" y="2852640"/>
            <a:ext cx="2525760" cy="335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48000" y="55785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вятой Анд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0133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циональный флаг Шотл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 об унии 1707 г. подвел черту под почти 9-вековой историей Шотландии как независимого государства. Однако, она не была завоев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а сохранена собственная церковь (пресвитерианская), свой свод законов и судеб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2135160" cy="23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53692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еление современной Шотландии  составляет около 10 млн. человек. Государственный язык – английский, также употребляется древний диалект гэльск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«Низинах» (южных частях Шотландии) проживает большинство населения, и лишь 250 тыс. человек приходится на ее северо-западную половину, которую здесь называют «Взгорьями». Между Взгорьями и Низинами всегда существовал и существует до сих пор разительный контраст, причем не только географичес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volinka_sm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4221000"/>
            <a:ext cx="1941480" cy="18385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556000" cy="270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7020000" y="3789360"/>
            <a:ext cx="1504800" cy="26640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1:13:23Z</dcterms:created>
  <dc:creator>Елена</dc:creator>
  <dc:description/>
  <dc:language>en-US</dc:language>
  <cp:lastModifiedBy>Интернет</cp:lastModifiedBy>
  <dcterms:modified xsi:type="dcterms:W3CDTF">2008-11-01T18:10:04Z</dcterms:modified>
  <cp:revision>26</cp:revision>
  <dc:subject/>
  <dc:title>Муниципальное общеобразовательное учреждение «Гимназия № 3» г. Белгорода</dc:title>
</cp:coreProperties>
</file>