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28.png" ContentType="image/png"/>
  <Override PartName="/ppt/media/image1.wmf" ContentType="image/x-wmf"/>
  <Override PartName="/ppt/media/image7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23.jpeg" ContentType="image/jpeg"/>
  <Override PartName="/ppt/media/image17.jpeg" ContentType="image/jpeg"/>
  <Override PartName="/ppt/media/image30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5.png" ContentType="image/png"/>
  <Override PartName="/ppt/media/image10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46.jpeg" ContentType="image/jpeg"/>
  <Override PartName="/ppt/media/image31.png" ContentType="image/png"/>
  <Override PartName="/ppt/media/image43.png" ContentType="image/png"/>
  <Override PartName="/ppt/media/image47.jpeg" ContentType="image/jpeg"/>
  <Override PartName="/ppt/media/image11.jpeg" ContentType="image/jpe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4.jpeg" ContentType="image/jpeg"/>
  <Override PartName="/ppt/media/image41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DA5-B8DD-41A5-99D8-F3FD6E87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A8BD-AD7C-4E5D-9BEE-C64F6305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3E61-7FAD-4526-AA4D-C1C07D4D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A97-A260-4D49-9229-A72FBB78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73F7-647A-4D12-A1F8-94013E95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8790-06D2-4927-AEFB-A97FF808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84B5-084E-4790-ABC3-C83DE87E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C5E6-3308-4560-94A7-EC9536D2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DC8C-9E35-4F52-A4BA-42BA2021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D3C7-BF79-466C-9A9E-EC93D30B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0B1D-32FE-4E71-8B61-ED0067F0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345-8448-48F1-AE72-66FB5D60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5920-1342-4695-87ED-69398617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BE11-B6D9-49C6-8D96-F4A59A46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3A06-250E-4F3E-ABBF-83608E8B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C18A-71AB-4233-A80D-21E5DEF9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C028-FDCB-4E5F-94F3-B8EB609B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606-F358-4684-8863-6CBA7C6B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4CF-143D-4F0E-91EB-359565DE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C34A-A0E2-4821-AF03-F2C61CF5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D8A4-E689-45BC-B78F-E930D1D6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E79-C39A-4246-BCF5-F483A174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C54-86D7-447E-A492-4369023F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A20-C5E9-4ED0-940E-51DE6ABB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4F68-F875-4710-BF10-A702D0F755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C0E2-525F-45BB-8E05-52A25A9E95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http://encycl.yandex.ru/cgi-bin/art.pl?art=bse/00072/25000.htm&amp;encpage=bse" TargetMode="External"/><Relationship Id="rId3" Type="http://schemas.openxmlformats.org/officeDocument/2006/relationships/hyperlink" Target="http://encycl.yandex.ru/cgi-bin/art.pl?art=bse/00072/25000.htm&amp;encpage=bse" TargetMode="External"/><Relationship Id="rId4" Type="http://schemas.openxmlformats.org/officeDocument/2006/relationships/image" Target="../media/image34.jpeg"/><Relationship Id="rId5" Type="http://schemas.openxmlformats.org/officeDocument/2006/relationships/hyperlink" Target="http://www.famclan.ru/scotch/target=_blank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hyperlink" Target="http://encycl.yandex.ru/cgi-bin/art.pl?art=bse/00042/39100.htm&amp;encpage=bse" TargetMode="External"/><Relationship Id="rId4" Type="http://schemas.openxmlformats.org/officeDocument/2006/relationships/hyperlink" Target="http://encycl.yandex.ru/cgi-bin/art.pl?art=bse/00042/39100.htm&amp;encpage=bse" TargetMode="External"/><Relationship Id="rId5" Type="http://schemas.openxmlformats.org/officeDocument/2006/relationships/hyperlink" Target="http://encycl.yandex.ru/cgi-bin/art.pl?art=bse/00042/39100.htm&amp;encpage=bse" TargetMode="External"/><Relationship Id="rId6" Type="http://schemas.openxmlformats.org/officeDocument/2006/relationships/hyperlink" Target="http://www.km.ru/magazin/view.asp?id=%7BE5947D0C%2DA272%2D11D3%2D971E%2D000000000000%7D&amp;idrubr=%7B9E71DA84%2D9C00%2D11D3%2D9719%2D000000000000%7D" TargetMode="External"/><Relationship Id="rId7" Type="http://schemas.openxmlformats.org/officeDocument/2006/relationships/hyperlink" Target="http://www.km.ru/magazin/view.asp?id=%7BE5947D0C%2DA272%2D11D3%2D971E%2D000000000000%7D&amp;idrubr=%7B9E71DA84%2D9C00%2D11D3%2D9719%2D000000000000%7D" TargetMode="External"/><Relationship Id="rId8" Type="http://schemas.openxmlformats.org/officeDocument/2006/relationships/image" Target="../media/image40.jpeg"/><Relationship Id="rId9" Type="http://schemas.openxmlformats.org/officeDocument/2006/relationships/hyperlink" Target="http://encycl.yandex.ru/cgi-bin/art.pl?art=bse/00084/45500.htm&amp;encpage=bse&amp;mrkp=/yandbtm7%3Fq%3D1117223299%26p%3D0%26g%3D0%26d%3D0%26ag%3Denc_abc%26tg%3D1%26p0%3D0%26q0%3D1453275488%26d0%3D0%26script%3D/yandpage%253F" TargetMode="External"/><Relationship Id="rId10" Type="http://schemas.openxmlformats.org/officeDocument/2006/relationships/image" Target="../media/image41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www.carnegie.ru/russian/andr.htm" TargetMode="External"/><Relationship Id="rId3" Type="http://schemas.openxmlformats.org/officeDocument/2006/relationships/image" Target="../media/image43.png"/><Relationship Id="rId4" Type="http://schemas.openxmlformats.org/officeDocument/2006/relationships/hyperlink" Target="http://persona.rin.ru/cgi-bin/rus/view.pl?id=26630&amp;a=f&amp;idr=3" TargetMode="External"/><Relationship Id="rId5" Type="http://schemas.openxmlformats.org/officeDocument/2006/relationships/hyperlink" Target="http://persona.rin.ru/cgi-bin/rus/view.pl?id=26630&amp;a=f&amp;idr=3" TargetMode="External"/><Relationship Id="rId6" Type="http://schemas.openxmlformats.org/officeDocument/2006/relationships/hyperlink" Target="http://persona.rin.ru/cgi-bin/rus/view.pl?id=26630&amp;a=f&amp;idr=3" TargetMode="Externa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www.college.ru/physics/op25part1/content/scientist/brown.html" TargetMode="External"/><Relationship Id="rId3" Type="http://schemas.openxmlformats.org/officeDocument/2006/relationships/image" Target="../media/image45.png"/><Relationship Id="rId4" Type="http://schemas.openxmlformats.org/officeDocument/2006/relationships/hyperlink" Target="http://encycl.yandex.ru/cgi-bin/art.pl?art=bse/00071/11500.htm&amp;encpage=bse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hyperlink" Target="http://www.mc-laren.ru/h_0.php" TargetMode="External"/><Relationship Id="rId4" Type="http://schemas.openxmlformats.org/officeDocument/2006/relationships/hyperlink" Target="http://www.mc-laren.ru/h_0.php" TargetMode="External"/><Relationship Id="rId5" Type="http://schemas.openxmlformats.org/officeDocument/2006/relationships/hyperlink" Target="http://www.mc-laren.ru/h_0.php" TargetMode="Externa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amclan.ru/scotch/target=http:/filatelist.narod.ru/myweb8/gl_3.htm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14400" y="69192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2511720" cy="3600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403280" y="1700280"/>
            <a:ext cx="720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3500000"/>
                </a:gradFill>
                <a:latin typeface="Arial"/>
              </a:rPr>
              <a:t>Шотландия и шотланд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be4ae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селение Шотланд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рцы, жители Взгорий – это «бедуины» Шотландии, скотоводы и воины. Они привыкли свысока смотреть на более зажиточных обитателей долин – землепашцев, ремесленников, торговц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енно Взгорья с их клановой системой организации общества были и остаются средоточием шотландского ду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56360" y="3284640"/>
            <a:ext cx="2394000" cy="2663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27640" y="6021360"/>
            <a:ext cx="43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таринный замок в окрестностях Эдин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16000" y="4797360"/>
            <a:ext cx="2952720" cy="1843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 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1547640" y="2997360"/>
            <a:ext cx="4104000" cy="1649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селение Шотланд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воря о населении Шотландии, нельзя не остановиться на любви шотландцев к собакам. По-видимому, она зародилась еще в те времена, когда большинство шотландцев были земледельцами, пасту-хами, охот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мире славятся собаки следующих шотландских пор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003640" y="1484280"/>
            <a:ext cx="388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Кол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732720" y="1628640"/>
            <a:ext cx="2006640" cy="2233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3280" y="4508640"/>
            <a:ext cx="1965600" cy="2187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732720" y="3933720"/>
            <a:ext cx="2030400" cy="2259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859280" y="3645000"/>
            <a:ext cx="180036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Шотландский    сет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32720" y="616572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котч-терь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селение Шотланд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7372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ыкальная культура шотландцев восходит к народной песенно-танце-вальной культуре племен, населявших Шотландию в прош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естрели и лютнисты, странствующие кельтские народные певцы-барды сопровождали песни и танцы игрой на арфе и волы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олын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– основной национальный инструмент Шотландии.  Под ее звуки в давние времена шотландцы побеждали врагов. В настоящее время в каждом городе страны есть свой оркестр волынщ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867280" y="4221000"/>
            <a:ext cx="2175120" cy="2421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867280" y="1628640"/>
            <a:ext cx="2135160" cy="237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419640" y="630864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ол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Шотландские клан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44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авна социальная организация шотландского общества, особенно во Взгорьях, определялась клановой сис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лан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группа семей, носящих одну фамилию (Мак-Дональды – сыновья Дональда. «Мак» - сын) и имеющих общих пред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кланов популярна и до сих пор, но сохранилась она больше как национальная традиция шотланд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dance1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724360" y="1844640"/>
            <a:ext cx="2592720" cy="18288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651640" y="3933720"/>
            <a:ext cx="3024000" cy="2676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51280" y="27756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циональный шотландский костюм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19640" y="1628280"/>
            <a:ext cx="5194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Шотландии клановая принадлежность определяется по костюму, особенно мужскому кил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Кил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шотландская юбка, которую шьют из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тарт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специальной шерстяной, хлопчатобумажной и даже шелковой ткани с рисунком в крупную клетку. Каждый клан  имеет определенный цвет и символику тартана, которые применяются на килтах и пледах. Надеть чужие цвета недопустимо – это считается социальным наруш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4508640"/>
            <a:ext cx="835344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радиционно, кроме килта, в шотландский национальный костюм входя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видовый пиджа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инные чул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ерет, который носят сдвинутым на б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жаный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спор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кошелек, висящий на узком ремешке, охватывающем бед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ж также является деталью костюма. Истинный горец располагает  его за своим правым чул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19392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орски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71640" y="1773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ротяжении многих веков шотландцы мерялись своей силой на  спортивных соревнованиях, называемых Горскими собраниями (играми). Впервые они прошли еще в 105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 время Горских игр представители многочисленных шотландских кланов в национальных одеждах соревнуются в силе, ловкости, умении танцевать и играть на волы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оревнованиях может принять участие каждый желаю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843280" y="4437000"/>
            <a:ext cx="3529080" cy="21510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med">
    <p:circl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орские игр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иды соревнований на горских игр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2232360" cy="21445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971640" y="4365720"/>
            <a:ext cx="30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олкания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ам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й вес камня составляет: от 8 до 11 кг для мужчин и от 4 до 6 кг для женщ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659640" y="2060640"/>
            <a:ext cx="2063520" cy="20876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4716360" y="4292640"/>
            <a:ext cx="395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 в виде металлической гири должен подбрасываться только одной ру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ий вес составляет: 28 кг для мужчин и 14 кг для женщ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220500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тание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яжестей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сстоя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орские игр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1676520" cy="24476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6659640" y="177336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дбрасывание стол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92360" y="1628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Метание моло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213372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ловка молота - сферической формы  из металла, а ручка из дерева, бамбука или пласт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ий вес молота составляет: от 8  до 10 кг для мужчин и от 6  до 8 кг для женщ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64000" y="4581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ревянный столб длиной 4-5 м и весом 30-70 кг должен в броске вверх переверну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19280" y="4292640"/>
            <a:ext cx="287640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ликие шотландц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опилку общечеловеческих ценностей шотландцы внесли свой весомый вкла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т краткий перечень имен наиболее известных представителей шотландского нар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smit1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1612800" cy="16556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3132000" y="314172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дам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Смит.</a:t>
            </a:r>
            <a:r>
              <a:rPr b="0" i="1" lang="en-US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отландский экономист и философ, видный представитель классической буржуазной политической эконом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kelvin" descr=""/>
          <p:cNvPicPr/>
          <p:nvPr/>
        </p:nvPicPr>
        <p:blipFill>
          <a:blip r:embed="rId4"/>
          <a:stretch/>
        </p:blipFill>
        <p:spPr>
          <a:xfrm>
            <a:off x="1116000" y="4941720"/>
            <a:ext cx="1555920" cy="17272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3203640" y="4653000"/>
            <a:ext cx="5616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Вильям Кельв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и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л науку термодинамику, сформулировал второй закон термодинамики и внедрил шкалу (Кельвина) абсолютных температур, изобрел зеркальный гальванометр, приемник телеграмм и руководил прокладкой телеграфного кабеля через Атлантический оке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0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ликие шотландц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2070000" cy="2305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1874880" cy="2085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187280" y="393372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00"/>
                </a:solidFill>
                <a:uFillTx/>
                <a:latin typeface="Arial"/>
              </a:rPr>
              <a:t>Сэр Вальтер Скотт</a:t>
            </a:r>
            <a:r>
              <a:rPr b="0" lang="en-US" sz="1800" spc="-1" strike="noStrike" u="sng">
                <a:solidFill>
                  <a:srgbClr val="990000"/>
                </a:solidFill>
                <a:uFillTx/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английский писа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386064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00"/>
                </a:solidFill>
                <a:uFillTx/>
                <a:latin typeface="Arial"/>
              </a:rPr>
              <a:t>Бернс Робер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отландский поэ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5084640"/>
            <a:ext cx="55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ровую известность приобрел представитель позднего романтизма,  создатель  авантюрн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исторических романов </a:t>
            </a:r>
            <a:r>
              <a:rPr b="1" lang="en-US" sz="1800" spc="-1" strike="noStrike" u="sng">
                <a:solidFill>
                  <a:srgbClr val="990000"/>
                </a:solidFill>
                <a:uFillTx/>
                <a:latin typeface="Arial"/>
              </a:rPr>
              <a:t>Роберт Льюис Стивенсо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258920" y="4724280"/>
            <a:ext cx="174780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33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посвящена проблеме влияния физико-географических и исторических условий территории на формирование национального характера нар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ей рассматриваются следующ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ческое положение Шотландии и история формирования ее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циональный характер шотландцев на примере социального устройства общества, костюмов, тради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ие шотланд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5060880"/>
          <a:ext cx="114948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60880"/>
                    <a:ext cx="11494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ликие шотландц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4" name="livingston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1736640" cy="23032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195" name="lipton" descr=""/>
          <p:cNvPicPr/>
          <p:nvPr/>
        </p:nvPicPr>
        <p:blipFill>
          <a:blip r:embed="rId2"/>
          <a:stretch/>
        </p:blipFill>
        <p:spPr>
          <a:xfrm>
            <a:off x="755640" y="4653000"/>
            <a:ext cx="1461960" cy="1942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2556000" y="177336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Дави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Ливингстон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нглийский исследователь Афри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40000" y="4653000"/>
            <a:ext cx="3025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Томас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Липт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родитель маркетинга и основатель фир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fleming" descr=""/>
          <p:cNvPicPr/>
          <p:nvPr/>
        </p:nvPicPr>
        <p:blipFill>
          <a:blip r:embed="rId8"/>
          <a:stretch/>
        </p:blipFill>
        <p:spPr>
          <a:xfrm>
            <a:off x="4572000" y="1773360"/>
            <a:ext cx="1727280" cy="23763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6443640" y="1773360"/>
            <a:ext cx="2232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Александр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ем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ец  микробио-логии и изобре-татель пеницил-л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19640" y="5950080"/>
            <a:ext cx="37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жон Бойд Данло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невматической ш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danlop" descr=""/>
          <p:cNvPicPr/>
          <p:nvPr/>
        </p:nvPicPr>
        <p:blipFill>
          <a:blip r:embed="rId10"/>
          <a:stretch/>
        </p:blipFill>
        <p:spPr>
          <a:xfrm>
            <a:off x="6948360" y="4365720"/>
            <a:ext cx="1468440" cy="15825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ликие шотландц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3" name="carnegie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1841400" cy="23191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55640" y="4005360"/>
            <a:ext cx="36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Эндрю Карне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лавился как один из самых успешных предприни-мателей Америки, прошедший путь от простого бедняка-иммигранта до промышленного магната и филантроп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bell1" descr=""/>
          <p:cNvPicPr/>
          <p:nvPr/>
        </p:nvPicPr>
        <p:blipFill>
          <a:blip r:embed="rId3"/>
          <a:stretch/>
        </p:blipFill>
        <p:spPr>
          <a:xfrm>
            <a:off x="6300720" y="1700280"/>
            <a:ext cx="1604880" cy="21603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5148360" y="4076640"/>
            <a:ext cx="3600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Александр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Грем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 Бел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ёный и изобретатель, посвятивший свою жизнь обучению глухих люд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876 году получил патент на свой первый телеф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ликие шотландц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8" name="brown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403280" y="1773360"/>
            <a:ext cx="2108160" cy="25207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826920" y="4437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Роберт Броу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отландский ботаник. Открыл  Броуновское дви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simpson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2016360" cy="20890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5219640" y="4221000"/>
            <a:ext cx="3313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Джеймс Симпс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ервые использовал хлороформ в медиц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ликие шотландц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3" name="imgbyid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2013120" cy="25923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214" name="bmclaren" descr=""/>
          <p:cNvPicPr/>
          <p:nvPr/>
        </p:nvPicPr>
        <p:blipFill>
          <a:blip r:embed="rId2"/>
          <a:stretch/>
        </p:blipFill>
        <p:spPr>
          <a:xfrm>
            <a:off x="6012000" y="1989000"/>
            <a:ext cx="1993680" cy="23767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826920" y="4653000"/>
            <a:ext cx="38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жеймс Клер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ксвелл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ританский физик, создатель классической электродинамики, один из основателей статической физ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24360" y="4724280"/>
            <a:ext cx="29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Брюс Мак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Ларен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щик, инженер-автомобилестроитель  и основатель всем извест-ной коман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ликие шотландц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746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Джеймс Чалмерс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обрел приклеивающуюся почтовую мар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46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ратья Макдоналд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оздатели сети «быстрых» закусоч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46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арльз Макинто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Шотландский химик, который в 1823 го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обрел прорезиненную тка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46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жейм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атт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глийский изобретатель, создатель универсальной паровой маш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46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ильям Мерд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Изобретатель и производитель газовых фонар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46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00"/>
                </a:solidFill>
                <a:uFillTx/>
                <a:latin typeface="Arial"/>
              </a:rPr>
              <a:t>Дэвид Бревстер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обретатель калейдоско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46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котт Мак-Ни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а компании Sun Micro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19280" y="6237360"/>
            <a:ext cx="72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аключение хочется сказать, что обычаи и традиции  народов, предметы и явления их духовной и материальной жизни являются ярким проявлением национального д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традиция и обычай жизненно оправданы, и за формой, подчас удивительной для остальных, скрывается глубоко скрытый смысл и рациональное зер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наш взгляд, основными факторами, повлиявшими на  формирование рассмотренных выше национальных особенностей  шотландцев, являются физико-географические условия территории и исторические реали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700360" y="5013360"/>
            <a:ext cx="4033800" cy="1596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изико-географические условия Шотланд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88000" y="22046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отландия – админист-ративно-политическая часть Великобритании. Занимает северную часть острова Великобритания и прилегающие остр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мывается водами Атлантического оке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лица - город Эдин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3121"/>
          <a:stretch/>
        </p:blipFill>
        <p:spPr>
          <a:xfrm>
            <a:off x="900000" y="1125360"/>
            <a:ext cx="3240360" cy="2832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0" t="2554" r="0" b="0"/>
          <a:stretch/>
        </p:blipFill>
        <p:spPr>
          <a:xfrm>
            <a:off x="900000" y="3860640"/>
            <a:ext cx="3240360" cy="2846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изико-географические условия Шотланд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38102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рельефе преобладают горы и низменные равн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имат морской – теплый и влаж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2392200" cy="2664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71640" y="3500280"/>
            <a:ext cx="3384360" cy="2525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0" y="4653000"/>
            <a:ext cx="417672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о рек и озер. Озера Лох-Ломонд и Лох-Несс («лох» по-шотландски озеро) знамениты легендами и старинными замками на своих бере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7480" y="290520"/>
            <a:ext cx="720864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селение Британских островов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0872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5040" algn="just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 Шотландии – череда набегов и завоевательных походов  сосе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пришла первая волна рейнских кельтов, вытеснивших древнее население Шотландии (пиктов)  к севе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ча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в.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Шотландию из Ирландии стали переселяться племена скоттов (по их имени названа Шотланди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tlan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трана скоттов). Это название утвердилось за Шотландией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были римляне, а в 450 г. у покоренных римлянами бриттов появляется новый враг – англы и саксы (племена германского побережья). Последняя волна завоевателей пришла из Скандинавии – это были норманны. Так формировался британский этн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ех пор на территории Британских островов существуют 4 различных народа: шотландцы, уэльсцы, англичане и ирланд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тивостояние Шотландии и Англ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936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редние века народ независимой Шотландии вел упорную борьбу за суверенитет, но в 1707 г. династия Стюартов присоединила Шот-ландию к Великобри-тании через личную унию, упразднив существовавший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парла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24360" y="4221000"/>
            <a:ext cx="2158920" cy="24037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24360" y="1700280"/>
            <a:ext cx="2149560" cy="23763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6156360" y="4653000"/>
            <a:ext cx="266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л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тюа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глийский король с 1625 г. Второй сын шотландского короля Якова VI Стюарта и Анны Датс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177336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юар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глийский король с 1603 года, шотланд-ский король (под именем Якова VI) с 1567 года. Из династии Стюартов, сын Марии Стюар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тивостояние Шотландии и Англ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419200"/>
                <a:tab algn="l" pos="268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ым государственным флагом Англии и Шотландии стал «Юнион Джек», объединивший английский флаг Св. Георгия и  шотландский флаг Св.Андр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219640" y="2781360"/>
            <a:ext cx="3313080" cy="2047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Андрей на русской иконе"/>
          <p:cNvPicPr/>
          <p:nvPr/>
        </p:nvPicPr>
        <p:blipFill>
          <a:blip r:embed="rId2"/>
          <a:stretch/>
        </p:blipFill>
        <p:spPr>
          <a:xfrm>
            <a:off x="900000" y="2852640"/>
            <a:ext cx="2525760" cy="3357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48000" y="557856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вятой Анд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501336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ациональный флаг Шотланд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тивостояние Шотландии и Англ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 об унии 1707 г. подвел черту под почти 9-вековой историей Шотландии как независимого государства. Однако, она не была завоев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ла сохранена собственная церковь (пресвитерианская), свой свод законов и судебная 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4437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564000" y="3284640"/>
            <a:ext cx="2135160" cy="2376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227640" y="2924280"/>
            <a:ext cx="2536920" cy="3789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селение Шотланд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селение современной Шотландии  составляет около 10 млн. человек. Государственный язык – английский, также употребляется древний диалект гэльского язы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«Низинах» (южных частях Шотландии) проживает большинство населения, и лишь 250 тыс. человек приходится на ее северо-западную половину, которую здесь называют «Взгорьями». Между Взгорьями и Низинами всегда существовал и существует до сих пор разительный контраст, причем не только географическ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volinka_sm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00000" y="4221000"/>
            <a:ext cx="1941480" cy="183852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708360" y="3789360"/>
            <a:ext cx="2556000" cy="2708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7020000" y="3789360"/>
            <a:ext cx="1504800" cy="26640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med">
    <p:circl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11:13:23Z</dcterms:created>
  <dc:creator>Елена</dc:creator>
  <dc:description/>
  <dc:language>en-US</dc:language>
  <cp:lastModifiedBy>Интернет</cp:lastModifiedBy>
  <dcterms:modified xsi:type="dcterms:W3CDTF">2008-11-01T18:10:04Z</dcterms:modified>
  <cp:revision>26</cp:revision>
  <dc:subject/>
  <dc:title>Муниципальное общеобразовательное учреждение «Гимназия № 3» г. Белгорода</dc:title>
</cp:coreProperties>
</file>