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755C-02EB-4D4C-A702-9889C94410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2C51-C631-4F15-8C56-186E917C06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845-A2A9-430B-89B5-08869AF1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2A1-7273-45BB-96F3-C058C010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1C1-BEE4-4300-BF19-F1BED38A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177-E185-4DB1-8B4C-CA80B296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7683-5B72-47A3-B378-2CB1B3E6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B67F-604E-4400-AAA3-5C343A81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EF16-D925-4219-9E0D-E1BB6794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D25-AD6B-4BAB-81C5-40B882BB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955-FAD0-4FAB-B5D0-C0F50A9B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176-1D46-4BF4-9522-3857F522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311-3B7A-4A22-9AB9-C8B8AD14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6C9-691D-4C51-8E05-166D9863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9813-8D2B-40E7-9190-C26768DF2E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ova.pp.ru/" TargetMode="External"/><Relationship Id="rId2" Type="http://schemas.openxmlformats.org/officeDocument/2006/relationships/hyperlink" Target="http://sova.pp.ru/" TargetMode="External"/><Relationship Id="rId3" Type="http://schemas.openxmlformats.org/officeDocument/2006/relationships/hyperlink" Target="http://sova.pp.ru/index.php?gid=83" TargetMode="External"/><Relationship Id="rId4" Type="http://schemas.openxmlformats.org/officeDocument/2006/relationships/hyperlink" Target="http://images.yandex.ru/" TargetMode="External"/><Relationship Id="rId5" Type="http://schemas.openxmlformats.org/officeDocument/2006/relationships/hyperlink" Target="http://www.libex.ru/?cat_page=2&amp;pg=4870" TargetMode="External"/><Relationship Id="rId6" Type="http://schemas.openxmlformats.org/officeDocument/2006/relationships/hyperlink" Target="http://www.mosjour.ru/index.php?id=63&amp;rubrika=&#1044;&#1072;&#1083;&#1077;&#1082;&#1086;&#1077;%20&#1080;%20&#1073;&#1083;&#1080;&#1079;&#1082;&#1086;&#1077;" TargetMode="External"/><Relationship Id="rId7" Type="http://schemas.openxmlformats.org/officeDocument/2006/relationships/hyperlink" Target="http://www.libex.ru/?cat_page=2&amp;pg=4870" TargetMode="External"/><Relationship Id="rId8" Type="http://schemas.openxmlformats.org/officeDocument/2006/relationships/hyperlink" Target="http://naturelight.ru/show_photo/7323.html" TargetMode="External"/><Relationship Id="rId9" Type="http://schemas.openxmlformats.org/officeDocument/2006/relationships/hyperlink" Target="http://swetlanka.ru/?p=4727" TargetMode="External"/><Relationship Id="rId10" Type="http://schemas.openxmlformats.org/officeDocument/2006/relationships/hyperlink" Target="http://forum.exler.ru/lofiversion/index.php/t171292.html" TargetMode="External"/><Relationship Id="rId11" Type="http://schemas.openxmlformats.org/officeDocument/2006/relationships/hyperlink" Target="http://basik.ru/photo_animals/owls_8" TargetMode="External"/><Relationship Id="rId12" Type="http://schemas.openxmlformats.org/officeDocument/2006/relationships/hyperlink" Target="http://photo.99px.ru/i/?pid=15494" TargetMode="External"/><Relationship Id="rId13" Type="http://schemas.openxmlformats.org/officeDocument/2006/relationships/hyperlink" Target="http://cactu.beon.ru/9035-152-obschjaja-kucha.zhtml" TargetMode="External"/><Relationship Id="rId14" Type="http://schemas.openxmlformats.org/officeDocument/2006/relationships/hyperlink" Target="http://est.yvi.kz/tag/&#1052;&#1099;&#1096;&#1082;&#1080;-&#1087;&#1086;&#1083;&#1105;&#1074;&#1082;&#1080;/" TargetMode="External"/><Relationship Id="rId15" Type="http://schemas.openxmlformats.org/officeDocument/2006/relationships/hyperlink" Target="http://www.eka-mama.ru/forum/part277/topic261102" TargetMode="External"/><Relationship Id="rId16" Type="http://schemas.openxmlformats.org/officeDocument/2006/relationships/hyperlink" Target="http://est.yvi.kz/tag/&#1052;&#1099;&#1096;&#1082;&#1080;-&#1087;&#1086;&#1083;&#1105;&#1074;&#1082;&#1080;/" TargetMode="External"/><Relationship Id="rId17" Type="http://schemas.openxmlformats.org/officeDocument/2006/relationships/hyperlink" Target="http://www.proshkolu.ru/tag/5566/" TargetMode="External"/><Relationship Id="rId18" Type="http://schemas.openxmlformats.org/officeDocument/2006/relationships/hyperlink" Target="http://nkozlov.ru/library/s318/d2615/" TargetMode="External"/><Relationship Id="rId19" Type="http://schemas.openxmlformats.org/officeDocument/2006/relationships/hyperlink" Target="http://aroma-vita.com.ua/forum/index.php?autocom=thanks&amp;type=history&amp;mid=499&amp;st=250" TargetMode="External"/><Relationship Id="rId20" Type="http://schemas.openxmlformats.org/officeDocument/2006/relationships/hyperlink" Target="http://www.littorina.narod.ru/Kandalaksha/Kandalaksha/statia.html" TargetMode="External"/><Relationship Id="rId2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kspu.karelia.ru/projects/ecology_science/site.pub1.files/image028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hyperlink" Target="http://www.myltik.ru/db/rus/k/kak_de_velikoe_ravnovesie_narushil.jpg" TargetMode="External"/><Relationship Id="rId8" Type="http://schemas.openxmlformats.org/officeDocument/2006/relationships/image" Target="../media/image2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рок литературного чтения во 2 классе по учебнику  Л.Ф.Климановой,В.Г.Горецкого, М.В.Головановой по теме «В.В.Бианки. «Сов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http://im7-tub-ru.yandex.net/i?id=278855871-08-72"/>
          <p:cNvPicPr/>
          <p:nvPr/>
        </p:nvPicPr>
        <p:blipFill>
          <a:blip r:embed="rId1"/>
          <a:stretch/>
        </p:blipFill>
        <p:spPr>
          <a:xfrm>
            <a:off x="839880" y="2112840"/>
            <a:ext cx="221940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оследние годы жизни Бианки тяжело болел – у него были полностью парализованы ноги и частично руки. Однако у него по-прежнему собирались писатели, считавшие его своим учителем, проходили заседания редколлегии «Вести из леса». Он участвовал в написании сценариев для кинофильмов, мультфильмов и диафильмов о природе, в память о своем любимом писателе А.Грине мечтал создать клуб «Алые парус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35 лет творческой работы Бианки создал более 300 рассказов, сказок, повестей, очерков и статей. Всю жизнь он вел дневники и натуралистические заметки, отвечал на множество читательских писем. Его произведения были изданы общим тиражом более 40 млн. экземпляров, переведены на многие языки ми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задолго до смерти Бианки писал в предисловии к одной из своих книг: «Я всегда старался писать свои сказки и рассказы так, чтобы они были доступны и взрослым. А теперь понял, что всю жизнь писал и для взрослых, сохранивших в душе ребенка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-main-pic" descr="Картинка 63 из 66041"/>
          <p:cNvPicPr/>
          <p:nvPr/>
        </p:nvPicPr>
        <p:blipFill>
          <a:blip r:embed="rId1"/>
          <a:stretch/>
        </p:blipFill>
        <p:spPr>
          <a:xfrm>
            <a:off x="2340000" y="189000"/>
            <a:ext cx="4319640" cy="1871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флексия деятельности на урок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чите  предло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егодня я узнал …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Было интересно …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Урок дал мне для жизни….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     информац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ova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.pp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›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index.php?gid=8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images.yandex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mosjou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ttp://www.libex.ru/?cat_page=2&amp;pg=48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naturelight.ru/show_photo/732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swetlanka.ru/?p=47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forum.exler.ru/lofiversion/index.php/t17129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basik.ru/photo_animals/owls_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photo.99px.ru/i/?pid=154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cactu.beon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est.yvi.kz/tag/Мышки-полёвки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ww.eka-mama.ru/forum/part277/topic261102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est.yvi.kz/tag/Мышки-полёвки/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 http://www.proshkolu.ru/tag/5566/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 nkozlov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http://aroma-vita.com.ua/forum/index.php?autocom=thanks&amp;type=history&amp;mid=499&amp;st=250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www.littorina.narod.ru/Kandalaksha/Kandalaksha/stat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http://www.travniku.ru/zdr/lekarstvennyie-rasteniya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lori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www.birdsmoscow.net.ru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grafic.narod.ru›index-67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kinocomment.ru/index-p3352.html http://www.kspu.karelia.ru/projects/ecology_science/site.pub1.files/page0002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6127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то эт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ем слепа, ночью зряча, мышей ловит, а не ко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ю ночь летает — мышей добывает, а станет светло — спать летит в дупл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-main-pic" descr="Картинка 1 из 30383"/>
          <p:cNvPicPr/>
          <p:nvPr/>
        </p:nvPicPr>
        <p:blipFill>
          <a:blip r:embed="rId1"/>
          <a:stretch/>
        </p:blipFill>
        <p:spPr>
          <a:xfrm>
            <a:off x="2195640" y="4292640"/>
            <a:ext cx="3024000" cy="20001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http://www.russianrealty.ru/upload/main/a80/a80f364727043a49b5836a6631aee451.jpg"/>
          <p:cNvPicPr/>
          <p:nvPr/>
        </p:nvPicPr>
        <p:blipFill>
          <a:blip r:embed="rId2"/>
          <a:stretch/>
        </p:blipFill>
        <p:spPr>
          <a:xfrm>
            <a:off x="5651640" y="4292640"/>
            <a:ext cx="2089080" cy="1871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.В. Бианки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1894-195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40384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емья Бианки жила в одном из флигелей Зоологического музея Петербурга, и конечно, Виталий с братьями часто бывали там. Настоящий музей был и в их квартире: у них жили 4 собаки, кошки, лиса; от пола до потолка стояли многочисленные клетки с птицами, в аквариуме жили рыбки, а в террариуме – черепахи, ящерицы и змеи. Лето вся семья Бианки проводила в деревне Лебяжь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6560" y="4005360"/>
            <a:ext cx="785988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лавная тема его произведений – лес и его обитатели. Всё                       написанное Виталием Валентиновичем Бианки – от первой сказки «Путешествие красноголового воробья» (1923) до последней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Гоголенок» (1959) – это увлекательное путешествие в лесной    мир природы, где писатель становится волшебником и поэтом, натуралистом и ученым, проводником и переводчиком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9" descr="http://im4-tub-ru.yandex.net/i?id=424366461-30-72"/>
          <p:cNvPicPr/>
          <p:nvPr/>
        </p:nvPicPr>
        <p:blipFill>
          <a:blip r:embed="rId1"/>
          <a:stretch/>
        </p:blipFill>
        <p:spPr>
          <a:xfrm>
            <a:off x="4716360" y="1690560"/>
            <a:ext cx="3095640" cy="1809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Картинка 1 из 12"/>
          <p:cNvPicPr/>
          <p:nvPr/>
        </p:nvPicPr>
        <p:blipFill>
          <a:blip r:embed="rId2"/>
          <a:stretch/>
        </p:blipFill>
        <p:spPr>
          <a:xfrm>
            <a:off x="0" y="4149720"/>
            <a:ext cx="1332000" cy="2060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ва в культур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267920"/>
            <a:ext cx="40402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шастая с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нём в ветв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ны космато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зле самого ствол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чно столбик сучковаты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млет чуткая со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ранжевых глазищах*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ки серые сомкне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"Ушки" длинные встопорщит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рпеливо ночи ждё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 Шил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ты о со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565000"/>
            <a:ext cx="4041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много сов — урожай будет хорош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ыч кричит ночью перед дождем и холодом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ин кричит на оттепел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а в дупле — на ветер, в сушняке — к дожд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а кричит — на хол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http://im8-tub-ru.yandex.net/i?id=385024936-29-72"/>
          <p:cNvPicPr/>
          <p:nvPr/>
        </p:nvPicPr>
        <p:blipFill>
          <a:blip r:embed="rId1"/>
          <a:stretch/>
        </p:blipFill>
        <p:spPr>
          <a:xfrm>
            <a:off x="1116000" y="5157720"/>
            <a:ext cx="2771640" cy="1413000"/>
          </a:xfrm>
          <a:prstGeom prst="rect">
            <a:avLst/>
          </a:prstGeom>
          <a:ln w="0">
            <a:noFill/>
          </a:ln>
        </p:spPr>
      </p:pic>
      <p:pic>
        <p:nvPicPr>
          <p:cNvPr id="66" name="i-main-pic" descr="Картинка 54 из 8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75640" y="189000"/>
            <a:ext cx="1728720" cy="1800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  вы   знает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давних пор сова считалась символом мудрости и знаний. У древних греков она была священной птицей богини мудрости Афины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 многих местностях России к сове относились радушно. В сказках ее звали «совушкой-вдовушкой», белокурой, разумной головушко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книгах Дж. Роулинг о Гарри Поттере совы используются как средство связи между волшебниками (совиная почт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ами также называют людей, которые привыкли поздно ложиться спать и поздно вставать (в отличие от жаворон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12" descr="http://im4-tub-ru.yandex.net/i?id=32718129-26-72"/>
          <p:cNvPicPr/>
          <p:nvPr/>
        </p:nvPicPr>
        <p:blipFill>
          <a:blip r:embed="rId1"/>
          <a:stretch/>
        </p:blipFill>
        <p:spPr>
          <a:xfrm>
            <a:off x="324000" y="0"/>
            <a:ext cx="2016000" cy="135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можно заменить слова и выражения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текае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убега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кормовист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клевер, предназначенный для корма ско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цветен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пыльца, мельчайшие жёлтые зёрныш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ронитьс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прятаться, таить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здоль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много мес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бы худа не вышло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бы беды не был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ай бели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добавлять молоко в ча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йло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питательное питьё для скот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-main-pic" descr="Картинка 164 из 40321"/>
          <p:cNvPicPr/>
          <p:nvPr/>
        </p:nvPicPr>
        <p:blipFill>
          <a:blip r:embed="rId1"/>
          <a:stretch/>
        </p:blipFill>
        <p:spPr>
          <a:xfrm>
            <a:off x="6948360" y="836640"/>
            <a:ext cx="2195640" cy="1484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2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8" dur="2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почка взаимосвяз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а —мыши —шмели —клевер —корова —молоко – ч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43" descr="http://im5-tub-ru.yandex.net/i?id=87507193-44-72"/>
          <p:cNvPicPr/>
          <p:nvPr/>
        </p:nvPicPr>
        <p:blipFill>
          <a:blip r:embed="rId1"/>
          <a:stretch/>
        </p:blipFill>
        <p:spPr>
          <a:xfrm>
            <a:off x="1042920" y="1628640"/>
            <a:ext cx="14288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8" descr="http://im8-tub-ru.yandex.net/i?id=450046799-61-72"/>
          <p:cNvPicPr/>
          <p:nvPr/>
        </p:nvPicPr>
        <p:blipFill>
          <a:blip r:embed="rId2"/>
          <a:stretch/>
        </p:blipFill>
        <p:spPr>
          <a:xfrm>
            <a:off x="1116000" y="278136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0" descr="http://im3-tub-ru.yandex.net/i?id=309513150-54-72"/>
          <p:cNvPicPr/>
          <p:nvPr/>
        </p:nvPicPr>
        <p:blipFill>
          <a:blip r:embed="rId3"/>
          <a:stretch/>
        </p:blipFill>
        <p:spPr>
          <a:xfrm>
            <a:off x="7596360" y="256536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7" descr="http://im3-tub-ru.yandex.net/i?id=310301141-03-72"/>
          <p:cNvPicPr/>
          <p:nvPr/>
        </p:nvPicPr>
        <p:blipFill>
          <a:blip r:embed="rId4"/>
          <a:stretch/>
        </p:blipFill>
        <p:spPr>
          <a:xfrm>
            <a:off x="4427640" y="155736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8" descr="http://im8-tub-ru.yandex.net/i?id=290781920-46-72"/>
          <p:cNvPicPr/>
          <p:nvPr/>
        </p:nvPicPr>
        <p:blipFill>
          <a:blip r:embed="rId5"/>
          <a:stretch/>
        </p:blipFill>
        <p:spPr>
          <a:xfrm>
            <a:off x="6300720" y="1413000"/>
            <a:ext cx="1057320" cy="14284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9" descr="http://im2-tub-ru.yandex.net/i?id=321281547-44-72"/>
          <p:cNvPicPr/>
          <p:nvPr/>
        </p:nvPicPr>
        <p:blipFill>
          <a:blip r:embed="rId6"/>
          <a:stretch/>
        </p:blipFill>
        <p:spPr>
          <a:xfrm>
            <a:off x="2700360" y="1413000"/>
            <a:ext cx="1428840" cy="1199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9"/>
          <p:cNvSpPr/>
          <p:nvPr/>
        </p:nvSpPr>
        <p:spPr>
          <a:xfrm>
            <a:off x="2286000" y="5013360"/>
            <a:ext cx="487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становление содержания рассказа по деформированному пла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ссердилась со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ыши по лугу рыщут, шмелиные гнёзда ищу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Шмели на чужих лугах гуляю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лока у Коровы мал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шел Старик Сове кланять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стила Сова Старика и полетела на луг мышей лов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-main-pic" descr="Картинка 47 из 40322"/>
          <p:cNvPicPr/>
          <p:nvPr/>
        </p:nvPicPr>
        <p:blipFill>
          <a:blip r:embed="rId1"/>
          <a:stretch/>
        </p:blipFill>
        <p:spPr>
          <a:xfrm>
            <a:off x="4788000" y="1628640"/>
            <a:ext cx="1512720" cy="1886040"/>
          </a:xfrm>
          <a:prstGeom prst="rect">
            <a:avLst/>
          </a:prstGeom>
          <a:ln w="0">
            <a:noFill/>
          </a:ln>
        </p:spPr>
      </p:pic>
      <p:pic>
        <p:nvPicPr>
          <p:cNvPr id="86" name="i-tmb-0x" descr="http://im2-tub-ru.yandex.net/i?id=19541718-39-72"/>
          <p:cNvPicPr/>
          <p:nvPr/>
        </p:nvPicPr>
        <p:blipFill>
          <a:blip r:embed="rId2"/>
          <a:stretch/>
        </p:blipFill>
        <p:spPr>
          <a:xfrm>
            <a:off x="4859280" y="3573360"/>
            <a:ext cx="1789200" cy="11685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1" descr="http://im5-tub-ru.yandex.net/i?id=447776508-04-72"/>
          <p:cNvPicPr/>
          <p:nvPr/>
        </p:nvPicPr>
        <p:blipFill>
          <a:blip r:embed="rId3"/>
          <a:stretch/>
        </p:blipFill>
        <p:spPr>
          <a:xfrm>
            <a:off x="3203640" y="501336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88" name="i-tmb-0x" descr="http://im0-tub-ru.yandex.net/i?id=324221489-10-72"/>
          <p:cNvPicPr/>
          <p:nvPr/>
        </p:nvPicPr>
        <p:blipFill>
          <a:blip r:embed="rId4"/>
          <a:stretch/>
        </p:blipFill>
        <p:spPr>
          <a:xfrm>
            <a:off x="5364000" y="4941720"/>
            <a:ext cx="1428840" cy="1200240"/>
          </a:xfrm>
          <a:prstGeom prst="rect">
            <a:avLst/>
          </a:prstGeom>
          <a:ln w="0">
            <a:noFill/>
          </a:ln>
        </p:spPr>
      </p:pic>
      <p:pic>
        <p:nvPicPr>
          <p:cNvPr id="89" name="i-main-pic" descr="Картинка 146 из 157"/>
          <p:cNvPicPr/>
          <p:nvPr/>
        </p:nvPicPr>
        <p:blipFill>
          <a:blip r:embed="rId5"/>
          <a:stretch/>
        </p:blipFill>
        <p:spPr>
          <a:xfrm>
            <a:off x="6300720" y="1628640"/>
            <a:ext cx="2374920" cy="1952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1" descr="http://im6-tub-ru.yandex.net/i?id=561217980-11-72"/>
          <p:cNvPicPr/>
          <p:nvPr/>
        </p:nvPicPr>
        <p:blipFill>
          <a:blip r:embed="rId6"/>
          <a:stretch/>
        </p:blipFill>
        <p:spPr>
          <a:xfrm>
            <a:off x="6742080" y="3645000"/>
            <a:ext cx="1933560" cy="1214280"/>
          </a:xfrm>
          <a:prstGeom prst="rect">
            <a:avLst/>
          </a:prstGeom>
          <a:ln w="0">
            <a:noFill/>
          </a:ln>
        </p:spPr>
      </p:pic>
      <p:pic>
        <p:nvPicPr>
          <p:cNvPr id="91" name="i-main-pic" descr="Картинка 11 из 8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380360" y="5084640"/>
            <a:ext cx="1238040" cy="943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ереводчики с бессловесного» – так он называл себя и своих собратьев по перу, писателей, которые тоже писали о животны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сё написанное Бианки – это праздник узна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«сказки-несказки», развивающие традиции народных сказок («Теремок», «Лис и мышонок», «Лесные домишки», «Красная горна», «Люля», «Сова» и другие), короткие рассказы («Первая охота», «Чьи это ноги?», «Кто, чем поет?», Чей нос лучше?» и другие), повести («Одинец», «Аскыр», и др.), содержат массу достоверного и правдивого материала о приро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.В.Бианки о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ец рано начал брать меня с собой в лес.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н каждую травку, каждую птицу и зверушку называл мне по имени, отчеству и фамил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Учил меня узнавать птиц по виду, по голосу, по полёту, разыскивать самые скрытые гнёзда. Учил по тысяче  примет находить тайно от человека живущих зверей. И – самое главное – с детства приучал все свои наблюдения записывать. Так приучил, что это вошло у меня в привычку на всю жизнь», отмечал В.В.Биа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8:55:43Z</dcterms:created>
  <dc:creator>Арсланова Фатыма</dc:creator>
  <dc:description/>
  <dc:language>en-US</dc:language>
  <cp:lastModifiedBy>Таня</cp:lastModifiedBy>
  <dcterms:modified xsi:type="dcterms:W3CDTF">2015-02-06T19:20:31Z</dcterms:modified>
  <cp:revision>65</cp:revision>
  <dc:subject/>
  <dc:title>Слайд 1</dc:title>
</cp:coreProperties>
</file>