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3EB9-98C7-4A36-BB9A-BB2C79617B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112C-79B6-4048-9232-47FCF841B5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C95-103A-4E0F-8ABC-C4B97264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2345-712F-48C2-88B6-E67264E5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767-CC10-43C4-B786-31A7F5B3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319-1F6B-4ADF-9BE7-0552583D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4E35-B037-43C5-9AF6-DAC14C12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FEE5-E160-4314-86DA-F05A06D3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381-C787-4CD7-96BA-82DC808B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441-A2A8-4820-9787-4E68311D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85C-E912-4853-AA13-4B7DCE2A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7E3F-D5CE-4625-8C3E-097746A9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F530-2F9A-41DB-ACBE-9F324C70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F4E9-8C98-413B-8BC8-C4954925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0FB0-A2FD-457F-A184-6613603FAC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ova.pp.ru/" TargetMode="External"/><Relationship Id="rId2" Type="http://schemas.openxmlformats.org/officeDocument/2006/relationships/hyperlink" Target="http://sova.pp.ru/" TargetMode="External"/><Relationship Id="rId3" Type="http://schemas.openxmlformats.org/officeDocument/2006/relationships/hyperlink" Target="http://sova.pp.ru/index.php?gid=83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hyperlink" Target="http://www.libex.ru/?cat_page=2&amp;pg=4870" TargetMode="External"/><Relationship Id="rId6" Type="http://schemas.openxmlformats.org/officeDocument/2006/relationships/hyperlink" Target="http://www.mosjour.ru/index.php?id=63&amp;rubrika=&#1044;&#1072;&#1083;&#1077;&#1082;&#1086;&#1077;%20&#1080;%20&#1073;&#1083;&#1080;&#1079;&#1082;&#1086;&#1077;" TargetMode="External"/><Relationship Id="rId7" Type="http://schemas.openxmlformats.org/officeDocument/2006/relationships/hyperlink" Target="http://www.libex.ru/?cat_page=2&amp;pg=4870" TargetMode="External"/><Relationship Id="rId8" Type="http://schemas.openxmlformats.org/officeDocument/2006/relationships/hyperlink" Target="http://naturelight.ru/show_photo/7323.html" TargetMode="External"/><Relationship Id="rId9" Type="http://schemas.openxmlformats.org/officeDocument/2006/relationships/hyperlink" Target="http://swetlanka.ru/?p=4727" TargetMode="External"/><Relationship Id="rId10" Type="http://schemas.openxmlformats.org/officeDocument/2006/relationships/hyperlink" Target="http://forum.exler.ru/lofiversion/index.php/t171292.html" TargetMode="External"/><Relationship Id="rId11" Type="http://schemas.openxmlformats.org/officeDocument/2006/relationships/hyperlink" Target="http://basik.ru/photo_animals/owls_8" TargetMode="External"/><Relationship Id="rId12" Type="http://schemas.openxmlformats.org/officeDocument/2006/relationships/hyperlink" Target="http://photo.99px.ru/i/?pid=15494" TargetMode="External"/><Relationship Id="rId13" Type="http://schemas.openxmlformats.org/officeDocument/2006/relationships/hyperlink" Target="http://cactu.beon.ru/9035-152-obschjaja-kucha.zhtml" TargetMode="External"/><Relationship Id="rId14" Type="http://schemas.openxmlformats.org/officeDocument/2006/relationships/hyperlink" Target="http://est.yvi.kz/tag/&#1052;&#1099;&#1096;&#1082;&#1080;-&#1087;&#1086;&#1083;&#1105;&#1074;&#1082;&#1080;/" TargetMode="External"/><Relationship Id="rId15" Type="http://schemas.openxmlformats.org/officeDocument/2006/relationships/hyperlink" Target="http://www.eka-mama.ru/forum/part277/topic261102" TargetMode="External"/><Relationship Id="rId16" Type="http://schemas.openxmlformats.org/officeDocument/2006/relationships/hyperlink" Target="http://est.yvi.kz/tag/&#1052;&#1099;&#1096;&#1082;&#1080;-&#1087;&#1086;&#1083;&#1105;&#1074;&#1082;&#1080;/" TargetMode="External"/><Relationship Id="rId17" Type="http://schemas.openxmlformats.org/officeDocument/2006/relationships/hyperlink" Target="http://www.proshkolu.ru/tag/5566/" TargetMode="External"/><Relationship Id="rId18" Type="http://schemas.openxmlformats.org/officeDocument/2006/relationships/hyperlink" Target="http://nkozlov.ru/library/s318/d2615/" TargetMode="External"/><Relationship Id="rId19" Type="http://schemas.openxmlformats.org/officeDocument/2006/relationships/hyperlink" Target="http://aroma-vita.com.ua/forum/index.php?autocom=thanks&amp;type=history&amp;mid=499&amp;st=250" TargetMode="External"/><Relationship Id="rId20" Type="http://schemas.openxmlformats.org/officeDocument/2006/relationships/hyperlink" Target="http://www.littorina.narod.ru/Kandalaksha/Kandalaksha/statia.html" TargetMode="External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kspu.karelia.ru/projects/ecology_science/site.pub1.files/image028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hyperlink" Target="http://www.myltik.ru/db/rus/k/kak_de_velikoe_ravnovesie_narushil.jpg" TargetMode="External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рок литературного чтения во 2 классе по учебнику  Л.Ф.Климановой,В.Г.Горецкого, М.В.Головановой по теме «В.В.Бианки. «Сов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http://im7-tub-ru.yandex.net/i?id=278855871-08-72"/>
          <p:cNvPicPr/>
          <p:nvPr/>
        </p:nvPicPr>
        <p:blipFill>
          <a:blip r:embed="rId1"/>
          <a:stretch/>
        </p:blipFill>
        <p:spPr>
          <a:xfrm>
            <a:off x="839880" y="2112840"/>
            <a:ext cx="221940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оследние годы жизни Бианки тяжело болел – у него были полностью парализованы ноги и частично руки. Однако у него по-прежнему собирались писатели, считавшие его своим учителем, проходили заседания редколлегии «Вести из леса». Он участвовал в написании сценариев для кинофильмов, мультфильмов и диафильмов о природе, в память о своем любимом писателе А.Грине мечтал создать клуб «Алые парус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35 лет творческой работы Бианки создал более 300 рассказов, сказок, повестей, очерков и статей. Всю жизнь он вел дневники и натуралистические заметки, отвечал на множество читательских писем. Его произведения были изданы общим тиражом более 40 млн. экземпляров, переведены на многие языки ми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задолго до смерти Бианки писал в предисловии к одной из своих книг: «Я всегда старался писать свои сказки и рассказы так, чтобы они были доступны и взрослым. А теперь понял, что всю жизнь писал и для взрослых, сохранивших в душе ребенк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i-main-pic" descr="Картинка 63 из 66041"/>
          <p:cNvPicPr/>
          <p:nvPr/>
        </p:nvPicPr>
        <p:blipFill>
          <a:blip r:embed="rId1"/>
          <a:stretch/>
        </p:blipFill>
        <p:spPr>
          <a:xfrm>
            <a:off x="2340000" y="189000"/>
            <a:ext cx="4319640" cy="1871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флексия деятельности на уро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ончите  предлож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егодня я узнал …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Было интересно …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Урок дал мне для жизни….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     информац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ov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.pp.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›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index.php?gid=8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images.yandex.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mosjour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ttp://www.libex.ru/?cat_page=2&amp;pg=48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naturelight.ru/show_photo/732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swetlanka.ru/?p=47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forum.exler.ru/lofiversion/index.php/t17129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basik.ru/photo_animals/owls_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photo.99px.ru/i/?pid=154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cactu.beon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est.yvi.kz/tag/Мышки-полёвки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eka-mama.ru/forum/part277/topic261102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est.yvi.kz/tag/Мышки-полёвки/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 http://www.proshkolu.ru/tag/5566/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 nkozlov.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http://aroma-vita.com.ua/forum/index.php?autocom=thanks&amp;type=history&amp;mid=499&amp;st=250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http://www.littorina.narod.ru/Kandalaksha/Kandalaksha/statia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travniku.ru/zdr/lekarstvennyie-rasteniya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lori.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www.birdsmoscow.net.ru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grafic.narod.ru›index-67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kinocomment.ru/index-p3352.html http://www.kspu.karelia.ru/projects/ecology_science/site.pub1.files/page0002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6127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эт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нем слепа, ночью зряча, мышей ловит, а не к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ю ночь летает — мышей добывает, а станет светло — спать летит в дупл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-main-pic" descr="Картинка 1 из 30383"/>
          <p:cNvPicPr/>
          <p:nvPr/>
        </p:nvPicPr>
        <p:blipFill>
          <a:blip r:embed="rId1"/>
          <a:stretch/>
        </p:blipFill>
        <p:spPr>
          <a:xfrm>
            <a:off x="2195640" y="4292640"/>
            <a:ext cx="3024000" cy="20001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http://www.russianrealty.ru/upload/main/a80/a80f364727043a49b5836a6631aee451.jpg"/>
          <p:cNvPicPr/>
          <p:nvPr/>
        </p:nvPicPr>
        <p:blipFill>
          <a:blip r:embed="rId2"/>
          <a:stretch/>
        </p:blipFill>
        <p:spPr>
          <a:xfrm>
            <a:off x="5651640" y="4292640"/>
            <a:ext cx="2089080" cy="187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В. Бианки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1894-195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68280"/>
            <a:ext cx="4038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емья Бианки жила в одном из флигелей Зоологического музея Петербурга, и конечно, Виталий с братьями часто бывали там. Настоящий музей был и в их квартире: у них жили 4 собаки, кошки, лиса; от пола до потолка стояли многочисленные клетки с птицами, в аквариуме жили рыбки, а в террариуме – черепахи, ящерицы и змеи. Лето вся семья Бианки проводила в деревне Лебяжь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26560" y="4005360"/>
            <a:ext cx="785988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авная тема его произведений – лес и его обитатели. Всё                       написанное Виталием Валентиновичем Бианки – от первой сказки «Путешествие красноголового воробья» (1923) до последней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Гоголенок» (1959) – это увлекательное путешествие в лесной    мир природы, где писатель становится волшебником и поэтом, натуралистом и ученым, проводником и переводчиком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9" descr="http://im4-tub-ru.yandex.net/i?id=424366461-30-72"/>
          <p:cNvPicPr/>
          <p:nvPr/>
        </p:nvPicPr>
        <p:blipFill>
          <a:blip r:embed="rId1"/>
          <a:stretch/>
        </p:blipFill>
        <p:spPr>
          <a:xfrm>
            <a:off x="4716360" y="1690560"/>
            <a:ext cx="3095640" cy="180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Картинка 1 из 12"/>
          <p:cNvPicPr/>
          <p:nvPr/>
        </p:nvPicPr>
        <p:blipFill>
          <a:blip r:embed="rId2"/>
          <a:stretch/>
        </p:blipFill>
        <p:spPr>
          <a:xfrm>
            <a:off x="0" y="4149720"/>
            <a:ext cx="1332000" cy="2060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ва в культу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267920"/>
            <a:ext cx="40402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шастая со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нём в ветвя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ны космато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ле самого ствол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чно столбик сучковаты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емлет чуткая сов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оранжевых глазищах*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ки серые сомкнет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"Ушки" длинные встопорщит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рпеливо ночи ждё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 Шил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9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ты о со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4720" y="2565000"/>
            <a:ext cx="40417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много сов — урожай будет хорош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ыч кричит ночью перед дождем и холодо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лин кричит на оттепел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а в дупле — на ветер, в сушняке — к дожд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а кричит — на хол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" descr="http://im8-tub-ru.yandex.net/i?id=385024936-29-72"/>
          <p:cNvPicPr/>
          <p:nvPr/>
        </p:nvPicPr>
        <p:blipFill>
          <a:blip r:embed="rId1"/>
          <a:stretch/>
        </p:blipFill>
        <p:spPr>
          <a:xfrm>
            <a:off x="1116000" y="5157720"/>
            <a:ext cx="2771640" cy="1413000"/>
          </a:xfrm>
          <a:prstGeom prst="rect">
            <a:avLst/>
          </a:prstGeom>
          <a:ln w="0">
            <a:noFill/>
          </a:ln>
        </p:spPr>
      </p:pic>
      <p:pic>
        <p:nvPicPr>
          <p:cNvPr id="66" name="i-main-pic" descr="Картинка 54 из 8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5640" y="189000"/>
            <a:ext cx="1728720" cy="1800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   вы   знает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давних пор сова считалась символом мудрости и знаний. У древних греков она была священной птицей богини мудрости Афины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 многих местностях России к сове относились радушно. В сказках ее звали «совушкой-вдовушкой», белокурой, разумной головушк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нигах Дж. Роулинг о Гарри Поттере совы используются как средство связи между волшебниками (совиная почт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ами также называют людей, которые привыкли поздно ложиться спать и поздно вставать (в отличие от жаворонк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12" descr="http://im4-tub-ru.yandex.net/i?id=32718129-26-72"/>
          <p:cNvPicPr/>
          <p:nvPr/>
        </p:nvPicPr>
        <p:blipFill>
          <a:blip r:embed="rId1"/>
          <a:stretch/>
        </p:blipFill>
        <p:spPr>
          <a:xfrm>
            <a:off x="324000" y="0"/>
            <a:ext cx="2016000" cy="135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можно заменить слова и выражения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тека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убега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ормовисты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клевер, предназначенный для корма ско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цветен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пыльца, мельчайшие жёлтые зёрныш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оронитьс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прятаться, таить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оль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много мест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бы худа не вышло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бы беды не был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ай бели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добавлять молоко в ча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ойл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питательное питьё для ско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-main-pic" descr="Картинка 164 из 40321"/>
          <p:cNvPicPr/>
          <p:nvPr/>
        </p:nvPicPr>
        <p:blipFill>
          <a:blip r:embed="rId1"/>
          <a:stretch/>
        </p:blipFill>
        <p:spPr>
          <a:xfrm>
            <a:off x="6948360" y="836640"/>
            <a:ext cx="2195640" cy="1484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почка взаимосвяз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а —мыши —шмели —клевер —корова —молоко – ч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43" descr="http://im5-tub-ru.yandex.net/i?id=87507193-44-72"/>
          <p:cNvPicPr/>
          <p:nvPr/>
        </p:nvPicPr>
        <p:blipFill>
          <a:blip r:embed="rId1"/>
          <a:stretch/>
        </p:blipFill>
        <p:spPr>
          <a:xfrm>
            <a:off x="1042920" y="1628640"/>
            <a:ext cx="1428840" cy="9716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8" descr="http://im8-tub-ru.yandex.net/i?id=450046799-61-72"/>
          <p:cNvPicPr/>
          <p:nvPr/>
        </p:nvPicPr>
        <p:blipFill>
          <a:blip r:embed="rId2"/>
          <a:stretch/>
        </p:blipFill>
        <p:spPr>
          <a:xfrm>
            <a:off x="1116000" y="2781360"/>
            <a:ext cx="1428840" cy="942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70" descr="http://im3-tub-ru.yandex.net/i?id=309513150-54-72"/>
          <p:cNvPicPr/>
          <p:nvPr/>
        </p:nvPicPr>
        <p:blipFill>
          <a:blip r:embed="rId3"/>
          <a:stretch/>
        </p:blipFill>
        <p:spPr>
          <a:xfrm>
            <a:off x="7596360" y="2565360"/>
            <a:ext cx="1066680" cy="14288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7" descr="http://im3-tub-ru.yandex.net/i?id=310301141-03-72"/>
          <p:cNvPicPr/>
          <p:nvPr/>
        </p:nvPicPr>
        <p:blipFill>
          <a:blip r:embed="rId4"/>
          <a:stretch/>
        </p:blipFill>
        <p:spPr>
          <a:xfrm>
            <a:off x="4427640" y="1557360"/>
            <a:ext cx="1428480" cy="1066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8" descr="http://im8-tub-ru.yandex.net/i?id=290781920-46-72"/>
          <p:cNvPicPr/>
          <p:nvPr/>
        </p:nvPicPr>
        <p:blipFill>
          <a:blip r:embed="rId5"/>
          <a:stretch/>
        </p:blipFill>
        <p:spPr>
          <a:xfrm>
            <a:off x="6300720" y="1413000"/>
            <a:ext cx="1057320" cy="14284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9" descr="http://im2-tub-ru.yandex.net/i?id=321281547-44-72"/>
          <p:cNvPicPr/>
          <p:nvPr/>
        </p:nvPicPr>
        <p:blipFill>
          <a:blip r:embed="rId6"/>
          <a:stretch/>
        </p:blipFill>
        <p:spPr>
          <a:xfrm>
            <a:off x="2700360" y="1413000"/>
            <a:ext cx="1428840" cy="11998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9"/>
          <p:cNvSpPr/>
          <p:nvPr/>
        </p:nvSpPr>
        <p:spPr>
          <a:xfrm>
            <a:off x="2286000" y="5013360"/>
            <a:ext cx="4878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сстановление содержания рассказа по деформированному пла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сердилась со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ыши по лугу рыщут, шмелиные гнёзда ищу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Шмели на чужих лугах гуляю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лока у Коровы мал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шел Старик Сове кланять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стила Сова Старика и полетела на луг мышей лов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i-main-pic" descr="Картинка 47 из 40322"/>
          <p:cNvPicPr/>
          <p:nvPr/>
        </p:nvPicPr>
        <p:blipFill>
          <a:blip r:embed="rId1"/>
          <a:stretch/>
        </p:blipFill>
        <p:spPr>
          <a:xfrm>
            <a:off x="4788000" y="1628640"/>
            <a:ext cx="1512720" cy="1886040"/>
          </a:xfrm>
          <a:prstGeom prst="rect">
            <a:avLst/>
          </a:prstGeom>
          <a:ln w="0">
            <a:noFill/>
          </a:ln>
        </p:spPr>
      </p:pic>
      <p:pic>
        <p:nvPicPr>
          <p:cNvPr id="86" name="i-tmb-0x" descr="http://im2-tub-ru.yandex.net/i?id=19541718-39-72"/>
          <p:cNvPicPr/>
          <p:nvPr/>
        </p:nvPicPr>
        <p:blipFill>
          <a:blip r:embed="rId2"/>
          <a:stretch/>
        </p:blipFill>
        <p:spPr>
          <a:xfrm>
            <a:off x="4859280" y="3573360"/>
            <a:ext cx="1789200" cy="11685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1" descr="http://im5-tub-ru.yandex.net/i?id=447776508-04-72"/>
          <p:cNvPicPr/>
          <p:nvPr/>
        </p:nvPicPr>
        <p:blipFill>
          <a:blip r:embed="rId3"/>
          <a:stretch/>
        </p:blipFill>
        <p:spPr>
          <a:xfrm>
            <a:off x="3203640" y="501336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88" name="i-tmb-0x" descr="http://im0-tub-ru.yandex.net/i?id=324221489-10-72"/>
          <p:cNvPicPr/>
          <p:nvPr/>
        </p:nvPicPr>
        <p:blipFill>
          <a:blip r:embed="rId4"/>
          <a:stretch/>
        </p:blipFill>
        <p:spPr>
          <a:xfrm>
            <a:off x="5364000" y="4941720"/>
            <a:ext cx="1428840" cy="1200240"/>
          </a:xfrm>
          <a:prstGeom prst="rect">
            <a:avLst/>
          </a:prstGeom>
          <a:ln w="0">
            <a:noFill/>
          </a:ln>
        </p:spPr>
      </p:pic>
      <p:pic>
        <p:nvPicPr>
          <p:cNvPr id="89" name="i-main-pic" descr="Картинка 146 из 157"/>
          <p:cNvPicPr/>
          <p:nvPr/>
        </p:nvPicPr>
        <p:blipFill>
          <a:blip r:embed="rId5"/>
          <a:stretch/>
        </p:blipFill>
        <p:spPr>
          <a:xfrm>
            <a:off x="6300720" y="1628640"/>
            <a:ext cx="2374920" cy="19526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1" descr="http://im6-tub-ru.yandex.net/i?id=561217980-11-72"/>
          <p:cNvPicPr/>
          <p:nvPr/>
        </p:nvPicPr>
        <p:blipFill>
          <a:blip r:embed="rId6"/>
          <a:stretch/>
        </p:blipFill>
        <p:spPr>
          <a:xfrm>
            <a:off x="6742080" y="3645000"/>
            <a:ext cx="1933560" cy="1214280"/>
          </a:xfrm>
          <a:prstGeom prst="rect">
            <a:avLst/>
          </a:prstGeom>
          <a:ln w="0">
            <a:noFill/>
          </a:ln>
        </p:spPr>
      </p:pic>
      <p:pic>
        <p:nvPicPr>
          <p:cNvPr id="91" name="i-main-pic" descr="Картинка 11 из 8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80360" y="5084640"/>
            <a:ext cx="1238040" cy="943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Переводчики с бессловесного» – так он называл себя и своих собратьев по перу, писателей, которые тоже писали о животн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ё написанное Бианки – это праздник узна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о «сказки-несказки», развивающие традиции народных сказок («Теремок», «Лис и мышонок», «Лесные домишки», «Красная горна», «Люля», «Сова» и другие), короткие рассказы («Первая охота», «Чьи это ноги?», «Кто, чем поет?», Чей нос лучше?» и другие), повести («Одинец», «Аскыр», и др.), содержат массу достоверного и правдивого материала о приро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.В.Бианки о себ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ец рано начал брать меня с собой в лес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н каждую травку, каждую птицу и зверушку называл мне по имени, отчеству и фамил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Учил меня узнавать птиц по виду, по голосу, по полёту, разыскивать самые скрытые гнёзда. Учил по тысяче  примет находить тайно от человека живущих зверей. И – самое главное – с детства приучал все свои наблюдения записывать. Так приучил, что это вошло у меня в привычку на всю жизнь», отмечал В.В.Биа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8:55:43Z</dcterms:created>
  <dc:creator>Арсланова Фатыма</dc:creator>
  <dc:description/>
  <dc:language>en-US</dc:language>
  <cp:lastModifiedBy>Таня</cp:lastModifiedBy>
  <dcterms:modified xsi:type="dcterms:W3CDTF">2015-02-06T19:20:31Z</dcterms:modified>
  <cp:revision>65</cp:revision>
  <dc:subject/>
  <dc:title>Слайд 1</dc:title>
</cp:coreProperties>
</file>