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C12C-8708-4B9B-8265-07B2F00B1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3380-8A57-4B24-A065-D263FB27F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C35A-7F22-4CB1-9FCA-8A76C4FEC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44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072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0E19-E49B-486C-B828-4E4BF8C96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1123-654A-444B-8BC8-1695AA23B9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7A94-15BD-4CFA-8E7D-52A95A7465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240E-9C24-44F2-B13A-414B1D5E74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39D7-801E-46DB-BC50-C4533A0BE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CD73-C335-4E62-B8B6-363F3FC313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07960" y="1519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66D6-1B4F-4977-9EDA-A85DDF8324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F758-54F2-4471-A590-80A8B7A54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803-8451-47FA-817D-A7E89DD13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AD31-DC06-40B1-8E00-E5343A37B4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FFEBA-83C8-44D5-AD8C-5FF45BC69A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2935-FCB7-4540-AAF3-9416C4E4D0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C0B9-5EA1-4C79-93A6-67838D28B9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44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072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0A1D-126E-41BA-9918-2A2EAEB492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5C1C-2399-46D9-B118-D9FB449977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7960" y="1519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44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0720" y="137160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44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0720" y="3957840"/>
            <a:ext cx="250200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0930-C46A-4516-804A-D5BC49E41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C21F-BC91-4057-96CF-2FD20F06A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507960" y="1519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C530-6F5A-4258-A32E-8894E2D8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CA56-7A89-469F-B9A5-C76046ED6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7760" y="395784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CB73-B0AE-4B0E-8E79-F2BE0F8EF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371600"/>
            <a:ext cx="379188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57840"/>
            <a:ext cx="77709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9811-D6E3-427F-9469-305A06F50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199800" cy="6500880"/>
            <a:chOff x="177840" y="230040"/>
            <a:chExt cx="199800" cy="650088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3080" cy="647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3080" cy="625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3000" y="220680"/>
            <a:ext cx="194760" cy="6403680"/>
            <a:chOff x="8793000" y="220680"/>
            <a:chExt cx="194760" cy="640368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2240" y="220680"/>
              <a:ext cx="65160" cy="6330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3000" y="377640"/>
              <a:ext cx="74880" cy="62467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7120"/>
            <a:ext cx="8683560" cy="222480"/>
            <a:chOff x="412920" y="6477120"/>
            <a:chExt cx="8683560" cy="22248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7800" y="2171880"/>
              <a:ext cx="73440" cy="868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6000" y="2414520"/>
              <a:ext cx="71640" cy="8497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2240" cy="157680"/>
            <a:chOff x="76320" y="176040"/>
            <a:chExt cx="8742240" cy="1576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844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28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2240" cy="157680"/>
            <a:chOff x="71280" y="176040"/>
            <a:chExt cx="8742240" cy="1576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376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24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69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01668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0166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6857640" y="601452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855B1-F6D5-4955-B472-BD5C7A35824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199800" cy="6500880"/>
            <a:chOff x="177840" y="230040"/>
            <a:chExt cx="199800" cy="650088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3080" cy="647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3080" cy="625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3000" y="220680"/>
            <a:ext cx="194760" cy="6403680"/>
            <a:chOff x="8793000" y="220680"/>
            <a:chExt cx="194760" cy="640368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2240" y="220680"/>
              <a:ext cx="65160" cy="6330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3000" y="377640"/>
              <a:ext cx="74880" cy="62467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7120"/>
            <a:ext cx="8683560" cy="222480"/>
            <a:chOff x="412920" y="6477120"/>
            <a:chExt cx="8683560" cy="2224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7800" y="2171880"/>
              <a:ext cx="73440" cy="868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6000" y="2414520"/>
              <a:ext cx="71640" cy="8497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2240" cy="157680"/>
            <a:chOff x="76320" y="176040"/>
            <a:chExt cx="8742240" cy="1576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844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28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69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800400" y="597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0191D5-F0C0-4BFB-BA13-8EF39C6920B3}" type="slidenum">
              <a:rPr b="0" lang="ru-RU" sz="1400" spc="-1" strike="noStrike">
                <a:solidFill>
                  <a:srgbClr val="f8f8f8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5400000">
            <a:off x="5830200" y="3162240"/>
            <a:ext cx="5486400" cy="114300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391640" y="2105640"/>
            <a:ext cx="363240" cy="9144000"/>
          </a:xfrm>
          <a:custGeom>
            <a:avLst/>
            <a:gdLst>
              <a:gd name="textAreaLeft" fmla="*/ 360 w 363240"/>
              <a:gd name="textAreaRight" fmla="*/ 362880 w 36324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543229">
                <a:moveTo>
                  <a:pt x="94" y="0"/>
                </a:moveTo>
                <a:arcTo wR="94" hR="94" stAng="16200000" swAng="-5400000"/>
                <a:lnTo>
                  <a:pt x="0" y="543135"/>
                </a:lnTo>
                <a:arcTo wR="94" hR="94" stAng="10800000" swAng="-5400000"/>
                <a:lnTo>
                  <a:pt x="21506" y="543229"/>
                </a:lnTo>
                <a:arcTo wR="94" hR="94" stAng="5400000" swAng="-5400000"/>
                <a:lnTo>
                  <a:pt x="21600" y="94"/>
                </a:lnTo>
                <a:arcTo wR="94" hR="9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078080" y="-4075200"/>
            <a:ext cx="990720" cy="9144000"/>
          </a:xfrm>
          <a:custGeom>
            <a:avLst/>
            <a:gdLst>
              <a:gd name="textAreaLeft" fmla="*/ 360 w 990720"/>
              <a:gd name="textAreaRight" fmla="*/ 990360 w 99072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199296">
                <a:moveTo>
                  <a:pt x="34" y="0"/>
                </a:moveTo>
                <a:arcTo wR="34" hR="34" stAng="16200000" swAng="-5400000"/>
                <a:lnTo>
                  <a:pt x="0" y="199262"/>
                </a:lnTo>
                <a:arcTo wR="34" hR="34" stAng="10800000" swAng="-5400000"/>
                <a:lnTo>
                  <a:pt x="21566" y="199296"/>
                </a:lnTo>
                <a:arcTo wR="34" hR="34" stAng="5400000" swAng="-5400000"/>
                <a:lnTo>
                  <a:pt x="21600" y="34"/>
                </a:lnTo>
                <a:arcTo wR="34" hR="34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51920"/>
            <a:ext cx="807552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096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38172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6668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19320"/>
            <a:ext cx="7597800" cy="1728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00600" y="3295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00800"/>
            <a:ext cx="7597800" cy="17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7985880" y="-14976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985880" y="307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985880" y="764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7985880" y="12214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985880" y="16786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7985880" y="2135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985880" y="2593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7985880" y="3050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985880" y="35074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85880" y="39646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985880" y="44218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985880" y="48790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985880" y="5336280"/>
            <a:ext cx="17280" cy="2292120"/>
          </a:xfrm>
          <a:custGeom>
            <a:avLst/>
            <a:gdLst>
              <a:gd name="textAreaLeft" fmla="*/ 360 w 17280"/>
              <a:gd name="textAreaRight" fmla="*/ 16920 w 17280"/>
              <a:gd name="textAreaTop" fmla="*/ 360 h 2292120"/>
              <a:gd name="textAreaBottom" fmla="*/ 2291760 h 2292120"/>
            </a:gdLst>
            <a:ahLst/>
            <a:rect l="textAreaLeft" t="textAreaTop" r="textAreaRight" b="textAreaBottom"/>
            <a:pathLst>
              <a:path w="21600" h="2807118">
                <a:moveTo>
                  <a:pt x="2160" y="0"/>
                </a:moveTo>
                <a:arcTo wR="2160" hR="2160" stAng="16200000" swAng="-5400000"/>
                <a:lnTo>
                  <a:pt x="0" y="2804958"/>
                </a:lnTo>
                <a:arcTo wR="2160" hR="2160" stAng="10800000" swAng="-5400000"/>
                <a:lnTo>
                  <a:pt x="19440" y="2807118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4478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/>
          </a:bodyPr>
          <a:p>
            <a:pPr marL="341280"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0000"/>
                </a:solidFill>
                <a:latin typeface="Arial Narrow"/>
              </a:rPr>
              <a:t>Экономические реформы П.А.Столыпина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1720" y="1260360"/>
            <a:ext cx="3159000" cy="4953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507600" y="52560"/>
            <a:ext cx="807732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518000"/>
            <a:ext cx="88390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4 августа 1906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публикована правительственная программа. Она состояла из двух частей. В первой обосновывалась необходимость успокоения страны при помощи чрезвычайных мер и объявления в некоторых районах империи военного положения с введением там военно-полевых су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105160" cy="3400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5486400"/>
            <a:ext cx="7848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части предлагалось немедленно, не дожидаясь созы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мы, начать аграрную рефор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772400" cy="4469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3880" y="228600"/>
            <a:ext cx="586764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блемы российской дерев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14400"/>
            <a:ext cx="853452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рестьянская общ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458200" cy="21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тсутствие многочисленного класса собственников в дерев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343400"/>
            <a:ext cx="8305920" cy="21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енаселение центральных районов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Цели и задачи рефор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838080"/>
          <a:ext cx="9145440" cy="6351840"/>
        </p:xfrm>
        <a:graphic>
          <a:graphicData uri="http://schemas.openxmlformats.org/drawingml/2006/table">
            <a:tbl>
              <a:tblPr/>
              <a:tblGrid>
                <a:gridCol w="2514600"/>
                <a:gridCol w="3319560"/>
                <a:gridCol w="3311280"/>
              </a:tblGrid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2880">
                      <a:solidFill>
                        <a:srgbClr val="f8f8f8"/>
                      </a:solidFill>
                    </a:lnT>
                    <a:lnB w="144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2880">
                      <a:solidFill>
                        <a:srgbClr val="f8f8f8"/>
                      </a:solidFill>
                    </a:lnT>
                    <a:lnB w="144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2880">
                      <a:solidFill>
                        <a:srgbClr val="f8f8f8"/>
                      </a:solidFill>
                    </a:lnR>
                    <a:lnT w="2880">
                      <a:solidFill>
                        <a:srgbClr val="f8f8f8"/>
                      </a:solidFill>
                    </a:lnT>
                    <a:lnB w="144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43564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зд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циальн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п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амодержа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лиц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пко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зажиточног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1440">
                      <a:solidFill>
                        <a:srgbClr val="f8f8f8"/>
                      </a:solidFill>
                    </a:lnT>
                    <a:lnB w="28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азвит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апиталистически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тношений в деревне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азрушение общин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ередача крестьян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земли в частну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бственность, созд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уторских и фермерских хозяй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широкого рынка д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мышленн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дол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одерниза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1440">
                      <a:solidFill>
                        <a:srgbClr val="f8f8f8"/>
                      </a:solidFill>
                    </a:lnR>
                    <a:lnT w="1440">
                      <a:solidFill>
                        <a:srgbClr val="f8f8f8"/>
                      </a:solidFill>
                    </a:lnT>
                    <a:lnB w="28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ересе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еволюцион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строенных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алоземель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 из центра н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краины стра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равни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права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 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ругим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словиями 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еспеч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естьяна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бственник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авовую защи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8f8f8"/>
                      </a:solidFill>
                    </a:lnL>
                    <a:lnR w="2880">
                      <a:solidFill>
                        <a:srgbClr val="f8f8f8"/>
                      </a:solidFill>
                    </a:lnR>
                    <a:lnT w="1440">
                      <a:solidFill>
                        <a:srgbClr val="f8f8f8"/>
                      </a:solidFill>
                    </a:lnT>
                    <a:lnB w="28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7880" y="1800360"/>
            <a:ext cx="859176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было объявлено о подготовке законопроектов, которые должны были серьезнейшим образом изменить страну: о свободе вероисповедания, о гражданском равноправии, об улучшении быта рабочих, о реформе местного самоуправления, о реформе высшей и средней школы, о введении всеобщего начального обучения и улучшении материального обеспечения народных учителей, о подоходном налоге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60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09480" y="4572000"/>
            <a:ext cx="784872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ноября 1906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издан указ, разрешивший свободный выход крестьян из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и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ходя из общины, крестьянин получал в частную собственность все закрепленные за ним наделы и мог требовать, чтобы они бы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ы в один учас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5257800"/>
            <a:ext cx="7848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оощрял образова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уб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тор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ичье землевладение оставалось неприкосновен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6172200" cy="3894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33520" y="205740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.Столы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знакоми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 хуторски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хозяй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990720"/>
            <a:ext cx="6781680" cy="2043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уб </a:t>
            </a:r>
            <a:r>
              <a:rPr b="1" i="1" lang="ru-RU" sz="3200" spc="-1" strike="noStrike" u="sng">
                <a:solidFill>
                  <a:srgbClr val="6da4cd"/>
                </a:solidFill>
                <a:uFillTx/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земли, выделенны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крестьянин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е из общины 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охранение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двора в дерев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124080"/>
            <a:ext cx="6781680" cy="25311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участок земл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крестьянин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выходе ег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ины 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селением из деревни на св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31640" y="974880"/>
            <a:ext cx="78487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я указ о разрушении общины, Столыпин имел в виду сразу нескольк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й.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09680"/>
            <a:ext cx="85345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редоточенных по хутора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рестья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нятых своими хозяйствами, поднять на бунт будет очень трудн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58128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ть широкий слой мелких собственников и тем самым обеспечить стабильность в обществ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" y="4933800"/>
            <a:ext cx="83059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лечь внимание крестьян от идеи захватить и разделить помещичьи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4572000"/>
            <a:ext cx="78487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се усилия правительства, лишь чуть больше 10 % крестьянских хозяйств можно было назвать фермерскими: ориентированными на рынок, применявшими новейшую технику, удобрения, получавшими высокие урожа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800600"/>
            <a:ext cx="73915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и хуторян-фермеров нередко становились причиной ненависти крестьян-общинников. Хозяйство удачливых соседей поджигали, травили их скот, уничтожали посевы, ломали инвентарь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371600" y="990720"/>
            <a:ext cx="6095880" cy="3549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152960"/>
            <a:ext cx="89154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ейших направлений аграрных реформ была политик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ссового переселения крестьян за Ура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о хотело ослабить земельный голод во внутренних губерниях России, отправить миллионы безземельных, недовольных крестьян подальше от помещичьих имений — в Сибирь, где было много пустующей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4952880" cy="2895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4140360"/>
            <a:ext cx="7848360" cy="247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Lucida Sans Unicode"/>
              </a:rPr>
              <a:t>1 сентября 1911 г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 неожиданно была прервана опера Римского-Корсакова «Сказка о царе Салтане», выстрелом террориста-анархиста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Дмитрия Багрова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Lucida Sans Unicode"/>
              </a:rPr>
              <a:t> был убит российский премьер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Lucida Sans Unicode"/>
              </a:rPr>
              <a:t>Петр Аркадьевич Столып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092320" cy="216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20920" y="2340000"/>
            <a:ext cx="2178000" cy="1604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19680" y="1079640"/>
            <a:ext cx="4721040" cy="296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4495680"/>
            <a:ext cx="73915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лись многочисленные льготы для желающих отправиться на новые места. Переселенцы на 5 лет освобождались от налогов, получали в собственность землю (15 га на главу семьи и 45 га на остальных членов семьи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4267080"/>
            <a:ext cx="73915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ую ссуду, которая с 1912 г. в некоторых отдаленных районах доходила до 400 р. на семью (из них 200 р. выдавались безвозмездно). Мужчин освобождали от воинской повинност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е годы реформы переселение развивалось быстрыми темп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4952880" cy="3051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457200" y="1676520"/>
            <a:ext cx="2133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.Столы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риним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от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у волост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тарос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этот процесс несколько замедлился. Всего с 1906 по 1914 г. в Сибирь переселились 3 млн 40 тыс. человек. Однако переселенческое ведомство плохо подготовилось к перевозке и устройству на новых местах огромной массы людей, и часть переселенцев возвратилась в места прежнего проживания (около 17 %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324480" cy="3124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витие кооп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724280"/>
            <a:ext cx="80010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е, следуя коллективистским традициям, нашли свой путь в капитализм: общину сменил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оперативы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перация позволяла снизить цены на рынке, она была полезна не только зажиточным и средним крестьянам, но и бедня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562360" cy="3384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538600" cy="4064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-753120" y="338040"/>
            <a:ext cx="109584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Дайте мне двадцать лет покоя, и 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реформирую всю Россию!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3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914400"/>
            <a:ext cx="434340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в Виленскую гимназию, Петр Аркадьевич в 1881 г. поступил на физико-математический факультет Петербургского университета. В 1903 г. его назначили губернатором Саратовс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й губер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06 г. становится премьер-министром . С именем П.А. Столыпина связывается разработка и проведение ряда преобразований, самой крупной из которых стала аграрная реф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44840" cy="541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838080"/>
            <a:ext cx="4343400" cy="52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толып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гда вызывало споры , ни один из политических деятелей царизма начала 20 века не может идти с ним в сравнение по преданной и восторженной памяти его почитателей и сосредоточенной ненависти революционеров , упоминание его имени сразу же втягивает нас в круговорот страстных и взаимоисключающих оцен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91240" cy="532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43400" y="1752480"/>
            <a:ext cx="4572000" cy="484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Столыпин-реформатор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создатель избирательного закона, аграрная реформа , реформа местного управления, реформа в системе народного просвещения, мероприятия направленные на улучшение положения рабочих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у своей государственной деятельности Столыпин положил принцип: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Либеральные реформы и сильная власть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76520" y="914400"/>
            <a:ext cx="5105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формато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738440"/>
            <a:ext cx="4572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1738440"/>
            <a:ext cx="4572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85800" y="1752480"/>
            <a:ext cx="3486240" cy="4648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1447920"/>
            <a:ext cx="4191120" cy="484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толыпин- реакционер»( он беспощадно вел борьбу с революционным движением, при нем активно работали органы политического сыска, массовый характер приобрела ссылка в Сибирь, в тюрьмах и на каторге для политических заключенных был установлен небывалый по жестокости режим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9144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акционер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62120" y="1600200"/>
            <a:ext cx="3352680" cy="4800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838080"/>
            <a:ext cx="419112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Столыпинские галстуки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за три года по приговорам военно-полевых судов было казнено более 3,5 тыс. человек. Виселицы на которых казнили людей получили название «столыпинские галстуки») . Столыпин не избегал и насильственных, карательных мер, что позволяет в целом оценить его политический курс как политику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кнута и пряника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898880" y="914400"/>
            <a:ext cx="382752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60840" y="1028880"/>
            <a:ext cx="3622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103560" cy="40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3581280" y="838080"/>
            <a:ext cx="5334120" cy="4724640"/>
          </a:xfrm>
          <a:prstGeom prst="wedgeRoundRectCallout">
            <a:avLst>
              <a:gd name="adj1" fmla="val -64912"/>
              <a:gd name="adj2" fmla="val 6953"/>
              <a:gd name="adj3" fmla="val 16667"/>
            </a:avLst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падки террористов направлены на то, чтобы вызвать у правительства, у власти паралич и воли, и мысли, все она сводятся к двум словам обращенным к власти: « Руки вверх». На эти два слова, господа, правительство с полным спокойствием и осознанием своей правоты может ответить только одно: « Не запугает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76520" y="60948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м нужны велик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отрясения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ам нужн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еликая Россия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419640" y="2700360"/>
            <a:ext cx="2811240" cy="3933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10:16:57Z</dcterms:created>
  <dc:creator>***</dc:creator>
  <dc:description/>
  <dc:language>en-US</dc:language>
  <cp:lastModifiedBy>XTreme</cp:lastModifiedBy>
  <dcterms:modified xsi:type="dcterms:W3CDTF">2013-05-07T12:20:55Z</dcterms:modified>
  <cp:revision>10</cp:revision>
  <dc:subject/>
  <dc:title>Презентация PowerPoint</dc:title>
</cp:coreProperties>
</file>