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73B73-9F98-415A-8C97-71DE727895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57840"/>
            <a:ext cx="77709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C6D61-1347-43C9-9997-19FB8FD4E7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5784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7760" y="395784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6C175-D5E9-43F7-A39F-5BB3C0A4E1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00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440" y="1371600"/>
            <a:ext cx="250200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0720" y="1371600"/>
            <a:ext cx="250200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57840"/>
            <a:ext cx="250200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440" y="3957840"/>
            <a:ext cx="250200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0720" y="3957840"/>
            <a:ext cx="250200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B1E86-1D55-431A-B2A2-9E1E547153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2EE7D-9224-4A55-9A42-C33BF4A670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096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14758-74A9-4506-A167-D72F486B37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2C179-7831-4537-B0CA-BF62BDD1BC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470B4-D4A7-467F-9C0E-C6042D2679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88F2A-EF58-47D9-8D1F-2D881BBC34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507960" y="151920"/>
            <a:ext cx="807552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EF003-4411-4416-8788-97653F7394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5784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75E08-65D2-42E7-A087-F2131CB230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096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ACF54-5104-4CDF-B736-1B6C28A39D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7760" y="395784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C8BAE-D85E-46D3-8F52-16687F91BF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57840"/>
            <a:ext cx="77709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01BB5-0CDB-407E-9711-684E46B5B1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57840"/>
            <a:ext cx="77709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F975A-87B1-4950-B7F8-183F6C1D1E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5784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7760" y="395784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7125E-22DC-4D49-93C7-BF161AA61F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00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440" y="1371600"/>
            <a:ext cx="250200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0720" y="1371600"/>
            <a:ext cx="250200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57840"/>
            <a:ext cx="250200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440" y="3957840"/>
            <a:ext cx="250200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0720" y="3957840"/>
            <a:ext cx="250200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0E7DA-AA8D-46ED-A37F-5C05ED024B8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096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3830C-46D8-4539-9DCB-3715673CBBB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07960" y="151920"/>
            <a:ext cx="807552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95784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7760" y="395784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3957840"/>
            <a:ext cx="77709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3957840"/>
            <a:ext cx="77709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95784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7760" y="395784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00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13440" y="1371600"/>
            <a:ext cx="250200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0720" y="1371600"/>
            <a:ext cx="250200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3957840"/>
            <a:ext cx="250200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13440" y="3957840"/>
            <a:ext cx="250200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0720" y="3957840"/>
            <a:ext cx="250200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4AD43-7107-47AF-BB2D-DC061B0467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1F3B6-89CE-43B1-8267-827E83DCEE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507960" y="151920"/>
            <a:ext cx="807552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463E2-D654-4862-BC7E-948F74497F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5784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7933B-5211-4CF4-9618-F9905A5869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7760" y="395784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E21E2-9478-4D89-A5BF-66402311DA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57840"/>
            <a:ext cx="77709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82BD2-9ED9-4F0E-BA91-A7AB5175E7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199800" cy="6500880"/>
            <a:chOff x="177840" y="230040"/>
            <a:chExt cx="199800" cy="650088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3080" cy="6473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3080" cy="62532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3000" y="220680"/>
            <a:ext cx="194760" cy="6403680"/>
            <a:chOff x="8793000" y="220680"/>
            <a:chExt cx="194760" cy="640368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2240" y="220680"/>
              <a:ext cx="65160" cy="63309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3000" y="377640"/>
              <a:ext cx="74880" cy="62467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7120"/>
            <a:ext cx="8683560" cy="222480"/>
            <a:chOff x="412920" y="6477120"/>
            <a:chExt cx="8683560" cy="22248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7800" y="2171880"/>
              <a:ext cx="73440" cy="8683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6000" y="2414520"/>
              <a:ext cx="71640" cy="8497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2240" cy="157680"/>
            <a:chOff x="76320" y="176040"/>
            <a:chExt cx="8742240" cy="1576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8440" y="-3956400"/>
              <a:ext cx="56520" cy="85230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280" y="-4165920"/>
              <a:ext cx="58320" cy="87422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2240" cy="157680"/>
            <a:chOff x="71280" y="176040"/>
            <a:chExt cx="8742240" cy="1576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3760" y="-3956400"/>
              <a:ext cx="56520" cy="85230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240" y="-4165920"/>
              <a:ext cx="58320" cy="87422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406080"/>
            <a:ext cx="7769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440" y="17521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"/>
          <p:cNvSpPr/>
          <p:nvPr/>
        </p:nvSpPr>
        <p:spPr>
          <a:xfrm>
            <a:off x="457200" y="6016680"/>
            <a:ext cx="1905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3124080" y="601668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sldNum" idx="1"/>
          </p:nvPr>
        </p:nvSpPr>
        <p:spPr>
          <a:xfrm>
            <a:off x="6857640" y="6014520"/>
            <a:ext cx="19018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F8A2C-CE25-46FC-8E03-905A39263C58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199800" cy="6500880"/>
            <a:chOff x="177840" y="230040"/>
            <a:chExt cx="199800" cy="650088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3080" cy="6473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3080" cy="62532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3000" y="220680"/>
            <a:ext cx="194760" cy="6403680"/>
            <a:chOff x="8793000" y="220680"/>
            <a:chExt cx="194760" cy="640368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2240" y="220680"/>
              <a:ext cx="65160" cy="63309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3000" y="377640"/>
              <a:ext cx="74880" cy="62467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7120"/>
            <a:ext cx="8683560" cy="222480"/>
            <a:chOff x="412920" y="6477120"/>
            <a:chExt cx="8683560" cy="22248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7800" y="2171880"/>
              <a:ext cx="73440" cy="8683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6000" y="2414520"/>
              <a:ext cx="71640" cy="8497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2240" cy="157680"/>
            <a:chOff x="76320" y="176040"/>
            <a:chExt cx="8742240" cy="1576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8440" y="-3956400"/>
              <a:ext cx="56520" cy="85230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280" y="-4165920"/>
              <a:ext cx="58320" cy="87422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406080"/>
            <a:ext cx="7769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440" y="17521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Num" idx="2"/>
          </p:nvPr>
        </p:nvSpPr>
        <p:spPr>
          <a:xfrm>
            <a:off x="6800400" y="597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6BB725D-59C8-4301-B026-47BF84EDD2BE}" type="slidenum">
              <a:rPr b="0" lang="ru-RU" sz="1400" spc="-1" strike="noStrike">
                <a:solidFill>
                  <a:srgbClr val="f8f8f8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 rot="5400000">
            <a:off x="5830200" y="3162240"/>
            <a:ext cx="5486400" cy="1143000"/>
          </a:xfrm>
          <a:prstGeom prst="roundRect">
            <a:avLst>
              <a:gd name="adj" fmla="val 139"/>
            </a:avLst>
          </a:prstGeom>
          <a:gradFill rotWithShape="0">
            <a:gsLst>
              <a:gs pos="0">
                <a:srgbClr val="141f28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4391640" y="2105640"/>
            <a:ext cx="363240" cy="9144000"/>
          </a:xfrm>
          <a:custGeom>
            <a:avLst/>
            <a:gdLst>
              <a:gd name="textAreaLeft" fmla="*/ 360 w 363240"/>
              <a:gd name="textAreaRight" fmla="*/ 362880 w 36324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543229">
                <a:moveTo>
                  <a:pt x="94" y="0"/>
                </a:moveTo>
                <a:arcTo wR="94" hR="94" stAng="16200000" swAng="-5400000"/>
                <a:lnTo>
                  <a:pt x="0" y="543135"/>
                </a:lnTo>
                <a:arcTo wR="94" hR="94" stAng="10800000" swAng="-5400000"/>
                <a:lnTo>
                  <a:pt x="21506" y="543229"/>
                </a:lnTo>
                <a:arcTo wR="94" hR="94" stAng="5400000" swAng="-5400000"/>
                <a:lnTo>
                  <a:pt x="21600" y="94"/>
                </a:lnTo>
                <a:arcTo wR="94" hR="94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4078080" y="-4075200"/>
            <a:ext cx="990720" cy="9144000"/>
          </a:xfrm>
          <a:custGeom>
            <a:avLst/>
            <a:gdLst>
              <a:gd name="textAreaLeft" fmla="*/ 360 w 990720"/>
              <a:gd name="textAreaRight" fmla="*/ 990360 w 99072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199296">
                <a:moveTo>
                  <a:pt x="34" y="0"/>
                </a:moveTo>
                <a:arcTo wR="34" hR="34" stAng="16200000" swAng="-5400000"/>
                <a:lnTo>
                  <a:pt x="0" y="199262"/>
                </a:lnTo>
                <a:arcTo wR="34" hR="34" stAng="10800000" swAng="-5400000"/>
                <a:lnTo>
                  <a:pt x="21566" y="199296"/>
                </a:lnTo>
                <a:arcTo wR="34" hR="34" stAng="5400000" swAng="-5400000"/>
                <a:lnTo>
                  <a:pt x="21600" y="34"/>
                </a:lnTo>
                <a:arcTo wR="34" hR="34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300" spc="-1" strike="noStrike">
                <a:solidFill>
                  <a:srgbClr val="feeb9a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096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343080" indent="-3430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343080" indent="-3430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343080" indent="-3430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343080" indent="-3430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343080" indent="-3430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343080" indent="-3430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6381720"/>
            <a:ext cx="1905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066680"/>
            <a:ext cx="7597800" cy="17640"/>
          </a:xfrm>
          <a:prstGeom prst="roundRect">
            <a:avLst>
              <a:gd name="adj" fmla="val 10000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143000"/>
            <a:ext cx="7597800" cy="17640"/>
          </a:xfrm>
          <a:prstGeom prst="roundRect">
            <a:avLst>
              <a:gd name="adj" fmla="val 10000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219320"/>
            <a:ext cx="7597800" cy="17280"/>
          </a:xfrm>
          <a:prstGeom prst="roundRect">
            <a:avLst>
              <a:gd name="adj" fmla="val 10000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240" bIns="-30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00600" y="329580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400800"/>
            <a:ext cx="7597800" cy="17640"/>
          </a:xfrm>
          <a:prstGeom prst="roundRect">
            <a:avLst>
              <a:gd name="adj" fmla="val 10000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7985880" y="-149760"/>
            <a:ext cx="17280" cy="2292120"/>
          </a:xfrm>
          <a:custGeom>
            <a:avLst/>
            <a:gdLst>
              <a:gd name="textAreaLeft" fmla="*/ 360 w 17280"/>
              <a:gd name="textAreaRight" fmla="*/ 16920 w 17280"/>
              <a:gd name="textAreaTop" fmla="*/ 360 h 2292120"/>
              <a:gd name="textAreaBottom" fmla="*/ 2291760 h 2292120"/>
            </a:gdLst>
            <a:ahLst/>
            <a:rect l="textAreaLeft" t="textAreaTop" r="textAreaRight" b="textAreaBottom"/>
            <a:pathLst>
              <a:path w="21600" h="2807118">
                <a:moveTo>
                  <a:pt x="2160" y="0"/>
                </a:moveTo>
                <a:arcTo wR="2160" hR="2160" stAng="16200000" swAng="-5400000"/>
                <a:lnTo>
                  <a:pt x="0" y="2804958"/>
                </a:lnTo>
                <a:arcTo wR="2160" hR="2160" stAng="10800000" swAng="-5400000"/>
                <a:lnTo>
                  <a:pt x="19440" y="2807118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7985880" y="307080"/>
            <a:ext cx="17280" cy="2292120"/>
          </a:xfrm>
          <a:custGeom>
            <a:avLst/>
            <a:gdLst>
              <a:gd name="textAreaLeft" fmla="*/ 360 w 17280"/>
              <a:gd name="textAreaRight" fmla="*/ 16920 w 17280"/>
              <a:gd name="textAreaTop" fmla="*/ 360 h 2292120"/>
              <a:gd name="textAreaBottom" fmla="*/ 2291760 h 2292120"/>
            </a:gdLst>
            <a:ahLst/>
            <a:rect l="textAreaLeft" t="textAreaTop" r="textAreaRight" b="textAreaBottom"/>
            <a:pathLst>
              <a:path w="21600" h="2807118">
                <a:moveTo>
                  <a:pt x="2160" y="0"/>
                </a:moveTo>
                <a:arcTo wR="2160" hR="2160" stAng="16200000" swAng="-5400000"/>
                <a:lnTo>
                  <a:pt x="0" y="2804958"/>
                </a:lnTo>
                <a:arcTo wR="2160" hR="2160" stAng="10800000" swAng="-5400000"/>
                <a:lnTo>
                  <a:pt x="19440" y="2807118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7985880" y="764280"/>
            <a:ext cx="17280" cy="2292120"/>
          </a:xfrm>
          <a:custGeom>
            <a:avLst/>
            <a:gdLst>
              <a:gd name="textAreaLeft" fmla="*/ 360 w 17280"/>
              <a:gd name="textAreaRight" fmla="*/ 16920 w 17280"/>
              <a:gd name="textAreaTop" fmla="*/ 360 h 2292120"/>
              <a:gd name="textAreaBottom" fmla="*/ 2291760 h 2292120"/>
            </a:gdLst>
            <a:ahLst/>
            <a:rect l="textAreaLeft" t="textAreaTop" r="textAreaRight" b="textAreaBottom"/>
            <a:pathLst>
              <a:path w="21600" h="2807118">
                <a:moveTo>
                  <a:pt x="2160" y="0"/>
                </a:moveTo>
                <a:arcTo wR="2160" hR="2160" stAng="16200000" swAng="-5400000"/>
                <a:lnTo>
                  <a:pt x="0" y="2804958"/>
                </a:lnTo>
                <a:arcTo wR="2160" hR="2160" stAng="10800000" swAng="-5400000"/>
                <a:lnTo>
                  <a:pt x="19440" y="2807118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7985880" y="1221480"/>
            <a:ext cx="17280" cy="2292120"/>
          </a:xfrm>
          <a:custGeom>
            <a:avLst/>
            <a:gdLst>
              <a:gd name="textAreaLeft" fmla="*/ 360 w 17280"/>
              <a:gd name="textAreaRight" fmla="*/ 16920 w 17280"/>
              <a:gd name="textAreaTop" fmla="*/ 360 h 2292120"/>
              <a:gd name="textAreaBottom" fmla="*/ 2291760 h 2292120"/>
            </a:gdLst>
            <a:ahLst/>
            <a:rect l="textAreaLeft" t="textAreaTop" r="textAreaRight" b="textAreaBottom"/>
            <a:pathLst>
              <a:path w="21600" h="2807118">
                <a:moveTo>
                  <a:pt x="2160" y="0"/>
                </a:moveTo>
                <a:arcTo wR="2160" hR="2160" stAng="16200000" swAng="-5400000"/>
                <a:lnTo>
                  <a:pt x="0" y="2804958"/>
                </a:lnTo>
                <a:arcTo wR="2160" hR="2160" stAng="10800000" swAng="-5400000"/>
                <a:lnTo>
                  <a:pt x="19440" y="2807118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7985880" y="1678680"/>
            <a:ext cx="17280" cy="2292120"/>
          </a:xfrm>
          <a:custGeom>
            <a:avLst/>
            <a:gdLst>
              <a:gd name="textAreaLeft" fmla="*/ 360 w 17280"/>
              <a:gd name="textAreaRight" fmla="*/ 16920 w 17280"/>
              <a:gd name="textAreaTop" fmla="*/ 360 h 2292120"/>
              <a:gd name="textAreaBottom" fmla="*/ 2291760 h 2292120"/>
            </a:gdLst>
            <a:ahLst/>
            <a:rect l="textAreaLeft" t="textAreaTop" r="textAreaRight" b="textAreaBottom"/>
            <a:pathLst>
              <a:path w="21600" h="2807118">
                <a:moveTo>
                  <a:pt x="2160" y="0"/>
                </a:moveTo>
                <a:arcTo wR="2160" hR="2160" stAng="16200000" swAng="-5400000"/>
                <a:lnTo>
                  <a:pt x="0" y="2804958"/>
                </a:lnTo>
                <a:arcTo wR="2160" hR="2160" stAng="10800000" swAng="-5400000"/>
                <a:lnTo>
                  <a:pt x="19440" y="2807118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7985880" y="2135880"/>
            <a:ext cx="17280" cy="2292120"/>
          </a:xfrm>
          <a:custGeom>
            <a:avLst/>
            <a:gdLst>
              <a:gd name="textAreaLeft" fmla="*/ 360 w 17280"/>
              <a:gd name="textAreaRight" fmla="*/ 16920 w 17280"/>
              <a:gd name="textAreaTop" fmla="*/ 360 h 2292120"/>
              <a:gd name="textAreaBottom" fmla="*/ 2291760 h 2292120"/>
            </a:gdLst>
            <a:ahLst/>
            <a:rect l="textAreaLeft" t="textAreaTop" r="textAreaRight" b="textAreaBottom"/>
            <a:pathLst>
              <a:path w="21600" h="2807118">
                <a:moveTo>
                  <a:pt x="2160" y="0"/>
                </a:moveTo>
                <a:arcTo wR="2160" hR="2160" stAng="16200000" swAng="-5400000"/>
                <a:lnTo>
                  <a:pt x="0" y="2804958"/>
                </a:lnTo>
                <a:arcTo wR="2160" hR="2160" stAng="10800000" swAng="-5400000"/>
                <a:lnTo>
                  <a:pt x="19440" y="2807118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7985880" y="2593080"/>
            <a:ext cx="17280" cy="2292120"/>
          </a:xfrm>
          <a:custGeom>
            <a:avLst/>
            <a:gdLst>
              <a:gd name="textAreaLeft" fmla="*/ 360 w 17280"/>
              <a:gd name="textAreaRight" fmla="*/ 16920 w 17280"/>
              <a:gd name="textAreaTop" fmla="*/ 360 h 2292120"/>
              <a:gd name="textAreaBottom" fmla="*/ 2291760 h 2292120"/>
            </a:gdLst>
            <a:ahLst/>
            <a:rect l="textAreaLeft" t="textAreaTop" r="textAreaRight" b="textAreaBottom"/>
            <a:pathLst>
              <a:path w="21600" h="2807118">
                <a:moveTo>
                  <a:pt x="2160" y="0"/>
                </a:moveTo>
                <a:arcTo wR="2160" hR="2160" stAng="16200000" swAng="-5400000"/>
                <a:lnTo>
                  <a:pt x="0" y="2804958"/>
                </a:lnTo>
                <a:arcTo wR="2160" hR="2160" stAng="10800000" swAng="-5400000"/>
                <a:lnTo>
                  <a:pt x="19440" y="2807118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7985880" y="3050280"/>
            <a:ext cx="17280" cy="2292120"/>
          </a:xfrm>
          <a:custGeom>
            <a:avLst/>
            <a:gdLst>
              <a:gd name="textAreaLeft" fmla="*/ 360 w 17280"/>
              <a:gd name="textAreaRight" fmla="*/ 16920 w 17280"/>
              <a:gd name="textAreaTop" fmla="*/ 360 h 2292120"/>
              <a:gd name="textAreaBottom" fmla="*/ 2291760 h 2292120"/>
            </a:gdLst>
            <a:ahLst/>
            <a:rect l="textAreaLeft" t="textAreaTop" r="textAreaRight" b="textAreaBottom"/>
            <a:pathLst>
              <a:path w="21600" h="2807118">
                <a:moveTo>
                  <a:pt x="2160" y="0"/>
                </a:moveTo>
                <a:arcTo wR="2160" hR="2160" stAng="16200000" swAng="-5400000"/>
                <a:lnTo>
                  <a:pt x="0" y="2804958"/>
                </a:lnTo>
                <a:arcTo wR="2160" hR="2160" stAng="10800000" swAng="-5400000"/>
                <a:lnTo>
                  <a:pt x="19440" y="2807118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7985880" y="3507480"/>
            <a:ext cx="17280" cy="2292120"/>
          </a:xfrm>
          <a:custGeom>
            <a:avLst/>
            <a:gdLst>
              <a:gd name="textAreaLeft" fmla="*/ 360 w 17280"/>
              <a:gd name="textAreaRight" fmla="*/ 16920 w 17280"/>
              <a:gd name="textAreaTop" fmla="*/ 360 h 2292120"/>
              <a:gd name="textAreaBottom" fmla="*/ 2291760 h 2292120"/>
            </a:gdLst>
            <a:ahLst/>
            <a:rect l="textAreaLeft" t="textAreaTop" r="textAreaRight" b="textAreaBottom"/>
            <a:pathLst>
              <a:path w="21600" h="2807118">
                <a:moveTo>
                  <a:pt x="2160" y="0"/>
                </a:moveTo>
                <a:arcTo wR="2160" hR="2160" stAng="16200000" swAng="-5400000"/>
                <a:lnTo>
                  <a:pt x="0" y="2804958"/>
                </a:lnTo>
                <a:arcTo wR="2160" hR="2160" stAng="10800000" swAng="-5400000"/>
                <a:lnTo>
                  <a:pt x="19440" y="2807118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7985880" y="3964680"/>
            <a:ext cx="17280" cy="2292120"/>
          </a:xfrm>
          <a:custGeom>
            <a:avLst/>
            <a:gdLst>
              <a:gd name="textAreaLeft" fmla="*/ 360 w 17280"/>
              <a:gd name="textAreaRight" fmla="*/ 16920 w 17280"/>
              <a:gd name="textAreaTop" fmla="*/ 360 h 2292120"/>
              <a:gd name="textAreaBottom" fmla="*/ 2291760 h 2292120"/>
            </a:gdLst>
            <a:ahLst/>
            <a:rect l="textAreaLeft" t="textAreaTop" r="textAreaRight" b="textAreaBottom"/>
            <a:pathLst>
              <a:path w="21600" h="2807118">
                <a:moveTo>
                  <a:pt x="2160" y="0"/>
                </a:moveTo>
                <a:arcTo wR="2160" hR="2160" stAng="16200000" swAng="-5400000"/>
                <a:lnTo>
                  <a:pt x="0" y="2804958"/>
                </a:lnTo>
                <a:arcTo wR="2160" hR="2160" stAng="10800000" swAng="-5400000"/>
                <a:lnTo>
                  <a:pt x="19440" y="2807118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7985880" y="4421880"/>
            <a:ext cx="17280" cy="2292120"/>
          </a:xfrm>
          <a:custGeom>
            <a:avLst/>
            <a:gdLst>
              <a:gd name="textAreaLeft" fmla="*/ 360 w 17280"/>
              <a:gd name="textAreaRight" fmla="*/ 16920 w 17280"/>
              <a:gd name="textAreaTop" fmla="*/ 360 h 2292120"/>
              <a:gd name="textAreaBottom" fmla="*/ 2291760 h 2292120"/>
            </a:gdLst>
            <a:ahLst/>
            <a:rect l="textAreaLeft" t="textAreaTop" r="textAreaRight" b="textAreaBottom"/>
            <a:pathLst>
              <a:path w="21600" h="2807118">
                <a:moveTo>
                  <a:pt x="2160" y="0"/>
                </a:moveTo>
                <a:arcTo wR="2160" hR="2160" stAng="16200000" swAng="-5400000"/>
                <a:lnTo>
                  <a:pt x="0" y="2804958"/>
                </a:lnTo>
                <a:arcTo wR="2160" hR="2160" stAng="10800000" swAng="-5400000"/>
                <a:lnTo>
                  <a:pt x="19440" y="2807118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7985880" y="4879080"/>
            <a:ext cx="17280" cy="2292120"/>
          </a:xfrm>
          <a:custGeom>
            <a:avLst/>
            <a:gdLst>
              <a:gd name="textAreaLeft" fmla="*/ 360 w 17280"/>
              <a:gd name="textAreaRight" fmla="*/ 16920 w 17280"/>
              <a:gd name="textAreaTop" fmla="*/ 360 h 2292120"/>
              <a:gd name="textAreaBottom" fmla="*/ 2291760 h 2292120"/>
            </a:gdLst>
            <a:ahLst/>
            <a:rect l="textAreaLeft" t="textAreaTop" r="textAreaRight" b="textAreaBottom"/>
            <a:pathLst>
              <a:path w="21600" h="2807118">
                <a:moveTo>
                  <a:pt x="2160" y="0"/>
                </a:moveTo>
                <a:arcTo wR="2160" hR="2160" stAng="16200000" swAng="-5400000"/>
                <a:lnTo>
                  <a:pt x="0" y="2804958"/>
                </a:lnTo>
                <a:arcTo wR="2160" hR="2160" stAng="10800000" swAng="-5400000"/>
                <a:lnTo>
                  <a:pt x="19440" y="2807118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7985880" y="5336280"/>
            <a:ext cx="17280" cy="2292120"/>
          </a:xfrm>
          <a:custGeom>
            <a:avLst/>
            <a:gdLst>
              <a:gd name="textAreaLeft" fmla="*/ 360 w 17280"/>
              <a:gd name="textAreaRight" fmla="*/ 16920 w 17280"/>
              <a:gd name="textAreaTop" fmla="*/ 360 h 2292120"/>
              <a:gd name="textAreaBottom" fmla="*/ 2291760 h 2292120"/>
            </a:gdLst>
            <a:ahLst/>
            <a:rect l="textAreaLeft" t="textAreaTop" r="textAreaRight" b="textAreaBottom"/>
            <a:pathLst>
              <a:path w="21600" h="2807118">
                <a:moveTo>
                  <a:pt x="2160" y="0"/>
                </a:moveTo>
                <a:arcTo wR="2160" hR="2160" stAng="16200000" swAng="-5400000"/>
                <a:lnTo>
                  <a:pt x="0" y="2804958"/>
                </a:lnTo>
                <a:arcTo wR="2160" hR="2160" stAng="10800000" swAng="-5400000"/>
                <a:lnTo>
                  <a:pt x="19440" y="2807118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1371600"/>
            <a:ext cx="4478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rmAutofit/>
          </a:bodyPr>
          <a:p>
            <a:pPr marL="341280"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nl-BE" sz="4800" spc="-1" strike="noStrike">
                <a:solidFill>
                  <a:srgbClr val="ff0000"/>
                </a:solidFill>
                <a:latin typeface="Arial Narrow"/>
              </a:rPr>
              <a:t>Экономические реформы П.А.Столыпина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481720" y="1260360"/>
            <a:ext cx="3159000" cy="49532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507600" y="52560"/>
            <a:ext cx="8077320" cy="9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447920" y="152280"/>
            <a:ext cx="586728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Программа рефор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4518000"/>
            <a:ext cx="8839080" cy="228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24 августа 1906 г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опубликована правительственная программа. Она состояла из двух частей. В первой обосновывалась необходимость успокоения страны при помощи чрезвычайных мер и объявления в некоторых районах империи военного положения с введением там военно-полевых судо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905120" y="914400"/>
            <a:ext cx="5105160" cy="34005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62120" y="5486400"/>
            <a:ext cx="784836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торой части предлагалось немедленно, не дожидаясь созыв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умы, начать аграрную реформ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0"/>
            <a:ext cx="586728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Программа рефор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7772400" cy="44690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523880" y="228600"/>
            <a:ext cx="586764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Проблемы российской деревн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914400"/>
            <a:ext cx="8534520" cy="76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Крестьянская общи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1981080"/>
            <a:ext cx="8458200" cy="2104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Отсутствие многочисленного класса собственников в деревн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4343400"/>
            <a:ext cx="8305920" cy="2104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Перенаселение центральных районов Росси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Цели и задачи реформ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0" y="838080"/>
          <a:ext cx="9145440" cy="6351840"/>
        </p:xfrm>
        <a:graphic>
          <a:graphicData uri="http://schemas.openxmlformats.org/drawingml/2006/table">
            <a:tbl>
              <a:tblPr/>
              <a:tblGrid>
                <a:gridCol w="2514600"/>
                <a:gridCol w="3319560"/>
                <a:gridCol w="3311280"/>
              </a:tblGrid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Социаль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2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f8f8f8"/>
                      </a:solidFill>
                    </a:lnL>
                    <a:lnR w="1440">
                      <a:solidFill>
                        <a:srgbClr val="f8f8f8"/>
                      </a:solidFill>
                    </a:lnR>
                    <a:lnT w="2880">
                      <a:solidFill>
                        <a:srgbClr val="f8f8f8"/>
                      </a:solidFill>
                    </a:lnT>
                    <a:lnB w="144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Экономи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8f8f8"/>
                      </a:solidFill>
                    </a:lnL>
                    <a:lnR w="1440">
                      <a:solidFill>
                        <a:srgbClr val="f8f8f8"/>
                      </a:solidFill>
                    </a:lnR>
                    <a:lnT w="2880">
                      <a:solidFill>
                        <a:srgbClr val="f8f8f8"/>
                      </a:solidFill>
                    </a:lnT>
                    <a:lnB w="144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лити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8f8f8"/>
                      </a:solidFill>
                    </a:lnL>
                    <a:lnR w="2880">
                      <a:solidFill>
                        <a:srgbClr val="f8f8f8"/>
                      </a:solidFill>
                    </a:lnR>
                    <a:lnT w="2880">
                      <a:solidFill>
                        <a:srgbClr val="f8f8f8"/>
                      </a:solidFill>
                    </a:lnT>
                    <a:lnB w="144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5435640"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Создани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социально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опор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самодержав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в лиц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крепкого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зажиточного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крестьян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f8f8f8"/>
                      </a:solidFill>
                    </a:lnL>
                    <a:lnR w="1440">
                      <a:solidFill>
                        <a:srgbClr val="f8f8f8"/>
                      </a:solidFill>
                    </a:lnR>
                    <a:lnT w="1440">
                      <a:solidFill>
                        <a:srgbClr val="f8f8f8"/>
                      </a:solidFill>
                    </a:lnT>
                    <a:lnB w="28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t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Развити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капиталистических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отношений в деревне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разрушение общины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ередача крестьяна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земли в частную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собственность, создани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хуторских и фермерских хозяйст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Образ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широкого рынка дл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ромышленност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родолж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модернизаци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Росси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8f8f8"/>
                      </a:solidFill>
                    </a:lnL>
                    <a:lnR w="1440">
                      <a:solidFill>
                        <a:srgbClr val="f8f8f8"/>
                      </a:solidFill>
                    </a:lnR>
                    <a:lnT w="1440">
                      <a:solidFill>
                        <a:srgbClr val="f8f8f8"/>
                      </a:solidFill>
                    </a:lnT>
                    <a:lnB w="28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t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ересел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революционн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настроенных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малоземельны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крестьян из центра н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окраины стран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Уравни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в правах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крестьян с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другим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сословиями 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обеспечени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крестьяна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собственника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равовую защиту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8f8f8"/>
                      </a:solidFill>
                    </a:lnL>
                    <a:lnR w="2880">
                      <a:solidFill>
                        <a:srgbClr val="f8f8f8"/>
                      </a:solidFill>
                    </a:lnR>
                    <a:lnT w="1440">
                      <a:solidFill>
                        <a:srgbClr val="f8f8f8"/>
                      </a:solidFill>
                    </a:lnT>
                    <a:lnB w="28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0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50000029802322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07880" y="1800360"/>
            <a:ext cx="8591760" cy="3020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временно было объявлено о подготовке законопроектов, которые должны были серьезнейшим образом изменить страну: о свободе вероисповедания, о гражданском равноправии, об улучшении быта рабочих, о реформе местного самоуправления, о реформе высшей и средней школы, о введении всеобщего начального обучения и улучшении материального обеспечения народных учителей, о подоходном налоге и д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260280"/>
            <a:ext cx="586728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Программа рефор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6476760" cy="33526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218" name=""/>
          <p:cNvSpPr/>
          <p:nvPr/>
        </p:nvSpPr>
        <p:spPr>
          <a:xfrm>
            <a:off x="609480" y="4572000"/>
            <a:ext cx="7848720" cy="1922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9 ноября 1906 г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 издан указ, разрешивший свободный выход крестьян из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щин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ыходя из общины, крестьянин получал в частную собственность все закрепленные за ним наделы и мог требовать, чтобы они был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ы в один участо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304920"/>
            <a:ext cx="586728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Разрушение общин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62120" y="5257800"/>
            <a:ext cx="784836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 поощрял образование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трубо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хуторо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ещичье землевладение оставалось неприкосновенны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304920"/>
            <a:ext cx="586728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Разрушение общин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2666880" y="990720"/>
            <a:ext cx="6172200" cy="38941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223" name=""/>
          <p:cNvSpPr/>
          <p:nvPr/>
        </p:nvSpPr>
        <p:spPr>
          <a:xfrm>
            <a:off x="533520" y="2057400"/>
            <a:ext cx="1676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П.Столып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знакомитс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с хуторским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хозяйств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19320" y="990720"/>
            <a:ext cx="6781680" cy="204372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труб </a:t>
            </a:r>
            <a:r>
              <a:rPr b="1" i="1" lang="ru-RU" sz="3200" spc="-1" strike="noStrike" u="sng">
                <a:solidFill>
                  <a:srgbClr val="6da4cd"/>
                </a:solidFill>
                <a:uFillTx/>
                <a:latin typeface="Times New Roman"/>
                <a:ea typeface="Times New Roman"/>
              </a:rPr>
              <a:t>—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ок земли, выделенный 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крестьянину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ходе из общины с 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сохранением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двора в деревн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3124080"/>
            <a:ext cx="6781680" cy="253116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Хутор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участок земли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ный 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крестьянину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выходе его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бщины с 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переселением из деревни на свой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о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31640" y="974880"/>
            <a:ext cx="784872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исывая указ о разрушении общины, Столыпин имел в виду сразу несколько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ей.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71600" y="304920"/>
            <a:ext cx="586728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Разрушение общин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2209680"/>
            <a:ext cx="853452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средоточенных по хутора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крестья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нятых своими хозяйствами, поднять на бунт будет очень трудно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3581280"/>
            <a:ext cx="845820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дать широкий слой мелких собственников и тем самым обеспечить стабильность в обществ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0360" y="4933800"/>
            <a:ext cx="830592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лечь внимание крестьян от идеи захватить и разделить помещичьи земл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4572000"/>
            <a:ext cx="784872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все усилия правительства, лишь чуть больше 10 % крестьянских хозяйств можно было назвать фермерскими: ориентированными на рынок, применявшими новейшую технику, удобрения, получавшими высокие урожа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71600" y="304920"/>
            <a:ext cx="586728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Разрушение общин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4800600"/>
            <a:ext cx="739152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хи хуторян-фермеров нередко становились причиной ненависти крестьян-общинников. Хозяйство удачливых соседей поджигали, травили их скот, уничтожали посевы, ломали инвентарь.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1371600" y="990720"/>
            <a:ext cx="6095880" cy="35496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371600" y="304920"/>
            <a:ext cx="586728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Переселенческая полит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4152960"/>
            <a:ext cx="8915400" cy="2654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им из важнейших направлений аграрных реформ была политика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ссового переселения крестьян за Урал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ительство хотело ослабить земельный голод во внутренних губерниях России, отправить миллионы безземельных, недовольных крестьян подальше от помещичьих имений — в Сибирь, где было много пустующей земл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828800" y="1066680"/>
            <a:ext cx="4952880" cy="28958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447920" y="152280"/>
            <a:ext cx="586728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Петр Аркадьевич Столып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1280" y="4140360"/>
            <a:ext cx="7848360" cy="2478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8000"/>
                </a:solidFill>
                <a:uFillTx/>
                <a:latin typeface="Times New Roman"/>
                <a:ea typeface="Lucida Sans Unicode"/>
              </a:rPr>
              <a:t>1 сентября 1911 г.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Lucida Sans Unicode"/>
              </a:rPr>
              <a:t> неожиданно была прервана опера Римского-Корсакова «Сказка о царе Салтане», выстрелом террориста-анархиста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  <a:ea typeface="Lucida Sans Unicode"/>
              </a:rPr>
              <a:t>Дмитрия Багрова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Lucida Sans Unicode"/>
              </a:rPr>
              <a:t> был убит российский премьер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Lucida Sans Unicode"/>
              </a:rPr>
              <a:t>Петр Аркадьевич Столыпи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79280" y="720720"/>
            <a:ext cx="2092320" cy="21607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1420920" y="2340000"/>
            <a:ext cx="2178000" cy="16048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3919680" y="1079640"/>
            <a:ext cx="4721040" cy="29685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371600" y="304920"/>
            <a:ext cx="586728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Переселенческая полит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66680" y="4495680"/>
            <a:ext cx="739152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авливались многочисленные льготы для желающих отправиться на новые места. Переселенцы на 5 лет освобождались от налогов, получали в собственность землю (15 га на главу семьи и 45 га на остальных членов семьи)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66680" y="4267080"/>
            <a:ext cx="7391520" cy="228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ежную ссуду, которая с 1912 г. в некоторых отдаленных районах доходила до 400 р. на семью (из них 200 р. выдавались безвозмездно). Мужчин освобождали от воинской повинности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ые годы реформы переселение развивалось быстрыми темпам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2819520" y="1066680"/>
            <a:ext cx="4952880" cy="30513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242" name=""/>
          <p:cNvSpPr/>
          <p:nvPr/>
        </p:nvSpPr>
        <p:spPr>
          <a:xfrm>
            <a:off x="457200" y="1676520"/>
            <a:ext cx="21337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П.Столып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принима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отч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у волостног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старост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371600" y="304920"/>
            <a:ext cx="586728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Переселенческая полит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4267080"/>
            <a:ext cx="8458200" cy="228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 этот процесс несколько замедлился. Всего с 1906 по 1914 г. в Сибирь переселились 3 млн 40 тыс. человек. Однако переселенческое ведомство плохо подготовилось к перевозке и устройству на новых местах огромной массы людей, и часть переселенцев возвратилась в места прежнего проживания (около 17 %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219320" y="990720"/>
            <a:ext cx="6324480" cy="31240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371600" y="304920"/>
            <a:ext cx="586728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Развитие коопера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4724280"/>
            <a:ext cx="800100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стьяне, следуя коллективистским традициям, нашли свой путь в капитализм: общину сменили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оперативы.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перация позволяла снизить цены на рынке, она была полезна не только зажиточным и средним крестьянам, но и бедняка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676520" y="1066680"/>
            <a:ext cx="5562360" cy="33847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5538600" cy="406404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251" name=""/>
          <p:cNvSpPr/>
          <p:nvPr/>
        </p:nvSpPr>
        <p:spPr>
          <a:xfrm>
            <a:off x="-753120" y="338040"/>
            <a:ext cx="1095840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«Дайте мне двадцать лет покоя, и я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реформирую всю Россию!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" dur="300" fill="hold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09480" y="914400"/>
            <a:ext cx="4343400" cy="558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ив Виленскую гимназию, Петр Аркадьевич в 1881 г. поступил на физико-математический факультет Петербургского университета. В 1903 г. его назначили губернатором Саратовс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й губерни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06 г. становится премьер-министром . С именем П.А. Столыпина связывается разработка и проведение ряда преобразований, самой крупной из которых стала аграрная реформ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152280"/>
            <a:ext cx="586728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Петр Аркадьевич Столып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181480" y="914400"/>
            <a:ext cx="3444840" cy="54100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648320" y="838080"/>
            <a:ext cx="4343400" cy="5214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я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Столыпин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гда вызывало споры , ни один из политических деятелей царизма начала 20 века не может идти с ним в сравнение по преданной и восторженной памяти его почитателей и сосредоточенной ненависти революционеров , упоминание его имени сразу же втягивает нас в круговорот страстных и взаимоисключающих оцено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47920" y="152280"/>
            <a:ext cx="586728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Петр Аркадьевич Столып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3891240" cy="53276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343400" y="1752480"/>
            <a:ext cx="4572000" cy="484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« Столыпин-реформатор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создатель избирательного закона, аграрная реформа , реформа местного управления, реформа в системе народного просвещения, мероприятия направленные на улучшение положения рабочих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основу своей государственной деятельности Столыпин положил принцип: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« Либеральные реформы и сильная власть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47920" y="152280"/>
            <a:ext cx="586728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Петр Аркадьевич Столып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676520" y="914400"/>
            <a:ext cx="510516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еформатор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1738440"/>
            <a:ext cx="457200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0" y="1738440"/>
            <a:ext cx="457200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685800" y="1752480"/>
            <a:ext cx="3486240" cy="46483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447920" y="152280"/>
            <a:ext cx="586728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Петр Аркадьевич Столып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1447920"/>
            <a:ext cx="4191120" cy="484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Столыпин- реакционер»( он беспощадно вел борьбу с революционным движением, при нем активно работали органы политического сыска, массовый характер приобрела ссылка в Сибирь, в тюрьмах и на каторге для политических заключенных был установлен небывалый по жестокости режим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600200" y="914400"/>
            <a:ext cx="480060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еакционер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62120" y="1600200"/>
            <a:ext cx="3352680" cy="48006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447920" y="152280"/>
            <a:ext cx="586728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Петр Аркадьевич Столып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838080"/>
            <a:ext cx="4191120" cy="558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« Столыпинские галстуки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за три года по приговорам военно-полевых судов было казнено более 3,5 тыс. человек. Виселицы на которых казнили людей получили название «столыпинские галстуки») . Столыпин не избегал и насильственных, карательных мер, что позволяет в целом оценить его политический курс как политику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« кнута и пряника»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898880" y="914400"/>
            <a:ext cx="3827520" cy="54864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447920" y="152280"/>
            <a:ext cx="586728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Петр Аркадьевич Столып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60840" y="1028880"/>
            <a:ext cx="3622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3103560" cy="40384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3581280" y="838080"/>
            <a:ext cx="5334120" cy="4724640"/>
          </a:xfrm>
          <a:prstGeom prst="wedgeRoundRectCallout">
            <a:avLst>
              <a:gd name="adj1" fmla="val -64912"/>
              <a:gd name="adj2" fmla="val 6953"/>
              <a:gd name="adj3" fmla="val 16667"/>
            </a:avLst>
          </a:prstGeom>
          <a:solidFill>
            <a:srgbClr val="cc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падки террористов направлены на то, чтобы вызвать у правительства, у власти паралич и воли, и мысли, все она сводятся к двум словам обращенным к власти: « Руки вверх». На эти два слова, господа, правительство с полным спокойствием и осознанием своей правоты может ответить только одно: « Не запугаете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676520" y="609480"/>
            <a:ext cx="6324480" cy="1828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Им нужны великие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потрясения,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нам нужна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Великая Россия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419640" y="2700360"/>
            <a:ext cx="2811240" cy="39337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1T10:16:57Z</dcterms:created>
  <dc:creator>***</dc:creator>
  <dc:description/>
  <dc:language>en-US</dc:language>
  <cp:lastModifiedBy>XTreme</cp:lastModifiedBy>
  <dcterms:modified xsi:type="dcterms:W3CDTF">2013-05-07T12:20:55Z</dcterms:modified>
  <cp:revision>10</cp:revision>
  <dc:subject/>
  <dc:title>Презентация PowerPoint</dc:title>
</cp:coreProperties>
</file>